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65C-0748-425B-9FAB-F1788E6C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82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826-D51D-4882-99D1-C18CD359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D65-CF56-4609-8494-58600852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838-3281-480D-9F3C-D078F4A2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C19-3434-48CA-8CBC-67736A33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824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957-57A9-474C-AFA9-9FB899A2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E51-8B43-4CC2-8980-E1754146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82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A2B-32F7-4542-947A-8230F4CB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001-6E8F-411B-BBBE-06759201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D4C-859B-4E35-9107-0788EB34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67E-E245-4383-9A38-791A2308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333-CC85-4C76-B807-9EE3E6A7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E5EE-156C-4BAD-8426-F9FA80FA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824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04A1-243B-4637-A5A5-1FEDCD3D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A9BE-49B2-4DC2-8553-77D23A69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40A1-B909-4D05-AA1B-BE0E488A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BC4F-2436-431D-859B-0F7280F7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824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1127-2D43-40EC-96E7-A7FF0017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EA87-87A1-4617-8E45-657004F9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26FF-FD68-4ECC-8AC6-34E61E47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1051-643B-4A48-B2A1-E9E29885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6DFC-D10C-413B-8352-FCE30CED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30E4-DBA6-4463-91DB-03E6ADA7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531C-1C5B-417F-93BD-7F9EC162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824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11" descr=""/>
          <p:cNvPicPr/>
          <p:nvPr/>
        </p:nvPicPr>
        <p:blipFill>
          <a:blip r:embed="rId3"/>
          <a:stretch/>
        </p:blipFill>
        <p:spPr>
          <a:xfrm>
            <a:off x="4861080" y="0"/>
            <a:ext cx="4319280" cy="5737320"/>
          </a:xfrm>
          <a:prstGeom prst="rect">
            <a:avLst/>
          </a:prstGeom>
          <a:ln w="0">
            <a:noFill/>
          </a:ln>
        </p:spPr>
      </p:pic>
      <p:pic>
        <p:nvPicPr>
          <p:cNvPr id="37" name="图片 12" descr=""/>
          <p:cNvPicPr/>
          <p:nvPr/>
        </p:nvPicPr>
        <p:blipFill>
          <a:blip r:embed="rId4"/>
          <a:stretch/>
        </p:blipFill>
        <p:spPr>
          <a:xfrm>
            <a:off x="6012000" y="2352600"/>
            <a:ext cx="3122640" cy="31431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580A-B1BE-420C-A25C-D7B81DCC10D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90A5-CABD-4EE6-9FC8-51C45CFF35E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4" descr=""/>
          <p:cNvPicPr/>
          <p:nvPr/>
        </p:nvPicPr>
        <p:blipFill>
          <a:blip r:embed="rId3"/>
          <a:stretch/>
        </p:blipFill>
        <p:spPr>
          <a:xfrm>
            <a:off x="7524720" y="3865680"/>
            <a:ext cx="1619280" cy="1630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534636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E263-D58B-405B-A2A4-3FAA5B729F39}" type="datetime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53463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7924320" y="5346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1B4F-08C2-41B5-8DBA-5027892774EC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493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716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108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6200" indent="-182520"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546200" indent="-182520"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546200" indent="-182520">
              <a:spcBef>
                <a:spcPts val="499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10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标题 1"/>
          <p:cNvSpPr/>
          <p:nvPr/>
        </p:nvSpPr>
        <p:spPr>
          <a:xfrm>
            <a:off x="380880" y="1679400"/>
            <a:ext cx="45007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0c0c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2311560"/>
            <a:ext cx="5225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抽象科技幻灯片模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组合 1"/>
          <p:cNvGrpSpPr/>
          <p:nvPr/>
        </p:nvGrpSpPr>
        <p:grpSpPr>
          <a:xfrm>
            <a:off x="2004840" y="1111320"/>
            <a:ext cx="4645080" cy="3533760"/>
            <a:chOff x="2004840" y="1111320"/>
            <a:chExt cx="4645080" cy="3533760"/>
          </a:xfrm>
        </p:grpSpPr>
        <p:grpSp>
          <p:nvGrpSpPr>
            <p:cNvPr id="122" name="AutoShape 864"/>
            <p:cNvGrpSpPr/>
            <p:nvPr/>
          </p:nvGrpSpPr>
          <p:grpSpPr>
            <a:xfrm>
              <a:off x="2004840" y="1111320"/>
              <a:ext cx="4645080" cy="931320"/>
              <a:chOff x="2004840" y="1111320"/>
              <a:chExt cx="4645080" cy="931320"/>
            </a:xfrm>
          </p:grpSpPr>
          <p:pic>
            <p:nvPicPr>
              <p:cNvPr id="123" name="AutoShape 864" descr=""/>
              <p:cNvPicPr/>
              <p:nvPr/>
            </p:nvPicPr>
            <p:blipFill>
              <a:blip r:embed="rId1"/>
              <a:stretch/>
            </p:blipFill>
            <p:spPr>
              <a:xfrm>
                <a:off x="2004840" y="1111320"/>
                <a:ext cx="4645080" cy="93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2167920" y="1274760"/>
                <a:ext cx="41644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48"/>
            <p:cNvGrpSpPr/>
            <p:nvPr/>
          </p:nvGrpSpPr>
          <p:grpSpPr>
            <a:xfrm>
              <a:off x="2598480" y="1161000"/>
              <a:ext cx="3759120" cy="719280"/>
              <a:chOff x="2598480" y="1161000"/>
              <a:chExt cx="3759120" cy="719280"/>
            </a:xfrm>
          </p:grpSpPr>
          <p:pic>
            <p:nvPicPr>
              <p:cNvPr id="126" name="Picture 49" descr="그림자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>
                <a:off x="2598480" y="1161000"/>
                <a:ext cx="375912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AutoShape 50"/>
              <p:cNvSpPr/>
              <p:nvPr/>
            </p:nvSpPr>
            <p:spPr>
              <a:xfrm>
                <a:off x="2696400" y="1267920"/>
                <a:ext cx="3556440" cy="432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dcdb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AutoShape 51"/>
              <p:cNvSpPr/>
              <p:nvPr/>
            </p:nvSpPr>
            <p:spPr>
              <a:xfrm>
                <a:off x="2814840" y="1291680"/>
                <a:ext cx="3326760" cy="20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96840" bIns="-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TextBox 47"/>
            <p:cNvSpPr/>
            <p:nvPr/>
          </p:nvSpPr>
          <p:spPr>
            <a:xfrm>
              <a:off x="2240640" y="120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그룹 73"/>
            <p:cNvGrpSpPr/>
            <p:nvPr/>
          </p:nvGrpSpPr>
          <p:grpSpPr>
            <a:xfrm>
              <a:off x="2083680" y="1853280"/>
              <a:ext cx="4332240" cy="718560"/>
              <a:chOff x="2083680" y="1853280"/>
              <a:chExt cx="4332240" cy="718560"/>
            </a:xfrm>
          </p:grpSpPr>
          <p:grpSp>
            <p:nvGrpSpPr>
              <p:cNvPr id="131" name="AutoShape 864"/>
              <p:cNvGrpSpPr/>
              <p:nvPr/>
            </p:nvGrpSpPr>
            <p:grpSpPr>
              <a:xfrm>
                <a:off x="2083680" y="1853280"/>
                <a:ext cx="4332240" cy="718560"/>
                <a:chOff x="2083680" y="1853280"/>
                <a:chExt cx="4332240" cy="718560"/>
              </a:xfrm>
            </p:grpSpPr>
            <p:pic>
              <p:nvPicPr>
                <p:cNvPr id="132" name="AutoShape 86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83680" y="1853280"/>
                  <a:ext cx="4332240" cy="71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>
                  <a:off x="2235600" y="1976400"/>
                  <a:ext cx="3884040" cy="3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48"/>
              <p:cNvGrpSpPr/>
              <p:nvPr/>
            </p:nvGrpSpPr>
            <p:grpSpPr>
              <a:xfrm>
                <a:off x="2664000" y="1887480"/>
                <a:ext cx="3504960" cy="554400"/>
                <a:chOff x="2664000" y="1887480"/>
                <a:chExt cx="3504960" cy="554400"/>
              </a:xfrm>
            </p:grpSpPr>
            <p:pic>
              <p:nvPicPr>
                <p:cNvPr id="135" name="Picture 49" descr="그림자"/>
                <p:cNvPicPr/>
                <p:nvPr/>
              </p:nvPicPr>
              <p:blipFill>
                <a:blip r:embed="rId4">
                  <a:grayscl/>
                </a:blip>
                <a:stretch/>
              </p:blipFill>
              <p:spPr>
                <a:xfrm>
                  <a:off x="2664000" y="1887480"/>
                  <a:ext cx="3504960" cy="55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AutoShape 50"/>
                <p:cNvSpPr/>
                <p:nvPr/>
              </p:nvSpPr>
              <p:spPr>
                <a:xfrm>
                  <a:off x="2755080" y="1974240"/>
                  <a:ext cx="3315960" cy="333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2dcdb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AutoShape 51"/>
                <p:cNvSpPr/>
                <p:nvPr/>
              </p:nvSpPr>
              <p:spPr>
                <a:xfrm>
                  <a:off x="2864520" y="1988280"/>
                  <a:ext cx="3104280" cy="154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38039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62640" bIns="-81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TextBox 53"/>
              <p:cNvSpPr/>
              <p:nvPr/>
            </p:nvSpPr>
            <p:spPr>
              <a:xfrm>
                <a:off x="2290680" y="19213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  <a:ea typeface="Gulim"/>
                  </a:rPr>
                  <a:t>2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그룹 74"/>
            <p:cNvGrpSpPr/>
            <p:nvPr/>
          </p:nvGrpSpPr>
          <p:grpSpPr>
            <a:xfrm>
              <a:off x="2083680" y="2544120"/>
              <a:ext cx="4332240" cy="718560"/>
              <a:chOff x="2083680" y="2544120"/>
              <a:chExt cx="4332240" cy="718560"/>
            </a:xfrm>
          </p:grpSpPr>
          <p:grpSp>
            <p:nvGrpSpPr>
              <p:cNvPr id="140" name="AutoShape 864"/>
              <p:cNvGrpSpPr/>
              <p:nvPr/>
            </p:nvGrpSpPr>
            <p:grpSpPr>
              <a:xfrm>
                <a:off x="2083680" y="2544120"/>
                <a:ext cx="4332240" cy="718560"/>
                <a:chOff x="2083680" y="2544120"/>
                <a:chExt cx="4332240" cy="718560"/>
              </a:xfrm>
            </p:grpSpPr>
            <p:pic>
              <p:nvPicPr>
                <p:cNvPr id="141" name="AutoShape 86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083680" y="2544120"/>
                  <a:ext cx="4332240" cy="71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2235600" y="2667600"/>
                  <a:ext cx="388404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48"/>
              <p:cNvGrpSpPr/>
              <p:nvPr/>
            </p:nvGrpSpPr>
            <p:grpSpPr>
              <a:xfrm>
                <a:off x="2664000" y="2578320"/>
                <a:ext cx="3504960" cy="558000"/>
                <a:chOff x="2664000" y="2578320"/>
                <a:chExt cx="3504960" cy="558000"/>
              </a:xfrm>
            </p:grpSpPr>
            <p:pic>
              <p:nvPicPr>
                <p:cNvPr id="144" name="Picture 49" descr="그림자"/>
                <p:cNvPicPr/>
                <p:nvPr/>
              </p:nvPicPr>
              <p:blipFill>
                <a:blip r:embed="rId6">
                  <a:grayscl/>
                </a:blip>
                <a:stretch/>
              </p:blipFill>
              <p:spPr>
                <a:xfrm>
                  <a:off x="2664000" y="2578320"/>
                  <a:ext cx="3504960" cy="5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AutoShape 50"/>
                <p:cNvSpPr/>
                <p:nvPr/>
              </p:nvSpPr>
              <p:spPr>
                <a:xfrm>
                  <a:off x="2755080" y="2662560"/>
                  <a:ext cx="3315960" cy="334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2dcdb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51"/>
                <p:cNvSpPr/>
                <p:nvPr/>
              </p:nvSpPr>
              <p:spPr>
                <a:xfrm>
                  <a:off x="2864520" y="2680560"/>
                  <a:ext cx="3104280" cy="156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38039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64080" bIns="-79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TextBox 59"/>
              <p:cNvSpPr/>
              <p:nvPr/>
            </p:nvSpPr>
            <p:spPr>
              <a:xfrm>
                <a:off x="2290680" y="26128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  <a:ea typeface="Gulim"/>
                  </a:rPr>
                  <a:t>3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그룹 76"/>
            <p:cNvGrpSpPr/>
            <p:nvPr/>
          </p:nvGrpSpPr>
          <p:grpSpPr>
            <a:xfrm>
              <a:off x="2083680" y="3236040"/>
              <a:ext cx="4332240" cy="717480"/>
              <a:chOff x="2083680" y="3236040"/>
              <a:chExt cx="4332240" cy="717480"/>
            </a:xfrm>
          </p:grpSpPr>
          <p:grpSp>
            <p:nvGrpSpPr>
              <p:cNvPr id="149" name="AutoShape 864"/>
              <p:cNvGrpSpPr/>
              <p:nvPr/>
            </p:nvGrpSpPr>
            <p:grpSpPr>
              <a:xfrm>
                <a:off x="2083680" y="3236040"/>
                <a:ext cx="4332240" cy="717480"/>
                <a:chOff x="2083680" y="3236040"/>
                <a:chExt cx="4332240" cy="717480"/>
              </a:xfrm>
            </p:grpSpPr>
            <p:pic>
              <p:nvPicPr>
                <p:cNvPr id="150" name="AutoShape 86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083680" y="3236040"/>
                  <a:ext cx="4332240" cy="71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235240" y="3359880"/>
                  <a:ext cx="3884400" cy="33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48"/>
              <p:cNvGrpSpPr/>
              <p:nvPr/>
            </p:nvGrpSpPr>
            <p:grpSpPr>
              <a:xfrm>
                <a:off x="2664000" y="3270960"/>
                <a:ext cx="3504960" cy="556200"/>
                <a:chOff x="2664000" y="3270960"/>
                <a:chExt cx="3504960" cy="556200"/>
              </a:xfrm>
            </p:grpSpPr>
            <p:pic>
              <p:nvPicPr>
                <p:cNvPr id="153" name="Picture 49" descr="그림자"/>
                <p:cNvPicPr/>
                <p:nvPr/>
              </p:nvPicPr>
              <p:blipFill>
                <a:blip r:embed="rId8">
                  <a:grayscl/>
                </a:blip>
                <a:stretch/>
              </p:blipFill>
              <p:spPr>
                <a:xfrm>
                  <a:off x="2664000" y="3270960"/>
                  <a:ext cx="3504960" cy="55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AutoShape 50"/>
                <p:cNvSpPr/>
                <p:nvPr/>
              </p:nvSpPr>
              <p:spPr>
                <a:xfrm>
                  <a:off x="2755080" y="3353760"/>
                  <a:ext cx="3315960" cy="336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2dcdb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51"/>
                <p:cNvSpPr/>
                <p:nvPr/>
              </p:nvSpPr>
              <p:spPr>
                <a:xfrm>
                  <a:off x="2864520" y="3372120"/>
                  <a:ext cx="3104280" cy="15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38039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65880" bIns="-78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Box 65"/>
              <p:cNvSpPr/>
              <p:nvPr/>
            </p:nvSpPr>
            <p:spPr>
              <a:xfrm>
                <a:off x="2290680" y="33051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  <a:ea typeface="Gulim"/>
                  </a:rPr>
                  <a:t>4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그룹 77"/>
            <p:cNvGrpSpPr/>
            <p:nvPr/>
          </p:nvGrpSpPr>
          <p:grpSpPr>
            <a:xfrm>
              <a:off x="2083680" y="3926880"/>
              <a:ext cx="4332240" cy="718200"/>
              <a:chOff x="2083680" y="3926880"/>
              <a:chExt cx="4332240" cy="718200"/>
            </a:xfrm>
          </p:grpSpPr>
          <p:grpSp>
            <p:nvGrpSpPr>
              <p:cNvPr id="158" name="AutoShape 864"/>
              <p:cNvGrpSpPr/>
              <p:nvPr/>
            </p:nvGrpSpPr>
            <p:grpSpPr>
              <a:xfrm>
                <a:off x="2083680" y="3926880"/>
                <a:ext cx="4332240" cy="718200"/>
                <a:chOff x="2083680" y="3926880"/>
                <a:chExt cx="4332240" cy="718200"/>
              </a:xfrm>
            </p:grpSpPr>
            <p:pic>
              <p:nvPicPr>
                <p:cNvPr id="159" name="AutoShape 86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83680" y="3926880"/>
                  <a:ext cx="4332240" cy="71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>
                  <a:off x="2235600" y="4049640"/>
                  <a:ext cx="388404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48"/>
              <p:cNvGrpSpPr/>
              <p:nvPr/>
            </p:nvGrpSpPr>
            <p:grpSpPr>
              <a:xfrm>
                <a:off x="2664000" y="3961080"/>
                <a:ext cx="3504960" cy="554040"/>
                <a:chOff x="2664000" y="3961080"/>
                <a:chExt cx="3504960" cy="554040"/>
              </a:xfrm>
            </p:grpSpPr>
            <p:pic>
              <p:nvPicPr>
                <p:cNvPr id="162" name="Picture 49" descr="그림자"/>
                <p:cNvPicPr/>
                <p:nvPr/>
              </p:nvPicPr>
              <p:blipFill>
                <a:blip r:embed="rId10">
                  <a:grayscl/>
                </a:blip>
                <a:stretch/>
              </p:blipFill>
              <p:spPr>
                <a:xfrm>
                  <a:off x="2664000" y="3961080"/>
                  <a:ext cx="3504960" cy="55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AutoShape 50"/>
                <p:cNvSpPr/>
                <p:nvPr/>
              </p:nvSpPr>
              <p:spPr>
                <a:xfrm>
                  <a:off x="2755080" y="4044600"/>
                  <a:ext cx="3315960" cy="331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2dcdb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AutoShape 51"/>
                <p:cNvSpPr/>
                <p:nvPr/>
              </p:nvSpPr>
              <p:spPr>
                <a:xfrm>
                  <a:off x="2864520" y="4061880"/>
                  <a:ext cx="3104280" cy="154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38039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62640" bIns="-81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Box 71"/>
              <p:cNvSpPr/>
              <p:nvPr/>
            </p:nvSpPr>
            <p:spPr>
              <a:xfrm>
                <a:off x="2290680" y="39949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  <a:ea typeface="Gulim"/>
                  </a:rPr>
                  <a:t>5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4" descr=""/>
          <p:cNvPicPr/>
          <p:nvPr/>
        </p:nvPicPr>
        <p:blipFill>
          <a:blip r:embed="rId1"/>
          <a:stretch/>
        </p:blipFill>
        <p:spPr>
          <a:xfrm>
            <a:off x="7524720" y="3865680"/>
            <a:ext cx="1619280" cy="1630080"/>
          </a:xfrm>
          <a:prstGeom prst="rect">
            <a:avLst/>
          </a:prstGeom>
          <a:ln w="0">
            <a:noFill/>
          </a:ln>
        </p:spPr>
      </p:pic>
      <p:grpSp>
        <p:nvGrpSpPr>
          <p:cNvPr id="167" name="组合 1"/>
          <p:cNvGrpSpPr/>
          <p:nvPr/>
        </p:nvGrpSpPr>
        <p:grpSpPr>
          <a:xfrm>
            <a:off x="1378080" y="592200"/>
            <a:ext cx="6306840" cy="4309920"/>
            <a:chOff x="1378080" y="592200"/>
            <a:chExt cx="6306840" cy="4309920"/>
          </a:xfrm>
        </p:grpSpPr>
        <p:sp>
          <p:nvSpPr>
            <p:cNvPr id="168" name="矩形 36"/>
            <p:cNvSpPr/>
            <p:nvPr/>
          </p:nvSpPr>
          <p:spPr>
            <a:xfrm>
              <a:off x="2116080" y="3549600"/>
              <a:ext cx="527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410082"/>
                  </a:solidFill>
                  <a:uFillTx/>
                  <a:latin typeface="Calibri"/>
                  <a:hlinkClick r:id="rId2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410082"/>
                  </a:solidFill>
                  <a:uFillTx/>
                  <a:latin typeface="Calibri"/>
                  <a:hlinkClick r:id="rId3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410082"/>
                  </a:solidFill>
                  <a:uFillTx/>
                  <a:latin typeface="Calibri"/>
                  <a:hlinkClick r:id="rId4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410082"/>
                  </a:solidFill>
                  <a:uFillTx/>
                  <a:latin typeface="Calibri"/>
                  <a:hlinkClick r:id="rId5"/>
                </a:rPr>
                <a:t>www.1ppt.com/sucai/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410082"/>
                  </a:solidFill>
                  <a:uFillTx/>
                  <a:latin typeface="Calibri"/>
                  <a:hlinkClick r:id="rId6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410082"/>
                  </a:solidFill>
                  <a:uFillTx/>
                  <a:latin typeface="Calibri"/>
                  <a:hlinkClick r:id="rId7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410082"/>
                  </a:solidFill>
                  <a:uFillTx/>
                  <a:latin typeface="Calibri"/>
                  <a:hlinkClick r:id="rId8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410082"/>
                  </a:solidFill>
                  <a:uFillTx/>
                  <a:latin typeface="Calibri"/>
                  <a:hlinkClick r:id="rId9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ww.1ppt.com/word/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ww.1ppt.com/excel/  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ww.1ppt.com/ziliao/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ww.1ppt.com/kejian/ 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ww.1ppt.com/fanwen/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ww.1ppt.com/shiti/  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ww.1ppt.com/jiaoan/  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그룹 48"/>
            <p:cNvGrpSpPr/>
            <p:nvPr/>
          </p:nvGrpSpPr>
          <p:grpSpPr>
            <a:xfrm>
              <a:off x="1378080" y="592200"/>
              <a:ext cx="6306840" cy="4309920"/>
              <a:chOff x="1378080" y="592200"/>
              <a:chExt cx="6306840" cy="4309920"/>
            </a:xfrm>
          </p:grpSpPr>
          <p:grpSp>
            <p:nvGrpSpPr>
              <p:cNvPr id="170" name="Rectangle 103"/>
              <p:cNvGrpSpPr/>
              <p:nvPr/>
            </p:nvGrpSpPr>
            <p:grpSpPr>
              <a:xfrm>
                <a:off x="3106800" y="943200"/>
                <a:ext cx="4553280" cy="743040"/>
                <a:chOff x="3106800" y="943200"/>
                <a:chExt cx="4553280" cy="743040"/>
              </a:xfrm>
            </p:grpSpPr>
            <p:pic>
              <p:nvPicPr>
                <p:cNvPr id="171" name="Rectangle 10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106800" y="943200"/>
                  <a:ext cx="4553280" cy="74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Text Box 4"/>
                <p:cNvSpPr/>
                <p:nvPr/>
              </p:nvSpPr>
              <p:spPr>
                <a:xfrm rot="10800000">
                  <a:off x="3114720" y="951120"/>
                  <a:ext cx="4534200" cy="71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타원 21"/>
              <p:cNvSpPr/>
              <p:nvPr/>
            </p:nvSpPr>
            <p:spPr>
              <a:xfrm>
                <a:off x="1378080" y="3799080"/>
                <a:ext cx="3948120" cy="1103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4" name="Rectangle 103"/>
              <p:cNvGrpSpPr/>
              <p:nvPr/>
            </p:nvGrpSpPr>
            <p:grpSpPr>
              <a:xfrm>
                <a:off x="3131640" y="1932840"/>
                <a:ext cx="4553280" cy="743040"/>
                <a:chOff x="3131640" y="1932840"/>
                <a:chExt cx="4553280" cy="743040"/>
              </a:xfrm>
            </p:grpSpPr>
            <p:pic>
              <p:nvPicPr>
                <p:cNvPr id="175" name="Rectangle 10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131640" y="1932840"/>
                  <a:ext cx="4553280" cy="7430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76" name="Text Box 8"/>
                <p:cNvGrpSpPr/>
                <p:nvPr/>
              </p:nvGrpSpPr>
              <p:grpSpPr>
                <a:xfrm>
                  <a:off x="3131640" y="1938600"/>
                  <a:ext cx="4547520" cy="731160"/>
                  <a:chOff x="3131640" y="1938600"/>
                  <a:chExt cx="4547520" cy="731160"/>
                </a:xfrm>
              </p:grpSpPr>
              <p:pic>
                <p:nvPicPr>
                  <p:cNvPr id="177" name="Text Box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1640" y="1938600"/>
                    <a:ext cx="4547520" cy="73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8" name=""/>
                  <p:cNvSpPr/>
                  <p:nvPr/>
                </p:nvSpPr>
                <p:spPr>
                  <a:xfrm rot="10800000">
                    <a:off x="3140280" y="1943280"/>
                    <a:ext cx="4533840" cy="719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Rectangle 104"/>
              <p:cNvGrpSpPr/>
              <p:nvPr/>
            </p:nvGrpSpPr>
            <p:grpSpPr>
              <a:xfrm>
                <a:off x="3131640" y="2928960"/>
                <a:ext cx="4553280" cy="738000"/>
                <a:chOff x="3131640" y="2928960"/>
                <a:chExt cx="4553280" cy="738000"/>
              </a:xfrm>
            </p:grpSpPr>
            <p:pic>
              <p:nvPicPr>
                <p:cNvPr id="180" name="Rectangle 104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131640" y="2928960"/>
                  <a:ext cx="4553280" cy="738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1" name="Text Box 11"/>
                <p:cNvGrpSpPr/>
                <p:nvPr/>
              </p:nvGrpSpPr>
              <p:grpSpPr>
                <a:xfrm>
                  <a:off x="3131640" y="2934720"/>
                  <a:ext cx="4547520" cy="726120"/>
                  <a:chOff x="3131640" y="2934720"/>
                  <a:chExt cx="4547520" cy="726120"/>
                </a:xfrm>
              </p:grpSpPr>
              <p:pic>
                <p:nvPicPr>
                  <p:cNvPr id="182" name="Text Box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1640" y="2934720"/>
                    <a:ext cx="4547520" cy="7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3" name=""/>
                  <p:cNvSpPr/>
                  <p:nvPr/>
                </p:nvSpPr>
                <p:spPr>
                  <a:xfrm rot="10800000">
                    <a:off x="3140280" y="2941200"/>
                    <a:ext cx="4533840" cy="71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4" name="Group 105"/>
              <p:cNvGrpSpPr/>
              <p:nvPr/>
            </p:nvGrpSpPr>
            <p:grpSpPr>
              <a:xfrm>
                <a:off x="1585800" y="2639880"/>
                <a:ext cx="2985840" cy="1404000"/>
                <a:chOff x="1585800" y="2639880"/>
                <a:chExt cx="2985840" cy="1404000"/>
              </a:xfrm>
            </p:grpSpPr>
            <p:sp>
              <p:nvSpPr>
                <p:cNvPr id="185" name="Freeform 106"/>
                <p:cNvSpPr/>
                <p:nvPr/>
              </p:nvSpPr>
              <p:spPr>
                <a:xfrm>
                  <a:off x="1585800" y="2639880"/>
                  <a:ext cx="2985840" cy="1404000"/>
                </a:xfrm>
                <a:custGeom>
                  <a:avLst/>
                  <a:gdLst>
                    <a:gd name="textAreaLeft" fmla="*/ 0 w 2985840"/>
                    <a:gd name="textAreaRight" fmla="*/ 2986200 w 2985840"/>
                    <a:gd name="textAreaTop" fmla="*/ 0 h 1404000"/>
                    <a:gd name="textAreaBottom" fmla="*/ 1404360 h 1404000"/>
                  </a:gdLst>
                  <a:ahLst/>
                  <a:rect l="textAreaLeft" t="textAreaTop" r="textAreaRight" b="textAreaBottom"/>
                  <a:pathLst>
                    <a:path w="2304" h="1080">
                      <a:moveTo>
                        <a:pt x="2016" y="216"/>
                      </a:moveTo>
                      <a:lnTo>
                        <a:pt x="2304" y="792"/>
                      </a:lnTo>
                      <a:lnTo>
                        <a:pt x="2304" y="792"/>
                      </a:lnTo>
                      <a:lnTo>
                        <a:pt x="2302" y="806"/>
                      </a:lnTo>
                      <a:lnTo>
                        <a:pt x="2298" y="822"/>
                      </a:lnTo>
                      <a:lnTo>
                        <a:pt x="2290" y="836"/>
                      </a:lnTo>
                      <a:lnTo>
                        <a:pt x="2280" y="850"/>
                      </a:lnTo>
                      <a:lnTo>
                        <a:pt x="2268" y="864"/>
                      </a:lnTo>
                      <a:lnTo>
                        <a:pt x="2252" y="878"/>
                      </a:lnTo>
                      <a:lnTo>
                        <a:pt x="2234" y="892"/>
                      </a:lnTo>
                      <a:lnTo>
                        <a:pt x="2214" y="904"/>
                      </a:lnTo>
                      <a:lnTo>
                        <a:pt x="2190" y="916"/>
                      </a:lnTo>
                      <a:lnTo>
                        <a:pt x="2164" y="930"/>
                      </a:lnTo>
                      <a:lnTo>
                        <a:pt x="2108" y="954"/>
                      </a:lnTo>
                      <a:lnTo>
                        <a:pt x="2040" y="976"/>
                      </a:lnTo>
                      <a:lnTo>
                        <a:pt x="1966" y="996"/>
                      </a:lnTo>
                      <a:lnTo>
                        <a:pt x="1884" y="1014"/>
                      </a:lnTo>
                      <a:lnTo>
                        <a:pt x="1796" y="1030"/>
                      </a:lnTo>
                      <a:lnTo>
                        <a:pt x="1702" y="1046"/>
                      </a:lnTo>
                      <a:lnTo>
                        <a:pt x="1600" y="1058"/>
                      </a:lnTo>
                      <a:lnTo>
                        <a:pt x="1494" y="1068"/>
                      </a:lnTo>
                      <a:lnTo>
                        <a:pt x="1384" y="1074"/>
                      </a:lnTo>
                      <a:lnTo>
                        <a:pt x="1270" y="1078"/>
                      </a:lnTo>
                      <a:lnTo>
                        <a:pt x="1152" y="1080"/>
                      </a:lnTo>
                      <a:lnTo>
                        <a:pt x="1152" y="1080"/>
                      </a:lnTo>
                      <a:lnTo>
                        <a:pt x="1034" y="1078"/>
                      </a:lnTo>
                      <a:lnTo>
                        <a:pt x="920" y="1074"/>
                      </a:lnTo>
                      <a:lnTo>
                        <a:pt x="810" y="1068"/>
                      </a:lnTo>
                      <a:lnTo>
                        <a:pt x="704" y="1058"/>
                      </a:lnTo>
                      <a:lnTo>
                        <a:pt x="602" y="1046"/>
                      </a:lnTo>
                      <a:lnTo>
                        <a:pt x="508" y="1030"/>
                      </a:lnTo>
                      <a:lnTo>
                        <a:pt x="420" y="1014"/>
                      </a:lnTo>
                      <a:lnTo>
                        <a:pt x="338" y="996"/>
                      </a:lnTo>
                      <a:lnTo>
                        <a:pt x="264" y="976"/>
                      </a:lnTo>
                      <a:lnTo>
                        <a:pt x="196" y="954"/>
                      </a:lnTo>
                      <a:lnTo>
                        <a:pt x="140" y="930"/>
                      </a:lnTo>
                      <a:lnTo>
                        <a:pt x="114" y="916"/>
                      </a:lnTo>
                      <a:lnTo>
                        <a:pt x="90" y="904"/>
                      </a:lnTo>
                      <a:lnTo>
                        <a:pt x="70" y="892"/>
                      </a:lnTo>
                      <a:lnTo>
                        <a:pt x="52" y="878"/>
                      </a:lnTo>
                      <a:lnTo>
                        <a:pt x="36" y="864"/>
                      </a:lnTo>
                      <a:lnTo>
                        <a:pt x="24" y="850"/>
                      </a:lnTo>
                      <a:lnTo>
                        <a:pt x="14" y="836"/>
                      </a:lnTo>
                      <a:lnTo>
                        <a:pt x="6" y="822"/>
                      </a:lnTo>
                      <a:lnTo>
                        <a:pt x="2" y="806"/>
                      </a:lnTo>
                      <a:lnTo>
                        <a:pt x="0" y="792"/>
                      </a:lnTo>
                      <a:lnTo>
                        <a:pt x="288" y="216"/>
                      </a:lnTo>
                      <a:lnTo>
                        <a:pt x="288" y="216"/>
                      </a:lnTo>
                      <a:lnTo>
                        <a:pt x="290" y="204"/>
                      </a:lnTo>
                      <a:lnTo>
                        <a:pt x="292" y="194"/>
                      </a:lnTo>
                      <a:lnTo>
                        <a:pt x="298" y="184"/>
                      </a:lnTo>
                      <a:lnTo>
                        <a:pt x="306" y="172"/>
                      </a:lnTo>
                      <a:lnTo>
                        <a:pt x="316" y="162"/>
                      </a:lnTo>
                      <a:lnTo>
                        <a:pt x="326" y="152"/>
                      </a:lnTo>
                      <a:lnTo>
                        <a:pt x="340" y="142"/>
                      </a:lnTo>
                      <a:lnTo>
                        <a:pt x="356" y="132"/>
                      </a:lnTo>
                      <a:lnTo>
                        <a:pt x="392" y="114"/>
                      </a:lnTo>
                      <a:lnTo>
                        <a:pt x="436" y="96"/>
                      </a:lnTo>
                      <a:lnTo>
                        <a:pt x="486" y="78"/>
                      </a:lnTo>
                      <a:lnTo>
                        <a:pt x="542" y="64"/>
                      </a:lnTo>
                      <a:lnTo>
                        <a:pt x="602" y="50"/>
                      </a:lnTo>
                      <a:lnTo>
                        <a:pt x="668" y="36"/>
                      </a:lnTo>
                      <a:lnTo>
                        <a:pt x="740" y="26"/>
                      </a:lnTo>
                      <a:lnTo>
                        <a:pt x="816" y="16"/>
                      </a:lnTo>
                      <a:lnTo>
                        <a:pt x="896" y="10"/>
                      </a:lnTo>
                      <a:lnTo>
                        <a:pt x="978" y="4"/>
                      </a:lnTo>
                      <a:lnTo>
                        <a:pt x="1064" y="2"/>
                      </a:lnTo>
                      <a:lnTo>
                        <a:pt x="1152" y="0"/>
                      </a:lnTo>
                      <a:lnTo>
                        <a:pt x="1152" y="0"/>
                      </a:lnTo>
                      <a:lnTo>
                        <a:pt x="1240" y="2"/>
                      </a:lnTo>
                      <a:lnTo>
                        <a:pt x="1326" y="4"/>
                      </a:lnTo>
                      <a:lnTo>
                        <a:pt x="1408" y="10"/>
                      </a:lnTo>
                      <a:lnTo>
                        <a:pt x="1488" y="16"/>
                      </a:lnTo>
                      <a:lnTo>
                        <a:pt x="1564" y="26"/>
                      </a:lnTo>
                      <a:lnTo>
                        <a:pt x="1636" y="36"/>
                      </a:lnTo>
                      <a:lnTo>
                        <a:pt x="1702" y="50"/>
                      </a:lnTo>
                      <a:lnTo>
                        <a:pt x="1762" y="64"/>
                      </a:lnTo>
                      <a:lnTo>
                        <a:pt x="1818" y="78"/>
                      </a:lnTo>
                      <a:lnTo>
                        <a:pt x="1868" y="96"/>
                      </a:lnTo>
                      <a:lnTo>
                        <a:pt x="1912" y="114"/>
                      </a:lnTo>
                      <a:lnTo>
                        <a:pt x="1948" y="132"/>
                      </a:lnTo>
                      <a:lnTo>
                        <a:pt x="1964" y="142"/>
                      </a:lnTo>
                      <a:lnTo>
                        <a:pt x="1978" y="152"/>
                      </a:lnTo>
                      <a:lnTo>
                        <a:pt x="1988" y="162"/>
                      </a:lnTo>
                      <a:lnTo>
                        <a:pt x="1998" y="172"/>
                      </a:lnTo>
                      <a:lnTo>
                        <a:pt x="2006" y="184"/>
                      </a:lnTo>
                      <a:lnTo>
                        <a:pt x="2012" y="194"/>
                      </a:lnTo>
                      <a:lnTo>
                        <a:pt x="2014" y="204"/>
                      </a:lnTo>
                      <a:lnTo>
                        <a:pt x="2016" y="216"/>
                      </a:lnTo>
                      <a:lnTo>
                        <a:pt x="2016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07"/>
                <p:cNvSpPr/>
                <p:nvPr/>
              </p:nvSpPr>
              <p:spPr>
                <a:xfrm>
                  <a:off x="1958760" y="2639880"/>
                  <a:ext cx="2239200" cy="561240"/>
                </a:xfrm>
                <a:custGeom>
                  <a:avLst/>
                  <a:gdLst>
                    <a:gd name="textAreaLeft" fmla="*/ 0 w 2239200"/>
                    <a:gd name="textAreaRight" fmla="*/ 2239560 w 223920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728" h="432">
                      <a:moveTo>
                        <a:pt x="1728" y="216"/>
                      </a:moveTo>
                      <a:lnTo>
                        <a:pt x="1728" y="216"/>
                      </a:lnTo>
                      <a:lnTo>
                        <a:pt x="1726" y="228"/>
                      </a:lnTo>
                      <a:lnTo>
                        <a:pt x="1724" y="238"/>
                      </a:lnTo>
                      <a:lnTo>
                        <a:pt x="1718" y="248"/>
                      </a:lnTo>
                      <a:lnTo>
                        <a:pt x="1710" y="260"/>
                      </a:lnTo>
                      <a:lnTo>
                        <a:pt x="1700" y="270"/>
                      </a:lnTo>
                      <a:lnTo>
                        <a:pt x="1690" y="280"/>
                      </a:lnTo>
                      <a:lnTo>
                        <a:pt x="1676" y="290"/>
                      </a:lnTo>
                      <a:lnTo>
                        <a:pt x="1660" y="300"/>
                      </a:lnTo>
                      <a:lnTo>
                        <a:pt x="1624" y="318"/>
                      </a:lnTo>
                      <a:lnTo>
                        <a:pt x="1580" y="336"/>
                      </a:lnTo>
                      <a:lnTo>
                        <a:pt x="1530" y="354"/>
                      </a:lnTo>
                      <a:lnTo>
                        <a:pt x="1474" y="368"/>
                      </a:lnTo>
                      <a:lnTo>
                        <a:pt x="1414" y="382"/>
                      </a:lnTo>
                      <a:lnTo>
                        <a:pt x="1348" y="396"/>
                      </a:lnTo>
                      <a:lnTo>
                        <a:pt x="1276" y="406"/>
                      </a:lnTo>
                      <a:lnTo>
                        <a:pt x="1200" y="416"/>
                      </a:lnTo>
                      <a:lnTo>
                        <a:pt x="1120" y="422"/>
                      </a:lnTo>
                      <a:lnTo>
                        <a:pt x="1038" y="428"/>
                      </a:lnTo>
                      <a:lnTo>
                        <a:pt x="952" y="430"/>
                      </a:lnTo>
                      <a:lnTo>
                        <a:pt x="864" y="432"/>
                      </a:lnTo>
                      <a:lnTo>
                        <a:pt x="776" y="430"/>
                      </a:lnTo>
                      <a:lnTo>
                        <a:pt x="690" y="428"/>
                      </a:lnTo>
                      <a:lnTo>
                        <a:pt x="608" y="422"/>
                      </a:lnTo>
                      <a:lnTo>
                        <a:pt x="528" y="416"/>
                      </a:lnTo>
                      <a:lnTo>
                        <a:pt x="452" y="406"/>
                      </a:lnTo>
                      <a:lnTo>
                        <a:pt x="380" y="396"/>
                      </a:lnTo>
                      <a:lnTo>
                        <a:pt x="314" y="382"/>
                      </a:lnTo>
                      <a:lnTo>
                        <a:pt x="254" y="368"/>
                      </a:lnTo>
                      <a:lnTo>
                        <a:pt x="198" y="354"/>
                      </a:lnTo>
                      <a:lnTo>
                        <a:pt x="148" y="336"/>
                      </a:lnTo>
                      <a:lnTo>
                        <a:pt x="104" y="318"/>
                      </a:lnTo>
                      <a:lnTo>
                        <a:pt x="68" y="300"/>
                      </a:lnTo>
                      <a:lnTo>
                        <a:pt x="52" y="290"/>
                      </a:lnTo>
                      <a:lnTo>
                        <a:pt x="38" y="280"/>
                      </a:lnTo>
                      <a:lnTo>
                        <a:pt x="28" y="270"/>
                      </a:lnTo>
                      <a:lnTo>
                        <a:pt x="18" y="260"/>
                      </a:lnTo>
                      <a:lnTo>
                        <a:pt x="10" y="248"/>
                      </a:lnTo>
                      <a:lnTo>
                        <a:pt x="4" y="238"/>
                      </a:lnTo>
                      <a:lnTo>
                        <a:pt x="2" y="228"/>
                      </a:lnTo>
                      <a:lnTo>
                        <a:pt x="0" y="216"/>
                      </a:lnTo>
                      <a:lnTo>
                        <a:pt x="2" y="204"/>
                      </a:lnTo>
                      <a:lnTo>
                        <a:pt x="4" y="194"/>
                      </a:lnTo>
                      <a:lnTo>
                        <a:pt x="10" y="184"/>
                      </a:lnTo>
                      <a:lnTo>
                        <a:pt x="18" y="172"/>
                      </a:lnTo>
                      <a:lnTo>
                        <a:pt x="28" y="162"/>
                      </a:lnTo>
                      <a:lnTo>
                        <a:pt x="38" y="152"/>
                      </a:lnTo>
                      <a:lnTo>
                        <a:pt x="52" y="142"/>
                      </a:lnTo>
                      <a:lnTo>
                        <a:pt x="68" y="132"/>
                      </a:lnTo>
                      <a:lnTo>
                        <a:pt x="104" y="114"/>
                      </a:lnTo>
                      <a:lnTo>
                        <a:pt x="148" y="96"/>
                      </a:lnTo>
                      <a:lnTo>
                        <a:pt x="198" y="78"/>
                      </a:lnTo>
                      <a:lnTo>
                        <a:pt x="254" y="64"/>
                      </a:lnTo>
                      <a:lnTo>
                        <a:pt x="314" y="50"/>
                      </a:lnTo>
                      <a:lnTo>
                        <a:pt x="380" y="36"/>
                      </a:lnTo>
                      <a:lnTo>
                        <a:pt x="452" y="26"/>
                      </a:lnTo>
                      <a:lnTo>
                        <a:pt x="528" y="16"/>
                      </a:lnTo>
                      <a:lnTo>
                        <a:pt x="608" y="10"/>
                      </a:lnTo>
                      <a:lnTo>
                        <a:pt x="690" y="4"/>
                      </a:lnTo>
                      <a:lnTo>
                        <a:pt x="776" y="2"/>
                      </a:lnTo>
                      <a:lnTo>
                        <a:pt x="864" y="0"/>
                      </a:lnTo>
                      <a:lnTo>
                        <a:pt x="952" y="2"/>
                      </a:lnTo>
                      <a:lnTo>
                        <a:pt x="1038" y="4"/>
                      </a:lnTo>
                      <a:lnTo>
                        <a:pt x="1120" y="10"/>
                      </a:lnTo>
                      <a:lnTo>
                        <a:pt x="1200" y="16"/>
                      </a:lnTo>
                      <a:lnTo>
                        <a:pt x="1276" y="26"/>
                      </a:lnTo>
                      <a:lnTo>
                        <a:pt x="1348" y="36"/>
                      </a:lnTo>
                      <a:lnTo>
                        <a:pt x="1414" y="50"/>
                      </a:lnTo>
                      <a:lnTo>
                        <a:pt x="1474" y="64"/>
                      </a:lnTo>
                      <a:lnTo>
                        <a:pt x="1530" y="78"/>
                      </a:lnTo>
                      <a:lnTo>
                        <a:pt x="1580" y="96"/>
                      </a:lnTo>
                      <a:lnTo>
                        <a:pt x="1624" y="114"/>
                      </a:lnTo>
                      <a:lnTo>
                        <a:pt x="1660" y="132"/>
                      </a:lnTo>
                      <a:lnTo>
                        <a:pt x="1676" y="142"/>
                      </a:lnTo>
                      <a:lnTo>
                        <a:pt x="1690" y="152"/>
                      </a:lnTo>
                      <a:lnTo>
                        <a:pt x="1700" y="162"/>
                      </a:lnTo>
                      <a:lnTo>
                        <a:pt x="1710" y="172"/>
                      </a:lnTo>
                      <a:lnTo>
                        <a:pt x="1718" y="184"/>
                      </a:lnTo>
                      <a:lnTo>
                        <a:pt x="1724" y="194"/>
                      </a:lnTo>
                      <a:lnTo>
                        <a:pt x="1726" y="204"/>
                      </a:lnTo>
                      <a:lnTo>
                        <a:pt x="1728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Oval 108"/>
              <p:cNvSpPr/>
              <p:nvPr/>
            </p:nvSpPr>
            <p:spPr>
              <a:xfrm>
                <a:off x="1730160" y="2451240"/>
                <a:ext cx="2693880" cy="8744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8" name="Group 109"/>
              <p:cNvGrpSpPr/>
              <p:nvPr/>
            </p:nvGrpSpPr>
            <p:grpSpPr>
              <a:xfrm>
                <a:off x="2082600" y="1820520"/>
                <a:ext cx="2019240" cy="1116000"/>
                <a:chOff x="2082600" y="1820520"/>
                <a:chExt cx="2019240" cy="1116000"/>
              </a:xfrm>
            </p:grpSpPr>
            <p:sp>
              <p:nvSpPr>
                <p:cNvPr id="189" name="Freeform 110"/>
                <p:cNvSpPr/>
                <p:nvPr/>
              </p:nvSpPr>
              <p:spPr>
                <a:xfrm>
                  <a:off x="2082600" y="1820520"/>
                  <a:ext cx="2019240" cy="1116000"/>
                </a:xfrm>
                <a:custGeom>
                  <a:avLst/>
                  <a:gdLst>
                    <a:gd name="textAreaLeft" fmla="*/ 0 w 2019240"/>
                    <a:gd name="textAreaRight" fmla="*/ 2019600 w 2019240"/>
                    <a:gd name="textAreaTop" fmla="*/ 0 h 1116000"/>
                    <a:gd name="textAreaBottom" fmla="*/ 1116360 h 1116000"/>
                  </a:gdLst>
                  <a:ahLst/>
                  <a:rect l="textAreaLeft" t="textAreaTop" r="textAreaRight" b="textAreaBottom"/>
                  <a:pathLst>
                    <a:path w="1728" h="936">
                      <a:moveTo>
                        <a:pt x="1440" y="144"/>
                      </a:moveTo>
                      <a:lnTo>
                        <a:pt x="1728" y="720"/>
                      </a:lnTo>
                      <a:lnTo>
                        <a:pt x="1728" y="720"/>
                      </a:lnTo>
                      <a:lnTo>
                        <a:pt x="1726" y="732"/>
                      </a:lnTo>
                      <a:lnTo>
                        <a:pt x="1724" y="742"/>
                      </a:lnTo>
                      <a:lnTo>
                        <a:pt x="1718" y="752"/>
                      </a:lnTo>
                      <a:lnTo>
                        <a:pt x="1710" y="764"/>
                      </a:lnTo>
                      <a:lnTo>
                        <a:pt x="1700" y="774"/>
                      </a:lnTo>
                      <a:lnTo>
                        <a:pt x="1690" y="784"/>
                      </a:lnTo>
                      <a:lnTo>
                        <a:pt x="1676" y="794"/>
                      </a:lnTo>
                      <a:lnTo>
                        <a:pt x="1660" y="804"/>
                      </a:lnTo>
                      <a:lnTo>
                        <a:pt x="1624" y="822"/>
                      </a:lnTo>
                      <a:lnTo>
                        <a:pt x="1580" y="840"/>
                      </a:lnTo>
                      <a:lnTo>
                        <a:pt x="1530" y="858"/>
                      </a:lnTo>
                      <a:lnTo>
                        <a:pt x="1474" y="872"/>
                      </a:lnTo>
                      <a:lnTo>
                        <a:pt x="1414" y="886"/>
                      </a:lnTo>
                      <a:lnTo>
                        <a:pt x="1348" y="900"/>
                      </a:lnTo>
                      <a:lnTo>
                        <a:pt x="1276" y="910"/>
                      </a:lnTo>
                      <a:lnTo>
                        <a:pt x="1200" y="920"/>
                      </a:lnTo>
                      <a:lnTo>
                        <a:pt x="1120" y="926"/>
                      </a:lnTo>
                      <a:lnTo>
                        <a:pt x="1038" y="932"/>
                      </a:lnTo>
                      <a:lnTo>
                        <a:pt x="952" y="934"/>
                      </a:lnTo>
                      <a:lnTo>
                        <a:pt x="864" y="936"/>
                      </a:lnTo>
                      <a:lnTo>
                        <a:pt x="864" y="936"/>
                      </a:lnTo>
                      <a:lnTo>
                        <a:pt x="776" y="934"/>
                      </a:lnTo>
                      <a:lnTo>
                        <a:pt x="690" y="932"/>
                      </a:lnTo>
                      <a:lnTo>
                        <a:pt x="608" y="926"/>
                      </a:lnTo>
                      <a:lnTo>
                        <a:pt x="528" y="920"/>
                      </a:lnTo>
                      <a:lnTo>
                        <a:pt x="452" y="910"/>
                      </a:lnTo>
                      <a:lnTo>
                        <a:pt x="380" y="900"/>
                      </a:lnTo>
                      <a:lnTo>
                        <a:pt x="314" y="886"/>
                      </a:lnTo>
                      <a:lnTo>
                        <a:pt x="254" y="872"/>
                      </a:lnTo>
                      <a:lnTo>
                        <a:pt x="198" y="858"/>
                      </a:lnTo>
                      <a:lnTo>
                        <a:pt x="148" y="840"/>
                      </a:lnTo>
                      <a:lnTo>
                        <a:pt x="104" y="822"/>
                      </a:lnTo>
                      <a:lnTo>
                        <a:pt x="68" y="804"/>
                      </a:lnTo>
                      <a:lnTo>
                        <a:pt x="52" y="794"/>
                      </a:lnTo>
                      <a:lnTo>
                        <a:pt x="38" y="784"/>
                      </a:lnTo>
                      <a:lnTo>
                        <a:pt x="28" y="774"/>
                      </a:lnTo>
                      <a:lnTo>
                        <a:pt x="18" y="764"/>
                      </a:lnTo>
                      <a:lnTo>
                        <a:pt x="10" y="752"/>
                      </a:lnTo>
                      <a:lnTo>
                        <a:pt x="4" y="742"/>
                      </a:lnTo>
                      <a:lnTo>
                        <a:pt x="2" y="732"/>
                      </a:lnTo>
                      <a:lnTo>
                        <a:pt x="0" y="720"/>
                      </a:lnTo>
                      <a:lnTo>
                        <a:pt x="288" y="144"/>
                      </a:lnTo>
                      <a:lnTo>
                        <a:pt x="288" y="144"/>
                      </a:lnTo>
                      <a:lnTo>
                        <a:pt x="288" y="136"/>
                      </a:lnTo>
                      <a:lnTo>
                        <a:pt x="290" y="130"/>
                      </a:lnTo>
                      <a:lnTo>
                        <a:pt x="294" y="122"/>
                      </a:lnTo>
                      <a:lnTo>
                        <a:pt x="300" y="114"/>
                      </a:lnTo>
                      <a:lnTo>
                        <a:pt x="314" y="102"/>
                      </a:lnTo>
                      <a:lnTo>
                        <a:pt x="334" y="88"/>
                      </a:lnTo>
                      <a:lnTo>
                        <a:pt x="358" y="76"/>
                      </a:lnTo>
                      <a:lnTo>
                        <a:pt x="386" y="64"/>
                      </a:lnTo>
                      <a:lnTo>
                        <a:pt x="420" y="52"/>
                      </a:lnTo>
                      <a:lnTo>
                        <a:pt x="456" y="42"/>
                      </a:lnTo>
                      <a:lnTo>
                        <a:pt x="498" y="32"/>
                      </a:lnTo>
                      <a:lnTo>
                        <a:pt x="542" y="24"/>
                      </a:lnTo>
                      <a:lnTo>
                        <a:pt x="590" y="18"/>
                      </a:lnTo>
                      <a:lnTo>
                        <a:pt x="640" y="12"/>
                      </a:lnTo>
                      <a:lnTo>
                        <a:pt x="692" y="6"/>
                      </a:lnTo>
                      <a:lnTo>
                        <a:pt x="748" y="2"/>
                      </a:lnTo>
                      <a:lnTo>
                        <a:pt x="806" y="0"/>
                      </a:lnTo>
                      <a:lnTo>
                        <a:pt x="864" y="0"/>
                      </a:lnTo>
                      <a:lnTo>
                        <a:pt x="864" y="0"/>
                      </a:lnTo>
                      <a:lnTo>
                        <a:pt x="922" y="0"/>
                      </a:lnTo>
                      <a:lnTo>
                        <a:pt x="980" y="2"/>
                      </a:lnTo>
                      <a:lnTo>
                        <a:pt x="1036" y="6"/>
                      </a:lnTo>
                      <a:lnTo>
                        <a:pt x="1088" y="12"/>
                      </a:lnTo>
                      <a:lnTo>
                        <a:pt x="1138" y="18"/>
                      </a:lnTo>
                      <a:lnTo>
                        <a:pt x="1186" y="24"/>
                      </a:lnTo>
                      <a:lnTo>
                        <a:pt x="1230" y="32"/>
                      </a:lnTo>
                      <a:lnTo>
                        <a:pt x="1272" y="42"/>
                      </a:lnTo>
                      <a:lnTo>
                        <a:pt x="1308" y="52"/>
                      </a:lnTo>
                      <a:lnTo>
                        <a:pt x="1342" y="64"/>
                      </a:lnTo>
                      <a:lnTo>
                        <a:pt x="1370" y="76"/>
                      </a:lnTo>
                      <a:lnTo>
                        <a:pt x="1394" y="88"/>
                      </a:lnTo>
                      <a:lnTo>
                        <a:pt x="1414" y="102"/>
                      </a:lnTo>
                      <a:lnTo>
                        <a:pt x="1428" y="114"/>
                      </a:lnTo>
                      <a:lnTo>
                        <a:pt x="1434" y="122"/>
                      </a:lnTo>
                      <a:lnTo>
                        <a:pt x="1438" y="130"/>
                      </a:lnTo>
                      <a:lnTo>
                        <a:pt x="1440" y="136"/>
                      </a:lnTo>
                      <a:lnTo>
                        <a:pt x="1440" y="144"/>
                      </a:lnTo>
                      <a:lnTo>
                        <a:pt x="1440" y="1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11"/>
                <p:cNvSpPr/>
                <p:nvPr/>
              </p:nvSpPr>
              <p:spPr>
                <a:xfrm>
                  <a:off x="2418840" y="1820520"/>
                  <a:ext cx="1346040" cy="343440"/>
                </a:xfrm>
                <a:custGeom>
                  <a:avLst/>
                  <a:gdLst>
                    <a:gd name="textAreaLeft" fmla="*/ 0 w 1346040"/>
                    <a:gd name="textAreaRight" fmla="*/ 1346400 w 1346040"/>
                    <a:gd name="textAreaTop" fmla="*/ 0 h 343440"/>
                    <a:gd name="textAreaBottom" fmla="*/ 343800 h 343440"/>
                  </a:gdLst>
                  <a:ahLst/>
                  <a:rect l="textAreaLeft" t="textAreaTop" r="textAreaRight" b="textAreaBottom"/>
                  <a:pathLst>
                    <a:path w="1152" h="288">
                      <a:moveTo>
                        <a:pt x="1152" y="144"/>
                      </a:moveTo>
                      <a:lnTo>
                        <a:pt x="1152" y="144"/>
                      </a:lnTo>
                      <a:lnTo>
                        <a:pt x="1152" y="152"/>
                      </a:lnTo>
                      <a:lnTo>
                        <a:pt x="1150" y="158"/>
                      </a:lnTo>
                      <a:lnTo>
                        <a:pt x="1146" y="166"/>
                      </a:lnTo>
                      <a:lnTo>
                        <a:pt x="1140" y="174"/>
                      </a:lnTo>
                      <a:lnTo>
                        <a:pt x="1126" y="186"/>
                      </a:lnTo>
                      <a:lnTo>
                        <a:pt x="1106" y="200"/>
                      </a:lnTo>
                      <a:lnTo>
                        <a:pt x="1082" y="212"/>
                      </a:lnTo>
                      <a:lnTo>
                        <a:pt x="1054" y="224"/>
                      </a:lnTo>
                      <a:lnTo>
                        <a:pt x="1020" y="236"/>
                      </a:lnTo>
                      <a:lnTo>
                        <a:pt x="984" y="246"/>
                      </a:lnTo>
                      <a:lnTo>
                        <a:pt x="942" y="256"/>
                      </a:lnTo>
                      <a:lnTo>
                        <a:pt x="898" y="264"/>
                      </a:lnTo>
                      <a:lnTo>
                        <a:pt x="850" y="270"/>
                      </a:lnTo>
                      <a:lnTo>
                        <a:pt x="800" y="276"/>
                      </a:lnTo>
                      <a:lnTo>
                        <a:pt x="748" y="282"/>
                      </a:lnTo>
                      <a:lnTo>
                        <a:pt x="692" y="286"/>
                      </a:lnTo>
                      <a:lnTo>
                        <a:pt x="634" y="288"/>
                      </a:lnTo>
                      <a:lnTo>
                        <a:pt x="576" y="288"/>
                      </a:lnTo>
                      <a:lnTo>
                        <a:pt x="518" y="288"/>
                      </a:lnTo>
                      <a:lnTo>
                        <a:pt x="460" y="286"/>
                      </a:lnTo>
                      <a:lnTo>
                        <a:pt x="404" y="282"/>
                      </a:lnTo>
                      <a:lnTo>
                        <a:pt x="352" y="276"/>
                      </a:lnTo>
                      <a:lnTo>
                        <a:pt x="302" y="270"/>
                      </a:lnTo>
                      <a:lnTo>
                        <a:pt x="254" y="264"/>
                      </a:lnTo>
                      <a:lnTo>
                        <a:pt x="210" y="256"/>
                      </a:lnTo>
                      <a:lnTo>
                        <a:pt x="168" y="246"/>
                      </a:lnTo>
                      <a:lnTo>
                        <a:pt x="132" y="236"/>
                      </a:lnTo>
                      <a:lnTo>
                        <a:pt x="98" y="224"/>
                      </a:lnTo>
                      <a:lnTo>
                        <a:pt x="70" y="212"/>
                      </a:lnTo>
                      <a:lnTo>
                        <a:pt x="46" y="200"/>
                      </a:lnTo>
                      <a:lnTo>
                        <a:pt x="26" y="186"/>
                      </a:lnTo>
                      <a:lnTo>
                        <a:pt x="12" y="174"/>
                      </a:lnTo>
                      <a:lnTo>
                        <a:pt x="6" y="166"/>
                      </a:lnTo>
                      <a:lnTo>
                        <a:pt x="2" y="158"/>
                      </a:lnTo>
                      <a:lnTo>
                        <a:pt x="0" y="152"/>
                      </a:lnTo>
                      <a:lnTo>
                        <a:pt x="0" y="144"/>
                      </a:lnTo>
                      <a:lnTo>
                        <a:pt x="0" y="136"/>
                      </a:lnTo>
                      <a:lnTo>
                        <a:pt x="2" y="130"/>
                      </a:lnTo>
                      <a:lnTo>
                        <a:pt x="6" y="122"/>
                      </a:lnTo>
                      <a:lnTo>
                        <a:pt x="12" y="114"/>
                      </a:lnTo>
                      <a:lnTo>
                        <a:pt x="26" y="102"/>
                      </a:lnTo>
                      <a:lnTo>
                        <a:pt x="46" y="88"/>
                      </a:lnTo>
                      <a:lnTo>
                        <a:pt x="70" y="76"/>
                      </a:lnTo>
                      <a:lnTo>
                        <a:pt x="98" y="64"/>
                      </a:lnTo>
                      <a:lnTo>
                        <a:pt x="132" y="52"/>
                      </a:lnTo>
                      <a:lnTo>
                        <a:pt x="168" y="42"/>
                      </a:lnTo>
                      <a:lnTo>
                        <a:pt x="210" y="32"/>
                      </a:lnTo>
                      <a:lnTo>
                        <a:pt x="254" y="24"/>
                      </a:lnTo>
                      <a:lnTo>
                        <a:pt x="302" y="18"/>
                      </a:lnTo>
                      <a:lnTo>
                        <a:pt x="352" y="12"/>
                      </a:lnTo>
                      <a:lnTo>
                        <a:pt x="404" y="6"/>
                      </a:lnTo>
                      <a:lnTo>
                        <a:pt x="460" y="2"/>
                      </a:lnTo>
                      <a:lnTo>
                        <a:pt x="518" y="0"/>
                      </a:lnTo>
                      <a:lnTo>
                        <a:pt x="576" y="0"/>
                      </a:lnTo>
                      <a:lnTo>
                        <a:pt x="634" y="0"/>
                      </a:lnTo>
                      <a:lnTo>
                        <a:pt x="692" y="2"/>
                      </a:lnTo>
                      <a:lnTo>
                        <a:pt x="748" y="6"/>
                      </a:lnTo>
                      <a:lnTo>
                        <a:pt x="800" y="12"/>
                      </a:lnTo>
                      <a:lnTo>
                        <a:pt x="850" y="18"/>
                      </a:lnTo>
                      <a:lnTo>
                        <a:pt x="898" y="24"/>
                      </a:lnTo>
                      <a:lnTo>
                        <a:pt x="942" y="32"/>
                      </a:lnTo>
                      <a:lnTo>
                        <a:pt x="984" y="42"/>
                      </a:lnTo>
                      <a:lnTo>
                        <a:pt x="1020" y="52"/>
                      </a:lnTo>
                      <a:lnTo>
                        <a:pt x="1054" y="64"/>
                      </a:lnTo>
                      <a:lnTo>
                        <a:pt x="1082" y="76"/>
                      </a:lnTo>
                      <a:lnTo>
                        <a:pt x="1106" y="88"/>
                      </a:lnTo>
                      <a:lnTo>
                        <a:pt x="1126" y="102"/>
                      </a:lnTo>
                      <a:lnTo>
                        <a:pt x="1140" y="114"/>
                      </a:lnTo>
                      <a:lnTo>
                        <a:pt x="1146" y="122"/>
                      </a:lnTo>
                      <a:lnTo>
                        <a:pt x="1150" y="130"/>
                      </a:lnTo>
                      <a:lnTo>
                        <a:pt x="1152" y="136"/>
                      </a:lnTo>
                      <a:lnTo>
                        <a:pt x="1152" y="1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Oval 112"/>
              <p:cNvSpPr/>
              <p:nvPr/>
            </p:nvSpPr>
            <p:spPr>
              <a:xfrm>
                <a:off x="2168640" y="1641240"/>
                <a:ext cx="1817640" cy="590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13"/>
              <p:cNvSpPr/>
              <p:nvPr/>
            </p:nvSpPr>
            <p:spPr>
              <a:xfrm>
                <a:off x="2511360" y="592200"/>
                <a:ext cx="1161720" cy="1347840"/>
              </a:xfrm>
              <a:custGeom>
                <a:avLst/>
                <a:gdLst>
                  <a:gd name="textAreaLeft" fmla="*/ 0 w 1161720"/>
                  <a:gd name="textAreaRight" fmla="*/ 1162080 w 1161720"/>
                  <a:gd name="textAreaTop" fmla="*/ 0 h 1347840"/>
                  <a:gd name="textAreaBottom" fmla="*/ 1348200 h 1347840"/>
                </a:gdLst>
                <a:ahLst/>
                <a:rect l="textAreaLeft" t="textAreaTop" r="textAreaRight" b="textAreaBottom"/>
                <a:pathLst>
                  <a:path w="576" h="648">
                    <a:moveTo>
                      <a:pt x="576" y="576"/>
                    </a:moveTo>
                    <a:lnTo>
                      <a:pt x="576" y="576"/>
                    </a:lnTo>
                    <a:lnTo>
                      <a:pt x="574" y="584"/>
                    </a:lnTo>
                    <a:lnTo>
                      <a:pt x="570" y="590"/>
                    </a:lnTo>
                    <a:lnTo>
                      <a:pt x="564" y="598"/>
                    </a:lnTo>
                    <a:lnTo>
                      <a:pt x="554" y="604"/>
                    </a:lnTo>
                    <a:lnTo>
                      <a:pt x="542" y="610"/>
                    </a:lnTo>
                    <a:lnTo>
                      <a:pt x="526" y="616"/>
                    </a:lnTo>
                    <a:lnTo>
                      <a:pt x="492" y="626"/>
                    </a:lnTo>
                    <a:lnTo>
                      <a:pt x="450" y="636"/>
                    </a:lnTo>
                    <a:lnTo>
                      <a:pt x="400" y="642"/>
                    </a:lnTo>
                    <a:lnTo>
                      <a:pt x="346" y="646"/>
                    </a:lnTo>
                    <a:lnTo>
                      <a:pt x="288" y="648"/>
                    </a:lnTo>
                    <a:lnTo>
                      <a:pt x="288" y="648"/>
                    </a:lnTo>
                    <a:lnTo>
                      <a:pt x="230" y="646"/>
                    </a:lnTo>
                    <a:lnTo>
                      <a:pt x="176" y="642"/>
                    </a:lnTo>
                    <a:lnTo>
                      <a:pt x="126" y="636"/>
                    </a:lnTo>
                    <a:lnTo>
                      <a:pt x="84" y="626"/>
                    </a:lnTo>
                    <a:lnTo>
                      <a:pt x="50" y="616"/>
                    </a:lnTo>
                    <a:lnTo>
                      <a:pt x="34" y="610"/>
                    </a:lnTo>
                    <a:lnTo>
                      <a:pt x="22" y="604"/>
                    </a:lnTo>
                    <a:lnTo>
                      <a:pt x="12" y="598"/>
                    </a:lnTo>
                    <a:lnTo>
                      <a:pt x="6" y="590"/>
                    </a:lnTo>
                    <a:lnTo>
                      <a:pt x="2" y="584"/>
                    </a:lnTo>
                    <a:lnTo>
                      <a:pt x="0" y="576"/>
                    </a:lnTo>
                    <a:lnTo>
                      <a:pt x="288" y="0"/>
                    </a:lnTo>
                    <a:lnTo>
                      <a:pt x="576" y="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0000"/>
                  </a:gs>
                  <a:gs pos="100000">
                    <a:srgbClr val="ff7171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1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Text Box 114"/>
              <p:cNvSpPr/>
              <p:nvPr/>
            </p:nvSpPr>
            <p:spPr>
              <a:xfrm>
                <a:off x="2707560" y="1450800"/>
                <a:ext cx="727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Black"/>
                    <a:ea typeface="Gulim"/>
                  </a:rPr>
                  <a:t>Premiu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Black"/>
                    <a:ea typeface="Gulim"/>
                  </a:rPr>
                  <a:t>Desig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115"/>
              <p:cNvSpPr/>
              <p:nvPr/>
            </p:nvSpPr>
            <p:spPr>
              <a:xfrm>
                <a:off x="2613240" y="2173320"/>
                <a:ext cx="9504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Diversit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of Cultur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Immens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Visual Appe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116"/>
              <p:cNvSpPr/>
              <p:nvPr/>
            </p:nvSpPr>
            <p:spPr>
              <a:xfrm>
                <a:off x="2611440" y="3255840"/>
                <a:ext cx="9504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Visu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Appealing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Immens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Visual Appe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117"/>
              <p:cNvSpPr/>
              <p:nvPr/>
            </p:nvSpPr>
            <p:spPr>
              <a:xfrm>
                <a:off x="4248000" y="1996920"/>
                <a:ext cx="333684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Sleek Diagram &amp; Char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Immense visual appeal Premade PowerPoint Templates,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Professional quality templates in a couple of clicks away</a:t>
                </a:r>
                <a:r>
                  <a:rPr b="0" lang="en-US" sz="1000" spc="-1" strike="noStrike">
                    <a:solidFill>
                      <a:srgbClr val="234867"/>
                    </a:solidFill>
                    <a:latin typeface="Arial"/>
                    <a:ea typeface="Gulim"/>
                  </a:rPr>
                  <a:t>!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118"/>
              <p:cNvSpPr/>
              <p:nvPr/>
            </p:nvSpPr>
            <p:spPr>
              <a:xfrm>
                <a:off x="3995640" y="1001520"/>
                <a:ext cx="368604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Eye-Catching Visua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Feel the touch of art - PowerPoint Templates, PPT Slides,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PPT Diagrams For Your Presentatio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119"/>
              <p:cNvSpPr/>
              <p:nvPr/>
            </p:nvSpPr>
            <p:spPr>
              <a:xfrm>
                <a:off x="4657680" y="2992320"/>
                <a:ext cx="301464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Ready to Us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Subscription offers you all designs you'll ever need to make your PowerPoint 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2"/>
          <p:cNvSpPr/>
          <p:nvPr/>
        </p:nvSpPr>
        <p:spPr>
          <a:xfrm>
            <a:off x="457200" y="534672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E587-9928-40E3-84E5-D238D334EC56}" type="datetime">
              <a:rPr b="0" lang="zh-CN" sz="18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그룹 3"/>
          <p:cNvGrpSpPr/>
          <p:nvPr/>
        </p:nvGrpSpPr>
        <p:grpSpPr>
          <a:xfrm>
            <a:off x="1428840" y="657360"/>
            <a:ext cx="5827680" cy="4203720"/>
            <a:chOff x="1428840" y="657360"/>
            <a:chExt cx="5827680" cy="4203720"/>
          </a:xfrm>
        </p:grpSpPr>
        <p:sp>
          <p:nvSpPr>
            <p:cNvPr id="201" name="AutoShape 105"/>
            <p:cNvSpPr/>
            <p:nvPr/>
          </p:nvSpPr>
          <p:spPr>
            <a:xfrm>
              <a:off x="1460160" y="4283640"/>
              <a:ext cx="1780560" cy="57744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106"/>
            <p:cNvSpPr/>
            <p:nvPr/>
          </p:nvSpPr>
          <p:spPr>
            <a:xfrm>
              <a:off x="3375360" y="4283640"/>
              <a:ext cx="1780560" cy="57744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AutoShape 107"/>
            <p:cNvSpPr/>
            <p:nvPr/>
          </p:nvSpPr>
          <p:spPr>
            <a:xfrm>
              <a:off x="5290560" y="4283640"/>
              <a:ext cx="1780560" cy="577440"/>
            </a:xfrm>
            <a:prstGeom prst="roundRect">
              <a:avLst>
                <a:gd name="adj" fmla="val 14014"/>
              </a:avLst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4252680" y="1190160"/>
              <a:ext cx="0" cy="977040"/>
            </a:xfrm>
            <a:prstGeom prst="line">
              <a:avLst/>
            </a:prstGeom>
            <a:ln w="19080">
              <a:solidFill>
                <a:srgbClr val="103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09"/>
            <p:cNvSpPr/>
            <p:nvPr/>
          </p:nvSpPr>
          <p:spPr>
            <a:xfrm>
              <a:off x="2365200" y="1380600"/>
              <a:ext cx="3800880" cy="786600"/>
            </a:xfrm>
            <a:custGeom>
              <a:avLst/>
              <a:gdLst>
                <a:gd name="textAreaLeft" fmla="*/ 0 w 3800880"/>
                <a:gd name="textAreaRight" fmla="*/ 3801240 w 3800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3289" h="113">
                  <a:moveTo>
                    <a:pt x="0" y="113"/>
                  </a:moveTo>
                  <a:lnTo>
                    <a:pt x="0" y="0"/>
                  </a:lnTo>
                  <a:lnTo>
                    <a:pt x="3289" y="0"/>
                  </a:lnTo>
                  <a:lnTo>
                    <a:pt x="3289" y="113"/>
                  </a:lnTo>
                </a:path>
              </a:pathLst>
            </a:custGeom>
            <a:noFill/>
            <a:ln w="19080">
              <a:solidFill>
                <a:srgbClr val="1036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110"/>
            <p:cNvSpPr/>
            <p:nvPr/>
          </p:nvSpPr>
          <p:spPr>
            <a:xfrm>
              <a:off x="1460160" y="2167200"/>
              <a:ext cx="1780560" cy="2116440"/>
            </a:xfrm>
            <a:custGeom>
              <a:avLst/>
              <a:gdLst>
                <a:gd name="textAreaLeft" fmla="*/ 28800 w 1780560"/>
                <a:gd name="textAreaRight" fmla="*/ 1751760 w 1780560"/>
                <a:gd name="textAreaTop" fmla="*/ 28800 h 2116440"/>
                <a:gd name="textAreaBottom" fmla="*/ 2087640 h 2116440"/>
              </a:gdLst>
              <a:ahLst/>
              <a:rect l="textAreaLeft" t="textAreaTop" r="textAreaRight" b="textAreaBottom"/>
              <a:pathLst>
                <a:path w="21600" h="25674">
                  <a:moveTo>
                    <a:pt x="1194" y="0"/>
                  </a:moveTo>
                  <a:arcTo wR="1194" hR="1194" stAng="16200000" swAng="-5400000"/>
                  <a:lnTo>
                    <a:pt x="0" y="24480"/>
                  </a:lnTo>
                  <a:arcTo wR="1194" hR="1194" stAng="10800000" swAng="-5400000"/>
                  <a:lnTo>
                    <a:pt x="20406" y="25674"/>
                  </a:lnTo>
                  <a:arcTo wR="1194" hR="1194" stAng="5400000" swAng="-5400000"/>
                  <a:lnTo>
                    <a:pt x="21600" y="1194"/>
                  </a:lnTo>
                  <a:arcTo wR="1194" hR="1194" stAng="0" swAng="-5400000"/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AutoShape 111"/>
            <p:cNvGrpSpPr/>
            <p:nvPr/>
          </p:nvGrpSpPr>
          <p:grpSpPr>
            <a:xfrm>
              <a:off x="3295080" y="657360"/>
              <a:ext cx="2100960" cy="838800"/>
              <a:chOff x="3295080" y="657360"/>
              <a:chExt cx="2100960" cy="838800"/>
            </a:xfrm>
          </p:grpSpPr>
          <p:pic>
            <p:nvPicPr>
              <p:cNvPr id="208" name="AutoShape 111" descr=""/>
              <p:cNvPicPr/>
              <p:nvPr/>
            </p:nvPicPr>
            <p:blipFill>
              <a:blip r:embed="rId1"/>
              <a:stretch/>
            </p:blipFill>
            <p:spPr>
              <a:xfrm>
                <a:off x="3295080" y="657360"/>
                <a:ext cx="2100960" cy="83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3400560" y="753120"/>
                <a:ext cx="173052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" name="AutoShape 112"/>
            <p:cNvSpPr/>
            <p:nvPr/>
          </p:nvSpPr>
          <p:spPr>
            <a:xfrm>
              <a:off x="3401280" y="756000"/>
              <a:ext cx="1726920" cy="2433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113"/>
            <p:cNvSpPr/>
            <p:nvPr/>
          </p:nvSpPr>
          <p:spPr>
            <a:xfrm>
              <a:off x="3401280" y="835560"/>
              <a:ext cx="170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tylish Desig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2" name="AutoShape 114"/>
            <p:cNvGrpSpPr/>
            <p:nvPr/>
          </p:nvGrpSpPr>
          <p:grpSpPr>
            <a:xfrm>
              <a:off x="1428840" y="2149560"/>
              <a:ext cx="1995480" cy="838800"/>
              <a:chOff x="1428840" y="2149560"/>
              <a:chExt cx="1995480" cy="838800"/>
            </a:xfrm>
          </p:grpSpPr>
          <p:pic>
            <p:nvPicPr>
              <p:cNvPr id="213" name="AutoShape 1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8840" y="2149560"/>
                <a:ext cx="1995480" cy="83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1535760" y="2246760"/>
                <a:ext cx="162576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15"/>
            <p:cNvSpPr/>
            <p:nvPr/>
          </p:nvSpPr>
          <p:spPr>
            <a:xfrm>
              <a:off x="1539720" y="2248200"/>
              <a:ext cx="1621440" cy="2448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16"/>
            <p:cNvSpPr/>
            <p:nvPr/>
          </p:nvSpPr>
          <p:spPr>
            <a:xfrm>
              <a:off x="1486080" y="2785320"/>
              <a:ext cx="17283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Gulim"/>
                </a:rPr>
                <a:t>It’s about giving you the variety you need to meet the design on your mind.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Gulim"/>
                </a:rPr>
                <a:t>We create powerpoint templates based on new visual trends that’s fresh, relevant and always on the cutting edge.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17"/>
            <p:cNvSpPr/>
            <p:nvPr/>
          </p:nvSpPr>
          <p:spPr>
            <a:xfrm>
              <a:off x="1513800" y="2292120"/>
              <a:ext cx="164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More choices a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visual trend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AutoShape 118"/>
            <p:cNvSpPr/>
            <p:nvPr/>
          </p:nvSpPr>
          <p:spPr>
            <a:xfrm>
              <a:off x="3375360" y="2167200"/>
              <a:ext cx="1780560" cy="2116440"/>
            </a:xfrm>
            <a:custGeom>
              <a:avLst/>
              <a:gdLst>
                <a:gd name="textAreaLeft" fmla="*/ 26640 w 1780560"/>
                <a:gd name="textAreaRight" fmla="*/ 1753920 w 1780560"/>
                <a:gd name="textAreaTop" fmla="*/ 26640 h 2116440"/>
                <a:gd name="textAreaBottom" fmla="*/ 2089800 h 2116440"/>
              </a:gdLst>
              <a:ahLst/>
              <a:rect l="textAreaLeft" t="textAreaTop" r="textAreaRight" b="textAreaBottom"/>
              <a:pathLst>
                <a:path w="21600" h="25674">
                  <a:moveTo>
                    <a:pt x="1109" y="0"/>
                  </a:moveTo>
                  <a:arcTo wR="1109" hR="1109" stAng="16200000" swAng="-5400000"/>
                  <a:lnTo>
                    <a:pt x="0" y="24565"/>
                  </a:lnTo>
                  <a:arcTo wR="1109" hR="1109" stAng="10800000" swAng="-5400000"/>
                  <a:lnTo>
                    <a:pt x="20491" y="25674"/>
                  </a:lnTo>
                  <a:arcTo wR="1109" hR="1109" stAng="5400000" swAng="-5400000"/>
                  <a:lnTo>
                    <a:pt x="21600" y="1109"/>
                  </a:lnTo>
                  <a:arcTo wR="1109" hR="1109" stAng="0" swAng="-5400000"/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9" name="AutoShape 119"/>
            <p:cNvGrpSpPr/>
            <p:nvPr/>
          </p:nvGrpSpPr>
          <p:grpSpPr>
            <a:xfrm>
              <a:off x="3348000" y="2149560"/>
              <a:ext cx="1995480" cy="838800"/>
              <a:chOff x="3348000" y="2149560"/>
              <a:chExt cx="1995480" cy="838800"/>
            </a:xfrm>
          </p:grpSpPr>
          <p:pic>
            <p:nvPicPr>
              <p:cNvPr id="220" name="AutoShape 119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2149560"/>
                <a:ext cx="1995480" cy="83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3452040" y="2245320"/>
                <a:ext cx="162576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AutoShape 120"/>
            <p:cNvSpPr/>
            <p:nvPr/>
          </p:nvSpPr>
          <p:spPr>
            <a:xfrm>
              <a:off x="3454920" y="2248200"/>
              <a:ext cx="1621440" cy="2448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21"/>
            <p:cNvSpPr/>
            <p:nvPr/>
          </p:nvSpPr>
          <p:spPr>
            <a:xfrm>
              <a:off x="3401280" y="2785320"/>
              <a:ext cx="1728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Gulim"/>
                </a:rPr>
                <a:t>PresenterTemplates provides the themes that surrounds you every day. We cover a wide range of subjects including business, IT, lifestyle, nature, travel, technology, school, culture and much more   for you to choose from and about 200 are added  every month.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Text Box 122"/>
            <p:cNvSpPr/>
            <p:nvPr/>
          </p:nvSpPr>
          <p:spPr>
            <a:xfrm>
              <a:off x="3427200" y="2292120"/>
              <a:ext cx="1649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A wide range of subject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123"/>
            <p:cNvSpPr/>
            <p:nvPr/>
          </p:nvSpPr>
          <p:spPr>
            <a:xfrm>
              <a:off x="5290560" y="2167200"/>
              <a:ext cx="1780560" cy="2116440"/>
            </a:xfrm>
            <a:custGeom>
              <a:avLst/>
              <a:gdLst>
                <a:gd name="textAreaLeft" fmla="*/ 26640 w 1780560"/>
                <a:gd name="textAreaRight" fmla="*/ 1753920 w 1780560"/>
                <a:gd name="textAreaTop" fmla="*/ 26640 h 2116440"/>
                <a:gd name="textAreaBottom" fmla="*/ 2089800 h 2116440"/>
              </a:gdLst>
              <a:ahLst/>
              <a:rect l="textAreaLeft" t="textAreaTop" r="textAreaRight" b="textAreaBottom"/>
              <a:pathLst>
                <a:path w="21600" h="25674">
                  <a:moveTo>
                    <a:pt x="1109" y="0"/>
                  </a:moveTo>
                  <a:arcTo wR="1109" hR="1109" stAng="16200000" swAng="-5400000"/>
                  <a:lnTo>
                    <a:pt x="0" y="24565"/>
                  </a:lnTo>
                  <a:arcTo wR="1109" hR="1109" stAng="10800000" swAng="-5400000"/>
                  <a:lnTo>
                    <a:pt x="20491" y="25674"/>
                  </a:lnTo>
                  <a:arcTo wR="1109" hR="1109" stAng="5400000" swAng="-5400000"/>
                  <a:lnTo>
                    <a:pt x="21600" y="1109"/>
                  </a:lnTo>
                  <a:arcTo wR="1109" hR="1109" stAng="0" swAng="-5400000"/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6" name="AutoShape 124"/>
            <p:cNvGrpSpPr/>
            <p:nvPr/>
          </p:nvGrpSpPr>
          <p:grpSpPr>
            <a:xfrm>
              <a:off x="5261040" y="2149560"/>
              <a:ext cx="1995480" cy="838800"/>
              <a:chOff x="5261040" y="2149560"/>
              <a:chExt cx="1995480" cy="838800"/>
            </a:xfrm>
          </p:grpSpPr>
          <p:pic>
            <p:nvPicPr>
              <p:cNvPr id="227" name="AutoShape 124" descr=""/>
              <p:cNvPicPr/>
              <p:nvPr/>
            </p:nvPicPr>
            <p:blipFill>
              <a:blip r:embed="rId4"/>
              <a:stretch/>
            </p:blipFill>
            <p:spPr>
              <a:xfrm>
                <a:off x="5261040" y="2149560"/>
                <a:ext cx="1995480" cy="83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5366520" y="2245320"/>
                <a:ext cx="162576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AutoShape 125"/>
            <p:cNvSpPr/>
            <p:nvPr/>
          </p:nvSpPr>
          <p:spPr>
            <a:xfrm>
              <a:off x="5369760" y="2248200"/>
              <a:ext cx="1621440" cy="2448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126"/>
            <p:cNvSpPr/>
            <p:nvPr/>
          </p:nvSpPr>
          <p:spPr>
            <a:xfrm>
              <a:off x="5316480" y="2785320"/>
              <a:ext cx="17269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Gulim"/>
                </a:rPr>
                <a:t>PowerPoint is a complete presentation graphics package. It gives you everything you need to produce a professional-looking presentation. PowerPoint offers word processing, outlining, drawing, graphing, and presentation management tools- all designed to be easy to use and learn.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 Box 127"/>
            <p:cNvSpPr/>
            <p:nvPr/>
          </p:nvSpPr>
          <p:spPr>
            <a:xfrm>
              <a:off x="5342400" y="2292120"/>
              <a:ext cx="1649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owerPoint Presenta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AutoShape 128"/>
            <p:cNvSpPr/>
            <p:nvPr/>
          </p:nvSpPr>
          <p:spPr>
            <a:xfrm>
              <a:off x="3375360" y="1514520"/>
              <a:ext cx="1780560" cy="51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AutoShape 129"/>
            <p:cNvSpPr/>
            <p:nvPr/>
          </p:nvSpPr>
          <p:spPr>
            <a:xfrm>
              <a:off x="3401280" y="1542600"/>
              <a:ext cx="1726920" cy="2433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130"/>
            <p:cNvSpPr/>
            <p:nvPr/>
          </p:nvSpPr>
          <p:spPr>
            <a:xfrm>
              <a:off x="3401280" y="1586520"/>
              <a:ext cx="17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Eye-Catchi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131"/>
            <p:cNvSpPr/>
            <p:nvPr/>
          </p:nvSpPr>
          <p:spPr>
            <a:xfrm>
              <a:off x="1460160" y="1514520"/>
              <a:ext cx="1778760" cy="51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AutoShape 132"/>
            <p:cNvSpPr/>
            <p:nvPr/>
          </p:nvSpPr>
          <p:spPr>
            <a:xfrm>
              <a:off x="1484640" y="1542600"/>
              <a:ext cx="1728360" cy="2433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133"/>
            <p:cNvSpPr/>
            <p:nvPr/>
          </p:nvSpPr>
          <p:spPr>
            <a:xfrm>
              <a:off x="1484640" y="1586520"/>
              <a:ext cx="1702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Immense Visual Appe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utoShape 134"/>
            <p:cNvSpPr/>
            <p:nvPr/>
          </p:nvSpPr>
          <p:spPr>
            <a:xfrm>
              <a:off x="5292000" y="1514520"/>
              <a:ext cx="1778760" cy="51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AutoShape 135"/>
            <p:cNvSpPr/>
            <p:nvPr/>
          </p:nvSpPr>
          <p:spPr>
            <a:xfrm>
              <a:off x="5315040" y="1542600"/>
              <a:ext cx="1728360" cy="2433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36"/>
            <p:cNvSpPr/>
            <p:nvPr/>
          </p:nvSpPr>
          <p:spPr>
            <a:xfrm>
              <a:off x="5316480" y="1586520"/>
              <a:ext cx="1701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leek Diagram &amp; Char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457200" y="534672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33D6-F18B-40C1-99FC-20BC4C1A4363}" type="datetime">
              <a:rPr b="0" lang="zh-CN" sz="18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그룹 3"/>
          <p:cNvGrpSpPr/>
          <p:nvPr/>
        </p:nvGrpSpPr>
        <p:grpSpPr>
          <a:xfrm>
            <a:off x="1279440" y="1063800"/>
            <a:ext cx="6654960" cy="3044520"/>
            <a:chOff x="1279440" y="1063800"/>
            <a:chExt cx="6654960" cy="3044520"/>
          </a:xfrm>
        </p:grpSpPr>
        <p:pic>
          <p:nvPicPr>
            <p:cNvPr id="243" name="Picture 275" descr="Untitled-1"/>
            <p:cNvPicPr/>
            <p:nvPr/>
          </p:nvPicPr>
          <p:blipFill>
            <a:blip r:embed="rId1">
              <a:grayscl/>
            </a:blip>
            <a:stretch/>
          </p:blipFill>
          <p:spPr>
            <a:xfrm flipH="1" rot="9584400">
              <a:off x="1824480" y="1749600"/>
              <a:ext cx="43236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76" descr="Untitled-1"/>
            <p:cNvPicPr/>
            <p:nvPr/>
          </p:nvPicPr>
          <p:blipFill>
            <a:blip r:embed="rId2">
              <a:grayscl/>
            </a:blip>
            <a:stretch/>
          </p:blipFill>
          <p:spPr>
            <a:xfrm flipH="1" rot="9584400">
              <a:off x="2058480" y="2437200"/>
              <a:ext cx="43236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77" descr="Untitled-1"/>
            <p:cNvPicPr/>
            <p:nvPr/>
          </p:nvPicPr>
          <p:blipFill>
            <a:blip r:embed="rId3">
              <a:grayscl/>
            </a:blip>
            <a:stretch/>
          </p:blipFill>
          <p:spPr>
            <a:xfrm flipH="1" rot="9584400">
              <a:off x="2306520" y="3130200"/>
              <a:ext cx="432360" cy="49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그룹 61"/>
            <p:cNvGrpSpPr/>
            <p:nvPr/>
          </p:nvGrpSpPr>
          <p:grpSpPr>
            <a:xfrm>
              <a:off x="1911960" y="1063800"/>
              <a:ext cx="5262120" cy="982080"/>
              <a:chOff x="1911960" y="1063800"/>
              <a:chExt cx="5262120" cy="982080"/>
            </a:xfrm>
          </p:grpSpPr>
          <p:sp>
            <p:nvSpPr>
              <p:cNvPr id="247" name="모서리가 둥근 직사각형 48"/>
              <p:cNvSpPr/>
              <p:nvPr/>
            </p:nvSpPr>
            <p:spPr>
              <a:xfrm>
                <a:off x="1911960" y="1457280"/>
                <a:ext cx="5262120" cy="588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4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그룹 51"/>
              <p:cNvGrpSpPr/>
              <p:nvPr/>
            </p:nvGrpSpPr>
            <p:grpSpPr>
              <a:xfrm>
                <a:off x="2144880" y="1063800"/>
                <a:ext cx="4508280" cy="785520"/>
                <a:chOff x="2144880" y="1063800"/>
                <a:chExt cx="4508280" cy="785520"/>
              </a:xfrm>
            </p:grpSpPr>
            <p:grpSp>
              <p:nvGrpSpPr>
                <p:cNvPr id="249" name="그룹 49"/>
                <p:cNvGrpSpPr/>
                <p:nvPr/>
              </p:nvGrpSpPr>
              <p:grpSpPr>
                <a:xfrm>
                  <a:off x="2903400" y="1152000"/>
                  <a:ext cx="3749760" cy="609120"/>
                  <a:chOff x="2903400" y="1152000"/>
                  <a:chExt cx="3749760" cy="609120"/>
                </a:xfrm>
              </p:grpSpPr>
              <p:sp>
                <p:nvSpPr>
                  <p:cNvPr id="250" name="AutoShape 50"/>
                  <p:cNvSpPr/>
                  <p:nvPr/>
                </p:nvSpPr>
                <p:spPr>
                  <a:xfrm>
                    <a:off x="2903400" y="1152000"/>
                    <a:ext cx="3749760" cy="6091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a6a6a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36000" bIns="36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333333"/>
                        </a:solidFill>
                        <a:latin typeface="HY헤드라인M"/>
                        <a:ea typeface="HY헤드라인M"/>
                      </a:rPr>
                      <a:t>CLICK TO EDIT TITLE STYLE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51"/>
                  <p:cNvSpPr/>
                  <p:nvPr/>
                </p:nvSpPr>
                <p:spPr>
                  <a:xfrm>
                    <a:off x="3025440" y="1185120"/>
                    <a:ext cx="3510000" cy="2862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>
                          <a:alpha val="38039"/>
                        </a:srgbClr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155880" bIns="118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그룹 50"/>
                <p:cNvGrpSpPr/>
                <p:nvPr/>
              </p:nvGrpSpPr>
              <p:grpSpPr>
                <a:xfrm>
                  <a:off x="2144880" y="1063800"/>
                  <a:ext cx="940680" cy="785520"/>
                  <a:chOff x="2144880" y="1063800"/>
                  <a:chExt cx="940680" cy="785520"/>
                </a:xfrm>
              </p:grpSpPr>
              <p:grpSp>
                <p:nvGrpSpPr>
                  <p:cNvPr id="253" name="그룹 39"/>
                  <p:cNvGrpSpPr/>
                  <p:nvPr/>
                </p:nvGrpSpPr>
                <p:grpSpPr>
                  <a:xfrm>
                    <a:off x="2144880" y="1063800"/>
                    <a:ext cx="940680" cy="785520"/>
                    <a:chOff x="2144880" y="1063800"/>
                    <a:chExt cx="940680" cy="785520"/>
                  </a:xfrm>
                </p:grpSpPr>
                <p:grpSp>
                  <p:nvGrpSpPr>
                    <p:cNvPr id="254" name="Group 53"/>
                    <p:cNvGrpSpPr/>
                    <p:nvPr/>
                  </p:nvGrpSpPr>
                  <p:grpSpPr>
                    <a:xfrm>
                      <a:off x="2144880" y="1063800"/>
                      <a:ext cx="940680" cy="785520"/>
                      <a:chOff x="2144880" y="1063800"/>
                      <a:chExt cx="940680" cy="785520"/>
                    </a:xfrm>
                  </p:grpSpPr>
                  <p:grpSp>
                    <p:nvGrpSpPr>
                      <p:cNvPr id="255" name="Oval 54"/>
                      <p:cNvGrpSpPr/>
                      <p:nvPr/>
                    </p:nvGrpSpPr>
                    <p:grpSpPr>
                      <a:xfrm>
                        <a:off x="2144880" y="1063800"/>
                        <a:ext cx="940680" cy="785520"/>
                        <a:chOff x="2144880" y="1063800"/>
                        <a:chExt cx="940680" cy="785520"/>
                      </a:xfrm>
                    </p:grpSpPr>
                    <p:pic>
                      <p:nvPicPr>
                        <p:cNvPr id="256" name="Oval 54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144880" y="1063800"/>
                          <a:ext cx="940680" cy="785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2309760" y="1198440"/>
                          <a:ext cx="491040" cy="391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72000" rIns="72000" tIns="0" bIns="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8" name="Oval 55"/>
                      <p:cNvSpPr/>
                      <p:nvPr/>
                    </p:nvSpPr>
                    <p:spPr>
                      <a:xfrm>
                        <a:off x="2345400" y="1186920"/>
                        <a:ext cx="115920" cy="92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7abf5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080" bIns="1908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59" name="Freeform 56"/>
                    <p:cNvSpPr/>
                    <p:nvPr/>
                  </p:nvSpPr>
                  <p:spPr>
                    <a:xfrm>
                      <a:off x="2194200" y="1076400"/>
                      <a:ext cx="843120" cy="236520"/>
                    </a:xfrm>
                    <a:custGeom>
                      <a:avLst/>
                      <a:gdLst>
                        <a:gd name="textAreaLeft" fmla="*/ 0 w 843120"/>
                        <a:gd name="textAreaRight" fmla="*/ 843480 w 843120"/>
                        <a:gd name="textAreaTop" fmla="*/ 0 h 236520"/>
                        <a:gd name="textAreaBottom" fmla="*/ 236880 h 236520"/>
                      </a:gdLst>
                      <a:ahLst/>
                      <a:rect l="textAreaLeft" t="textAreaTop" r="textAreaRight" b="textAreaBottom"/>
                      <a:pathLst>
                        <a:path w="4756" h="1576">
                          <a:moveTo>
                            <a:pt x="0" y="1576"/>
                          </a:moveTo>
                          <a:lnTo>
                            <a:pt x="0" y="1576"/>
                          </a:lnTo>
                          <a:lnTo>
                            <a:pt x="24" y="1518"/>
                          </a:lnTo>
                          <a:lnTo>
                            <a:pt x="50" y="1462"/>
                          </a:lnTo>
                          <a:lnTo>
                            <a:pt x="78" y="1406"/>
                          </a:lnTo>
                          <a:lnTo>
                            <a:pt x="108" y="1350"/>
                          </a:lnTo>
                          <a:lnTo>
                            <a:pt x="138" y="1296"/>
                          </a:lnTo>
                          <a:lnTo>
                            <a:pt x="170" y="1242"/>
                          </a:lnTo>
                          <a:lnTo>
                            <a:pt x="204" y="1190"/>
                          </a:lnTo>
                          <a:lnTo>
                            <a:pt x="238" y="1138"/>
                          </a:lnTo>
                          <a:lnTo>
                            <a:pt x="272" y="1086"/>
                          </a:lnTo>
                          <a:lnTo>
                            <a:pt x="310" y="1036"/>
                          </a:lnTo>
                          <a:lnTo>
                            <a:pt x="348" y="988"/>
                          </a:lnTo>
                          <a:lnTo>
                            <a:pt x="386" y="940"/>
                          </a:lnTo>
                          <a:lnTo>
                            <a:pt x="426" y="892"/>
                          </a:lnTo>
                          <a:lnTo>
                            <a:pt x="468" y="846"/>
                          </a:lnTo>
                          <a:lnTo>
                            <a:pt x="510" y="800"/>
                          </a:lnTo>
                          <a:lnTo>
                            <a:pt x="552" y="756"/>
                          </a:lnTo>
                          <a:lnTo>
                            <a:pt x="596" y="712"/>
                          </a:lnTo>
                          <a:lnTo>
                            <a:pt x="642" y="670"/>
                          </a:lnTo>
                          <a:lnTo>
                            <a:pt x="688" y="630"/>
                          </a:lnTo>
                          <a:lnTo>
                            <a:pt x="736" y="590"/>
                          </a:lnTo>
                          <a:lnTo>
                            <a:pt x="784" y="550"/>
                          </a:lnTo>
                          <a:lnTo>
                            <a:pt x="834" y="512"/>
                          </a:lnTo>
                          <a:lnTo>
                            <a:pt x="884" y="476"/>
                          </a:lnTo>
                          <a:lnTo>
                            <a:pt x="934" y="440"/>
                          </a:lnTo>
                          <a:lnTo>
                            <a:pt x="986" y="406"/>
                          </a:lnTo>
                          <a:lnTo>
                            <a:pt x="1040" y="374"/>
                          </a:lnTo>
                          <a:lnTo>
                            <a:pt x="1092" y="342"/>
                          </a:lnTo>
                          <a:lnTo>
                            <a:pt x="1148" y="312"/>
                          </a:lnTo>
                          <a:lnTo>
                            <a:pt x="1202" y="282"/>
                          </a:lnTo>
                          <a:lnTo>
                            <a:pt x="1258" y="254"/>
                          </a:lnTo>
                          <a:lnTo>
                            <a:pt x="1316" y="228"/>
                          </a:lnTo>
                          <a:lnTo>
                            <a:pt x="1374" y="202"/>
                          </a:lnTo>
                          <a:lnTo>
                            <a:pt x="1432" y="178"/>
                          </a:lnTo>
                          <a:lnTo>
                            <a:pt x="1490" y="156"/>
                          </a:lnTo>
                          <a:lnTo>
                            <a:pt x="1550" y="136"/>
                          </a:lnTo>
                          <a:lnTo>
                            <a:pt x="1610" y="116"/>
                          </a:lnTo>
                          <a:lnTo>
                            <a:pt x="1672" y="98"/>
                          </a:lnTo>
                          <a:lnTo>
                            <a:pt x="1732" y="80"/>
                          </a:lnTo>
                          <a:lnTo>
                            <a:pt x="1794" y="66"/>
                          </a:lnTo>
                          <a:lnTo>
                            <a:pt x="1858" y="52"/>
                          </a:lnTo>
                          <a:lnTo>
                            <a:pt x="1922" y="40"/>
                          </a:lnTo>
                          <a:lnTo>
                            <a:pt x="1984" y="30"/>
                          </a:lnTo>
                          <a:lnTo>
                            <a:pt x="2050" y="20"/>
                          </a:lnTo>
                          <a:lnTo>
                            <a:pt x="2114" y="12"/>
                          </a:lnTo>
                          <a:lnTo>
                            <a:pt x="2180" y="8"/>
                          </a:lnTo>
                          <a:lnTo>
                            <a:pt x="2246" y="2"/>
                          </a:lnTo>
                          <a:lnTo>
                            <a:pt x="2312" y="0"/>
                          </a:lnTo>
                          <a:lnTo>
                            <a:pt x="2378" y="0"/>
                          </a:lnTo>
                          <a:lnTo>
                            <a:pt x="2444" y="0"/>
                          </a:lnTo>
                          <a:lnTo>
                            <a:pt x="2510" y="2"/>
                          </a:lnTo>
                          <a:lnTo>
                            <a:pt x="2576" y="8"/>
                          </a:lnTo>
                          <a:lnTo>
                            <a:pt x="2642" y="12"/>
                          </a:lnTo>
                          <a:lnTo>
                            <a:pt x="2706" y="20"/>
                          </a:lnTo>
                          <a:lnTo>
                            <a:pt x="2772" y="30"/>
                          </a:lnTo>
                          <a:lnTo>
                            <a:pt x="2834" y="40"/>
                          </a:lnTo>
                          <a:lnTo>
                            <a:pt x="2898" y="52"/>
                          </a:lnTo>
                          <a:lnTo>
                            <a:pt x="2962" y="66"/>
                          </a:lnTo>
                          <a:lnTo>
                            <a:pt x="3024" y="80"/>
                          </a:lnTo>
                          <a:lnTo>
                            <a:pt x="3084" y="98"/>
                          </a:lnTo>
                          <a:lnTo>
                            <a:pt x="3146" y="116"/>
                          </a:lnTo>
                          <a:lnTo>
                            <a:pt x="3206" y="136"/>
                          </a:lnTo>
                          <a:lnTo>
                            <a:pt x="3266" y="156"/>
                          </a:lnTo>
                          <a:lnTo>
                            <a:pt x="3324" y="178"/>
                          </a:lnTo>
                          <a:lnTo>
                            <a:pt x="3382" y="202"/>
                          </a:lnTo>
                          <a:lnTo>
                            <a:pt x="3440" y="228"/>
                          </a:lnTo>
                          <a:lnTo>
                            <a:pt x="3498" y="254"/>
                          </a:lnTo>
                          <a:lnTo>
                            <a:pt x="3554" y="282"/>
                          </a:lnTo>
                          <a:lnTo>
                            <a:pt x="3608" y="312"/>
                          </a:lnTo>
                          <a:lnTo>
                            <a:pt x="3664" y="342"/>
                          </a:lnTo>
                          <a:lnTo>
                            <a:pt x="3716" y="374"/>
                          </a:lnTo>
                          <a:lnTo>
                            <a:pt x="3770" y="406"/>
                          </a:lnTo>
                          <a:lnTo>
                            <a:pt x="3822" y="440"/>
                          </a:lnTo>
                          <a:lnTo>
                            <a:pt x="3872" y="476"/>
                          </a:lnTo>
                          <a:lnTo>
                            <a:pt x="3922" y="512"/>
                          </a:lnTo>
                          <a:lnTo>
                            <a:pt x="3972" y="550"/>
                          </a:lnTo>
                          <a:lnTo>
                            <a:pt x="4020" y="590"/>
                          </a:lnTo>
                          <a:lnTo>
                            <a:pt x="4068" y="630"/>
                          </a:lnTo>
                          <a:lnTo>
                            <a:pt x="4114" y="670"/>
                          </a:lnTo>
                          <a:lnTo>
                            <a:pt x="4160" y="712"/>
                          </a:lnTo>
                          <a:lnTo>
                            <a:pt x="4204" y="756"/>
                          </a:lnTo>
                          <a:lnTo>
                            <a:pt x="4246" y="800"/>
                          </a:lnTo>
                          <a:lnTo>
                            <a:pt x="4288" y="846"/>
                          </a:lnTo>
                          <a:lnTo>
                            <a:pt x="4330" y="892"/>
                          </a:lnTo>
                          <a:lnTo>
                            <a:pt x="4370" y="940"/>
                          </a:lnTo>
                          <a:lnTo>
                            <a:pt x="4410" y="988"/>
                          </a:lnTo>
                          <a:lnTo>
                            <a:pt x="4446" y="1036"/>
                          </a:lnTo>
                          <a:lnTo>
                            <a:pt x="4484" y="1086"/>
                          </a:lnTo>
                          <a:lnTo>
                            <a:pt x="4518" y="1138"/>
                          </a:lnTo>
                          <a:lnTo>
                            <a:pt x="4552" y="1190"/>
                          </a:lnTo>
                          <a:lnTo>
                            <a:pt x="4586" y="1242"/>
                          </a:lnTo>
                          <a:lnTo>
                            <a:pt x="4618" y="1296"/>
                          </a:lnTo>
                          <a:lnTo>
                            <a:pt x="4648" y="1350"/>
                          </a:lnTo>
                          <a:lnTo>
                            <a:pt x="4678" y="1406"/>
                          </a:lnTo>
                          <a:lnTo>
                            <a:pt x="4706" y="1462"/>
                          </a:lnTo>
                          <a:lnTo>
                            <a:pt x="4732" y="1518"/>
                          </a:lnTo>
                          <a:lnTo>
                            <a:pt x="4756" y="1576"/>
                          </a:lnTo>
                          <a:lnTo>
                            <a:pt x="0" y="157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0" name="WordArt 251"/>
                  <p:cNvSpPr txBox="1"/>
                  <p:nvPr/>
                </p:nvSpPr>
                <p:spPr>
                  <a:xfrm>
                    <a:off x="2287080" y="1375200"/>
                    <a:ext cx="656280" cy="162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1" strike="noStrike">
                        <a:ln w="0">
                          <a:noFill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ffffff">
                              <a:alpha val="35000"/>
                            </a:srgbClr>
                          </a:outerShdw>
                        </a:effectLst>
                        <a:latin typeface="HY헤드라인M"/>
                      </a:rPr>
                      <a:t>2008. 05</a:t>
                    </a:r>
                    <a:endParaRPr b="0" lang="en-US" sz="1000" spc="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5000"/>
                          </a:srgbClr>
                        </a:outerShdw>
                      </a:effectLst>
                      <a:latin typeface="HY헤드라인M"/>
                      <a:ea typeface="HY헤드라인M"/>
                    </a:endParaRPr>
                  </a:p>
                </p:txBody>
              </p:sp>
            </p:grpSp>
          </p:grpSp>
        </p:grpSp>
        <p:sp>
          <p:nvSpPr>
            <p:cNvPr id="261" name="모서리가 둥근 직사각형 8"/>
            <p:cNvSpPr/>
            <p:nvPr/>
          </p:nvSpPr>
          <p:spPr>
            <a:xfrm>
              <a:off x="2205000" y="2144880"/>
              <a:ext cx="5261040" cy="58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>
                    <a:alpha val="43137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그룹 84"/>
            <p:cNvGrpSpPr/>
            <p:nvPr/>
          </p:nvGrpSpPr>
          <p:grpSpPr>
            <a:xfrm>
              <a:off x="2438280" y="1751040"/>
              <a:ext cx="4507200" cy="785520"/>
              <a:chOff x="2438280" y="1751040"/>
              <a:chExt cx="4507200" cy="785520"/>
            </a:xfrm>
          </p:grpSpPr>
          <p:grpSp>
            <p:nvGrpSpPr>
              <p:cNvPr id="263" name="그룹 85"/>
              <p:cNvGrpSpPr/>
              <p:nvPr/>
            </p:nvGrpSpPr>
            <p:grpSpPr>
              <a:xfrm>
                <a:off x="3196440" y="1839240"/>
                <a:ext cx="3749040" cy="609120"/>
                <a:chOff x="3196440" y="1839240"/>
                <a:chExt cx="3749040" cy="609120"/>
              </a:xfrm>
            </p:grpSpPr>
            <p:sp>
              <p:nvSpPr>
                <p:cNvPr id="264" name="AutoShape 50"/>
                <p:cNvSpPr/>
                <p:nvPr/>
              </p:nvSpPr>
              <p:spPr>
                <a:xfrm>
                  <a:off x="3196440" y="1839240"/>
                  <a:ext cx="3749040" cy="609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6a6a6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333333"/>
                      </a:solidFill>
                      <a:latin typeface="HY헤드라인M"/>
                      <a:ea typeface="HY헤드라인M"/>
                    </a:rPr>
                    <a:t>CLICK TO EDIT TITLE STYLE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51"/>
                <p:cNvSpPr/>
                <p:nvPr/>
              </p:nvSpPr>
              <p:spPr>
                <a:xfrm>
                  <a:off x="3318480" y="1872360"/>
                  <a:ext cx="3509280" cy="286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>
                        <a:alpha val="38039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42000" rIns="90000" tIns="155880" bIns="11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그룹 86"/>
              <p:cNvGrpSpPr/>
              <p:nvPr/>
            </p:nvGrpSpPr>
            <p:grpSpPr>
              <a:xfrm>
                <a:off x="2438280" y="1751040"/>
                <a:ext cx="940680" cy="785520"/>
                <a:chOff x="2438280" y="1751040"/>
                <a:chExt cx="940680" cy="785520"/>
              </a:xfrm>
            </p:grpSpPr>
            <p:grpSp>
              <p:nvGrpSpPr>
                <p:cNvPr id="267" name="그룹 87"/>
                <p:cNvGrpSpPr/>
                <p:nvPr/>
              </p:nvGrpSpPr>
              <p:grpSpPr>
                <a:xfrm>
                  <a:off x="2438280" y="1751040"/>
                  <a:ext cx="940680" cy="785520"/>
                  <a:chOff x="2438280" y="1751040"/>
                  <a:chExt cx="940680" cy="785520"/>
                </a:xfrm>
              </p:grpSpPr>
              <p:grpSp>
                <p:nvGrpSpPr>
                  <p:cNvPr id="268" name="Group 53"/>
                  <p:cNvGrpSpPr/>
                  <p:nvPr/>
                </p:nvGrpSpPr>
                <p:grpSpPr>
                  <a:xfrm>
                    <a:off x="2438280" y="1751040"/>
                    <a:ext cx="940680" cy="785520"/>
                    <a:chOff x="2438280" y="1751040"/>
                    <a:chExt cx="940680" cy="785520"/>
                  </a:xfrm>
                </p:grpSpPr>
                <p:grpSp>
                  <p:nvGrpSpPr>
                    <p:cNvPr id="269" name="Oval 54"/>
                    <p:cNvGrpSpPr/>
                    <p:nvPr/>
                  </p:nvGrpSpPr>
                  <p:grpSpPr>
                    <a:xfrm>
                      <a:off x="2438280" y="1751040"/>
                      <a:ext cx="940680" cy="785520"/>
                      <a:chOff x="2438280" y="1751040"/>
                      <a:chExt cx="940680" cy="785520"/>
                    </a:xfrm>
                  </p:grpSpPr>
                  <p:pic>
                    <p:nvPicPr>
                      <p:cNvPr id="270" name="Oval 54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2438280" y="1751040"/>
                        <a:ext cx="940680" cy="78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2602800" y="1884600"/>
                        <a:ext cx="491040" cy="39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72000" rIns="72000" tIns="0" bIns="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2" name="Oval 55"/>
                    <p:cNvSpPr/>
                    <p:nvPr/>
                  </p:nvSpPr>
                  <p:spPr>
                    <a:xfrm>
                      <a:off x="2638800" y="1872360"/>
                      <a:ext cx="115920" cy="92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7abf5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3" name="Freeform 56"/>
                  <p:cNvSpPr/>
                  <p:nvPr/>
                </p:nvSpPr>
                <p:spPr>
                  <a:xfrm>
                    <a:off x="2487240" y="1763280"/>
                    <a:ext cx="839880" cy="236520"/>
                  </a:xfrm>
                  <a:custGeom>
                    <a:avLst/>
                    <a:gdLst>
                      <a:gd name="textAreaLeft" fmla="*/ 0 w 839880"/>
                      <a:gd name="textAreaRight" fmla="*/ 840240 w 83988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" name="WordArt 251"/>
                <p:cNvSpPr txBox="1"/>
                <p:nvPr/>
              </p:nvSpPr>
              <p:spPr>
                <a:xfrm>
                  <a:off x="2580480" y="2062440"/>
                  <a:ext cx="656280" cy="162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5000"/>
                          </a:srgbClr>
                        </a:outerShdw>
                      </a:effectLst>
                      <a:latin typeface="HY헤드라인M"/>
                    </a:rPr>
                    <a:t>2006. 05</a:t>
                  </a:r>
                  <a:endParaRPr b="0" lang="en-US" sz="1000" spc="1" strike="noStrike">
                    <a:ln w="0">
                      <a:noFill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ffffff">
                          <a:alpha val="35000"/>
                        </a:srgbClr>
                      </a:outerShdw>
                    </a:effectLst>
                    <a:latin typeface="HY헤드라인M"/>
                    <a:ea typeface="HY헤드라인M"/>
                  </a:endParaRPr>
                </a:p>
              </p:txBody>
            </p:sp>
          </p:grpSp>
        </p:grpSp>
        <p:grpSp>
          <p:nvGrpSpPr>
            <p:cNvPr id="275" name="그룹 95"/>
            <p:cNvGrpSpPr/>
            <p:nvPr/>
          </p:nvGrpSpPr>
          <p:grpSpPr>
            <a:xfrm>
              <a:off x="2438280" y="2438640"/>
              <a:ext cx="5262120" cy="982080"/>
              <a:chOff x="2438280" y="2438640"/>
              <a:chExt cx="5262120" cy="982080"/>
            </a:xfrm>
          </p:grpSpPr>
          <p:sp>
            <p:nvSpPr>
              <p:cNvPr id="276" name="모서리가 둥근 직사각형 26"/>
              <p:cNvSpPr/>
              <p:nvPr/>
            </p:nvSpPr>
            <p:spPr>
              <a:xfrm>
                <a:off x="2438280" y="2831760"/>
                <a:ext cx="5262120" cy="588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4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7" name="그룹 97"/>
              <p:cNvGrpSpPr/>
              <p:nvPr/>
            </p:nvGrpSpPr>
            <p:grpSpPr>
              <a:xfrm>
                <a:off x="2671920" y="2438640"/>
                <a:ext cx="4506840" cy="785520"/>
                <a:chOff x="2671920" y="2438640"/>
                <a:chExt cx="4506840" cy="785520"/>
              </a:xfrm>
            </p:grpSpPr>
            <p:grpSp>
              <p:nvGrpSpPr>
                <p:cNvPr id="278" name="그룹 98"/>
                <p:cNvGrpSpPr/>
                <p:nvPr/>
              </p:nvGrpSpPr>
              <p:grpSpPr>
                <a:xfrm>
                  <a:off x="3430080" y="2526840"/>
                  <a:ext cx="3748680" cy="609120"/>
                  <a:chOff x="3430080" y="2526840"/>
                  <a:chExt cx="3748680" cy="609120"/>
                </a:xfrm>
              </p:grpSpPr>
              <p:sp>
                <p:nvSpPr>
                  <p:cNvPr id="279" name="AutoShape 50"/>
                  <p:cNvSpPr/>
                  <p:nvPr/>
                </p:nvSpPr>
                <p:spPr>
                  <a:xfrm>
                    <a:off x="3430080" y="2526840"/>
                    <a:ext cx="3748680" cy="6091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a6a6a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36000" bIns="36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333333"/>
                        </a:solidFill>
                        <a:latin typeface="HY헤드라인M"/>
                        <a:ea typeface="HY헤드라인M"/>
                      </a:rPr>
                      <a:t>CLICK TO EDIT TITLE STYLE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AutoShape 51"/>
                  <p:cNvSpPr/>
                  <p:nvPr/>
                </p:nvSpPr>
                <p:spPr>
                  <a:xfrm>
                    <a:off x="3552120" y="2560320"/>
                    <a:ext cx="3509280" cy="28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>
                          <a:alpha val="38039"/>
                        </a:srgbClr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156600" bIns="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그룹 99"/>
                <p:cNvGrpSpPr/>
                <p:nvPr/>
              </p:nvGrpSpPr>
              <p:grpSpPr>
                <a:xfrm>
                  <a:off x="2671920" y="2438640"/>
                  <a:ext cx="940320" cy="785520"/>
                  <a:chOff x="2671920" y="2438640"/>
                  <a:chExt cx="940320" cy="785520"/>
                </a:xfrm>
              </p:grpSpPr>
              <p:grpSp>
                <p:nvGrpSpPr>
                  <p:cNvPr id="282" name="그룹 100"/>
                  <p:cNvGrpSpPr/>
                  <p:nvPr/>
                </p:nvGrpSpPr>
                <p:grpSpPr>
                  <a:xfrm>
                    <a:off x="2671920" y="2438640"/>
                    <a:ext cx="940320" cy="785520"/>
                    <a:chOff x="2671920" y="2438640"/>
                    <a:chExt cx="940320" cy="785520"/>
                  </a:xfrm>
                </p:grpSpPr>
                <p:grpSp>
                  <p:nvGrpSpPr>
                    <p:cNvPr id="283" name="Group 53"/>
                    <p:cNvGrpSpPr/>
                    <p:nvPr/>
                  </p:nvGrpSpPr>
                  <p:grpSpPr>
                    <a:xfrm>
                      <a:off x="2671920" y="2438640"/>
                      <a:ext cx="940320" cy="785520"/>
                      <a:chOff x="2671920" y="2438640"/>
                      <a:chExt cx="940320" cy="785520"/>
                    </a:xfrm>
                  </p:grpSpPr>
                  <p:grpSp>
                    <p:nvGrpSpPr>
                      <p:cNvPr id="284" name="Oval 54"/>
                      <p:cNvGrpSpPr/>
                      <p:nvPr/>
                    </p:nvGrpSpPr>
                    <p:grpSpPr>
                      <a:xfrm>
                        <a:off x="2671920" y="2438640"/>
                        <a:ext cx="940320" cy="785520"/>
                        <a:chOff x="2671920" y="2438640"/>
                        <a:chExt cx="940320" cy="785520"/>
                      </a:xfrm>
                    </p:grpSpPr>
                    <p:pic>
                      <p:nvPicPr>
                        <p:cNvPr id="285" name="Oval 5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671920" y="2438640"/>
                          <a:ext cx="940320" cy="785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>
                          <a:off x="2837520" y="2571120"/>
                          <a:ext cx="488520" cy="391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72000" rIns="72000" tIns="0" bIns="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7" name="Oval 55"/>
                      <p:cNvSpPr/>
                      <p:nvPr/>
                    </p:nvSpPr>
                    <p:spPr>
                      <a:xfrm>
                        <a:off x="2872080" y="2559240"/>
                        <a:ext cx="116280" cy="92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7abf5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080" bIns="1908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88" name="Freeform 56"/>
                    <p:cNvSpPr/>
                    <p:nvPr/>
                  </p:nvSpPr>
                  <p:spPr>
                    <a:xfrm>
                      <a:off x="2720520" y="2450880"/>
                      <a:ext cx="842760" cy="236520"/>
                    </a:xfrm>
                    <a:custGeom>
                      <a:avLst/>
                      <a:gdLst>
                        <a:gd name="textAreaLeft" fmla="*/ 0 w 842760"/>
                        <a:gd name="textAreaRight" fmla="*/ 843120 w 842760"/>
                        <a:gd name="textAreaTop" fmla="*/ 0 h 236520"/>
                        <a:gd name="textAreaBottom" fmla="*/ 236880 h 236520"/>
                      </a:gdLst>
                      <a:ahLst/>
                      <a:rect l="textAreaLeft" t="textAreaTop" r="textAreaRight" b="textAreaBottom"/>
                      <a:pathLst>
                        <a:path w="4756" h="1576">
                          <a:moveTo>
                            <a:pt x="0" y="1576"/>
                          </a:moveTo>
                          <a:lnTo>
                            <a:pt x="0" y="1576"/>
                          </a:lnTo>
                          <a:lnTo>
                            <a:pt x="24" y="1518"/>
                          </a:lnTo>
                          <a:lnTo>
                            <a:pt x="50" y="1462"/>
                          </a:lnTo>
                          <a:lnTo>
                            <a:pt x="78" y="1406"/>
                          </a:lnTo>
                          <a:lnTo>
                            <a:pt x="108" y="1350"/>
                          </a:lnTo>
                          <a:lnTo>
                            <a:pt x="138" y="1296"/>
                          </a:lnTo>
                          <a:lnTo>
                            <a:pt x="170" y="1242"/>
                          </a:lnTo>
                          <a:lnTo>
                            <a:pt x="204" y="1190"/>
                          </a:lnTo>
                          <a:lnTo>
                            <a:pt x="238" y="1138"/>
                          </a:lnTo>
                          <a:lnTo>
                            <a:pt x="272" y="1086"/>
                          </a:lnTo>
                          <a:lnTo>
                            <a:pt x="310" y="1036"/>
                          </a:lnTo>
                          <a:lnTo>
                            <a:pt x="348" y="988"/>
                          </a:lnTo>
                          <a:lnTo>
                            <a:pt x="386" y="940"/>
                          </a:lnTo>
                          <a:lnTo>
                            <a:pt x="426" y="892"/>
                          </a:lnTo>
                          <a:lnTo>
                            <a:pt x="468" y="846"/>
                          </a:lnTo>
                          <a:lnTo>
                            <a:pt x="510" y="800"/>
                          </a:lnTo>
                          <a:lnTo>
                            <a:pt x="552" y="756"/>
                          </a:lnTo>
                          <a:lnTo>
                            <a:pt x="596" y="712"/>
                          </a:lnTo>
                          <a:lnTo>
                            <a:pt x="642" y="670"/>
                          </a:lnTo>
                          <a:lnTo>
                            <a:pt x="688" y="630"/>
                          </a:lnTo>
                          <a:lnTo>
                            <a:pt x="736" y="590"/>
                          </a:lnTo>
                          <a:lnTo>
                            <a:pt x="784" y="550"/>
                          </a:lnTo>
                          <a:lnTo>
                            <a:pt x="834" y="512"/>
                          </a:lnTo>
                          <a:lnTo>
                            <a:pt x="884" y="476"/>
                          </a:lnTo>
                          <a:lnTo>
                            <a:pt x="934" y="440"/>
                          </a:lnTo>
                          <a:lnTo>
                            <a:pt x="986" y="406"/>
                          </a:lnTo>
                          <a:lnTo>
                            <a:pt x="1040" y="374"/>
                          </a:lnTo>
                          <a:lnTo>
                            <a:pt x="1092" y="342"/>
                          </a:lnTo>
                          <a:lnTo>
                            <a:pt x="1148" y="312"/>
                          </a:lnTo>
                          <a:lnTo>
                            <a:pt x="1202" y="282"/>
                          </a:lnTo>
                          <a:lnTo>
                            <a:pt x="1258" y="254"/>
                          </a:lnTo>
                          <a:lnTo>
                            <a:pt x="1316" y="228"/>
                          </a:lnTo>
                          <a:lnTo>
                            <a:pt x="1374" y="202"/>
                          </a:lnTo>
                          <a:lnTo>
                            <a:pt x="1432" y="178"/>
                          </a:lnTo>
                          <a:lnTo>
                            <a:pt x="1490" y="156"/>
                          </a:lnTo>
                          <a:lnTo>
                            <a:pt x="1550" y="136"/>
                          </a:lnTo>
                          <a:lnTo>
                            <a:pt x="1610" y="116"/>
                          </a:lnTo>
                          <a:lnTo>
                            <a:pt x="1672" y="98"/>
                          </a:lnTo>
                          <a:lnTo>
                            <a:pt x="1732" y="80"/>
                          </a:lnTo>
                          <a:lnTo>
                            <a:pt x="1794" y="66"/>
                          </a:lnTo>
                          <a:lnTo>
                            <a:pt x="1858" y="52"/>
                          </a:lnTo>
                          <a:lnTo>
                            <a:pt x="1922" y="40"/>
                          </a:lnTo>
                          <a:lnTo>
                            <a:pt x="1984" y="30"/>
                          </a:lnTo>
                          <a:lnTo>
                            <a:pt x="2050" y="20"/>
                          </a:lnTo>
                          <a:lnTo>
                            <a:pt x="2114" y="12"/>
                          </a:lnTo>
                          <a:lnTo>
                            <a:pt x="2180" y="8"/>
                          </a:lnTo>
                          <a:lnTo>
                            <a:pt x="2246" y="2"/>
                          </a:lnTo>
                          <a:lnTo>
                            <a:pt x="2312" y="0"/>
                          </a:lnTo>
                          <a:lnTo>
                            <a:pt x="2378" y="0"/>
                          </a:lnTo>
                          <a:lnTo>
                            <a:pt x="2444" y="0"/>
                          </a:lnTo>
                          <a:lnTo>
                            <a:pt x="2510" y="2"/>
                          </a:lnTo>
                          <a:lnTo>
                            <a:pt x="2576" y="8"/>
                          </a:lnTo>
                          <a:lnTo>
                            <a:pt x="2642" y="12"/>
                          </a:lnTo>
                          <a:lnTo>
                            <a:pt x="2706" y="20"/>
                          </a:lnTo>
                          <a:lnTo>
                            <a:pt x="2772" y="30"/>
                          </a:lnTo>
                          <a:lnTo>
                            <a:pt x="2834" y="40"/>
                          </a:lnTo>
                          <a:lnTo>
                            <a:pt x="2898" y="52"/>
                          </a:lnTo>
                          <a:lnTo>
                            <a:pt x="2962" y="66"/>
                          </a:lnTo>
                          <a:lnTo>
                            <a:pt x="3024" y="80"/>
                          </a:lnTo>
                          <a:lnTo>
                            <a:pt x="3084" y="98"/>
                          </a:lnTo>
                          <a:lnTo>
                            <a:pt x="3146" y="116"/>
                          </a:lnTo>
                          <a:lnTo>
                            <a:pt x="3206" y="136"/>
                          </a:lnTo>
                          <a:lnTo>
                            <a:pt x="3266" y="156"/>
                          </a:lnTo>
                          <a:lnTo>
                            <a:pt x="3324" y="178"/>
                          </a:lnTo>
                          <a:lnTo>
                            <a:pt x="3382" y="202"/>
                          </a:lnTo>
                          <a:lnTo>
                            <a:pt x="3440" y="228"/>
                          </a:lnTo>
                          <a:lnTo>
                            <a:pt x="3498" y="254"/>
                          </a:lnTo>
                          <a:lnTo>
                            <a:pt x="3554" y="282"/>
                          </a:lnTo>
                          <a:lnTo>
                            <a:pt x="3608" y="312"/>
                          </a:lnTo>
                          <a:lnTo>
                            <a:pt x="3664" y="342"/>
                          </a:lnTo>
                          <a:lnTo>
                            <a:pt x="3716" y="374"/>
                          </a:lnTo>
                          <a:lnTo>
                            <a:pt x="3770" y="406"/>
                          </a:lnTo>
                          <a:lnTo>
                            <a:pt x="3822" y="440"/>
                          </a:lnTo>
                          <a:lnTo>
                            <a:pt x="3872" y="476"/>
                          </a:lnTo>
                          <a:lnTo>
                            <a:pt x="3922" y="512"/>
                          </a:lnTo>
                          <a:lnTo>
                            <a:pt x="3972" y="550"/>
                          </a:lnTo>
                          <a:lnTo>
                            <a:pt x="4020" y="590"/>
                          </a:lnTo>
                          <a:lnTo>
                            <a:pt x="4068" y="630"/>
                          </a:lnTo>
                          <a:lnTo>
                            <a:pt x="4114" y="670"/>
                          </a:lnTo>
                          <a:lnTo>
                            <a:pt x="4160" y="712"/>
                          </a:lnTo>
                          <a:lnTo>
                            <a:pt x="4204" y="756"/>
                          </a:lnTo>
                          <a:lnTo>
                            <a:pt x="4246" y="800"/>
                          </a:lnTo>
                          <a:lnTo>
                            <a:pt x="4288" y="846"/>
                          </a:lnTo>
                          <a:lnTo>
                            <a:pt x="4330" y="892"/>
                          </a:lnTo>
                          <a:lnTo>
                            <a:pt x="4370" y="940"/>
                          </a:lnTo>
                          <a:lnTo>
                            <a:pt x="4410" y="988"/>
                          </a:lnTo>
                          <a:lnTo>
                            <a:pt x="4446" y="1036"/>
                          </a:lnTo>
                          <a:lnTo>
                            <a:pt x="4484" y="1086"/>
                          </a:lnTo>
                          <a:lnTo>
                            <a:pt x="4518" y="1138"/>
                          </a:lnTo>
                          <a:lnTo>
                            <a:pt x="4552" y="1190"/>
                          </a:lnTo>
                          <a:lnTo>
                            <a:pt x="4586" y="1242"/>
                          </a:lnTo>
                          <a:lnTo>
                            <a:pt x="4618" y="1296"/>
                          </a:lnTo>
                          <a:lnTo>
                            <a:pt x="4648" y="1350"/>
                          </a:lnTo>
                          <a:lnTo>
                            <a:pt x="4678" y="1406"/>
                          </a:lnTo>
                          <a:lnTo>
                            <a:pt x="4706" y="1462"/>
                          </a:lnTo>
                          <a:lnTo>
                            <a:pt x="4732" y="1518"/>
                          </a:lnTo>
                          <a:lnTo>
                            <a:pt x="4756" y="1576"/>
                          </a:lnTo>
                          <a:lnTo>
                            <a:pt x="0" y="157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9" name="WordArt 251"/>
                  <p:cNvSpPr txBox="1"/>
                  <p:nvPr/>
                </p:nvSpPr>
                <p:spPr>
                  <a:xfrm>
                    <a:off x="2814120" y="2750040"/>
                    <a:ext cx="655920" cy="162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1" strike="noStrike">
                        <a:ln w="0">
                          <a:noFill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ffffff">
                              <a:alpha val="35000"/>
                            </a:srgbClr>
                          </a:outerShdw>
                        </a:effectLst>
                        <a:latin typeface="HY헤드라인M"/>
                      </a:rPr>
                      <a:t>2004. 05</a:t>
                    </a:r>
                    <a:endParaRPr b="0" lang="en-US" sz="1000" spc="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5000"/>
                          </a:srgbClr>
                        </a:outerShdw>
                      </a:effectLst>
                      <a:latin typeface="HY헤드라인M"/>
                      <a:ea typeface="HY헤드라인M"/>
                    </a:endParaRPr>
                  </a:p>
                </p:txBody>
              </p:sp>
            </p:grpSp>
          </p:grpSp>
        </p:grpSp>
        <p:grpSp>
          <p:nvGrpSpPr>
            <p:cNvPr id="290" name="그룹 108"/>
            <p:cNvGrpSpPr/>
            <p:nvPr/>
          </p:nvGrpSpPr>
          <p:grpSpPr>
            <a:xfrm>
              <a:off x="2672280" y="3126240"/>
              <a:ext cx="5262120" cy="982080"/>
              <a:chOff x="2672280" y="3126240"/>
              <a:chExt cx="5262120" cy="982080"/>
            </a:xfrm>
          </p:grpSpPr>
          <p:sp>
            <p:nvSpPr>
              <p:cNvPr id="291" name="모서리가 둥근 직사각형 14"/>
              <p:cNvSpPr/>
              <p:nvPr/>
            </p:nvSpPr>
            <p:spPr>
              <a:xfrm>
                <a:off x="2672280" y="3519360"/>
                <a:ext cx="5262120" cy="588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4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2" name="그룹 110"/>
              <p:cNvGrpSpPr/>
              <p:nvPr/>
            </p:nvGrpSpPr>
            <p:grpSpPr>
              <a:xfrm>
                <a:off x="2906640" y="3126240"/>
                <a:ext cx="4506840" cy="785880"/>
                <a:chOff x="2906640" y="3126240"/>
                <a:chExt cx="4506840" cy="785880"/>
              </a:xfrm>
            </p:grpSpPr>
            <p:grpSp>
              <p:nvGrpSpPr>
                <p:cNvPr id="293" name="그룹 111"/>
                <p:cNvGrpSpPr/>
                <p:nvPr/>
              </p:nvGrpSpPr>
              <p:grpSpPr>
                <a:xfrm>
                  <a:off x="3664800" y="3214440"/>
                  <a:ext cx="3748680" cy="609480"/>
                  <a:chOff x="3664800" y="3214440"/>
                  <a:chExt cx="3748680" cy="609480"/>
                </a:xfrm>
              </p:grpSpPr>
              <p:sp>
                <p:nvSpPr>
                  <p:cNvPr id="294" name="AutoShape 50"/>
                  <p:cNvSpPr/>
                  <p:nvPr/>
                </p:nvSpPr>
                <p:spPr>
                  <a:xfrm>
                    <a:off x="3664800" y="3214440"/>
                    <a:ext cx="3748680" cy="6094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a6a6a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36000" bIns="36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333333"/>
                        </a:solidFill>
                        <a:latin typeface="HY헤드라인M"/>
                        <a:ea typeface="HY헤드라인M"/>
                      </a:rPr>
                      <a:t>CLICK TO EDIT TITLE STYLE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AutoShape 51"/>
                  <p:cNvSpPr/>
                  <p:nvPr/>
                </p:nvSpPr>
                <p:spPr>
                  <a:xfrm>
                    <a:off x="3786840" y="3247920"/>
                    <a:ext cx="3509280" cy="288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>
                          <a:alpha val="38039"/>
                        </a:srgbClr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156960" bIns="12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그룹 112"/>
                <p:cNvGrpSpPr/>
                <p:nvPr/>
              </p:nvGrpSpPr>
              <p:grpSpPr>
                <a:xfrm>
                  <a:off x="2906640" y="3126240"/>
                  <a:ext cx="940320" cy="785880"/>
                  <a:chOff x="2906640" y="3126240"/>
                  <a:chExt cx="940320" cy="785880"/>
                </a:xfrm>
              </p:grpSpPr>
              <p:grpSp>
                <p:nvGrpSpPr>
                  <p:cNvPr id="297" name="그룹 113"/>
                  <p:cNvGrpSpPr/>
                  <p:nvPr/>
                </p:nvGrpSpPr>
                <p:grpSpPr>
                  <a:xfrm>
                    <a:off x="2906640" y="3126240"/>
                    <a:ext cx="940320" cy="785880"/>
                    <a:chOff x="2906640" y="3126240"/>
                    <a:chExt cx="940320" cy="785880"/>
                  </a:xfrm>
                </p:grpSpPr>
                <p:grpSp>
                  <p:nvGrpSpPr>
                    <p:cNvPr id="298" name="Group 53"/>
                    <p:cNvGrpSpPr/>
                    <p:nvPr/>
                  </p:nvGrpSpPr>
                  <p:grpSpPr>
                    <a:xfrm>
                      <a:off x="2906640" y="3126240"/>
                      <a:ext cx="940320" cy="785880"/>
                      <a:chOff x="2906640" y="3126240"/>
                      <a:chExt cx="940320" cy="785880"/>
                    </a:xfrm>
                  </p:grpSpPr>
                  <p:grpSp>
                    <p:nvGrpSpPr>
                      <p:cNvPr id="299" name="Oval 54"/>
                      <p:cNvGrpSpPr/>
                      <p:nvPr/>
                    </p:nvGrpSpPr>
                    <p:grpSpPr>
                      <a:xfrm>
                        <a:off x="2906640" y="3126240"/>
                        <a:ext cx="940320" cy="785880"/>
                        <a:chOff x="2906640" y="3126240"/>
                        <a:chExt cx="940320" cy="785880"/>
                      </a:xfrm>
                    </p:grpSpPr>
                    <p:pic>
                      <p:nvPicPr>
                        <p:cNvPr id="300" name="Oval 54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2906640" y="3126240"/>
                          <a:ext cx="940320" cy="78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3070080" y="3258000"/>
                          <a:ext cx="491040" cy="391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72000" rIns="72000" tIns="0" bIns="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02" name="Oval 55"/>
                      <p:cNvSpPr/>
                      <p:nvPr/>
                    </p:nvSpPr>
                    <p:spPr>
                      <a:xfrm>
                        <a:off x="3103560" y="3246120"/>
                        <a:ext cx="117000" cy="92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7abf5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080" bIns="1908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03" name="Freeform 56"/>
                    <p:cNvSpPr/>
                    <p:nvPr/>
                  </p:nvSpPr>
                  <p:spPr>
                    <a:xfrm>
                      <a:off x="2951280" y="3138480"/>
                      <a:ext cx="846000" cy="236520"/>
                    </a:xfrm>
                    <a:custGeom>
                      <a:avLst/>
                      <a:gdLst>
                        <a:gd name="textAreaLeft" fmla="*/ 0 w 846000"/>
                        <a:gd name="textAreaRight" fmla="*/ 846360 w 846000"/>
                        <a:gd name="textAreaTop" fmla="*/ 0 h 236520"/>
                        <a:gd name="textAreaBottom" fmla="*/ 236880 h 236520"/>
                      </a:gdLst>
                      <a:ahLst/>
                      <a:rect l="textAreaLeft" t="textAreaTop" r="textAreaRight" b="textAreaBottom"/>
                      <a:pathLst>
                        <a:path w="4756" h="1576">
                          <a:moveTo>
                            <a:pt x="0" y="1576"/>
                          </a:moveTo>
                          <a:lnTo>
                            <a:pt x="0" y="1576"/>
                          </a:lnTo>
                          <a:lnTo>
                            <a:pt x="24" y="1518"/>
                          </a:lnTo>
                          <a:lnTo>
                            <a:pt x="50" y="1462"/>
                          </a:lnTo>
                          <a:lnTo>
                            <a:pt x="78" y="1406"/>
                          </a:lnTo>
                          <a:lnTo>
                            <a:pt x="108" y="1350"/>
                          </a:lnTo>
                          <a:lnTo>
                            <a:pt x="138" y="1296"/>
                          </a:lnTo>
                          <a:lnTo>
                            <a:pt x="170" y="1242"/>
                          </a:lnTo>
                          <a:lnTo>
                            <a:pt x="204" y="1190"/>
                          </a:lnTo>
                          <a:lnTo>
                            <a:pt x="238" y="1138"/>
                          </a:lnTo>
                          <a:lnTo>
                            <a:pt x="272" y="1086"/>
                          </a:lnTo>
                          <a:lnTo>
                            <a:pt x="310" y="1036"/>
                          </a:lnTo>
                          <a:lnTo>
                            <a:pt x="348" y="988"/>
                          </a:lnTo>
                          <a:lnTo>
                            <a:pt x="386" y="940"/>
                          </a:lnTo>
                          <a:lnTo>
                            <a:pt x="426" y="892"/>
                          </a:lnTo>
                          <a:lnTo>
                            <a:pt x="468" y="846"/>
                          </a:lnTo>
                          <a:lnTo>
                            <a:pt x="510" y="800"/>
                          </a:lnTo>
                          <a:lnTo>
                            <a:pt x="552" y="756"/>
                          </a:lnTo>
                          <a:lnTo>
                            <a:pt x="596" y="712"/>
                          </a:lnTo>
                          <a:lnTo>
                            <a:pt x="642" y="670"/>
                          </a:lnTo>
                          <a:lnTo>
                            <a:pt x="688" y="630"/>
                          </a:lnTo>
                          <a:lnTo>
                            <a:pt x="736" y="590"/>
                          </a:lnTo>
                          <a:lnTo>
                            <a:pt x="784" y="550"/>
                          </a:lnTo>
                          <a:lnTo>
                            <a:pt x="834" y="512"/>
                          </a:lnTo>
                          <a:lnTo>
                            <a:pt x="884" y="476"/>
                          </a:lnTo>
                          <a:lnTo>
                            <a:pt x="934" y="440"/>
                          </a:lnTo>
                          <a:lnTo>
                            <a:pt x="986" y="406"/>
                          </a:lnTo>
                          <a:lnTo>
                            <a:pt x="1040" y="374"/>
                          </a:lnTo>
                          <a:lnTo>
                            <a:pt x="1092" y="342"/>
                          </a:lnTo>
                          <a:lnTo>
                            <a:pt x="1148" y="312"/>
                          </a:lnTo>
                          <a:lnTo>
                            <a:pt x="1202" y="282"/>
                          </a:lnTo>
                          <a:lnTo>
                            <a:pt x="1258" y="254"/>
                          </a:lnTo>
                          <a:lnTo>
                            <a:pt x="1316" y="228"/>
                          </a:lnTo>
                          <a:lnTo>
                            <a:pt x="1374" y="202"/>
                          </a:lnTo>
                          <a:lnTo>
                            <a:pt x="1432" y="178"/>
                          </a:lnTo>
                          <a:lnTo>
                            <a:pt x="1490" y="156"/>
                          </a:lnTo>
                          <a:lnTo>
                            <a:pt x="1550" y="136"/>
                          </a:lnTo>
                          <a:lnTo>
                            <a:pt x="1610" y="116"/>
                          </a:lnTo>
                          <a:lnTo>
                            <a:pt x="1672" y="98"/>
                          </a:lnTo>
                          <a:lnTo>
                            <a:pt x="1732" y="80"/>
                          </a:lnTo>
                          <a:lnTo>
                            <a:pt x="1794" y="66"/>
                          </a:lnTo>
                          <a:lnTo>
                            <a:pt x="1858" y="52"/>
                          </a:lnTo>
                          <a:lnTo>
                            <a:pt x="1922" y="40"/>
                          </a:lnTo>
                          <a:lnTo>
                            <a:pt x="1984" y="30"/>
                          </a:lnTo>
                          <a:lnTo>
                            <a:pt x="2050" y="20"/>
                          </a:lnTo>
                          <a:lnTo>
                            <a:pt x="2114" y="12"/>
                          </a:lnTo>
                          <a:lnTo>
                            <a:pt x="2180" y="8"/>
                          </a:lnTo>
                          <a:lnTo>
                            <a:pt x="2246" y="2"/>
                          </a:lnTo>
                          <a:lnTo>
                            <a:pt x="2312" y="0"/>
                          </a:lnTo>
                          <a:lnTo>
                            <a:pt x="2378" y="0"/>
                          </a:lnTo>
                          <a:lnTo>
                            <a:pt x="2444" y="0"/>
                          </a:lnTo>
                          <a:lnTo>
                            <a:pt x="2510" y="2"/>
                          </a:lnTo>
                          <a:lnTo>
                            <a:pt x="2576" y="8"/>
                          </a:lnTo>
                          <a:lnTo>
                            <a:pt x="2642" y="12"/>
                          </a:lnTo>
                          <a:lnTo>
                            <a:pt x="2706" y="20"/>
                          </a:lnTo>
                          <a:lnTo>
                            <a:pt x="2772" y="30"/>
                          </a:lnTo>
                          <a:lnTo>
                            <a:pt x="2834" y="40"/>
                          </a:lnTo>
                          <a:lnTo>
                            <a:pt x="2898" y="52"/>
                          </a:lnTo>
                          <a:lnTo>
                            <a:pt x="2962" y="66"/>
                          </a:lnTo>
                          <a:lnTo>
                            <a:pt x="3024" y="80"/>
                          </a:lnTo>
                          <a:lnTo>
                            <a:pt x="3084" y="98"/>
                          </a:lnTo>
                          <a:lnTo>
                            <a:pt x="3146" y="116"/>
                          </a:lnTo>
                          <a:lnTo>
                            <a:pt x="3206" y="136"/>
                          </a:lnTo>
                          <a:lnTo>
                            <a:pt x="3266" y="156"/>
                          </a:lnTo>
                          <a:lnTo>
                            <a:pt x="3324" y="178"/>
                          </a:lnTo>
                          <a:lnTo>
                            <a:pt x="3382" y="202"/>
                          </a:lnTo>
                          <a:lnTo>
                            <a:pt x="3440" y="228"/>
                          </a:lnTo>
                          <a:lnTo>
                            <a:pt x="3498" y="254"/>
                          </a:lnTo>
                          <a:lnTo>
                            <a:pt x="3554" y="282"/>
                          </a:lnTo>
                          <a:lnTo>
                            <a:pt x="3608" y="312"/>
                          </a:lnTo>
                          <a:lnTo>
                            <a:pt x="3664" y="342"/>
                          </a:lnTo>
                          <a:lnTo>
                            <a:pt x="3716" y="374"/>
                          </a:lnTo>
                          <a:lnTo>
                            <a:pt x="3770" y="406"/>
                          </a:lnTo>
                          <a:lnTo>
                            <a:pt x="3822" y="440"/>
                          </a:lnTo>
                          <a:lnTo>
                            <a:pt x="3872" y="476"/>
                          </a:lnTo>
                          <a:lnTo>
                            <a:pt x="3922" y="512"/>
                          </a:lnTo>
                          <a:lnTo>
                            <a:pt x="3972" y="550"/>
                          </a:lnTo>
                          <a:lnTo>
                            <a:pt x="4020" y="590"/>
                          </a:lnTo>
                          <a:lnTo>
                            <a:pt x="4068" y="630"/>
                          </a:lnTo>
                          <a:lnTo>
                            <a:pt x="4114" y="670"/>
                          </a:lnTo>
                          <a:lnTo>
                            <a:pt x="4160" y="712"/>
                          </a:lnTo>
                          <a:lnTo>
                            <a:pt x="4204" y="756"/>
                          </a:lnTo>
                          <a:lnTo>
                            <a:pt x="4246" y="800"/>
                          </a:lnTo>
                          <a:lnTo>
                            <a:pt x="4288" y="846"/>
                          </a:lnTo>
                          <a:lnTo>
                            <a:pt x="4330" y="892"/>
                          </a:lnTo>
                          <a:lnTo>
                            <a:pt x="4370" y="940"/>
                          </a:lnTo>
                          <a:lnTo>
                            <a:pt x="4410" y="988"/>
                          </a:lnTo>
                          <a:lnTo>
                            <a:pt x="4446" y="1036"/>
                          </a:lnTo>
                          <a:lnTo>
                            <a:pt x="4484" y="1086"/>
                          </a:lnTo>
                          <a:lnTo>
                            <a:pt x="4518" y="1138"/>
                          </a:lnTo>
                          <a:lnTo>
                            <a:pt x="4552" y="1190"/>
                          </a:lnTo>
                          <a:lnTo>
                            <a:pt x="4586" y="1242"/>
                          </a:lnTo>
                          <a:lnTo>
                            <a:pt x="4618" y="1296"/>
                          </a:lnTo>
                          <a:lnTo>
                            <a:pt x="4648" y="1350"/>
                          </a:lnTo>
                          <a:lnTo>
                            <a:pt x="4678" y="1406"/>
                          </a:lnTo>
                          <a:lnTo>
                            <a:pt x="4706" y="1462"/>
                          </a:lnTo>
                          <a:lnTo>
                            <a:pt x="4732" y="1518"/>
                          </a:lnTo>
                          <a:lnTo>
                            <a:pt x="4756" y="1576"/>
                          </a:lnTo>
                          <a:lnTo>
                            <a:pt x="0" y="157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" name="WordArt 251"/>
                  <p:cNvSpPr txBox="1"/>
                  <p:nvPr/>
                </p:nvSpPr>
                <p:spPr>
                  <a:xfrm>
                    <a:off x="3048840" y="3438000"/>
                    <a:ext cx="655920" cy="162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1" strike="noStrike">
                        <a:ln w="0">
                          <a:noFill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ffffff">
                              <a:alpha val="35000"/>
                            </a:srgbClr>
                          </a:outerShdw>
                        </a:effectLst>
                        <a:latin typeface="HY헤드라인M"/>
                      </a:rPr>
                      <a:t>2001. 05</a:t>
                    </a:r>
                    <a:endParaRPr b="0" lang="en-US" sz="1000" spc="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5000"/>
                          </a:srgbClr>
                        </a:outerShdw>
                      </a:effectLst>
                      <a:latin typeface="HY헤드라인M"/>
                      <a:ea typeface="HY헤드라인M"/>
                    </a:endParaRPr>
                  </a:p>
                </p:txBody>
              </p:sp>
            </p:grpSp>
          </p:grpSp>
        </p:grpSp>
        <p:sp>
          <p:nvSpPr>
            <p:cNvPr id="305" name="WordArt 230"/>
            <p:cNvSpPr txBox="1"/>
            <p:nvPr/>
          </p:nvSpPr>
          <p:spPr>
            <a:xfrm>
              <a:off x="1279440" y="2156040"/>
              <a:ext cx="198720" cy="79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404040"/>
                  </a:solidFill>
                  <a:effectLst>
                    <a:outerShdw dist="17819" dir="2700000" blurRad="0" rotWithShape="0">
                      <a:srgbClr val="000000">
                        <a:alpha val="35000"/>
                      </a:srgbClr>
                    </a:outerShdw>
                  </a:effectLst>
                  <a:latin typeface="HY헤드라인M"/>
                </a:rPr>
                <a:t>T</a:t>
              </a:r>
              <a:endParaRPr b="0" lang="en-US" sz="1000" spc="1" strike="noStrike">
                <a:ln w="0">
                  <a:noFill/>
                </a:ln>
                <a:solidFill>
                  <a:srgbClr val="404040"/>
                </a:solidFill>
                <a:effectLst>
                  <a:outerShdw dist="17819" dir="2700000" blurRad="0" rotWithShape="0">
                    <a:srgbClr val="000000">
                      <a:alpha val="35000"/>
                    </a:srgbClr>
                  </a:outerShdw>
                </a:effectLst>
                <a:latin typeface="HY헤드라인M"/>
                <a:ea typeface="HY헤드라인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404040"/>
                  </a:solidFill>
                  <a:effectLst>
                    <a:outerShdw dist="17819" dir="2700000" blurRad="0" rotWithShape="0">
                      <a:srgbClr val="000000">
                        <a:alpha val="35000"/>
                      </a:srgbClr>
                    </a:outerShdw>
                  </a:effectLst>
                  <a:latin typeface="HY헤드라인M"/>
                </a:rPr>
                <a:t>E</a:t>
              </a:r>
              <a:endParaRPr b="0" lang="en-US" sz="1000" spc="1" strike="noStrike">
                <a:ln w="0">
                  <a:noFill/>
                </a:ln>
                <a:solidFill>
                  <a:srgbClr val="404040"/>
                </a:solidFill>
                <a:effectLst>
                  <a:outerShdw dist="17819" dir="2700000" blurRad="0" rotWithShape="0">
                    <a:srgbClr val="000000">
                      <a:alpha val="35000"/>
                    </a:srgbClr>
                  </a:outerShdw>
                </a:effectLst>
                <a:latin typeface="HY헤드라인M"/>
                <a:ea typeface="HY헤드라인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404040"/>
                  </a:solidFill>
                  <a:effectLst>
                    <a:outerShdw dist="17819" dir="2700000" blurRad="0" rotWithShape="0">
                      <a:srgbClr val="000000">
                        <a:alpha val="35000"/>
                      </a:srgbClr>
                    </a:outerShdw>
                  </a:effectLst>
                  <a:latin typeface="HY헤드라인M"/>
                </a:rPr>
                <a:t>X</a:t>
              </a:r>
              <a:endParaRPr b="0" lang="en-US" sz="1000" spc="1" strike="noStrike">
                <a:ln w="0">
                  <a:noFill/>
                </a:ln>
                <a:solidFill>
                  <a:srgbClr val="404040"/>
                </a:solidFill>
                <a:effectLst>
                  <a:outerShdw dist="17819" dir="2700000" blurRad="0" rotWithShape="0">
                    <a:srgbClr val="000000">
                      <a:alpha val="35000"/>
                    </a:srgbClr>
                  </a:outerShdw>
                </a:effectLst>
                <a:latin typeface="HY헤드라인M"/>
                <a:ea typeface="HY헤드라인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404040"/>
                  </a:solidFill>
                  <a:effectLst>
                    <a:outerShdw dist="17819" dir="2700000" blurRad="0" rotWithShape="0">
                      <a:srgbClr val="000000">
                        <a:alpha val="35000"/>
                      </a:srgbClr>
                    </a:outerShdw>
                  </a:effectLst>
                  <a:latin typeface="HY헤드라인M"/>
                </a:rPr>
                <a:t>T</a:t>
              </a:r>
              <a:endParaRPr b="0" lang="en-US" sz="1000" spc="1" strike="noStrike">
                <a:ln w="0">
                  <a:noFill/>
                </a:ln>
                <a:solidFill>
                  <a:srgbClr val="404040"/>
                </a:solidFill>
                <a:effectLst>
                  <a:outerShdw dist="17819" dir="2700000" blurRad="0" rotWithShape="0">
                    <a:srgbClr val="000000">
                      <a:alpha val="35000"/>
                    </a:srgbClr>
                  </a:outerShdw>
                </a:effectLst>
                <a:latin typeface="HY헤드라인M"/>
                <a:ea typeface="HY헤드라인M"/>
              </a:endParaRPr>
            </a:p>
          </p:txBody>
        </p:sp>
        <p:sp>
          <p:nvSpPr>
            <p:cNvPr id="306" name="Line 231"/>
            <p:cNvSpPr/>
            <p:nvPr/>
          </p:nvSpPr>
          <p:spPr>
            <a:xfrm flipV="1">
              <a:off x="1561680" y="1337760"/>
              <a:ext cx="2880" cy="2523960"/>
            </a:xfrm>
            <a:prstGeom prst="line">
              <a:avLst/>
            </a:prstGeom>
            <a:ln w="15840">
              <a:solidFill>
                <a:srgbClr val="4b300d"/>
              </a:solidFill>
              <a:prstDash val="dash"/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标题 1"/>
          <p:cNvSpPr/>
          <p:nvPr/>
        </p:nvSpPr>
        <p:spPr>
          <a:xfrm>
            <a:off x="611280" y="2305080"/>
            <a:ext cx="4500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0c0c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标题 1"/>
          <p:cNvSpPr/>
          <p:nvPr/>
        </p:nvSpPr>
        <p:spPr>
          <a:xfrm>
            <a:off x="611280" y="1755720"/>
            <a:ext cx="37861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感谢您的支持</a:t>
            </a:r>
            <a:r>
              <a:rPr b="1" i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矩形 9"/>
          <p:cNvSpPr/>
          <p:nvPr/>
        </p:nvSpPr>
        <p:spPr>
          <a:xfrm>
            <a:off x="281160" y="528480"/>
            <a:ext cx="8683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日期占位符 2"/>
          <p:cNvSpPr/>
          <p:nvPr/>
        </p:nvSpPr>
        <p:spPr>
          <a:xfrm>
            <a:off x="457200" y="534672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3227-FF6E-40D8-913E-DF84D38EA6C2}" type="datetime">
              <a:rPr b="0" lang="zh-CN" sz="18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9c2d1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0:30:00Z</dcterms:created>
  <dc:creator>Windows 用户</dc:creator>
  <dc:description/>
  <cp:keywords/>
  <dc:language>en-US</dc:language>
  <cp:lastModifiedBy>Administrator</cp:lastModifiedBy>
  <dcterms:modified xsi:type="dcterms:W3CDTF">2015-08-25T01:07:39Z</dcterms:modified>
  <cp:revision>17</cp:revision>
  <dc:subject/>
  <dc:title>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