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C60-08A2-430C-ACE2-5921013B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5064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B49-71B4-47B0-8C66-6D3EDF0E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48A-B949-4BE3-A41C-9DB3B75E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34A-D30D-4ED6-96C5-0D78DC93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011-372D-43FC-AB87-C21FF039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0775-40D4-4A56-8E8B-E8B57AF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E5AC-A147-49E1-AAAA-F60F09C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E9C6-71DF-4163-AF81-2BCF1B92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411-F946-4430-B151-FB50737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280" y="188640"/>
            <a:ext cx="80089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1F43-5D9A-48EE-9594-E6074B1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935-62A6-49A9-A59D-AFC6BFF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107-C74E-49C1-A15C-21318021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D39-2226-4FC1-A70C-B1EBCEBF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8904-CA38-4EAF-B899-6FB6A8E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5064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B23-9874-4A21-A26A-E083E75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CEC-863B-4A93-9013-5B03B05A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20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20600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20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3950640"/>
            <a:ext cx="257868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B9B-BD71-404F-9A8E-64263D06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6C2-34C9-4167-99C0-4EB0421D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233-CFC1-4C86-91F7-728EAD7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B9A-B44C-4A7B-9696-D46AD1F2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188640"/>
            <a:ext cx="80089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D49-B4AA-4044-AC6C-FDD52D8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23E-050A-43C9-922F-CD5CA340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5064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75C-CA80-4B1A-9874-25CF410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06000"/>
            <a:ext cx="390816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50640"/>
            <a:ext cx="80089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EA7-CE8D-42ED-8DD5-F42A28D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-1440" y="-792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ffca08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2c2c2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2c2c2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2c2c2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E92-F87E-4A77-8C7C-A6EF460F0311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-423720" y="-12600"/>
            <a:ext cx="95677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矩形 9"/>
          <p:cNvSpPr/>
          <p:nvPr/>
        </p:nvSpPr>
        <p:spPr>
          <a:xfrm>
            <a:off x="-433440" y="5067360"/>
            <a:ext cx="9577440" cy="1028520"/>
          </a:xfrm>
          <a:prstGeom prst="rect">
            <a:avLst/>
          </a:prstGeom>
          <a:solidFill>
            <a:srgbClr val="d029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78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D7F-2284-46FB-BBAB-D9A39F493A8C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52600" y="5121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2c2c2c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2c2c2c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c2c2c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2c2c2c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c2c2c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2c2c2c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c2c2c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2c2c2c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c2c2c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2c2c2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600" y="5121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61600" y="6019560"/>
            <a:ext cx="7743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06000"/>
            <a:ext cx="80089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9:06:59Z</dcterms:modified>
  <cp:revision>123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1966</vt:lpwstr>
  </property>
  <property fmtid="{D5CDD505-2E9C-101B-9397-08002B2CF9AE}" pid="3" name="name">
    <vt:lpwstr>A000120150302A01PWBG.ppt</vt:lpwstr>
  </property>
</Properties>
</file>