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7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E0AD-FA93-4E36-8A78-E1DE22D39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D1C4-14B0-4FE7-B1D8-DA316B776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EAA22D-1528-4997-843A-87AD78985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E6750F-DC02-44FB-8292-A7068225F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8E962B-E858-475B-AAF9-934E83DB3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869F5A-0DB1-4AFB-91A0-15F40135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49AC45-C867-4688-BCFF-7E6EFFA9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D0D15A-63E3-4439-BEF6-FEC8DBF4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1199C9-F990-402C-B5DB-5BD9C53B7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9CDB64-7FED-4226-9076-75749BE7A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F0BB49-C352-475E-ADFA-25B886361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4D40CC-6B8F-49CF-A7D4-7F5288CEA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F5C6-2FFF-4B0C-9942-E8FB22645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FB8544-2B26-4E4B-AC5B-8E03F250D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9868E6-219D-4E54-96F1-07484A90D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0AA754-BDF5-4316-A88F-A5EEC27B7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64FBFF-E13D-48BE-B783-90FA649EB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D2E7F4-38BE-4368-AFC0-C71DA8454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266622-EFEA-4114-8452-ED83263D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BA5675-9A47-4E92-A130-8AF55C4E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CC5824-2468-4C28-9338-29863C6F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13DA05-2456-4892-BC48-70A8F9469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3F29A9-9BDB-4993-A07B-955ACD7D4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7928-EC29-4DEB-9F79-4791131B0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8DA90B-9FD6-4E05-8351-F9C72E534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E6DD37-5E73-44A6-966E-BFB1E77DD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4F8156-589B-4E81-A96C-B8431861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7FA86F-FB9D-495D-A0AE-BC22EB909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E1CA48-E2A7-4E7E-8D41-D50B675EF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102A87-13F1-4A6E-8F2C-6BC8530EF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5F0D47-7484-48D6-8A36-140130D4D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798C72-2CDA-4621-862D-BBBAC362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7C360B-AAAB-4D60-B40B-10579F50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D878DA-9BB2-463C-8159-42A81096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74645-997A-4285-802A-2B56B0992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A4EEBB-0E6B-49A9-A4FA-2B7AC4A20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3C52B7-3D76-4156-B6A8-0E72212AF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1A6540-4CEF-4382-AA0A-74D4A11C3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B407D5-9182-4BD3-9A33-7323F7E1F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146BA0-81F2-4539-9C3C-0B1D6DEEB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FF4309-F796-462B-B44E-7E6B34122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EEF18C-3EC5-4509-B8C6-60A3DDB12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2A60D1-F8F2-46EB-88CB-C5AF4E64F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00A29F-0F5D-4644-BE64-7519CDA05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E7FF96-1FCD-4C00-8E05-240EB287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BA829-7D6D-4937-9727-659D650E6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61887D-97F0-4C1D-BD56-0E33DF95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25E6DB-8A53-442C-843D-F837CDFC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E441F1-045E-4E85-AF2C-FE96F1DB0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54C6C1-7025-4D10-B21A-25C491F84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80D983-3CA7-42EA-9A44-FD544561F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DC2A9-D94E-4ACE-AAD8-70A2E012F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D9BC3-7A9B-4D16-B44B-2C0132933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F53F3-1C1C-4960-8049-7A41F2DD7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789C1-5D42-4D93-9543-AE9CA8A29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7BAC0-14B3-46A1-A540-F723C7BD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084C-A9DC-487E-8A8A-36D454600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6293C-6CCF-4FDD-9945-F162135A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CC5AC-F8DB-4296-99F3-585D9664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D8C8D-2620-4909-9A7A-69F442CBB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64F65-D275-4D42-B8BE-DE528EA2B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CB272-6544-47AE-AE3B-3EBFBD6D8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6CB93-AD74-4E31-9592-B11C90583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CE039-97D5-41BB-9CDE-ADED7C64E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DACCD-4B7C-4181-B1F3-1EEFCEE56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7ED59-BF5F-4656-B9BC-184422928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4C7F9-2CD4-46CA-9D43-B528FF6E0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C2FF-2826-4673-896A-1C061FF12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CEDB1-D0E7-48D9-88A8-8512DF591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99993-382D-4103-8436-8B183AE6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4DBE9-A99E-4F68-8DDD-70410CB5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F782F-4962-49D5-A578-CDB9C4C7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49972-1F47-47EB-9564-7439F8093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520EA-8924-4812-B5EE-977C849CC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2505E-C43E-471F-B661-F609E5FDE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90FF4-1C96-47E5-A9AA-AB604524E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9282D-A197-4F99-A80C-BE133F477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12075-9314-4DC6-BCE0-3038847BD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C9B2-9094-4B21-AE24-6C6594FA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5B0A7-256E-4F9C-AF5B-C8F765266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0CC67-C5E0-49AE-B49A-1A14C79DA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52E8A-41DD-49F0-9BC1-DA953F98E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D3774-AEBD-458E-8A34-C0BC61C0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8C09D-BDBB-43DD-9EB6-7EEC6711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42077-E091-4EA3-B92D-E2E0AE46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8721C-CFFB-4BA0-B2C1-B1FE83D40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07BA2-4E99-4C00-94AF-02D22EA00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25E26-3F92-4E55-9514-D8AAD7603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009BD-27A6-430A-B052-6EDCF5707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8987-EF68-4D66-9887-001273B14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156BF-E6D6-4231-A9E2-C83CC6865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C0858-557C-4BCD-B68F-0E9758816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433C4-7191-4B84-A861-DE99F0B08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60C97-4F4D-4CAA-BE01-588A5E002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F41D6-E245-4B44-A533-C64D841B2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BE4D5-929F-4328-8F51-169B89C4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BA372-8727-4CEF-911E-3218D114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895B4-87B3-449A-B85E-52AC4DAF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DEA70-3E1C-42AE-86AB-13220C908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2C940-83F0-4E8F-AA36-49547BD7B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647E-DEBC-434D-8F4F-CD1DD46CD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343FA-4117-4E42-8D60-FD5208815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39651-2EA6-4390-9EB5-628960D62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EB977-FF48-43A9-A5A0-A94AE4B26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4FD6A-AA26-4166-A30D-09A27FD11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9147D-2AEA-4B20-8DA4-232EAC0C4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E33C5-3A70-42FA-8789-EF8D5A791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077F4-5293-46BD-91B0-F1EF307B1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8BEC0-3E7F-4F2E-919B-4BD576B9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CD24F-AE41-4982-B6DA-688A83F1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BAB9D-6B80-4221-B6CF-906CC881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D565-E24D-4584-A4A1-80846D50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740E1-E97A-42A2-A59F-B5BF4C3FF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69BB6-0032-4FF7-A571-A1BE2AB98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01CCF-23FB-467E-9D83-DC99BC331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47C7B1-ADFB-4EB8-B0D2-08AD58B8B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C488CF-DDE2-4E54-9A41-05155421C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1EA77-CCAE-4A74-9C1D-1018C81E1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5AE40-1370-4FBD-B27B-72E51C4D7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C5BD60-2994-4C10-94C5-0D74C261E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5684D8-7260-4CA3-B365-97D407281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ED06E-DEDD-4949-8C91-42C42AF9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90C5-9E85-4AE2-A037-A5ADFA77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24DCBA-415A-47F5-A7F9-01A4903F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BE182-A47F-4167-A844-EE41A601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4AED7D-E563-4A40-B59B-E73521740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6ABD39-E31B-4B25-BF9F-543A323C5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4EFAFC-6C09-4388-A744-D5DA37975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7416AB-CAD7-4822-BCFE-97E7D000E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D66EA8-049B-46BB-9F09-511F70B26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10DA38-1A18-4AAC-8BCA-4865D5C0D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83BDA1-86D7-4DFA-B71E-711CF9BEB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F8CC34-277E-4ECF-95D4-48248A7CB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67FD-0BE3-4B0B-81A5-BA24B41D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647313-44A8-4794-9FC4-0CF21C6A3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B47836-39BF-4355-B8DB-32B656A7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8ECCFE-A0EB-4DEE-879B-A03BDD45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EE48D0-7602-47D9-983B-70C21546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548D6A-3B56-42FD-A56F-1B5612204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445F92-D3FC-40CB-9EFF-16B432012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92FEB9-09A4-488A-8FCB-139CBAFEA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EC5CAA-59DE-428B-9548-E4AAC21E5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D8025D-81AB-44A9-9B23-2C81A7F58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665655-BD63-4A5F-938F-232EA8070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B1026-4EB8-4BA0-8BA3-CC83B347ED8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65E9C-61BE-44E8-820C-43298B5C8DA4}" type="slidenum">
              <a:rPr b="1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BC439-0641-4714-82F2-980A890E6D1A}" type="slidenum">
              <a:rPr b="1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C326D-81AA-429D-A758-5B97482EE268}" type="slidenum">
              <a:rPr b="1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1" lang="en-US" sz="1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1628E-6F59-41A6-AD52-64D3FD4421E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C2B26-1D74-4793-8BE2-B188E3BBBE5D}" type="slidenum">
              <a:rPr b="1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AF34D-83AD-4C0D-BF5F-186E89B5CD52}" type="slidenum">
              <a:rPr b="1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6803B-5D7B-448E-B4E2-C5262327E4AE}" type="slidenum">
              <a:rPr b="1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910E0-15B3-43BF-9852-D972FF51FA71}" type="slidenum">
              <a:rPr b="1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C9177-528C-4DEC-814A-313EAE5FE831}" type="slidenum">
              <a:rPr b="1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89607-E250-4F24-A56F-28667D16EDE9}" type="slidenum">
              <a:rPr b="1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66C48-DBAA-4925-88CA-25DB5044199D}" type="slidenum">
              <a:rPr b="1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file:///tmp/home/.config/libreoffice/4/user/gallery/camera.wav" TargetMode="External"/><Relationship Id="rId4" Type="http://schemas.microsoft.com/office/2007/relationships/media" Target="file:///tmp/home/.config/libreoffice/4/user/gallery/camera.wav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auction.guaweb.com/listings/details/DisplayImage.cfm?itemnum=360010169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1ppt.com/xiazai/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10" descr="c2411cd23ed22b84a8ec9a9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3" name="Text Box 9"/>
          <p:cNvSpPr/>
          <p:nvPr/>
        </p:nvSpPr>
        <p:spPr>
          <a:xfrm>
            <a:off x="5540760" y="3357720"/>
            <a:ext cx="127764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80"/>
                </a:solidFill>
                <a:latin typeface="Arial"/>
              </a:rPr>
              <a:t>周 敦 颐 </a:t>
            </a: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· </a:t>
            </a:r>
            <a:r>
              <a:rPr b="1" lang="zh-CN" sz="2800" spc="-1" strike="noStrike">
                <a:solidFill>
                  <a:srgbClr val="808080"/>
                </a:solidFill>
                <a:latin typeface="Arial"/>
              </a:rPr>
              <a:t>宋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4" name="Freeform 1281"/>
          <p:cNvSpPr/>
          <p:nvPr/>
        </p:nvSpPr>
        <p:spPr>
          <a:xfrm>
            <a:off x="7596360" y="0"/>
            <a:ext cx="925200" cy="817560"/>
          </a:xfrm>
          <a:custGeom>
            <a:avLst/>
            <a:gdLst>
              <a:gd name="textAreaLeft" fmla="*/ 0 w 925200"/>
              <a:gd name="textAreaRight" fmla="*/ 925560 w 92520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5" name="Freeform 1276"/>
          <p:cNvSpPr/>
          <p:nvPr/>
        </p:nvSpPr>
        <p:spPr>
          <a:xfrm>
            <a:off x="7074000" y="-169920"/>
            <a:ext cx="2070000" cy="1542960"/>
          </a:xfrm>
          <a:custGeom>
            <a:avLst/>
            <a:gdLst>
              <a:gd name="textAreaLeft" fmla="*/ 0 w 2070000"/>
              <a:gd name="textAreaRight" fmla="*/ 2070360 w 2070000"/>
              <a:gd name="textAreaTop" fmla="*/ 0 h 1542960"/>
              <a:gd name="textAreaBottom" fmla="*/ 1543320 h 1542960"/>
            </a:gdLst>
            <a:ahLst/>
            <a:rect l="textAreaLeft" t="textAreaTop" r="textAreaRight" b="textAreaBottom"/>
            <a:pathLst>
              <a:path w="642" h="479">
                <a:moveTo>
                  <a:pt x="524" y="435"/>
                </a:moveTo>
                <a:cubicBezTo>
                  <a:pt x="539" y="424"/>
                  <a:pt x="557" y="404"/>
                  <a:pt x="553" y="374"/>
                </a:cubicBezTo>
                <a:cubicBezTo>
                  <a:pt x="548" y="335"/>
                  <a:pt x="539" y="313"/>
                  <a:pt x="524" y="297"/>
                </a:cubicBezTo>
                <a:cubicBezTo>
                  <a:pt x="524" y="435"/>
                  <a:pt x="524" y="435"/>
                  <a:pt x="524" y="435"/>
                </a:cubicBezTo>
                <a:close/>
                <a:moveTo>
                  <a:pt x="524" y="278"/>
                </a:moveTo>
                <a:cubicBezTo>
                  <a:pt x="529" y="281"/>
                  <a:pt x="534" y="282"/>
                  <a:pt x="537" y="283"/>
                </a:cubicBezTo>
                <a:cubicBezTo>
                  <a:pt x="562" y="287"/>
                  <a:pt x="578" y="271"/>
                  <a:pt x="588" y="265"/>
                </a:cubicBezTo>
                <a:cubicBezTo>
                  <a:pt x="597" y="259"/>
                  <a:pt x="608" y="265"/>
                  <a:pt x="608" y="265"/>
                </a:cubicBezTo>
                <a:cubicBezTo>
                  <a:pt x="608" y="265"/>
                  <a:pt x="603" y="247"/>
                  <a:pt x="588" y="247"/>
                </a:cubicBezTo>
                <a:cubicBezTo>
                  <a:pt x="574" y="247"/>
                  <a:pt x="557" y="256"/>
                  <a:pt x="550" y="248"/>
                </a:cubicBezTo>
                <a:cubicBezTo>
                  <a:pt x="543" y="239"/>
                  <a:pt x="580" y="233"/>
                  <a:pt x="585" y="230"/>
                </a:cubicBezTo>
                <a:cubicBezTo>
                  <a:pt x="591" y="227"/>
                  <a:pt x="619" y="203"/>
                  <a:pt x="623" y="188"/>
                </a:cubicBezTo>
                <a:cubicBezTo>
                  <a:pt x="629" y="174"/>
                  <a:pt x="628" y="174"/>
                  <a:pt x="628" y="174"/>
                </a:cubicBezTo>
                <a:cubicBezTo>
                  <a:pt x="628" y="174"/>
                  <a:pt x="632" y="172"/>
                  <a:pt x="635" y="168"/>
                </a:cubicBezTo>
                <a:cubicBezTo>
                  <a:pt x="640" y="162"/>
                  <a:pt x="642" y="156"/>
                  <a:pt x="642" y="150"/>
                </a:cubicBezTo>
                <a:cubicBezTo>
                  <a:pt x="642" y="149"/>
                  <a:pt x="642" y="149"/>
                  <a:pt x="642" y="149"/>
                </a:cubicBezTo>
                <a:cubicBezTo>
                  <a:pt x="642" y="147"/>
                  <a:pt x="642" y="147"/>
                  <a:pt x="642" y="147"/>
                </a:cubicBezTo>
                <a:cubicBezTo>
                  <a:pt x="642" y="137"/>
                  <a:pt x="636" y="125"/>
                  <a:pt x="628" y="120"/>
                </a:cubicBezTo>
                <a:cubicBezTo>
                  <a:pt x="628" y="120"/>
                  <a:pt x="630" y="114"/>
                  <a:pt x="625" y="112"/>
                </a:cubicBezTo>
                <a:cubicBezTo>
                  <a:pt x="620" y="110"/>
                  <a:pt x="609" y="109"/>
                  <a:pt x="608" y="119"/>
                </a:cubicBezTo>
                <a:cubicBezTo>
                  <a:pt x="608" y="122"/>
                  <a:pt x="608" y="125"/>
                  <a:pt x="610" y="127"/>
                </a:cubicBezTo>
                <a:cubicBezTo>
                  <a:pt x="611" y="129"/>
                  <a:pt x="614" y="131"/>
                  <a:pt x="618" y="130"/>
                </a:cubicBezTo>
                <a:cubicBezTo>
                  <a:pt x="623" y="130"/>
                  <a:pt x="627" y="125"/>
                  <a:pt x="627" y="123"/>
                </a:cubicBezTo>
                <a:cubicBezTo>
                  <a:pt x="630" y="125"/>
                  <a:pt x="632" y="128"/>
                  <a:pt x="635" y="132"/>
                </a:cubicBezTo>
                <a:cubicBezTo>
                  <a:pt x="637" y="135"/>
                  <a:pt x="639" y="140"/>
                  <a:pt x="639" y="145"/>
                </a:cubicBezTo>
                <a:cubicBezTo>
                  <a:pt x="640" y="154"/>
                  <a:pt x="636" y="163"/>
                  <a:pt x="625" y="168"/>
                </a:cubicBezTo>
                <a:cubicBezTo>
                  <a:pt x="618" y="171"/>
                  <a:pt x="606" y="171"/>
                  <a:pt x="601" y="164"/>
                </a:cubicBezTo>
                <a:cubicBezTo>
                  <a:pt x="596" y="157"/>
                  <a:pt x="585" y="151"/>
                  <a:pt x="571" y="151"/>
                </a:cubicBezTo>
                <a:cubicBezTo>
                  <a:pt x="556" y="152"/>
                  <a:pt x="530" y="159"/>
                  <a:pt x="529" y="160"/>
                </a:cubicBezTo>
                <a:cubicBezTo>
                  <a:pt x="528" y="160"/>
                  <a:pt x="526" y="161"/>
                  <a:pt x="524" y="162"/>
                </a:cubicBezTo>
                <a:cubicBezTo>
                  <a:pt x="524" y="208"/>
                  <a:pt x="524" y="208"/>
                  <a:pt x="524" y="208"/>
                </a:cubicBezTo>
                <a:cubicBezTo>
                  <a:pt x="526" y="208"/>
                  <a:pt x="529" y="207"/>
                  <a:pt x="531" y="206"/>
                </a:cubicBezTo>
                <a:cubicBezTo>
                  <a:pt x="565" y="195"/>
                  <a:pt x="586" y="189"/>
                  <a:pt x="586" y="189"/>
                </a:cubicBezTo>
                <a:cubicBezTo>
                  <a:pt x="567" y="202"/>
                  <a:pt x="546" y="211"/>
                  <a:pt x="524" y="217"/>
                </a:cubicBezTo>
                <a:cubicBezTo>
                  <a:pt x="524" y="278"/>
                  <a:pt x="524" y="278"/>
                  <a:pt x="524" y="278"/>
                </a:cubicBezTo>
                <a:close/>
                <a:moveTo>
                  <a:pt x="524" y="157"/>
                </a:moveTo>
                <a:cubicBezTo>
                  <a:pt x="524" y="116"/>
                  <a:pt x="524" y="116"/>
                  <a:pt x="524" y="116"/>
                </a:cubicBezTo>
                <a:cubicBezTo>
                  <a:pt x="538" y="114"/>
                  <a:pt x="549" y="113"/>
                  <a:pt x="551" y="113"/>
                </a:cubicBezTo>
                <a:cubicBezTo>
                  <a:pt x="554" y="112"/>
                  <a:pt x="562" y="95"/>
                  <a:pt x="562" y="95"/>
                </a:cubicBezTo>
                <a:cubicBezTo>
                  <a:pt x="562" y="95"/>
                  <a:pt x="562" y="99"/>
                  <a:pt x="560" y="108"/>
                </a:cubicBezTo>
                <a:cubicBezTo>
                  <a:pt x="558" y="116"/>
                  <a:pt x="552" y="128"/>
                  <a:pt x="546" y="133"/>
                </a:cubicBezTo>
                <a:cubicBezTo>
                  <a:pt x="542" y="137"/>
                  <a:pt x="531" y="149"/>
                  <a:pt x="524" y="157"/>
                </a:cubicBezTo>
                <a:close/>
                <a:moveTo>
                  <a:pt x="455" y="452"/>
                </a:moveTo>
                <a:cubicBezTo>
                  <a:pt x="466" y="463"/>
                  <a:pt x="468" y="463"/>
                  <a:pt x="468" y="463"/>
                </a:cubicBezTo>
                <a:cubicBezTo>
                  <a:pt x="468" y="463"/>
                  <a:pt x="477" y="436"/>
                  <a:pt x="477" y="427"/>
                </a:cubicBezTo>
                <a:cubicBezTo>
                  <a:pt x="477" y="417"/>
                  <a:pt x="468" y="401"/>
                  <a:pt x="479" y="403"/>
                </a:cubicBezTo>
                <a:cubicBezTo>
                  <a:pt x="491" y="405"/>
                  <a:pt x="508" y="445"/>
                  <a:pt x="508" y="445"/>
                </a:cubicBezTo>
                <a:cubicBezTo>
                  <a:pt x="508" y="445"/>
                  <a:pt x="515" y="442"/>
                  <a:pt x="524" y="435"/>
                </a:cubicBezTo>
                <a:cubicBezTo>
                  <a:pt x="524" y="297"/>
                  <a:pt x="524" y="297"/>
                  <a:pt x="524" y="297"/>
                </a:cubicBezTo>
                <a:cubicBezTo>
                  <a:pt x="520" y="292"/>
                  <a:pt x="516" y="289"/>
                  <a:pt x="511" y="285"/>
                </a:cubicBezTo>
                <a:cubicBezTo>
                  <a:pt x="496" y="275"/>
                  <a:pt x="472" y="263"/>
                  <a:pt x="455" y="255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62" y="283"/>
                  <a:pt x="468" y="289"/>
                  <a:pt x="472" y="295"/>
                </a:cubicBezTo>
                <a:cubicBezTo>
                  <a:pt x="487" y="320"/>
                  <a:pt x="497" y="353"/>
                  <a:pt x="497" y="353"/>
                </a:cubicBezTo>
                <a:cubicBezTo>
                  <a:pt x="497" y="353"/>
                  <a:pt x="479" y="319"/>
                  <a:pt x="455" y="292"/>
                </a:cubicBezTo>
                <a:cubicBezTo>
                  <a:pt x="455" y="452"/>
                  <a:pt x="455" y="452"/>
                  <a:pt x="455" y="452"/>
                </a:cubicBezTo>
                <a:close/>
                <a:moveTo>
                  <a:pt x="455" y="233"/>
                </a:moveTo>
                <a:cubicBezTo>
                  <a:pt x="455" y="158"/>
                  <a:pt x="455" y="158"/>
                  <a:pt x="455" y="158"/>
                </a:cubicBezTo>
                <a:cubicBezTo>
                  <a:pt x="463" y="144"/>
                  <a:pt x="479" y="135"/>
                  <a:pt x="495" y="125"/>
                </a:cubicBezTo>
                <a:cubicBezTo>
                  <a:pt x="504" y="121"/>
                  <a:pt x="515" y="118"/>
                  <a:pt x="524" y="116"/>
                </a:cubicBezTo>
                <a:cubicBezTo>
                  <a:pt x="524" y="157"/>
                  <a:pt x="524" y="157"/>
                  <a:pt x="524" y="157"/>
                </a:cubicBezTo>
                <a:cubicBezTo>
                  <a:pt x="520" y="162"/>
                  <a:pt x="517" y="166"/>
                  <a:pt x="517" y="166"/>
                </a:cubicBezTo>
                <a:cubicBezTo>
                  <a:pt x="517" y="166"/>
                  <a:pt x="521" y="164"/>
                  <a:pt x="524" y="162"/>
                </a:cubicBezTo>
                <a:cubicBezTo>
                  <a:pt x="524" y="208"/>
                  <a:pt x="524" y="208"/>
                  <a:pt x="524" y="208"/>
                </a:cubicBezTo>
                <a:cubicBezTo>
                  <a:pt x="492" y="218"/>
                  <a:pt x="462" y="222"/>
                  <a:pt x="462" y="222"/>
                </a:cubicBezTo>
                <a:cubicBezTo>
                  <a:pt x="473" y="224"/>
                  <a:pt x="484" y="224"/>
                  <a:pt x="494" y="223"/>
                </a:cubicBezTo>
                <a:cubicBezTo>
                  <a:pt x="505" y="222"/>
                  <a:pt x="515" y="220"/>
                  <a:pt x="524" y="217"/>
                </a:cubicBezTo>
                <a:cubicBezTo>
                  <a:pt x="524" y="278"/>
                  <a:pt x="524" y="278"/>
                  <a:pt x="524" y="278"/>
                </a:cubicBezTo>
                <a:cubicBezTo>
                  <a:pt x="502" y="268"/>
                  <a:pt x="473" y="242"/>
                  <a:pt x="459" y="234"/>
                </a:cubicBezTo>
                <a:cubicBezTo>
                  <a:pt x="458" y="234"/>
                  <a:pt x="456" y="233"/>
                  <a:pt x="455" y="233"/>
                </a:cubicBezTo>
                <a:close/>
                <a:moveTo>
                  <a:pt x="388" y="453"/>
                </a:moveTo>
                <a:cubicBezTo>
                  <a:pt x="392" y="456"/>
                  <a:pt x="396" y="458"/>
                  <a:pt x="400" y="460"/>
                </a:cubicBezTo>
                <a:cubicBezTo>
                  <a:pt x="407" y="463"/>
                  <a:pt x="414" y="460"/>
                  <a:pt x="418" y="456"/>
                </a:cubicBezTo>
                <a:cubicBezTo>
                  <a:pt x="423" y="450"/>
                  <a:pt x="424" y="441"/>
                  <a:pt x="414" y="437"/>
                </a:cubicBezTo>
                <a:cubicBezTo>
                  <a:pt x="405" y="433"/>
                  <a:pt x="398" y="433"/>
                  <a:pt x="398" y="433"/>
                </a:cubicBezTo>
                <a:cubicBezTo>
                  <a:pt x="398" y="433"/>
                  <a:pt x="399" y="437"/>
                  <a:pt x="406" y="439"/>
                </a:cubicBezTo>
                <a:cubicBezTo>
                  <a:pt x="416" y="442"/>
                  <a:pt x="419" y="448"/>
                  <a:pt x="416" y="452"/>
                </a:cubicBezTo>
                <a:cubicBezTo>
                  <a:pt x="410" y="460"/>
                  <a:pt x="401" y="457"/>
                  <a:pt x="393" y="452"/>
                </a:cubicBezTo>
                <a:cubicBezTo>
                  <a:pt x="391" y="451"/>
                  <a:pt x="390" y="450"/>
                  <a:pt x="388" y="448"/>
                </a:cubicBezTo>
                <a:cubicBezTo>
                  <a:pt x="388" y="453"/>
                  <a:pt x="388" y="453"/>
                  <a:pt x="388" y="453"/>
                </a:cubicBezTo>
                <a:close/>
                <a:moveTo>
                  <a:pt x="388" y="316"/>
                </a:moveTo>
                <a:cubicBezTo>
                  <a:pt x="388" y="134"/>
                  <a:pt x="388" y="134"/>
                  <a:pt x="388" y="134"/>
                </a:cubicBezTo>
                <a:cubicBezTo>
                  <a:pt x="400" y="164"/>
                  <a:pt x="392" y="227"/>
                  <a:pt x="392" y="227"/>
                </a:cubicBezTo>
                <a:cubicBezTo>
                  <a:pt x="411" y="212"/>
                  <a:pt x="409" y="175"/>
                  <a:pt x="399" y="144"/>
                </a:cubicBezTo>
                <a:cubicBezTo>
                  <a:pt x="396" y="134"/>
                  <a:pt x="393" y="125"/>
                  <a:pt x="388" y="117"/>
                </a:cubicBezTo>
                <a:cubicBezTo>
                  <a:pt x="388" y="29"/>
                  <a:pt x="388" y="29"/>
                  <a:pt x="388" y="29"/>
                </a:cubicBezTo>
                <a:cubicBezTo>
                  <a:pt x="392" y="31"/>
                  <a:pt x="395" y="33"/>
                  <a:pt x="398" y="35"/>
                </a:cubicBezTo>
                <a:cubicBezTo>
                  <a:pt x="418" y="50"/>
                  <a:pt x="427" y="78"/>
                  <a:pt x="436" y="107"/>
                </a:cubicBezTo>
                <a:cubicBezTo>
                  <a:pt x="445" y="136"/>
                  <a:pt x="426" y="188"/>
                  <a:pt x="420" y="197"/>
                </a:cubicBezTo>
                <a:cubicBezTo>
                  <a:pt x="414" y="206"/>
                  <a:pt x="424" y="228"/>
                  <a:pt x="424" y="228"/>
                </a:cubicBezTo>
                <a:cubicBezTo>
                  <a:pt x="424" y="228"/>
                  <a:pt x="440" y="218"/>
                  <a:pt x="445" y="213"/>
                </a:cubicBezTo>
                <a:cubicBezTo>
                  <a:pt x="449" y="208"/>
                  <a:pt x="446" y="189"/>
                  <a:pt x="451" y="169"/>
                </a:cubicBezTo>
                <a:cubicBezTo>
                  <a:pt x="452" y="165"/>
                  <a:pt x="453" y="161"/>
                  <a:pt x="455" y="158"/>
                </a:cubicBezTo>
                <a:cubicBezTo>
                  <a:pt x="455" y="233"/>
                  <a:pt x="455" y="233"/>
                  <a:pt x="455" y="233"/>
                </a:cubicBezTo>
                <a:cubicBezTo>
                  <a:pt x="441" y="228"/>
                  <a:pt x="439" y="248"/>
                  <a:pt x="439" y="248"/>
                </a:cubicBezTo>
                <a:cubicBezTo>
                  <a:pt x="439" y="248"/>
                  <a:pt x="446" y="251"/>
                  <a:pt x="455" y="255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37" y="261"/>
                  <a:pt x="414" y="251"/>
                  <a:pt x="414" y="251"/>
                </a:cubicBezTo>
                <a:cubicBezTo>
                  <a:pt x="414" y="251"/>
                  <a:pt x="428" y="260"/>
                  <a:pt x="453" y="289"/>
                </a:cubicBezTo>
                <a:cubicBezTo>
                  <a:pt x="454" y="290"/>
                  <a:pt x="454" y="291"/>
                  <a:pt x="455" y="292"/>
                </a:cubicBezTo>
                <a:cubicBezTo>
                  <a:pt x="455" y="452"/>
                  <a:pt x="455" y="452"/>
                  <a:pt x="455" y="452"/>
                </a:cubicBezTo>
                <a:cubicBezTo>
                  <a:pt x="453" y="449"/>
                  <a:pt x="451" y="447"/>
                  <a:pt x="448" y="443"/>
                </a:cubicBezTo>
                <a:cubicBezTo>
                  <a:pt x="432" y="424"/>
                  <a:pt x="413" y="371"/>
                  <a:pt x="412" y="365"/>
                </a:cubicBezTo>
                <a:cubicBezTo>
                  <a:pt x="411" y="358"/>
                  <a:pt x="410" y="299"/>
                  <a:pt x="403" y="292"/>
                </a:cubicBezTo>
                <a:cubicBezTo>
                  <a:pt x="396" y="286"/>
                  <a:pt x="394" y="306"/>
                  <a:pt x="388" y="316"/>
                </a:cubicBezTo>
                <a:close/>
                <a:moveTo>
                  <a:pt x="341" y="182"/>
                </a:moveTo>
                <a:cubicBezTo>
                  <a:pt x="344" y="185"/>
                  <a:pt x="346" y="187"/>
                  <a:pt x="348" y="188"/>
                </a:cubicBezTo>
                <a:cubicBezTo>
                  <a:pt x="355" y="193"/>
                  <a:pt x="363" y="206"/>
                  <a:pt x="352" y="206"/>
                </a:cubicBezTo>
                <a:cubicBezTo>
                  <a:pt x="349" y="206"/>
                  <a:pt x="346" y="205"/>
                  <a:pt x="341" y="203"/>
                </a:cubicBezTo>
                <a:cubicBezTo>
                  <a:pt x="341" y="230"/>
                  <a:pt x="341" y="230"/>
                  <a:pt x="341" y="230"/>
                </a:cubicBezTo>
                <a:cubicBezTo>
                  <a:pt x="358" y="238"/>
                  <a:pt x="370" y="244"/>
                  <a:pt x="367" y="243"/>
                </a:cubicBezTo>
                <a:cubicBezTo>
                  <a:pt x="358" y="240"/>
                  <a:pt x="349" y="238"/>
                  <a:pt x="341" y="235"/>
                </a:cubicBezTo>
                <a:cubicBezTo>
                  <a:pt x="341" y="278"/>
                  <a:pt x="341" y="278"/>
                  <a:pt x="341" y="278"/>
                </a:cubicBezTo>
                <a:cubicBezTo>
                  <a:pt x="349" y="269"/>
                  <a:pt x="357" y="264"/>
                  <a:pt x="357" y="264"/>
                </a:cubicBezTo>
                <a:cubicBezTo>
                  <a:pt x="357" y="264"/>
                  <a:pt x="350" y="277"/>
                  <a:pt x="344" y="288"/>
                </a:cubicBezTo>
                <a:cubicBezTo>
                  <a:pt x="343" y="290"/>
                  <a:pt x="342" y="292"/>
                  <a:pt x="341" y="294"/>
                </a:cubicBezTo>
                <a:cubicBezTo>
                  <a:pt x="341" y="359"/>
                  <a:pt x="341" y="359"/>
                  <a:pt x="341" y="359"/>
                </a:cubicBezTo>
                <a:cubicBezTo>
                  <a:pt x="357" y="357"/>
                  <a:pt x="382" y="327"/>
                  <a:pt x="388" y="317"/>
                </a:cubicBezTo>
                <a:cubicBezTo>
                  <a:pt x="388" y="317"/>
                  <a:pt x="388" y="317"/>
                  <a:pt x="388" y="316"/>
                </a:cubicBezTo>
                <a:cubicBezTo>
                  <a:pt x="388" y="134"/>
                  <a:pt x="388" y="134"/>
                  <a:pt x="388" y="134"/>
                </a:cubicBezTo>
                <a:cubicBezTo>
                  <a:pt x="388" y="134"/>
                  <a:pt x="388" y="134"/>
                  <a:pt x="388" y="133"/>
                </a:cubicBezTo>
                <a:cubicBezTo>
                  <a:pt x="376" y="104"/>
                  <a:pt x="371" y="98"/>
                  <a:pt x="371" y="98"/>
                </a:cubicBezTo>
                <a:cubicBezTo>
                  <a:pt x="376" y="98"/>
                  <a:pt x="383" y="106"/>
                  <a:pt x="388" y="117"/>
                </a:cubicBezTo>
                <a:cubicBezTo>
                  <a:pt x="388" y="29"/>
                  <a:pt x="388" y="29"/>
                  <a:pt x="388" y="29"/>
                </a:cubicBezTo>
                <a:cubicBezTo>
                  <a:pt x="369" y="15"/>
                  <a:pt x="347" y="0"/>
                  <a:pt x="347" y="0"/>
                </a:cubicBezTo>
                <a:cubicBezTo>
                  <a:pt x="347" y="0"/>
                  <a:pt x="360" y="22"/>
                  <a:pt x="353" y="28"/>
                </a:cubicBezTo>
                <a:cubicBezTo>
                  <a:pt x="348" y="32"/>
                  <a:pt x="344" y="31"/>
                  <a:pt x="341" y="28"/>
                </a:cubicBezTo>
                <a:cubicBezTo>
                  <a:pt x="341" y="182"/>
                  <a:pt x="341" y="182"/>
                  <a:pt x="341" y="182"/>
                </a:cubicBezTo>
                <a:close/>
                <a:moveTo>
                  <a:pt x="341" y="459"/>
                </a:moveTo>
                <a:cubicBezTo>
                  <a:pt x="351" y="479"/>
                  <a:pt x="351" y="479"/>
                  <a:pt x="351" y="479"/>
                </a:cubicBezTo>
                <a:cubicBezTo>
                  <a:pt x="351" y="479"/>
                  <a:pt x="364" y="478"/>
                  <a:pt x="359" y="466"/>
                </a:cubicBezTo>
                <a:cubicBezTo>
                  <a:pt x="355" y="459"/>
                  <a:pt x="350" y="448"/>
                  <a:pt x="341" y="438"/>
                </a:cubicBezTo>
                <a:cubicBezTo>
                  <a:pt x="341" y="459"/>
                  <a:pt x="341" y="459"/>
                  <a:pt x="341" y="459"/>
                </a:cubicBezTo>
                <a:close/>
                <a:moveTo>
                  <a:pt x="341" y="411"/>
                </a:moveTo>
                <a:cubicBezTo>
                  <a:pt x="341" y="404"/>
                  <a:pt x="341" y="404"/>
                  <a:pt x="341" y="404"/>
                </a:cubicBezTo>
                <a:cubicBezTo>
                  <a:pt x="345" y="405"/>
                  <a:pt x="349" y="406"/>
                  <a:pt x="353" y="407"/>
                </a:cubicBezTo>
                <a:cubicBezTo>
                  <a:pt x="375" y="413"/>
                  <a:pt x="375" y="431"/>
                  <a:pt x="377" y="435"/>
                </a:cubicBezTo>
                <a:cubicBezTo>
                  <a:pt x="378" y="438"/>
                  <a:pt x="383" y="443"/>
                  <a:pt x="388" y="448"/>
                </a:cubicBezTo>
                <a:cubicBezTo>
                  <a:pt x="388" y="453"/>
                  <a:pt x="388" y="453"/>
                  <a:pt x="388" y="453"/>
                </a:cubicBezTo>
                <a:cubicBezTo>
                  <a:pt x="384" y="450"/>
                  <a:pt x="381" y="447"/>
                  <a:pt x="381" y="447"/>
                </a:cubicBezTo>
                <a:cubicBezTo>
                  <a:pt x="381" y="447"/>
                  <a:pt x="380" y="452"/>
                  <a:pt x="378" y="460"/>
                </a:cubicBezTo>
                <a:cubicBezTo>
                  <a:pt x="376" y="468"/>
                  <a:pt x="364" y="477"/>
                  <a:pt x="364" y="477"/>
                </a:cubicBezTo>
                <a:cubicBezTo>
                  <a:pt x="364" y="477"/>
                  <a:pt x="376" y="452"/>
                  <a:pt x="376" y="445"/>
                </a:cubicBezTo>
                <a:cubicBezTo>
                  <a:pt x="376" y="439"/>
                  <a:pt x="375" y="438"/>
                  <a:pt x="370" y="439"/>
                </a:cubicBezTo>
                <a:cubicBezTo>
                  <a:pt x="366" y="439"/>
                  <a:pt x="369" y="431"/>
                  <a:pt x="369" y="431"/>
                </a:cubicBezTo>
                <a:cubicBezTo>
                  <a:pt x="370" y="421"/>
                  <a:pt x="360" y="415"/>
                  <a:pt x="347" y="412"/>
                </a:cubicBezTo>
                <a:cubicBezTo>
                  <a:pt x="345" y="412"/>
                  <a:pt x="343" y="411"/>
                  <a:pt x="341" y="411"/>
                </a:cubicBezTo>
                <a:close/>
                <a:moveTo>
                  <a:pt x="296" y="12"/>
                </a:moveTo>
                <a:cubicBezTo>
                  <a:pt x="296" y="12"/>
                  <a:pt x="301" y="26"/>
                  <a:pt x="295" y="34"/>
                </a:cubicBezTo>
                <a:cubicBezTo>
                  <a:pt x="289" y="42"/>
                  <a:pt x="274" y="89"/>
                  <a:pt x="297" y="127"/>
                </a:cubicBezTo>
                <a:cubicBezTo>
                  <a:pt x="315" y="158"/>
                  <a:pt x="331" y="174"/>
                  <a:pt x="341" y="182"/>
                </a:cubicBezTo>
                <a:cubicBezTo>
                  <a:pt x="341" y="28"/>
                  <a:pt x="341" y="28"/>
                  <a:pt x="341" y="28"/>
                </a:cubicBezTo>
                <a:cubicBezTo>
                  <a:pt x="340" y="26"/>
                  <a:pt x="339" y="24"/>
                  <a:pt x="338" y="22"/>
                </a:cubicBezTo>
                <a:cubicBezTo>
                  <a:pt x="335" y="16"/>
                  <a:pt x="329" y="6"/>
                  <a:pt x="329" y="6"/>
                </a:cubicBezTo>
                <a:cubicBezTo>
                  <a:pt x="329" y="6"/>
                  <a:pt x="338" y="28"/>
                  <a:pt x="334" y="32"/>
                </a:cubicBezTo>
                <a:cubicBezTo>
                  <a:pt x="330" y="37"/>
                  <a:pt x="324" y="43"/>
                  <a:pt x="319" y="36"/>
                </a:cubicBezTo>
                <a:cubicBezTo>
                  <a:pt x="313" y="28"/>
                  <a:pt x="311" y="20"/>
                  <a:pt x="306" y="16"/>
                </a:cubicBezTo>
                <a:cubicBezTo>
                  <a:pt x="302" y="13"/>
                  <a:pt x="296" y="12"/>
                  <a:pt x="296" y="12"/>
                </a:cubicBezTo>
                <a:close/>
                <a:moveTo>
                  <a:pt x="341" y="203"/>
                </a:moveTo>
                <a:cubicBezTo>
                  <a:pt x="341" y="230"/>
                  <a:pt x="341" y="230"/>
                  <a:pt x="341" y="230"/>
                </a:cubicBezTo>
                <a:cubicBezTo>
                  <a:pt x="308" y="215"/>
                  <a:pt x="259" y="193"/>
                  <a:pt x="273" y="202"/>
                </a:cubicBezTo>
                <a:cubicBezTo>
                  <a:pt x="294" y="216"/>
                  <a:pt x="313" y="227"/>
                  <a:pt x="337" y="234"/>
                </a:cubicBezTo>
                <a:cubicBezTo>
                  <a:pt x="338" y="234"/>
                  <a:pt x="340" y="235"/>
                  <a:pt x="341" y="235"/>
                </a:cubicBezTo>
                <a:cubicBezTo>
                  <a:pt x="341" y="278"/>
                  <a:pt x="341" y="278"/>
                  <a:pt x="341" y="278"/>
                </a:cubicBezTo>
                <a:cubicBezTo>
                  <a:pt x="337" y="284"/>
                  <a:pt x="332" y="292"/>
                  <a:pt x="330" y="301"/>
                </a:cubicBezTo>
                <a:cubicBezTo>
                  <a:pt x="324" y="326"/>
                  <a:pt x="325" y="351"/>
                  <a:pt x="325" y="351"/>
                </a:cubicBezTo>
                <a:cubicBezTo>
                  <a:pt x="325" y="351"/>
                  <a:pt x="335" y="312"/>
                  <a:pt x="341" y="294"/>
                </a:cubicBezTo>
                <a:cubicBezTo>
                  <a:pt x="341" y="359"/>
                  <a:pt x="341" y="359"/>
                  <a:pt x="341" y="359"/>
                </a:cubicBezTo>
                <a:cubicBezTo>
                  <a:pt x="341" y="359"/>
                  <a:pt x="340" y="359"/>
                  <a:pt x="339" y="359"/>
                </a:cubicBezTo>
                <a:cubicBezTo>
                  <a:pt x="324" y="359"/>
                  <a:pt x="326" y="377"/>
                  <a:pt x="326" y="377"/>
                </a:cubicBezTo>
                <a:cubicBezTo>
                  <a:pt x="326" y="377"/>
                  <a:pt x="313" y="365"/>
                  <a:pt x="308" y="338"/>
                </a:cubicBezTo>
                <a:cubicBezTo>
                  <a:pt x="305" y="313"/>
                  <a:pt x="323" y="278"/>
                  <a:pt x="328" y="269"/>
                </a:cubicBezTo>
                <a:cubicBezTo>
                  <a:pt x="321" y="270"/>
                  <a:pt x="310" y="272"/>
                  <a:pt x="300" y="275"/>
                </a:cubicBezTo>
                <a:cubicBezTo>
                  <a:pt x="289" y="279"/>
                  <a:pt x="281" y="283"/>
                  <a:pt x="276" y="288"/>
                </a:cubicBezTo>
                <a:cubicBezTo>
                  <a:pt x="270" y="294"/>
                  <a:pt x="266" y="302"/>
                  <a:pt x="264" y="313"/>
                </a:cubicBezTo>
                <a:cubicBezTo>
                  <a:pt x="264" y="313"/>
                  <a:pt x="270" y="310"/>
                  <a:pt x="275" y="311"/>
                </a:cubicBezTo>
                <a:cubicBezTo>
                  <a:pt x="280" y="312"/>
                  <a:pt x="275" y="322"/>
                  <a:pt x="272" y="323"/>
                </a:cubicBezTo>
                <a:cubicBezTo>
                  <a:pt x="269" y="324"/>
                  <a:pt x="261" y="318"/>
                  <a:pt x="261" y="318"/>
                </a:cubicBezTo>
                <a:cubicBezTo>
                  <a:pt x="256" y="334"/>
                  <a:pt x="259" y="406"/>
                  <a:pt x="296" y="405"/>
                </a:cubicBezTo>
                <a:cubicBezTo>
                  <a:pt x="313" y="405"/>
                  <a:pt x="326" y="402"/>
                  <a:pt x="341" y="404"/>
                </a:cubicBezTo>
                <a:cubicBezTo>
                  <a:pt x="341" y="411"/>
                  <a:pt x="341" y="411"/>
                  <a:pt x="341" y="411"/>
                </a:cubicBezTo>
                <a:cubicBezTo>
                  <a:pt x="324" y="409"/>
                  <a:pt x="305" y="411"/>
                  <a:pt x="303" y="413"/>
                </a:cubicBezTo>
                <a:cubicBezTo>
                  <a:pt x="303" y="413"/>
                  <a:pt x="307" y="414"/>
                  <a:pt x="325" y="424"/>
                </a:cubicBezTo>
                <a:cubicBezTo>
                  <a:pt x="331" y="427"/>
                  <a:pt x="336" y="432"/>
                  <a:pt x="341" y="438"/>
                </a:cubicBezTo>
                <a:cubicBezTo>
                  <a:pt x="341" y="459"/>
                  <a:pt x="341" y="459"/>
                  <a:pt x="341" y="459"/>
                </a:cubicBezTo>
                <a:cubicBezTo>
                  <a:pt x="335" y="445"/>
                  <a:pt x="335" y="445"/>
                  <a:pt x="335" y="445"/>
                </a:cubicBezTo>
                <a:cubicBezTo>
                  <a:pt x="315" y="432"/>
                  <a:pt x="315" y="432"/>
                  <a:pt x="315" y="432"/>
                </a:cubicBezTo>
                <a:cubicBezTo>
                  <a:pt x="315" y="432"/>
                  <a:pt x="294" y="421"/>
                  <a:pt x="275" y="406"/>
                </a:cubicBezTo>
                <a:cubicBezTo>
                  <a:pt x="257" y="391"/>
                  <a:pt x="250" y="352"/>
                  <a:pt x="251" y="339"/>
                </a:cubicBezTo>
                <a:cubicBezTo>
                  <a:pt x="252" y="327"/>
                  <a:pt x="257" y="294"/>
                  <a:pt x="256" y="274"/>
                </a:cubicBezTo>
                <a:cubicBezTo>
                  <a:pt x="255" y="257"/>
                  <a:pt x="252" y="249"/>
                  <a:pt x="247" y="245"/>
                </a:cubicBezTo>
                <a:cubicBezTo>
                  <a:pt x="232" y="237"/>
                  <a:pt x="211" y="245"/>
                  <a:pt x="214" y="265"/>
                </a:cubicBezTo>
                <a:cubicBezTo>
                  <a:pt x="216" y="273"/>
                  <a:pt x="220" y="281"/>
                  <a:pt x="221" y="283"/>
                </a:cubicBezTo>
                <a:cubicBezTo>
                  <a:pt x="225" y="283"/>
                  <a:pt x="228" y="283"/>
                  <a:pt x="229" y="281"/>
                </a:cubicBezTo>
                <a:cubicBezTo>
                  <a:pt x="232" y="277"/>
                  <a:pt x="232" y="270"/>
                  <a:pt x="232" y="270"/>
                </a:cubicBezTo>
                <a:cubicBezTo>
                  <a:pt x="232" y="270"/>
                  <a:pt x="239" y="286"/>
                  <a:pt x="234" y="304"/>
                </a:cubicBezTo>
                <a:cubicBezTo>
                  <a:pt x="229" y="319"/>
                  <a:pt x="211" y="334"/>
                  <a:pt x="207" y="336"/>
                </a:cubicBezTo>
                <a:cubicBezTo>
                  <a:pt x="207" y="319"/>
                  <a:pt x="207" y="319"/>
                  <a:pt x="207" y="319"/>
                </a:cubicBezTo>
                <a:cubicBezTo>
                  <a:pt x="209" y="317"/>
                  <a:pt x="211" y="316"/>
                  <a:pt x="212" y="314"/>
                </a:cubicBezTo>
                <a:cubicBezTo>
                  <a:pt x="219" y="304"/>
                  <a:pt x="226" y="291"/>
                  <a:pt x="226" y="291"/>
                </a:cubicBezTo>
                <a:cubicBezTo>
                  <a:pt x="226" y="291"/>
                  <a:pt x="214" y="305"/>
                  <a:pt x="209" y="310"/>
                </a:cubicBezTo>
                <a:cubicBezTo>
                  <a:pt x="208" y="311"/>
                  <a:pt x="208" y="312"/>
                  <a:pt x="207" y="312"/>
                </a:cubicBezTo>
                <a:cubicBezTo>
                  <a:pt x="207" y="283"/>
                  <a:pt x="207" y="283"/>
                  <a:pt x="207" y="283"/>
                </a:cubicBezTo>
                <a:cubicBezTo>
                  <a:pt x="209" y="283"/>
                  <a:pt x="211" y="283"/>
                  <a:pt x="214" y="283"/>
                </a:cubicBezTo>
                <a:cubicBezTo>
                  <a:pt x="213" y="279"/>
                  <a:pt x="211" y="274"/>
                  <a:pt x="210" y="270"/>
                </a:cubicBezTo>
                <a:cubicBezTo>
                  <a:pt x="207" y="261"/>
                  <a:pt x="207" y="252"/>
                  <a:pt x="212" y="245"/>
                </a:cubicBezTo>
                <a:cubicBezTo>
                  <a:pt x="217" y="240"/>
                  <a:pt x="222" y="237"/>
                  <a:pt x="227" y="236"/>
                </a:cubicBezTo>
                <a:cubicBezTo>
                  <a:pt x="243" y="232"/>
                  <a:pt x="254" y="241"/>
                  <a:pt x="259" y="252"/>
                </a:cubicBezTo>
                <a:cubicBezTo>
                  <a:pt x="264" y="265"/>
                  <a:pt x="262" y="279"/>
                  <a:pt x="264" y="293"/>
                </a:cubicBezTo>
                <a:cubicBezTo>
                  <a:pt x="264" y="293"/>
                  <a:pt x="266" y="291"/>
                  <a:pt x="269" y="288"/>
                </a:cubicBezTo>
                <a:cubicBezTo>
                  <a:pt x="278" y="279"/>
                  <a:pt x="284" y="275"/>
                  <a:pt x="297" y="271"/>
                </a:cubicBezTo>
                <a:cubicBezTo>
                  <a:pt x="321" y="263"/>
                  <a:pt x="321" y="263"/>
                  <a:pt x="321" y="263"/>
                </a:cubicBezTo>
                <a:cubicBezTo>
                  <a:pt x="307" y="258"/>
                  <a:pt x="280" y="246"/>
                  <a:pt x="267" y="227"/>
                </a:cubicBezTo>
                <a:cubicBezTo>
                  <a:pt x="249" y="201"/>
                  <a:pt x="252" y="173"/>
                  <a:pt x="252" y="173"/>
                </a:cubicBezTo>
                <a:cubicBezTo>
                  <a:pt x="252" y="173"/>
                  <a:pt x="258" y="184"/>
                  <a:pt x="264" y="188"/>
                </a:cubicBezTo>
                <a:cubicBezTo>
                  <a:pt x="270" y="194"/>
                  <a:pt x="295" y="179"/>
                  <a:pt x="302" y="179"/>
                </a:cubicBezTo>
                <a:cubicBezTo>
                  <a:pt x="308" y="179"/>
                  <a:pt x="327" y="195"/>
                  <a:pt x="341" y="203"/>
                </a:cubicBezTo>
                <a:close/>
                <a:moveTo>
                  <a:pt x="207" y="391"/>
                </a:moveTo>
                <a:cubicBezTo>
                  <a:pt x="211" y="392"/>
                  <a:pt x="215" y="393"/>
                  <a:pt x="217" y="392"/>
                </a:cubicBezTo>
                <a:cubicBezTo>
                  <a:pt x="226" y="389"/>
                  <a:pt x="229" y="400"/>
                  <a:pt x="229" y="400"/>
                </a:cubicBezTo>
                <a:cubicBezTo>
                  <a:pt x="229" y="400"/>
                  <a:pt x="234" y="390"/>
                  <a:pt x="231" y="374"/>
                </a:cubicBezTo>
                <a:cubicBezTo>
                  <a:pt x="229" y="359"/>
                  <a:pt x="211" y="341"/>
                  <a:pt x="207" y="338"/>
                </a:cubicBezTo>
                <a:cubicBezTo>
                  <a:pt x="207" y="350"/>
                  <a:pt x="207" y="350"/>
                  <a:pt x="207" y="350"/>
                </a:cubicBezTo>
                <a:cubicBezTo>
                  <a:pt x="209" y="352"/>
                  <a:pt x="211" y="354"/>
                  <a:pt x="212" y="357"/>
                </a:cubicBezTo>
                <a:cubicBezTo>
                  <a:pt x="220" y="370"/>
                  <a:pt x="224" y="385"/>
                  <a:pt x="224" y="385"/>
                </a:cubicBezTo>
                <a:cubicBezTo>
                  <a:pt x="224" y="385"/>
                  <a:pt x="214" y="368"/>
                  <a:pt x="207" y="358"/>
                </a:cubicBezTo>
                <a:lnTo>
                  <a:pt x="207" y="391"/>
                </a:lnTo>
                <a:close/>
                <a:moveTo>
                  <a:pt x="207" y="283"/>
                </a:moveTo>
                <a:cubicBezTo>
                  <a:pt x="206" y="283"/>
                  <a:pt x="206" y="283"/>
                  <a:pt x="205" y="283"/>
                </a:cubicBezTo>
                <a:cubicBezTo>
                  <a:pt x="201" y="284"/>
                  <a:pt x="188" y="305"/>
                  <a:pt x="182" y="307"/>
                </a:cubicBezTo>
                <a:cubicBezTo>
                  <a:pt x="176" y="310"/>
                  <a:pt x="178" y="300"/>
                  <a:pt x="181" y="296"/>
                </a:cubicBezTo>
                <a:cubicBezTo>
                  <a:pt x="184" y="292"/>
                  <a:pt x="193" y="279"/>
                  <a:pt x="199" y="253"/>
                </a:cubicBezTo>
                <a:cubicBezTo>
                  <a:pt x="204" y="227"/>
                  <a:pt x="188" y="203"/>
                  <a:pt x="183" y="199"/>
                </a:cubicBezTo>
                <a:cubicBezTo>
                  <a:pt x="178" y="196"/>
                  <a:pt x="178" y="187"/>
                  <a:pt x="178" y="187"/>
                </a:cubicBezTo>
                <a:cubicBezTo>
                  <a:pt x="178" y="187"/>
                  <a:pt x="175" y="188"/>
                  <a:pt x="173" y="192"/>
                </a:cubicBezTo>
                <a:cubicBezTo>
                  <a:pt x="171" y="195"/>
                  <a:pt x="171" y="200"/>
                  <a:pt x="169" y="205"/>
                </a:cubicBezTo>
                <a:cubicBezTo>
                  <a:pt x="168" y="210"/>
                  <a:pt x="164" y="208"/>
                  <a:pt x="160" y="206"/>
                </a:cubicBezTo>
                <a:cubicBezTo>
                  <a:pt x="157" y="203"/>
                  <a:pt x="158" y="190"/>
                  <a:pt x="158" y="190"/>
                </a:cubicBezTo>
                <a:cubicBezTo>
                  <a:pt x="158" y="190"/>
                  <a:pt x="157" y="197"/>
                  <a:pt x="156" y="200"/>
                </a:cubicBezTo>
                <a:cubicBezTo>
                  <a:pt x="156" y="203"/>
                  <a:pt x="155" y="205"/>
                  <a:pt x="154" y="206"/>
                </a:cubicBezTo>
                <a:cubicBezTo>
                  <a:pt x="154" y="302"/>
                  <a:pt x="154" y="302"/>
                  <a:pt x="154" y="302"/>
                </a:cubicBezTo>
                <a:cubicBezTo>
                  <a:pt x="158" y="315"/>
                  <a:pt x="164" y="326"/>
                  <a:pt x="164" y="326"/>
                </a:cubicBezTo>
                <a:cubicBezTo>
                  <a:pt x="164" y="326"/>
                  <a:pt x="159" y="326"/>
                  <a:pt x="155" y="319"/>
                </a:cubicBezTo>
                <a:cubicBezTo>
                  <a:pt x="154" y="318"/>
                  <a:pt x="154" y="317"/>
                  <a:pt x="154" y="316"/>
                </a:cubicBezTo>
                <a:cubicBezTo>
                  <a:pt x="154" y="346"/>
                  <a:pt x="154" y="346"/>
                  <a:pt x="154" y="346"/>
                </a:cubicBezTo>
                <a:cubicBezTo>
                  <a:pt x="154" y="344"/>
                  <a:pt x="155" y="344"/>
                  <a:pt x="155" y="344"/>
                </a:cubicBezTo>
                <a:cubicBezTo>
                  <a:pt x="155" y="344"/>
                  <a:pt x="155" y="345"/>
                  <a:pt x="154" y="346"/>
                </a:cubicBezTo>
                <a:cubicBezTo>
                  <a:pt x="154" y="459"/>
                  <a:pt x="154" y="459"/>
                  <a:pt x="154" y="459"/>
                </a:cubicBezTo>
                <a:cubicBezTo>
                  <a:pt x="157" y="466"/>
                  <a:pt x="164" y="474"/>
                  <a:pt x="164" y="474"/>
                </a:cubicBezTo>
                <a:cubicBezTo>
                  <a:pt x="164" y="474"/>
                  <a:pt x="165" y="474"/>
                  <a:pt x="171" y="460"/>
                </a:cubicBezTo>
                <a:cubicBezTo>
                  <a:pt x="177" y="445"/>
                  <a:pt x="178" y="412"/>
                  <a:pt x="177" y="408"/>
                </a:cubicBezTo>
                <a:cubicBezTo>
                  <a:pt x="177" y="404"/>
                  <a:pt x="166" y="370"/>
                  <a:pt x="169" y="365"/>
                </a:cubicBezTo>
                <a:cubicBezTo>
                  <a:pt x="172" y="361"/>
                  <a:pt x="177" y="372"/>
                  <a:pt x="182" y="377"/>
                </a:cubicBezTo>
                <a:cubicBezTo>
                  <a:pt x="186" y="380"/>
                  <a:pt x="197" y="387"/>
                  <a:pt x="207" y="391"/>
                </a:cubicBezTo>
                <a:cubicBezTo>
                  <a:pt x="207" y="358"/>
                  <a:pt x="207" y="358"/>
                  <a:pt x="207" y="358"/>
                </a:cubicBezTo>
                <a:cubicBezTo>
                  <a:pt x="205" y="356"/>
                  <a:pt x="203" y="353"/>
                  <a:pt x="202" y="352"/>
                </a:cubicBezTo>
                <a:cubicBezTo>
                  <a:pt x="196" y="347"/>
                  <a:pt x="190" y="341"/>
                  <a:pt x="190" y="341"/>
                </a:cubicBezTo>
                <a:cubicBezTo>
                  <a:pt x="190" y="341"/>
                  <a:pt x="199" y="343"/>
                  <a:pt x="207" y="350"/>
                </a:cubicBezTo>
                <a:cubicBezTo>
                  <a:pt x="207" y="338"/>
                  <a:pt x="207" y="338"/>
                  <a:pt x="207" y="338"/>
                </a:cubicBezTo>
                <a:cubicBezTo>
                  <a:pt x="206" y="337"/>
                  <a:pt x="206" y="337"/>
                  <a:pt x="206" y="337"/>
                </a:cubicBezTo>
                <a:cubicBezTo>
                  <a:pt x="206" y="337"/>
                  <a:pt x="206" y="337"/>
                  <a:pt x="207" y="336"/>
                </a:cubicBezTo>
                <a:cubicBezTo>
                  <a:pt x="207" y="319"/>
                  <a:pt x="207" y="319"/>
                  <a:pt x="207" y="319"/>
                </a:cubicBezTo>
                <a:cubicBezTo>
                  <a:pt x="197" y="326"/>
                  <a:pt x="180" y="330"/>
                  <a:pt x="180" y="330"/>
                </a:cubicBezTo>
                <a:cubicBezTo>
                  <a:pt x="182" y="328"/>
                  <a:pt x="182" y="328"/>
                  <a:pt x="182" y="328"/>
                </a:cubicBezTo>
                <a:cubicBezTo>
                  <a:pt x="182" y="328"/>
                  <a:pt x="199" y="318"/>
                  <a:pt x="207" y="312"/>
                </a:cubicBezTo>
                <a:lnTo>
                  <a:pt x="207" y="283"/>
                </a:lnTo>
                <a:close/>
                <a:moveTo>
                  <a:pt x="154" y="206"/>
                </a:moveTo>
                <a:cubicBezTo>
                  <a:pt x="152" y="207"/>
                  <a:pt x="151" y="208"/>
                  <a:pt x="149" y="206"/>
                </a:cubicBezTo>
                <a:cubicBezTo>
                  <a:pt x="144" y="204"/>
                  <a:pt x="147" y="189"/>
                  <a:pt x="147" y="189"/>
                </a:cubicBezTo>
                <a:cubicBezTo>
                  <a:pt x="147" y="189"/>
                  <a:pt x="144" y="192"/>
                  <a:pt x="141" y="197"/>
                </a:cubicBezTo>
                <a:cubicBezTo>
                  <a:pt x="141" y="314"/>
                  <a:pt x="141" y="314"/>
                  <a:pt x="141" y="314"/>
                </a:cubicBezTo>
                <a:cubicBezTo>
                  <a:pt x="141" y="314"/>
                  <a:pt x="141" y="314"/>
                  <a:pt x="142" y="315"/>
                </a:cubicBezTo>
                <a:cubicBezTo>
                  <a:pt x="147" y="319"/>
                  <a:pt x="145" y="333"/>
                  <a:pt x="145" y="333"/>
                </a:cubicBezTo>
                <a:cubicBezTo>
                  <a:pt x="145" y="333"/>
                  <a:pt x="143" y="332"/>
                  <a:pt x="141" y="331"/>
                </a:cubicBezTo>
                <a:cubicBezTo>
                  <a:pt x="141" y="359"/>
                  <a:pt x="141" y="359"/>
                  <a:pt x="141" y="359"/>
                </a:cubicBezTo>
                <a:cubicBezTo>
                  <a:pt x="146" y="353"/>
                  <a:pt x="151" y="348"/>
                  <a:pt x="154" y="346"/>
                </a:cubicBezTo>
                <a:cubicBezTo>
                  <a:pt x="154" y="316"/>
                  <a:pt x="154" y="316"/>
                  <a:pt x="154" y="316"/>
                </a:cubicBezTo>
                <a:cubicBezTo>
                  <a:pt x="151" y="308"/>
                  <a:pt x="148" y="293"/>
                  <a:pt x="144" y="282"/>
                </a:cubicBezTo>
                <a:cubicBezTo>
                  <a:pt x="141" y="270"/>
                  <a:pt x="152" y="250"/>
                  <a:pt x="152" y="250"/>
                </a:cubicBezTo>
                <a:cubicBezTo>
                  <a:pt x="152" y="250"/>
                  <a:pt x="149" y="253"/>
                  <a:pt x="148" y="273"/>
                </a:cubicBezTo>
                <a:cubicBezTo>
                  <a:pt x="147" y="281"/>
                  <a:pt x="150" y="292"/>
                  <a:pt x="154" y="302"/>
                </a:cubicBezTo>
                <a:cubicBezTo>
                  <a:pt x="154" y="206"/>
                  <a:pt x="154" y="206"/>
                  <a:pt x="154" y="206"/>
                </a:cubicBezTo>
                <a:close/>
                <a:moveTo>
                  <a:pt x="141" y="452"/>
                </a:moveTo>
                <a:cubicBezTo>
                  <a:pt x="141" y="370"/>
                  <a:pt x="141" y="370"/>
                  <a:pt x="141" y="370"/>
                </a:cubicBezTo>
                <a:cubicBezTo>
                  <a:pt x="147" y="357"/>
                  <a:pt x="151" y="350"/>
                  <a:pt x="154" y="346"/>
                </a:cubicBezTo>
                <a:cubicBezTo>
                  <a:pt x="154" y="459"/>
                  <a:pt x="154" y="459"/>
                  <a:pt x="154" y="459"/>
                </a:cubicBezTo>
                <a:cubicBezTo>
                  <a:pt x="153" y="458"/>
                  <a:pt x="152" y="456"/>
                  <a:pt x="152" y="456"/>
                </a:cubicBezTo>
                <a:cubicBezTo>
                  <a:pt x="150" y="450"/>
                  <a:pt x="152" y="439"/>
                  <a:pt x="146" y="442"/>
                </a:cubicBezTo>
                <a:cubicBezTo>
                  <a:pt x="144" y="443"/>
                  <a:pt x="142" y="448"/>
                  <a:pt x="141" y="452"/>
                </a:cubicBezTo>
                <a:close/>
                <a:moveTo>
                  <a:pt x="141" y="197"/>
                </a:moveTo>
                <a:cubicBezTo>
                  <a:pt x="136" y="203"/>
                  <a:pt x="130" y="212"/>
                  <a:pt x="125" y="219"/>
                </a:cubicBezTo>
                <a:cubicBezTo>
                  <a:pt x="116" y="231"/>
                  <a:pt x="116" y="248"/>
                  <a:pt x="116" y="266"/>
                </a:cubicBezTo>
                <a:cubicBezTo>
                  <a:pt x="116" y="284"/>
                  <a:pt x="135" y="309"/>
                  <a:pt x="141" y="314"/>
                </a:cubicBezTo>
                <a:cubicBezTo>
                  <a:pt x="141" y="197"/>
                  <a:pt x="141" y="197"/>
                  <a:pt x="141" y="197"/>
                </a:cubicBezTo>
                <a:close/>
                <a:moveTo>
                  <a:pt x="141" y="331"/>
                </a:moveTo>
                <a:cubicBezTo>
                  <a:pt x="141" y="359"/>
                  <a:pt x="141" y="359"/>
                  <a:pt x="141" y="359"/>
                </a:cubicBezTo>
                <a:cubicBezTo>
                  <a:pt x="136" y="365"/>
                  <a:pt x="132" y="373"/>
                  <a:pt x="130" y="380"/>
                </a:cubicBezTo>
                <a:cubicBezTo>
                  <a:pt x="126" y="397"/>
                  <a:pt x="127" y="417"/>
                  <a:pt x="127" y="417"/>
                </a:cubicBezTo>
                <a:cubicBezTo>
                  <a:pt x="127" y="417"/>
                  <a:pt x="131" y="393"/>
                  <a:pt x="140" y="373"/>
                </a:cubicBezTo>
                <a:cubicBezTo>
                  <a:pt x="140" y="372"/>
                  <a:pt x="141" y="371"/>
                  <a:pt x="141" y="370"/>
                </a:cubicBezTo>
                <a:cubicBezTo>
                  <a:pt x="141" y="452"/>
                  <a:pt x="141" y="452"/>
                  <a:pt x="141" y="452"/>
                </a:cubicBezTo>
                <a:cubicBezTo>
                  <a:pt x="139" y="461"/>
                  <a:pt x="138" y="472"/>
                  <a:pt x="138" y="472"/>
                </a:cubicBezTo>
                <a:cubicBezTo>
                  <a:pt x="138" y="472"/>
                  <a:pt x="104" y="468"/>
                  <a:pt x="99" y="440"/>
                </a:cubicBezTo>
                <a:cubicBezTo>
                  <a:pt x="94" y="411"/>
                  <a:pt x="96" y="395"/>
                  <a:pt x="107" y="381"/>
                </a:cubicBezTo>
                <a:cubicBezTo>
                  <a:pt x="117" y="367"/>
                  <a:pt x="140" y="347"/>
                  <a:pt x="140" y="347"/>
                </a:cubicBezTo>
                <a:cubicBezTo>
                  <a:pt x="140" y="347"/>
                  <a:pt x="135" y="334"/>
                  <a:pt x="127" y="343"/>
                </a:cubicBezTo>
                <a:cubicBezTo>
                  <a:pt x="118" y="351"/>
                  <a:pt x="104" y="378"/>
                  <a:pt x="91" y="385"/>
                </a:cubicBezTo>
                <a:cubicBezTo>
                  <a:pt x="89" y="386"/>
                  <a:pt x="86" y="387"/>
                  <a:pt x="84" y="387"/>
                </a:cubicBezTo>
                <a:cubicBezTo>
                  <a:pt x="84" y="345"/>
                  <a:pt x="84" y="345"/>
                  <a:pt x="84" y="345"/>
                </a:cubicBezTo>
                <a:cubicBezTo>
                  <a:pt x="97" y="344"/>
                  <a:pt x="114" y="341"/>
                  <a:pt x="114" y="341"/>
                </a:cubicBezTo>
                <a:cubicBezTo>
                  <a:pt x="123" y="336"/>
                  <a:pt x="123" y="336"/>
                  <a:pt x="123" y="336"/>
                </a:cubicBezTo>
                <a:cubicBezTo>
                  <a:pt x="123" y="336"/>
                  <a:pt x="104" y="340"/>
                  <a:pt x="84" y="340"/>
                </a:cubicBezTo>
                <a:cubicBezTo>
                  <a:pt x="84" y="288"/>
                  <a:pt x="84" y="288"/>
                  <a:pt x="84" y="288"/>
                </a:cubicBezTo>
                <a:cubicBezTo>
                  <a:pt x="85" y="288"/>
                  <a:pt x="86" y="288"/>
                  <a:pt x="86" y="288"/>
                </a:cubicBezTo>
                <a:cubicBezTo>
                  <a:pt x="100" y="291"/>
                  <a:pt x="113" y="294"/>
                  <a:pt x="119" y="305"/>
                </a:cubicBezTo>
                <a:cubicBezTo>
                  <a:pt x="126" y="315"/>
                  <a:pt x="128" y="326"/>
                  <a:pt x="131" y="328"/>
                </a:cubicBezTo>
                <a:cubicBezTo>
                  <a:pt x="133" y="329"/>
                  <a:pt x="138" y="331"/>
                  <a:pt x="141" y="331"/>
                </a:cubicBezTo>
                <a:close/>
                <a:moveTo>
                  <a:pt x="84" y="288"/>
                </a:moveTo>
                <a:cubicBezTo>
                  <a:pt x="71" y="286"/>
                  <a:pt x="53" y="291"/>
                  <a:pt x="52" y="291"/>
                </a:cubicBezTo>
                <a:cubicBezTo>
                  <a:pt x="50" y="291"/>
                  <a:pt x="42" y="283"/>
                  <a:pt x="42" y="283"/>
                </a:cubicBezTo>
                <a:cubicBezTo>
                  <a:pt x="42" y="283"/>
                  <a:pt x="43" y="286"/>
                  <a:pt x="46" y="290"/>
                </a:cubicBezTo>
                <a:cubicBezTo>
                  <a:pt x="48" y="294"/>
                  <a:pt x="54" y="300"/>
                  <a:pt x="59" y="302"/>
                </a:cubicBezTo>
                <a:cubicBezTo>
                  <a:pt x="63" y="304"/>
                  <a:pt x="81" y="314"/>
                  <a:pt x="81" y="314"/>
                </a:cubicBezTo>
                <a:cubicBezTo>
                  <a:pt x="81" y="314"/>
                  <a:pt x="74" y="313"/>
                  <a:pt x="73" y="313"/>
                </a:cubicBezTo>
                <a:cubicBezTo>
                  <a:pt x="73" y="313"/>
                  <a:pt x="56" y="314"/>
                  <a:pt x="48" y="316"/>
                </a:cubicBezTo>
                <a:cubicBezTo>
                  <a:pt x="40" y="318"/>
                  <a:pt x="35" y="324"/>
                  <a:pt x="33" y="329"/>
                </a:cubicBezTo>
                <a:cubicBezTo>
                  <a:pt x="31" y="334"/>
                  <a:pt x="25" y="335"/>
                  <a:pt x="20" y="335"/>
                </a:cubicBezTo>
                <a:cubicBezTo>
                  <a:pt x="10" y="336"/>
                  <a:pt x="4" y="327"/>
                  <a:pt x="8" y="318"/>
                </a:cubicBezTo>
                <a:cubicBezTo>
                  <a:pt x="9" y="314"/>
                  <a:pt x="11" y="311"/>
                  <a:pt x="11" y="311"/>
                </a:cubicBezTo>
                <a:cubicBezTo>
                  <a:pt x="11" y="311"/>
                  <a:pt x="15" y="313"/>
                  <a:pt x="18" y="312"/>
                </a:cubicBezTo>
                <a:cubicBezTo>
                  <a:pt x="21" y="312"/>
                  <a:pt x="22" y="311"/>
                  <a:pt x="21" y="305"/>
                </a:cubicBezTo>
                <a:cubicBezTo>
                  <a:pt x="19" y="299"/>
                  <a:pt x="12" y="302"/>
                  <a:pt x="10" y="304"/>
                </a:cubicBezTo>
                <a:cubicBezTo>
                  <a:pt x="8" y="307"/>
                  <a:pt x="9" y="310"/>
                  <a:pt x="9" y="310"/>
                </a:cubicBezTo>
                <a:cubicBezTo>
                  <a:pt x="0" y="319"/>
                  <a:pt x="3" y="336"/>
                  <a:pt x="19" y="338"/>
                </a:cubicBezTo>
                <a:cubicBezTo>
                  <a:pt x="19" y="338"/>
                  <a:pt x="19" y="340"/>
                  <a:pt x="25" y="347"/>
                </a:cubicBezTo>
                <a:cubicBezTo>
                  <a:pt x="42" y="369"/>
                  <a:pt x="61" y="356"/>
                  <a:pt x="76" y="365"/>
                </a:cubicBezTo>
                <a:cubicBezTo>
                  <a:pt x="78" y="365"/>
                  <a:pt x="78" y="366"/>
                  <a:pt x="78" y="367"/>
                </a:cubicBezTo>
                <a:cubicBezTo>
                  <a:pt x="75" y="373"/>
                  <a:pt x="64" y="371"/>
                  <a:pt x="55" y="374"/>
                </a:cubicBezTo>
                <a:cubicBezTo>
                  <a:pt x="47" y="376"/>
                  <a:pt x="48" y="388"/>
                  <a:pt x="48" y="388"/>
                </a:cubicBezTo>
                <a:cubicBezTo>
                  <a:pt x="48" y="388"/>
                  <a:pt x="53" y="382"/>
                  <a:pt x="60" y="384"/>
                </a:cubicBezTo>
                <a:cubicBezTo>
                  <a:pt x="65" y="385"/>
                  <a:pt x="74" y="390"/>
                  <a:pt x="84" y="387"/>
                </a:cubicBezTo>
                <a:cubicBezTo>
                  <a:pt x="84" y="345"/>
                  <a:pt x="84" y="345"/>
                  <a:pt x="84" y="345"/>
                </a:cubicBezTo>
                <a:cubicBezTo>
                  <a:pt x="82" y="345"/>
                  <a:pt x="81" y="345"/>
                  <a:pt x="79" y="346"/>
                </a:cubicBezTo>
                <a:cubicBezTo>
                  <a:pt x="66" y="346"/>
                  <a:pt x="46" y="340"/>
                  <a:pt x="46" y="340"/>
                </a:cubicBezTo>
                <a:cubicBezTo>
                  <a:pt x="46" y="340"/>
                  <a:pt x="59" y="340"/>
                  <a:pt x="80" y="340"/>
                </a:cubicBezTo>
                <a:cubicBezTo>
                  <a:pt x="82" y="340"/>
                  <a:pt x="83" y="340"/>
                  <a:pt x="84" y="340"/>
                </a:cubicBezTo>
                <a:lnTo>
                  <a:pt x="84" y="288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6" name="Freeform 1281"/>
          <p:cNvSpPr/>
          <p:nvPr/>
        </p:nvSpPr>
        <p:spPr>
          <a:xfrm>
            <a:off x="2195640" y="134136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7" name="Freeform 1281"/>
          <p:cNvSpPr/>
          <p:nvPr/>
        </p:nvSpPr>
        <p:spPr>
          <a:xfrm>
            <a:off x="2268360" y="141300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8" name="Freeform 1281"/>
          <p:cNvSpPr/>
          <p:nvPr/>
        </p:nvSpPr>
        <p:spPr>
          <a:xfrm>
            <a:off x="8218440" y="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9" name="Freeform 1281"/>
          <p:cNvSpPr/>
          <p:nvPr/>
        </p:nvSpPr>
        <p:spPr>
          <a:xfrm>
            <a:off x="7956720" y="0"/>
            <a:ext cx="925200" cy="817560"/>
          </a:xfrm>
          <a:custGeom>
            <a:avLst/>
            <a:gdLst>
              <a:gd name="textAreaLeft" fmla="*/ 0 w 925200"/>
              <a:gd name="textAreaRight" fmla="*/ 925560 w 92520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0" name="Text Box 29"/>
          <p:cNvSpPr/>
          <p:nvPr/>
        </p:nvSpPr>
        <p:spPr>
          <a:xfrm>
            <a:off x="7169040" y="836640"/>
            <a:ext cx="1521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333333"/>
                </a:solidFill>
                <a:latin typeface="Arial"/>
                <a:ea typeface="长城中行书体"/>
              </a:rPr>
              <a:t>爱</a:t>
            </a:r>
            <a:endParaRPr b="1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1" name="Text Box 31"/>
          <p:cNvSpPr/>
          <p:nvPr/>
        </p:nvSpPr>
        <p:spPr>
          <a:xfrm>
            <a:off x="7164360" y="2205000"/>
            <a:ext cx="1150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5f5f5f"/>
                </a:solidFill>
                <a:latin typeface="Arial"/>
                <a:ea typeface="长城中行书体"/>
              </a:rPr>
              <a:t>莲</a:t>
            </a:r>
            <a:endParaRPr b="1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2" name="Text Box 32"/>
          <p:cNvSpPr/>
          <p:nvPr/>
        </p:nvSpPr>
        <p:spPr>
          <a:xfrm>
            <a:off x="7164360" y="3860640"/>
            <a:ext cx="14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4d4d4d"/>
                </a:solidFill>
                <a:latin typeface="Arial"/>
                <a:ea typeface="长城中行书体"/>
              </a:rPr>
              <a:t>说</a:t>
            </a:r>
            <a:endParaRPr b="1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3" name="Freeform 1281"/>
          <p:cNvSpPr/>
          <p:nvPr/>
        </p:nvSpPr>
        <p:spPr>
          <a:xfrm>
            <a:off x="3995640" y="220500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4" name="Freeform 1281"/>
          <p:cNvSpPr/>
          <p:nvPr/>
        </p:nvSpPr>
        <p:spPr>
          <a:xfrm>
            <a:off x="3780000" y="2349360"/>
            <a:ext cx="925200" cy="817560"/>
          </a:xfrm>
          <a:custGeom>
            <a:avLst/>
            <a:gdLst>
              <a:gd name="textAreaLeft" fmla="*/ 0 w 925200"/>
              <a:gd name="textAreaRight" fmla="*/ 925560 w 92520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05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939636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3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3.17299E-006 C -0.0276 0.13159 -0.05521 0.26342 -0.05955 0.35685 C -0.06389 0.45028 -0.03107 0.50763 -0.02673 0.55944 C -0.02222 0.61124 -0.02205 0.61772 -0.03298 0.6679 C -0.04392 0.71739 -0.08211 0.82655 -0.09218 0.85847 E">
                                      <p:cBhvr>
                                        <p:cTn id="24" dur="7000" fill="hold"/>
                                        <p:tgtEl>
                                          <p:spTgt spid="4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6" repeatCount="2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" dur="5000" fill="hold"/>
                                        <p:tgtEl>
                                          <p:spTgt spid="494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8" repeatCount="2000">
                                  <p:stCondLst>
                                    <p:cond delay="2500"/>
                                  </p:stCondLst>
                                  <p:childTnLst>
                                    <p:animRot by="5400000">
                                      <p:cBhvr>
                                        <p:cTn id="28" dur="3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8" presetSubtype="9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path" presetID="0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-0.04114 0.00347 C -0.05746 0.03959 -0.07378 0.0757 -0.07395 0.10579 C -0.07413 0.13565 -0.05833 0.15394 -0.04253 0.18403 C -0.02673 0.21412 0.00695 0.24398 0.02049 0.28635 C 0.03403 0.32871 0.04323 0.36852 0.03837 0.43773 C 0.03351 0.50718 -0.00017 0.64398 -0.00833 0.70232 C -0.01649 0.76065 -0.01371 0.77431 -0.01093 0.7882 E">
                                      <p:cBhvr>
                                        <p:cTn id="33" dur="6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35" dur="2000" fill="hold"/>
                                        <p:tgtEl>
                                          <p:spTgt spid="496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36" nodeType="withEffect" fill="hold" presetClass="emph" presetID="8">
                                  <p:stCondLst>
                                    <p:cond delay="2500"/>
                                  </p:stCondLst>
                                  <p:childTnLst>
                                    <p:animRot by="10800000">
                                      <p:cBhvr>
                                        <p:cTn id="37" dur="2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0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0.02361 -0.01757 C -0.01042 0.0821 -0.04427 0.1827 -0.04983 0.2537 C -0.05503 0.3247 -0.01458 0.36864 -0.00903 0.40842 C -0.00382 0.44751 -0.00347 0.45236 -0.01684 0.49052 C -0.03055 0.52845 -0.07726 0.61171 -0.08993 0.63622 E">
                                      <p:cBhvr>
                                        <p:cTn id="42" dur="7000" fill="hold"/>
                                        <p:tgtEl>
                                          <p:spTgt spid="4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44" dur="3000" fill="hold"/>
                                        <p:tgtEl>
                                          <p:spTgt spid="497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8">
                                  <p:stCondLst>
                                    <p:cond delay="2500"/>
                                  </p:stCondLst>
                                  <p:childTnLst>
                                    <p:animRot by="5400000">
                                      <p:cBhvr>
                                        <p:cTn id="46" dur="2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0">
                                  <p:stCondLst>
                                    <p:cond delay="8500"/>
                                  </p:stCondLst>
                                  <p:childTnLst>
                                    <p:animMotion origin="layout" path="M -0.0007 4.29232E-006 C 0.01892 0.07261 0.03836 0.14569 0.03923 0.25439 C 0.04045 0.36285 0.02569 0.54417 0.00503 0.65124 C -0.0158 0.75809 -0.06823 0.85198 -0.08559 0.89569 C -0.10278 0.93963 -0.1 0.90957 -0.09896 0.91373 E">
                                      <p:cBhvr>
                                        <p:cTn id="51" dur="4500" fill="hold"/>
                                        <p:tgtEl>
                                          <p:spTgt spid="4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53" dur="3000" fill="hold"/>
                                        <p:tgtEl>
                                          <p:spTgt spid="498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8">
                                  <p:stCondLst>
                                    <p:cond delay="2500"/>
                                  </p:stCondLst>
                                  <p:childTnLst>
                                    <p:animRot by="-10799880">
                                      <p:cBhvr>
                                        <p:cTn id="55" dur="2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0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-0.02205 4.29232E-006 C -0.03472 0.06151 -0.0474 0.12372 -0.04809 0.21554 C -0.04844 0.30758 -0.03941 0.46137 -0.02604 0.55203 C -0.0125 0.64269 0.02135 0.72247 0.03264 0.75948 C 0.04392 0.79671 0.04201 0.77104 0.04115 0.77474 E">
                                      <p:cBhvr>
                                        <p:cTn id="60" dur="4500" fill="hold"/>
                                        <p:tgtEl>
                                          <p:spTgt spid="4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62" dur="4500" fill="hold"/>
                                        <p:tgtEl>
                                          <p:spTgt spid="499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8">
                                  <p:stCondLst>
                                    <p:cond delay="2500"/>
                                  </p:stCondLst>
                                  <p:childTnLst>
                                    <p:animRot by="-10799880">
                                      <p:cBhvr>
                                        <p:cTn id="64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0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0.03559 0.03495 C 0.05364 0.10138 0.0717 0.16782 0.07257 0.26666 C 0.07343 0.3655 0.06007 0.53055 0.04097 0.628 C 0.02187 0.72523 -0.02657 0.81087 -0.04254 0.85069 C -0.05851 0.8905 -0.05591 0.86319 -0.05486 0.86712 E">
                                      <p:cBhvr>
                                        <p:cTn id="69" dur="4500" fill="hold"/>
                                        <p:tgtEl>
                                          <p:spTgt spid="5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" nodeType="withEffect" fill="hold" presetClass="emph" presetID="6" repeatCount="2000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71" dur="2000" fill="hold"/>
                                        <p:tgtEl>
                                          <p:spTgt spid="503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8" repeatCount="2000">
                                  <p:stCondLst>
                                    <p:cond delay="2500"/>
                                  </p:stCondLst>
                                  <p:childTnLst>
                                    <p:animRot by="-10799880">
                                      <p:cBhvr>
                                        <p:cTn id="73" dur="2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0">
                                  <p:stCondLst>
                                    <p:cond delay="12000"/>
                                  </p:stCondLst>
                                  <p:childTnLst>
                                    <p:animMotion origin="layout" path="M -2.77778E-007 -3.88529E-007 C -0.00712 0.12974 -0.01424 0.25971 -0.01528 0.35245 C -0.01649 0.4445 -0.00799 0.50116 -0.00694 0.55204 C -0.00573 0.60338 -0.00573 0.61008 -0.00851 0.65911 C -0.01128 0.70814 -0.02101 0.81614 -0.02361 0.8476 E">
                                      <p:cBhvr>
                                        <p:cTn id="78" dur="7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80" dur="2000" fill="hold"/>
                                        <p:tgtEl>
                                          <p:spTgt spid="504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8">
                                  <p:stCondLst>
                                    <p:cond delay="2500"/>
                                  </p:stCondLst>
                                  <p:childTnLst>
                                    <p:animRot by="5400000">
                                      <p:cBhvr>
                                        <p:cTn id="82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5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9"/>
          <p:cNvSpPr/>
          <p:nvPr/>
        </p:nvSpPr>
        <p:spPr>
          <a:xfrm>
            <a:off x="0" y="1341360"/>
            <a:ext cx="2736720" cy="34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cc"/>
                </a:solidFill>
                <a:latin typeface="Arial"/>
                <a:ea typeface="宋体"/>
              </a:rPr>
              <a:t>作者简介：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cc"/>
                </a:solidFill>
                <a:latin typeface="Arial"/>
                <a:ea typeface="宋体"/>
              </a:rPr>
              <a:t>周敦颐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1800" spc="-1" strike="noStrike">
              <a:solidFill>
                <a:srgbClr val="cce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  <a:ea typeface="宋体"/>
              </a:rPr>
              <a:t>     </a:t>
            </a:r>
            <a:r>
              <a:rPr b="1" lang="zh-CN" sz="1800" spc="-1" strike="noStrike">
                <a:solidFill>
                  <a:srgbClr val="99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bbe0e3"/>
                </a:solidFill>
                <a:latin typeface="Arial"/>
                <a:ea typeface="宋体"/>
              </a:rPr>
              <a:t>宋代道洲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  <a:ea typeface="宋体"/>
              </a:rPr>
              <a:t>(</a:t>
            </a:r>
            <a:r>
              <a:rPr b="0" lang="zh-CN" sz="2400" spc="-1" strike="noStrike">
                <a:solidFill>
                  <a:srgbClr val="bbe0e3"/>
                </a:solidFill>
                <a:latin typeface="Arial"/>
                <a:ea typeface="宋体"/>
              </a:rPr>
              <a:t>现在湖南省道县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  <a:ea typeface="宋体"/>
              </a:rPr>
              <a:t>)</a:t>
            </a:r>
            <a:r>
              <a:rPr b="0" lang="zh-CN" sz="2400" spc="-1" strike="noStrike">
                <a:solidFill>
                  <a:srgbClr val="bbe0e3"/>
                </a:solidFill>
                <a:latin typeface="Arial"/>
                <a:ea typeface="宋体"/>
              </a:rPr>
              <a:t>人，字茂叔，哲学家，因他世居道县濂溪，后居庐山莲花峰前，峰下有溪，也命名为濂溪，学者就称他为濂溪先生</a:t>
            </a:r>
            <a:r>
              <a:rPr b="0" lang="zh-CN" sz="2400" spc="-1" strike="noStrike">
                <a:solidFill>
                  <a:srgbClr val="006600"/>
                </a:solidFill>
                <a:latin typeface="Arial"/>
                <a:ea typeface="宋体"/>
              </a:rPr>
              <a:t>。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542" name="Group 3"/>
          <p:cNvGrpSpPr/>
          <p:nvPr/>
        </p:nvGrpSpPr>
        <p:grpSpPr>
          <a:xfrm>
            <a:off x="3552840" y="1628640"/>
            <a:ext cx="5590800" cy="4038840"/>
            <a:chOff x="3552840" y="1628640"/>
            <a:chExt cx="5590800" cy="4038840"/>
          </a:xfrm>
        </p:grpSpPr>
        <p:sp>
          <p:nvSpPr>
            <p:cNvPr id="543" name="Text Box 11"/>
            <p:cNvSpPr/>
            <p:nvPr/>
          </p:nvSpPr>
          <p:spPr>
            <a:xfrm>
              <a:off x="8472960" y="1628640"/>
              <a:ext cx="670680" cy="40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ccecff"/>
                </a:solidFill>
                <a:latin typeface="Arial"/>
              </a:endParaRPr>
            </a:p>
          </p:txBody>
        </p:sp>
        <p:pic>
          <p:nvPicPr>
            <p:cNvPr id="544" name="Picture 12" descr="周敦颐"/>
            <p:cNvPicPr/>
            <p:nvPr/>
          </p:nvPicPr>
          <p:blipFill>
            <a:blip r:embed="rId2"/>
            <a:stretch/>
          </p:blipFill>
          <p:spPr>
            <a:xfrm>
              <a:off x="3552840" y="1753200"/>
              <a:ext cx="2136960" cy="37292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1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5"/>
          <p:cNvSpPr/>
          <p:nvPr/>
        </p:nvSpPr>
        <p:spPr>
          <a:xfrm>
            <a:off x="324000" y="404640"/>
            <a:ext cx="5040000" cy="14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                          </a:t>
            </a:r>
            <a:r>
              <a:rPr b="1" lang="zh-CN" sz="2800" spc="-1" strike="noStrike">
                <a:solidFill>
                  <a:srgbClr val="00ccff"/>
                </a:solidFill>
                <a:latin typeface="Arial"/>
                <a:ea typeface="宋体"/>
              </a:rPr>
              <a:t>文学常识：</a:t>
            </a:r>
            <a:br>
              <a:rPr sz="1800"/>
            </a:b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a1f9fd"/>
                </a:solidFill>
                <a:latin typeface="Arial"/>
                <a:ea typeface="宋体"/>
              </a:rPr>
              <a:t>“</a:t>
            </a:r>
            <a:r>
              <a:rPr b="1" lang="zh-CN" sz="2800" spc="-1" strike="noStrike">
                <a:solidFill>
                  <a:srgbClr val="a1f9fd"/>
                </a:solidFill>
                <a:latin typeface="Arial"/>
                <a:ea typeface="宋体"/>
              </a:rPr>
              <a:t>说”是议论文的一种文体，可以说明事物或论述道理，也可以借人借事或借物来论述道理。</a:t>
            </a:r>
            <a:r>
              <a:rPr b="1" lang="en-US" sz="2800" spc="-1" strike="noStrike">
                <a:solidFill>
                  <a:srgbClr val="a1f9fd"/>
                </a:solidFill>
                <a:latin typeface="Arial"/>
                <a:ea typeface="宋体"/>
              </a:rPr>
              <a:t>《</a:t>
            </a:r>
            <a:r>
              <a:rPr b="1" lang="zh-CN" sz="2800" spc="-1" strike="noStrike">
                <a:solidFill>
                  <a:srgbClr val="a1f9fd"/>
                </a:solidFill>
                <a:latin typeface="Arial"/>
                <a:ea typeface="宋体"/>
              </a:rPr>
              <a:t>爱莲说</a:t>
            </a:r>
            <a:r>
              <a:rPr b="1" lang="en-US" sz="2800" spc="-1" strike="noStrike">
                <a:solidFill>
                  <a:srgbClr val="a1f9fd"/>
                </a:solidFill>
                <a:latin typeface="Arial"/>
                <a:ea typeface="宋体"/>
              </a:rPr>
              <a:t>》</a:t>
            </a:r>
            <a:r>
              <a:rPr b="1" lang="zh-CN" sz="2800" spc="-1" strike="noStrike">
                <a:solidFill>
                  <a:srgbClr val="a1f9fd"/>
                </a:solidFill>
                <a:latin typeface="Arial"/>
                <a:ea typeface="宋体"/>
              </a:rPr>
              <a:t>说爱好莲花，就是说问题。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 Box 6"/>
          <p:cNvSpPr/>
          <p:nvPr/>
        </p:nvSpPr>
        <p:spPr>
          <a:xfrm>
            <a:off x="611280" y="549360"/>
            <a:ext cx="65530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水陆草木</a:t>
            </a:r>
            <a:r>
              <a:rPr b="1" lang="zh-CN" sz="2800" spc="-1" strike="noStrike" u="sng">
                <a:solidFill>
                  <a:srgbClr val="ffcccc"/>
                </a:solidFill>
                <a:uFillTx/>
                <a:latin typeface="Arial"/>
                <a:ea typeface="宋体"/>
              </a:rPr>
              <a:t>之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花，可爱者甚</a:t>
            </a:r>
            <a:r>
              <a:rPr b="1" lang="zh-CN" sz="2800" spc="-1" strike="noStrike" u="sng">
                <a:solidFill>
                  <a:srgbClr val="ffcccc"/>
                </a:solidFill>
                <a:uFillTx/>
                <a:latin typeface="Arial"/>
                <a:ea typeface="宋体"/>
              </a:rPr>
              <a:t>蕃（</a:t>
            </a:r>
            <a:r>
              <a:rPr b="1" lang="en-US" sz="2800" spc="-1" strike="noStrike" u="sng">
                <a:solidFill>
                  <a:srgbClr val="ffcccc"/>
                </a:solidFill>
                <a:uFillTx/>
                <a:latin typeface="Arial"/>
                <a:ea typeface="宋体"/>
              </a:rPr>
              <a:t>fán</a:t>
            </a:r>
            <a:r>
              <a:rPr b="1" lang="zh-CN" sz="2800" spc="-1" strike="noStrike" u="sng">
                <a:solidFill>
                  <a:srgbClr val="ffcccc"/>
                </a:solidFill>
                <a:uFillTx/>
                <a:latin typeface="Arial"/>
                <a:ea typeface="宋体"/>
              </a:rPr>
              <a:t>）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。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ffcccc"/>
                </a:solidFill>
                <a:latin typeface="Arial"/>
                <a:ea typeface="宋体"/>
              </a:rPr>
              <a:t>的                      多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晋陶渊明</a:t>
            </a:r>
            <a:r>
              <a:rPr b="1" lang="zh-CN" sz="2800" spc="-1" strike="noStrike" u="sng">
                <a:solidFill>
                  <a:srgbClr val="ffcccc"/>
                </a:solidFill>
                <a:uFillTx/>
                <a:latin typeface="Arial"/>
                <a:ea typeface="宋体"/>
              </a:rPr>
              <a:t>独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爱菊。</a:t>
            </a:r>
            <a:r>
              <a:rPr b="1" lang="zh-CN" sz="2800" spc="-1" strike="noStrike" u="sng">
                <a:solidFill>
                  <a:srgbClr val="ffcccc"/>
                </a:solidFill>
                <a:uFillTx/>
                <a:latin typeface="Arial"/>
                <a:ea typeface="宋体"/>
              </a:rPr>
              <a:t>自 </a:t>
            </a:r>
            <a:r>
              <a:rPr b="1" lang="zh-CN" sz="2800" spc="-1" strike="noStrike">
                <a:solidFill>
                  <a:srgbClr val="ffcccc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 u="sng">
                <a:solidFill>
                  <a:srgbClr val="ffcccc"/>
                </a:solidFill>
                <a:uFillTx/>
                <a:latin typeface="Arial"/>
                <a:ea typeface="宋体"/>
              </a:rPr>
              <a:t>李唐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来，世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             </a:t>
            </a:r>
            <a:r>
              <a:rPr b="1" lang="zh-CN" sz="2800" spc="-1" strike="noStrike">
                <a:solidFill>
                  <a:srgbClr val="ffcccc"/>
                </a:solidFill>
                <a:latin typeface="Arial"/>
                <a:ea typeface="宋体"/>
              </a:rPr>
              <a:t>只           从     唐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人甚爱牡丹。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8" name="Text Box 7"/>
          <p:cNvSpPr/>
          <p:nvPr/>
        </p:nvSpPr>
        <p:spPr>
          <a:xfrm>
            <a:off x="611280" y="393372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bbe0e3"/>
                </a:solidFill>
                <a:latin typeface="Arial"/>
              </a:rPr>
              <a:t>水上、地上各种花草树木，可爱的品种有很多。晋朝的陶渊明只喜爱菊花。从唐代开始，大多数都非常喜欢牡丹。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67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2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5" descr="200898212428542_2"/>
          <p:cNvPicPr/>
          <p:nvPr/>
        </p:nvPicPr>
        <p:blipFill>
          <a:blip r:embed="rId1"/>
          <a:stretch/>
        </p:blipFill>
        <p:spPr>
          <a:xfrm>
            <a:off x="0" y="-2041560"/>
            <a:ext cx="9325080" cy="10007640"/>
          </a:xfrm>
          <a:prstGeom prst="rect">
            <a:avLst/>
          </a:prstGeom>
          <a:ln w="0">
            <a:noFill/>
          </a:ln>
        </p:spPr>
      </p:pic>
      <p:sp>
        <p:nvSpPr>
          <p:cNvPr id="550" name="Text Box 6"/>
          <p:cNvSpPr/>
          <p:nvPr/>
        </p:nvSpPr>
        <p:spPr>
          <a:xfrm>
            <a:off x="684360" y="476280"/>
            <a:ext cx="532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1" name="Text Box 7"/>
          <p:cNvSpPr/>
          <p:nvPr/>
        </p:nvSpPr>
        <p:spPr>
          <a:xfrm>
            <a:off x="0" y="0"/>
            <a:ext cx="9325080" cy="33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 u="sng">
                <a:solidFill>
                  <a:srgbClr val="ffcccc"/>
                </a:solidFill>
                <a:uFillTx/>
                <a:latin typeface="Arial"/>
                <a:ea typeface="宋体"/>
              </a:rPr>
              <a:t>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独爱莲之出淤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y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ū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）泥而不</a:t>
            </a:r>
            <a:r>
              <a:rPr b="1" lang="zh-CN" sz="2400" spc="-1" strike="noStrike" u="sng">
                <a:solidFill>
                  <a:srgbClr val="ffcccc"/>
                </a:solidFill>
                <a:uFillTx/>
                <a:latin typeface="Arial"/>
                <a:ea typeface="宋体"/>
              </a:rPr>
              <a:t>染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，</a:t>
            </a:r>
            <a:r>
              <a:rPr b="1" lang="zh-CN" sz="2400" spc="-1" strike="noStrike" u="sng">
                <a:solidFill>
                  <a:srgbClr val="ffcccc"/>
                </a:solidFill>
                <a:uFillTx/>
                <a:latin typeface="Arial"/>
                <a:ea typeface="宋体"/>
              </a:rPr>
              <a:t>濯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zhu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ō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）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清涟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li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ā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n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）而不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1" lang="zh-CN" sz="2400" spc="-1" strike="noStrike">
                <a:solidFill>
                  <a:srgbClr val="ffcccc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ffcccc"/>
                </a:solidFill>
                <a:latin typeface="Arial"/>
                <a:ea typeface="宋体"/>
              </a:rPr>
              <a:t>我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        </a:t>
            </a:r>
            <a:r>
              <a:rPr b="1" lang="zh-CN" sz="2400" spc="-1" strike="noStrike">
                <a:solidFill>
                  <a:srgbClr val="ffcccc"/>
                </a:solidFill>
                <a:latin typeface="Arial"/>
                <a:ea typeface="宋体"/>
              </a:rPr>
              <a:t>污染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1" lang="zh-CN" sz="2400" spc="-1" strike="noStrike">
                <a:solidFill>
                  <a:srgbClr val="ffcccc"/>
                </a:solidFill>
                <a:latin typeface="Arial"/>
                <a:ea typeface="宋体"/>
              </a:rPr>
              <a:t>洗涤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妖， 中通外直，不蔓不枝，香远益清，亭亭净植，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可远观而不可</a:t>
            </a:r>
            <a:r>
              <a:rPr b="1" lang="zh-CN" sz="2400" spc="-1" strike="noStrike" u="sng">
                <a:solidFill>
                  <a:srgbClr val="ffcccc"/>
                </a:solidFill>
                <a:uFillTx/>
                <a:latin typeface="Arial"/>
                <a:ea typeface="宋体"/>
              </a:rPr>
              <a:t>亵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xi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è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）玩焉。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</a:t>
            </a:r>
            <a:r>
              <a:rPr b="1" lang="zh-CN" sz="2400" spc="-1" strike="noStrike">
                <a:solidFill>
                  <a:srgbClr val="ffcccc"/>
                </a:solidFill>
                <a:latin typeface="Arial"/>
                <a:ea typeface="宋体"/>
              </a:rPr>
              <a:t>亲近而不庄重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2" name="Text Box 8"/>
          <p:cNvSpPr/>
          <p:nvPr/>
        </p:nvSpPr>
        <p:spPr>
          <a:xfrm>
            <a:off x="468360" y="4292640"/>
            <a:ext cx="561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be0e3"/>
                </a:solidFill>
                <a:latin typeface="Arial"/>
              </a:rPr>
              <a:t>我喜爱荷花，因为它生于淤泥中，却没有被淤泥污染，经过清水洗涤却并不显得妖艳，莲花的叶柄中间是空的，外面是直的，不牵牵连连，不枝枝节节的，它的香味传得越远越幽香，笔直的挺立在那里，只可以远远地观赏它而不能随心的把玩。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4" descr="f7f77dde54f68182b6fd48aa"/>
          <p:cNvPicPr/>
          <p:nvPr/>
        </p:nvPicPr>
        <p:blipFill>
          <a:blip r:embed="rId1"/>
          <a:stretch/>
        </p:blipFill>
        <p:spPr>
          <a:xfrm>
            <a:off x="-322200" y="0"/>
            <a:ext cx="9862920" cy="6858000"/>
          </a:xfrm>
          <a:prstGeom prst="rect">
            <a:avLst/>
          </a:prstGeom>
          <a:ln w="0">
            <a:noFill/>
          </a:ln>
        </p:spPr>
      </p:pic>
      <p:sp>
        <p:nvSpPr>
          <p:cNvPr id="554" name="Text Box 5"/>
          <p:cNvSpPr/>
          <p:nvPr/>
        </p:nvSpPr>
        <p:spPr>
          <a:xfrm>
            <a:off x="900000" y="1052640"/>
            <a:ext cx="86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宋体"/>
              </a:rPr>
              <a:t>       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5" name="AutoShape 7"/>
          <p:cNvSpPr/>
          <p:nvPr/>
        </p:nvSpPr>
        <p:spPr>
          <a:xfrm>
            <a:off x="900000" y="4221000"/>
            <a:ext cx="6624720" cy="1656000"/>
          </a:xfrm>
          <a:prstGeom prst="wedgeRoundRectCallout">
            <a:avLst>
              <a:gd name="adj1" fmla="val -43750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6" name="AutoShape 8"/>
          <p:cNvSpPr/>
          <p:nvPr/>
        </p:nvSpPr>
        <p:spPr>
          <a:xfrm>
            <a:off x="2195640" y="3500280"/>
            <a:ext cx="4032000" cy="208944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7" name="Oval 9"/>
          <p:cNvSpPr/>
          <p:nvPr/>
        </p:nvSpPr>
        <p:spPr>
          <a:xfrm>
            <a:off x="-322200" y="4326120"/>
            <a:ext cx="9862920" cy="1436400"/>
          </a:xfrm>
          <a:prstGeom prst="ellipse">
            <a:avLst/>
          </a:prstGeom>
          <a:gradFill rotWithShape="0">
            <a:gsLst>
              <a:gs pos="0">
                <a:srgbClr val="a1c1c4">
                  <a:alpha val="76078"/>
                </a:srgbClr>
              </a:gs>
              <a:gs pos="100000">
                <a:srgbClr val="bbe0e3">
                  <a:alpha val="35294"/>
                </a:srgbClr>
              </a:gs>
            </a:gsLst>
            <a:path path="rect">
              <a:fillToRect l="50000" t="50000" r="50000" b="50000"/>
            </a:path>
          </a:gra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我认为菊花，它是花中的隐士；牡丹，在百花中象征着富贵；莲花，则是花中的君子。哎！喜欢菊花的人，在陶渊明以后就很少听到了；喜欢莲花的人，跟我一样的还有谁；喜欢牡丹的，当然很多啦。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558" name="Group 7"/>
          <p:cNvGrpSpPr/>
          <p:nvPr/>
        </p:nvGrpSpPr>
        <p:grpSpPr>
          <a:xfrm>
            <a:off x="469800" y="755640"/>
            <a:ext cx="8497800" cy="2494080"/>
            <a:chOff x="469800" y="755640"/>
            <a:chExt cx="8497800" cy="2494080"/>
          </a:xfrm>
        </p:grpSpPr>
        <p:pic>
          <p:nvPicPr>
            <p:cNvPr id="559" name="Rectangle 10" descr=""/>
            <p:cNvPicPr/>
            <p:nvPr/>
          </p:nvPicPr>
          <p:blipFill>
            <a:blip r:embed="rId2"/>
            <a:stretch/>
          </p:blipFill>
          <p:spPr>
            <a:xfrm>
              <a:off x="470880" y="820440"/>
              <a:ext cx="849672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Text Box 9"/>
            <p:cNvSpPr/>
            <p:nvPr/>
          </p:nvSpPr>
          <p:spPr>
            <a:xfrm>
              <a:off x="469800" y="755640"/>
              <a:ext cx="8494920" cy="249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00"/>
                  </a:solidFill>
                  <a:latin typeface="Arial"/>
                </a:rPr>
                <a:t>予谓菊，花之隐逸者也；牡丹，花之富贵者也；莲，花之君子者也。噫！菊之爱，    陶后</a:t>
              </a:r>
              <a:r>
                <a:rPr b="1" lang="zh-CN" sz="2400" spc="-1" strike="noStrike" u="sng">
                  <a:solidFill>
                    <a:srgbClr val="cc0099"/>
                  </a:solidFill>
                  <a:uFillTx/>
                  <a:latin typeface="Arial"/>
                </a:rPr>
                <a:t>鲜</a:t>
              </a:r>
              <a:r>
                <a:rPr b="1" lang="zh-CN" sz="2400" spc="-1" strike="noStrike">
                  <a:solidFill>
                    <a:srgbClr val="cc0099"/>
                  </a:solidFill>
                  <a:latin typeface="Arial"/>
                </a:rPr>
                <a:t>（</a:t>
              </a:r>
              <a:r>
                <a:rPr b="1" lang="en-US" sz="2400" spc="-1" strike="noStrike">
                  <a:solidFill>
                    <a:srgbClr val="cc0099"/>
                  </a:solidFill>
                  <a:latin typeface="Arial"/>
                </a:rPr>
                <a:t>xiǎn</a:t>
              </a:r>
              <a:r>
                <a:rPr b="1" lang="zh-CN" sz="2400" spc="-1" strike="noStrike">
                  <a:solidFill>
                    <a:srgbClr val="cc0099"/>
                  </a:solidFill>
                  <a:latin typeface="Arial"/>
                </a:rPr>
                <a:t>）</a:t>
              </a:r>
              <a:r>
                <a:rPr b="1" lang="zh-CN" sz="2400" spc="-1" strike="noStrike">
                  <a:solidFill>
                    <a:srgbClr val="ff9900"/>
                  </a:solidFill>
                  <a:latin typeface="Arial"/>
                </a:rPr>
                <a:t>有闻；莲之爱，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          </a:t>
              </a:r>
              <a:endParaRPr b="1" lang="en-US" sz="2400" spc="-1" strike="noStrike">
                <a:solidFill>
                  <a:srgbClr val="ccecff"/>
                </a:solidFill>
                <a:latin typeface="Arial"/>
              </a:endParaRPr>
            </a:p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                                             </a:t>
              </a:r>
              <a:r>
                <a:rPr b="1" lang="zh-CN" sz="2400" spc="-1" strike="noStrike" u="sng">
                  <a:solidFill>
                    <a:srgbClr val="cc0099"/>
                  </a:solidFill>
                  <a:uFillTx/>
                  <a:latin typeface="Arial"/>
                </a:rPr>
                <a:t>很少</a:t>
              </a:r>
              <a:endParaRPr b="1" lang="en-US" sz="2400" spc="-1" strike="noStrike">
                <a:solidFill>
                  <a:srgbClr val="ccecff"/>
                </a:solidFill>
                <a:latin typeface="Arial"/>
              </a:endParaRPr>
            </a:p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00"/>
                  </a:solidFill>
                  <a:latin typeface="Arial"/>
                </a:rPr>
                <a:t>同予者何人；牡丹之爱，宜乎众矣。</a:t>
              </a:r>
              <a:endParaRPr b="1" lang="en-US" sz="2400" spc="-1" strike="noStrike">
                <a:solidFill>
                  <a:srgbClr val="ccecff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8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5" descr="143ca32379c53e78d50742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Text Box 6"/>
          <p:cNvSpPr/>
          <p:nvPr/>
        </p:nvSpPr>
        <p:spPr>
          <a:xfrm>
            <a:off x="0" y="476280"/>
            <a:ext cx="7848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00"/>
                </a:solidFill>
                <a:latin typeface="Arial"/>
                <a:ea typeface="宋体"/>
              </a:rPr>
              <a:t>一、熟读课文出描写莲的语句，并思考作者是从哪几个方面进行描写的。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563" name="Group 4"/>
          <p:cNvGrpSpPr/>
          <p:nvPr/>
        </p:nvGrpSpPr>
        <p:grpSpPr>
          <a:xfrm>
            <a:off x="4246560" y="2060640"/>
            <a:ext cx="4897080" cy="4168800"/>
            <a:chOff x="4246560" y="2060640"/>
            <a:chExt cx="4897080" cy="4168800"/>
          </a:xfrm>
        </p:grpSpPr>
        <p:sp>
          <p:nvSpPr>
            <p:cNvPr id="564" name="Text Box 8"/>
            <p:cNvSpPr/>
            <p:nvPr/>
          </p:nvSpPr>
          <p:spPr>
            <a:xfrm>
              <a:off x="4246560" y="2060640"/>
              <a:ext cx="48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66"/>
                  </a:solidFill>
                  <a:latin typeface="Arial"/>
                </a:rPr>
                <a:t>出淤泥而不染，濯清涟而不妖</a:t>
              </a:r>
              <a:endParaRPr b="1" lang="en-US" sz="2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65" name="Text Box 9"/>
            <p:cNvSpPr/>
            <p:nvPr/>
          </p:nvSpPr>
          <p:spPr>
            <a:xfrm>
              <a:off x="4246560" y="3175200"/>
              <a:ext cx="446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66"/>
                  </a:solidFill>
                  <a:latin typeface="Arial"/>
                </a:rPr>
                <a:t>中通外直不蔓不枝</a:t>
              </a:r>
              <a:endParaRPr b="1" lang="en-US" sz="2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66" name="Text Box 10"/>
            <p:cNvSpPr/>
            <p:nvPr/>
          </p:nvSpPr>
          <p:spPr>
            <a:xfrm>
              <a:off x="4246560" y="4390560"/>
              <a:ext cx="424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66"/>
                  </a:solidFill>
                  <a:latin typeface="Arial"/>
                </a:rPr>
                <a:t>香远益清</a:t>
              </a:r>
              <a:endParaRPr b="1" lang="en-US" sz="2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67" name="Text Box 11"/>
            <p:cNvSpPr/>
            <p:nvPr/>
          </p:nvSpPr>
          <p:spPr>
            <a:xfrm>
              <a:off x="4246560" y="5708880"/>
              <a:ext cx="228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66"/>
                  </a:solidFill>
                  <a:latin typeface="Arial"/>
                </a:rPr>
                <a:t>亭亭净植</a:t>
              </a:r>
              <a:endParaRPr b="1" lang="en-US" sz="2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568" name="Group 9"/>
          <p:cNvGrpSpPr/>
          <p:nvPr/>
        </p:nvGrpSpPr>
        <p:grpSpPr>
          <a:xfrm>
            <a:off x="6372360" y="2708280"/>
            <a:ext cx="4031640" cy="3702600"/>
            <a:chOff x="6372360" y="2708280"/>
            <a:chExt cx="4031640" cy="3702600"/>
          </a:xfrm>
        </p:grpSpPr>
        <p:sp>
          <p:nvSpPr>
            <p:cNvPr id="569" name="Text Box 13"/>
            <p:cNvSpPr/>
            <p:nvPr/>
          </p:nvSpPr>
          <p:spPr>
            <a:xfrm>
              <a:off x="6372360" y="2708280"/>
              <a:ext cx="36576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0000"/>
                  </a:solidFill>
                  <a:latin typeface="Arial"/>
                  <a:ea typeface="宋体"/>
                </a:rPr>
                <a:t>—— </a:t>
              </a:r>
              <a:r>
                <a:rPr b="1" lang="zh-CN" sz="2500" spc="-1" strike="noStrike">
                  <a:solidFill>
                    <a:srgbClr val="ff0000"/>
                  </a:solidFill>
                  <a:latin typeface="Arial"/>
                  <a:ea typeface="宋体"/>
                </a:rPr>
                <a:t>生长环境</a:t>
              </a:r>
              <a:endParaRPr b="1" lang="en-US" sz="25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70" name="Text Box 14"/>
            <p:cNvSpPr/>
            <p:nvPr/>
          </p:nvSpPr>
          <p:spPr>
            <a:xfrm>
              <a:off x="6372360" y="3783600"/>
              <a:ext cx="40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—— 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形体姿态</a:t>
              </a:r>
              <a:endParaRPr b="1" lang="en-US" sz="2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71" name="Text Box 15"/>
            <p:cNvSpPr/>
            <p:nvPr/>
          </p:nvSpPr>
          <p:spPr>
            <a:xfrm>
              <a:off x="6372360" y="4860720"/>
              <a:ext cx="37526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0000"/>
                  </a:solidFill>
                  <a:latin typeface="Arial"/>
                  <a:ea typeface="宋体"/>
                </a:rPr>
                <a:t>—— </a:t>
              </a:r>
              <a:r>
                <a:rPr b="1" lang="zh-CN" sz="2500" spc="-1" strike="noStrike">
                  <a:solidFill>
                    <a:srgbClr val="ff0000"/>
                  </a:solidFill>
                  <a:latin typeface="Arial"/>
                  <a:ea typeface="宋体"/>
                </a:rPr>
                <a:t>香味</a:t>
              </a:r>
              <a:endParaRPr b="1" lang="en-US" sz="25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72" name="Text Box 16"/>
            <p:cNvSpPr/>
            <p:nvPr/>
          </p:nvSpPr>
          <p:spPr>
            <a:xfrm>
              <a:off x="6372360" y="5936040"/>
              <a:ext cx="37526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0000"/>
                  </a:solidFill>
                  <a:latin typeface="Arial"/>
                  <a:ea typeface="宋体"/>
                </a:rPr>
                <a:t>—— </a:t>
              </a:r>
              <a:r>
                <a:rPr b="1" lang="zh-CN" sz="2500" spc="-1" strike="noStrike">
                  <a:solidFill>
                    <a:srgbClr val="ff0000"/>
                  </a:solidFill>
                  <a:latin typeface="Arial"/>
                  <a:ea typeface="宋体"/>
                </a:rPr>
                <a:t>气质</a:t>
              </a:r>
              <a:endParaRPr b="1" lang="en-US" sz="25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573" name="Text Box 17"/>
          <p:cNvSpPr/>
          <p:nvPr/>
        </p:nvSpPr>
        <p:spPr>
          <a:xfrm>
            <a:off x="826920" y="765000"/>
            <a:ext cx="64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Arial"/>
                <a:ea typeface="宋体"/>
              </a:rPr>
              <a:t>二、通过以上这些描写，请概括出莲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  <a:ea typeface="宋体"/>
              </a:rPr>
              <a:t>`</a:t>
            </a:r>
            <a:r>
              <a:rPr b="1" lang="zh-CN" sz="3200" spc="-1" strike="noStrike">
                <a:solidFill>
                  <a:srgbClr val="333300"/>
                </a:solidFill>
                <a:latin typeface="Arial"/>
                <a:ea typeface="宋体"/>
              </a:rPr>
              <a:t>花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  <a:ea typeface="宋体"/>
              </a:rPr>
              <a:t>``</a:t>
            </a:r>
            <a:r>
              <a:rPr b="1" lang="zh-CN" sz="3200" spc="-1" strike="noStrike">
                <a:solidFill>
                  <a:srgbClr val="333300"/>
                </a:solidFill>
                <a:latin typeface="Arial"/>
                <a:ea typeface="宋体"/>
              </a:rPr>
              <a:t>的品质。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574" name="Group 15"/>
          <p:cNvGrpSpPr/>
          <p:nvPr/>
        </p:nvGrpSpPr>
        <p:grpSpPr>
          <a:xfrm>
            <a:off x="5508720" y="2708280"/>
            <a:ext cx="5975640" cy="3908160"/>
            <a:chOff x="5508720" y="2708280"/>
            <a:chExt cx="5975640" cy="3908160"/>
          </a:xfrm>
        </p:grpSpPr>
        <p:sp>
          <p:nvSpPr>
            <p:cNvPr id="575" name="Text Box 19"/>
            <p:cNvSpPr/>
            <p:nvPr/>
          </p:nvSpPr>
          <p:spPr>
            <a:xfrm>
              <a:off x="5727600" y="2708280"/>
              <a:ext cx="309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高洁质朴</a:t>
              </a:r>
              <a:endParaRPr b="1" lang="en-US" sz="2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76" name="Text Box 20"/>
            <p:cNvSpPr/>
            <p:nvPr/>
          </p:nvSpPr>
          <p:spPr>
            <a:xfrm>
              <a:off x="5727600" y="3751560"/>
              <a:ext cx="3542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正直，不攀附权贵</a:t>
              </a:r>
              <a:endParaRPr b="1" lang="en-US" sz="2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77" name="Text Box 21"/>
            <p:cNvSpPr/>
            <p:nvPr/>
          </p:nvSpPr>
          <p:spPr>
            <a:xfrm>
              <a:off x="5508720" y="5142240"/>
              <a:ext cx="597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美名远扬</a:t>
              </a:r>
              <a:endParaRPr b="1" lang="en-US" sz="2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78" name="Text Box 22"/>
            <p:cNvSpPr/>
            <p:nvPr/>
          </p:nvSpPr>
          <p:spPr>
            <a:xfrm>
              <a:off x="5508720" y="6095880"/>
              <a:ext cx="3980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清高</a:t>
              </a:r>
              <a:endParaRPr b="1" lang="en-US" sz="2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6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1" dur="5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5" descr="20081212132532828"/>
          <p:cNvPicPr/>
          <p:nvPr/>
        </p:nvPicPr>
        <p:blipFill>
          <a:blip r:embed="rId1"/>
          <a:stretch/>
        </p:blipFill>
        <p:spPr>
          <a:xfrm>
            <a:off x="0" y="0"/>
            <a:ext cx="4836960" cy="685800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7" descr="6dcff009a9e2ddf92fddd428"/>
          <p:cNvPicPr/>
          <p:nvPr/>
        </p:nvPicPr>
        <p:blipFill>
          <a:blip r:embed="rId2"/>
          <a:stretch/>
        </p:blipFill>
        <p:spPr>
          <a:xfrm>
            <a:off x="4859280" y="0"/>
            <a:ext cx="5114880" cy="7174080"/>
          </a:xfrm>
          <a:prstGeom prst="rect">
            <a:avLst/>
          </a:prstGeom>
          <a:ln w="0">
            <a:noFill/>
          </a:ln>
        </p:spPr>
      </p:pic>
      <p:sp>
        <p:nvSpPr>
          <p:cNvPr id="581" name="Text Box 8"/>
          <p:cNvSpPr/>
          <p:nvPr/>
        </p:nvSpPr>
        <p:spPr>
          <a:xfrm>
            <a:off x="-466560" y="189000"/>
            <a:ext cx="46418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        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三、作者写莲，为什么还要提到菊和牡丹？请同学们讨论。</a:t>
            </a:r>
            <a:endParaRPr b="1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2" name="Text Box 9"/>
          <p:cNvSpPr/>
          <p:nvPr/>
        </p:nvSpPr>
        <p:spPr>
          <a:xfrm>
            <a:off x="395280" y="112536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借助菊和牡丹来衬托莲的形象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3" name="Text Box 10"/>
          <p:cNvSpPr/>
          <p:nvPr/>
        </p:nvSpPr>
        <p:spPr>
          <a:xfrm>
            <a:off x="5003640" y="189000"/>
            <a:ext cx="4608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四、分析一下作者怎样通过菊和牡丹来衬托莲的形象？</a:t>
            </a:r>
            <a:endParaRPr b="1" lang="en-US" sz="2000" spc="-1" strike="noStrike">
              <a:solidFill>
                <a:srgbClr val="ccec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4" name="Text Box 11"/>
          <p:cNvSpPr/>
          <p:nvPr/>
        </p:nvSpPr>
        <p:spPr>
          <a:xfrm>
            <a:off x="4788000" y="1052640"/>
            <a:ext cx="295092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400" spc="-1" strike="noStrike">
                <a:solidFill>
                  <a:srgbClr val="ffccff"/>
                </a:solidFill>
                <a:latin typeface="楷体_GB2312"/>
              </a:rPr>
              <a:t>菊 </a:t>
            </a:r>
            <a:r>
              <a:rPr b="1" lang="en-US" sz="2400" spc="-1" strike="noStrike">
                <a:solidFill>
                  <a:srgbClr val="ffccff"/>
                </a:solidFill>
                <a:latin typeface="Arial"/>
              </a:rPr>
              <a:t>——</a:t>
            </a:r>
            <a:r>
              <a:rPr b="1" lang="en-US" sz="2400" spc="-1" strike="noStrike">
                <a:solidFill>
                  <a:srgbClr val="ffccff"/>
                </a:solidFill>
                <a:latin typeface="楷体_GB2312"/>
              </a:rPr>
              <a:t> </a:t>
            </a:r>
            <a:r>
              <a:rPr b="1" lang="zh-CN" sz="2400" spc="-1" strike="noStrike">
                <a:solidFill>
                  <a:srgbClr val="ffccff"/>
                </a:solidFill>
                <a:latin typeface="楷体_GB2312"/>
              </a:rPr>
              <a:t>正面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衬托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ff"/>
                </a:solidFill>
                <a:latin typeface="楷体_GB2312"/>
              </a:rPr>
              <a:t>牡丹 </a:t>
            </a:r>
            <a:r>
              <a:rPr b="1" lang="en-US" sz="2400" spc="-1" strike="noStrike">
                <a:solidFill>
                  <a:srgbClr val="ffccff"/>
                </a:solidFill>
                <a:latin typeface="Arial"/>
              </a:rPr>
              <a:t>——</a:t>
            </a:r>
            <a:r>
              <a:rPr b="1" lang="en-US" sz="2400" spc="-1" strike="noStrike">
                <a:solidFill>
                  <a:srgbClr val="ffccff"/>
                </a:solidFill>
                <a:latin typeface="楷体_GB2312"/>
              </a:rPr>
              <a:t> </a:t>
            </a:r>
            <a:r>
              <a:rPr b="1" lang="zh-CN" sz="2400" spc="-1" strike="noStrike">
                <a:solidFill>
                  <a:srgbClr val="ffccff"/>
                </a:solidFill>
                <a:latin typeface="楷体_GB2312"/>
              </a:rPr>
              <a:t>反面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衬托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5" descr="e79582a259f94eabcbefd052"/>
          <p:cNvPicPr/>
          <p:nvPr/>
        </p:nvPicPr>
        <p:blipFill>
          <a:blip r:embed="rId1"/>
          <a:stretch/>
        </p:blipFill>
        <p:spPr>
          <a:xfrm>
            <a:off x="-250920" y="-385920"/>
            <a:ext cx="9742680" cy="7618680"/>
          </a:xfrm>
          <a:prstGeom prst="rect">
            <a:avLst/>
          </a:prstGeom>
          <a:ln w="0">
            <a:noFill/>
          </a:ln>
        </p:spPr>
      </p:pic>
      <p:sp>
        <p:nvSpPr>
          <p:cNvPr id="586" name="Text Box 6"/>
          <p:cNvSpPr/>
          <p:nvPr/>
        </p:nvSpPr>
        <p:spPr>
          <a:xfrm>
            <a:off x="539640" y="1413000"/>
            <a:ext cx="151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Arial"/>
              </a:rPr>
              <a:t>菊</a:t>
            </a:r>
            <a:endParaRPr b="1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7" name="Text Box 7"/>
          <p:cNvSpPr/>
          <p:nvPr/>
        </p:nvSpPr>
        <p:spPr>
          <a:xfrm>
            <a:off x="7236000" y="1773360"/>
            <a:ext cx="136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ff"/>
                </a:solidFill>
                <a:latin typeface="Arial"/>
              </a:rPr>
              <a:t>牡丹</a:t>
            </a:r>
            <a:endParaRPr b="1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588" name="Group 5"/>
          <p:cNvGrpSpPr/>
          <p:nvPr/>
        </p:nvGrpSpPr>
        <p:grpSpPr>
          <a:xfrm>
            <a:off x="466560" y="620640"/>
            <a:ext cx="2068200" cy="3715920"/>
            <a:chOff x="466560" y="620640"/>
            <a:chExt cx="2068200" cy="3715920"/>
          </a:xfrm>
        </p:grpSpPr>
        <p:sp>
          <p:nvSpPr>
            <p:cNvPr id="589" name="Text Box 9"/>
            <p:cNvSpPr/>
            <p:nvPr/>
          </p:nvSpPr>
          <p:spPr>
            <a:xfrm>
              <a:off x="891000" y="620640"/>
              <a:ext cx="1643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晋陶渊明独爱菊</a:t>
              </a:r>
              <a:endParaRPr b="1" lang="en-US" sz="2400" spc="-1" strike="noStrike">
                <a:solidFill>
                  <a:srgbClr val="ccec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菊，花之隐逸者也</a:t>
              </a:r>
              <a:endParaRPr b="1" lang="en-US" sz="24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90" name="Text Box 10"/>
            <p:cNvSpPr/>
            <p:nvPr/>
          </p:nvSpPr>
          <p:spPr>
            <a:xfrm>
              <a:off x="466560" y="3480840"/>
              <a:ext cx="151308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0ffff"/>
                  </a:solidFill>
                  <a:latin typeface="Arial"/>
                </a:rPr>
                <a:t>品格高洁超凡脱俗</a:t>
              </a:r>
              <a:endParaRPr b="1" lang="en-US" sz="25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591" name="Group 8"/>
          <p:cNvGrpSpPr/>
          <p:nvPr/>
        </p:nvGrpSpPr>
        <p:grpSpPr>
          <a:xfrm>
            <a:off x="1692360" y="2349360"/>
            <a:ext cx="1368360" cy="762120"/>
            <a:chOff x="1692360" y="2349360"/>
            <a:chExt cx="1368360" cy="762120"/>
          </a:xfrm>
        </p:grpSpPr>
        <p:sp>
          <p:nvSpPr>
            <p:cNvPr id="592" name="Line 12"/>
            <p:cNvSpPr/>
            <p:nvPr/>
          </p:nvSpPr>
          <p:spPr>
            <a:xfrm>
              <a:off x="1692360" y="2349360"/>
              <a:ext cx="136836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93" name="Text Box 13"/>
            <p:cNvSpPr/>
            <p:nvPr/>
          </p:nvSpPr>
          <p:spPr>
            <a:xfrm>
              <a:off x="1836720" y="2636640"/>
              <a:ext cx="1008000" cy="47484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ffff00"/>
                  </a:solidFill>
                  <a:latin typeface="Arial"/>
                  <a:ea typeface="华文新魏"/>
                </a:rPr>
                <a:t>正衬</a:t>
              </a:r>
              <a:endParaRPr b="1" lang="en-US" sz="25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594" name="Group 11"/>
          <p:cNvGrpSpPr/>
          <p:nvPr/>
        </p:nvGrpSpPr>
        <p:grpSpPr>
          <a:xfrm>
            <a:off x="6191280" y="981000"/>
            <a:ext cx="2952720" cy="3880080"/>
            <a:chOff x="6191280" y="981000"/>
            <a:chExt cx="2952720" cy="3880080"/>
          </a:xfrm>
        </p:grpSpPr>
        <p:sp>
          <p:nvSpPr>
            <p:cNvPr id="595" name="Text Box 15"/>
            <p:cNvSpPr/>
            <p:nvPr/>
          </p:nvSpPr>
          <p:spPr>
            <a:xfrm>
              <a:off x="6191280" y="981000"/>
              <a:ext cx="295272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96" name="Text Box 16"/>
            <p:cNvSpPr/>
            <p:nvPr/>
          </p:nvSpPr>
          <p:spPr>
            <a:xfrm>
              <a:off x="6804000" y="4005360"/>
              <a:ext cx="15843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06600"/>
                  </a:solidFill>
                  <a:latin typeface="Arial"/>
                </a:rPr>
                <a:t>贪慕富贵追逐名利</a:t>
              </a:r>
              <a:endParaRPr b="1" lang="en-US" sz="25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597" name="Rectangle 17"/>
          <p:cNvSpPr/>
          <p:nvPr/>
        </p:nvSpPr>
        <p:spPr>
          <a:xfrm>
            <a:off x="6012000" y="620640"/>
            <a:ext cx="456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自李唐来，世人甚爱牡丹。</a:t>
            </a:r>
            <a:endParaRPr b="1" lang="en-US" sz="2000" spc="-1" strike="noStrike">
              <a:solidFill>
                <a:srgbClr val="cce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牡丹，花之富贵者也。</a:t>
            </a:r>
            <a:endParaRPr b="1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598" name="Group 15"/>
          <p:cNvGrpSpPr/>
          <p:nvPr/>
        </p:nvGrpSpPr>
        <p:grpSpPr>
          <a:xfrm>
            <a:off x="6084360" y="2637000"/>
            <a:ext cx="1297080" cy="762120"/>
            <a:chOff x="6084360" y="2637000"/>
            <a:chExt cx="1297080" cy="762120"/>
          </a:xfrm>
        </p:grpSpPr>
        <p:sp>
          <p:nvSpPr>
            <p:cNvPr id="599" name="Line 19"/>
            <p:cNvSpPr/>
            <p:nvPr/>
          </p:nvSpPr>
          <p:spPr>
            <a:xfrm flipH="1">
              <a:off x="6084360" y="2637000"/>
              <a:ext cx="1297080" cy="0"/>
            </a:xfrm>
            <a:prstGeom prst="line">
              <a:avLst/>
            </a:prstGeom>
            <a:ln w="28440">
              <a:solidFill>
                <a:srgbClr val="bbe0e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600" name="Text Box 20"/>
            <p:cNvSpPr/>
            <p:nvPr/>
          </p:nvSpPr>
          <p:spPr>
            <a:xfrm>
              <a:off x="6372000" y="2924280"/>
              <a:ext cx="9349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ff99ff"/>
                  </a:solidFill>
                  <a:latin typeface="Arial"/>
                  <a:ea typeface="华文新魏"/>
                </a:rPr>
                <a:t>反衬</a:t>
              </a:r>
              <a:endParaRPr b="1" lang="en-US" sz="25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601" name="Group 18"/>
          <p:cNvGrpSpPr/>
          <p:nvPr/>
        </p:nvGrpSpPr>
        <p:grpSpPr>
          <a:xfrm>
            <a:off x="3348000" y="620640"/>
            <a:ext cx="2448000" cy="4562640"/>
            <a:chOff x="3348000" y="620640"/>
            <a:chExt cx="2448000" cy="4562640"/>
          </a:xfrm>
        </p:grpSpPr>
        <p:sp>
          <p:nvSpPr>
            <p:cNvPr id="602" name="Rectangle 22"/>
            <p:cNvSpPr/>
            <p:nvPr/>
          </p:nvSpPr>
          <p:spPr>
            <a:xfrm>
              <a:off x="3348000" y="620640"/>
              <a:ext cx="244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予独爱莲之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……</a:t>
              </a:r>
              <a:endParaRPr b="1" lang="en-US" sz="2400" spc="-1" strike="noStrike">
                <a:solidFill>
                  <a:srgbClr val="ccec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莲，花之君子者也。</a:t>
              </a:r>
              <a:endParaRPr b="1" lang="en-US" sz="24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603" name="Text Box 23"/>
            <p:cNvSpPr/>
            <p:nvPr/>
          </p:nvSpPr>
          <p:spPr>
            <a:xfrm>
              <a:off x="3706920" y="4327560"/>
              <a:ext cx="165564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ffffff"/>
                  </a:solidFill>
                  <a:latin typeface="Arial"/>
                </a:rPr>
                <a:t>质朴正直志洁行廉</a:t>
              </a:r>
              <a:endParaRPr b="1" lang="en-US" sz="25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</p:spTree>
  </p:cSld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5" descr="3206585_222418136366_2"/>
          <p:cNvPicPr/>
          <p:nvPr/>
        </p:nvPicPr>
        <p:blipFill>
          <a:blip r:embed="rId1"/>
          <a:stretch/>
        </p:blipFill>
        <p:spPr>
          <a:xfrm>
            <a:off x="-303120" y="0"/>
            <a:ext cx="10275840" cy="6894360"/>
          </a:xfrm>
          <a:prstGeom prst="rect">
            <a:avLst/>
          </a:prstGeom>
          <a:ln w="0">
            <a:noFill/>
          </a:ln>
        </p:spPr>
      </p:pic>
      <p:sp>
        <p:nvSpPr>
          <p:cNvPr id="605" name="Rectangle 6"/>
          <p:cNvSpPr/>
          <p:nvPr/>
        </p:nvSpPr>
        <p:spPr>
          <a:xfrm>
            <a:off x="0" y="189000"/>
            <a:ext cx="434340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华文新魏"/>
                <a:ea typeface="华文新魏"/>
              </a:rPr>
              <a:t>纵观全文，作者写这篇文章的意图是什么？他采用了什么写作手法？</a:t>
            </a:r>
            <a:r>
              <a:rPr b="1" lang="zh-CN" sz="32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2"/>
              </a:rPr>
              <a:t> 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华文新魏"/>
                <a:ea typeface="华文新魏"/>
              </a:rPr>
              <a:t>                                                                       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6" name="Text Box 7"/>
          <p:cNvSpPr/>
          <p:nvPr/>
        </p:nvSpPr>
        <p:spPr>
          <a:xfrm>
            <a:off x="4572000" y="4076640"/>
            <a:ext cx="4248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作者借赞美莲的高贵品质说明自己洁身自爱，不慕名利的品格。  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本文主要采用象征手法（托物言志） 。 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Picture 5" descr="f4e6b9166acd892bc83d6d13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608" name="Rectangle 6"/>
          <p:cNvSpPr/>
          <p:nvPr/>
        </p:nvSpPr>
        <p:spPr>
          <a:xfrm>
            <a:off x="468360" y="2924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华文行楷"/>
              </a:rPr>
              <a:t>小结 ：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华文行楷"/>
              </a:rPr>
              <a:t>1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本文采用托物言志（象征）的写作手法。    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华文行楷"/>
              </a:rPr>
              <a:t>2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文中“之”字的几种用法：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            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        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华文行楷"/>
              </a:rPr>
              <a:t>①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水陆草木之花        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                        相当于现代汉语中的“ 的”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           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        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华文行楷"/>
              </a:rPr>
              <a:t>②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予独爱莲之出淤泥而不染 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                       助词，用于主谓之间取消句子独立性。</a:t>
            </a:r>
            <a:br>
              <a:rPr sz="2800"/>
            </a:b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9" name="Text Box 7"/>
          <p:cNvSpPr/>
          <p:nvPr/>
        </p:nvSpPr>
        <p:spPr>
          <a:xfrm>
            <a:off x="1835280" y="1628640"/>
            <a:ext cx="536076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宋体"/>
              </a:rPr>
              <a:t>解释句中加横线的字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  <a:ea typeface="宋体"/>
              </a:rPr>
              <a:t>：                                        </a:t>
            </a:r>
            <a:endParaRPr b="1" lang="en-US" sz="2500" spc="-1" strike="noStrike">
              <a:solidFill>
                <a:srgbClr val="ccecff"/>
              </a:solidFill>
              <a:latin typeface="Arial"/>
            </a:endParaRPr>
          </a:p>
          <a:p>
            <a:pPr marL="457200" indent="-457200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  <a:ea typeface="宋体"/>
              </a:rPr>
              <a:t>    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宋体"/>
              </a:rPr>
              <a:t>1  </a:t>
            </a: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宋体"/>
              </a:rPr>
              <a:t>可爱者甚</a:t>
            </a:r>
            <a:r>
              <a:rPr b="1" lang="zh-CN" sz="25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蕃 </a:t>
            </a:r>
            <a:r>
              <a:rPr b="0" lang="zh-CN" sz="25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                                                      </a:t>
            </a:r>
            <a:endParaRPr b="1" lang="en-US" sz="2500" spc="-1" strike="noStrike">
              <a:solidFill>
                <a:srgbClr val="ccecff"/>
              </a:solidFill>
              <a:latin typeface="Arial"/>
            </a:endParaRPr>
          </a:p>
          <a:p>
            <a:pPr marL="457200" indent="-457200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  <a:ea typeface="宋体"/>
              </a:rPr>
              <a:t>    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宋体"/>
              </a:rPr>
              <a:t>2  </a:t>
            </a: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宋体"/>
              </a:rPr>
              <a:t>不</a:t>
            </a:r>
            <a:r>
              <a:rPr b="1" lang="zh-CN" sz="25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蔓</a:t>
            </a: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宋体"/>
              </a:rPr>
              <a:t>不</a:t>
            </a:r>
            <a:r>
              <a:rPr b="1" lang="zh-CN" sz="25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枝   </a:t>
            </a:r>
            <a:r>
              <a:rPr b="0" lang="zh-CN" sz="25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                                                           </a:t>
            </a:r>
            <a:endParaRPr b="1" lang="en-US" sz="2500" spc="-1" strike="noStrike">
              <a:solidFill>
                <a:srgbClr val="ccecff"/>
              </a:solidFill>
              <a:latin typeface="Arial"/>
            </a:endParaRPr>
          </a:p>
          <a:p>
            <a:pPr marL="457200" indent="-457200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  <a:ea typeface="宋体"/>
              </a:rPr>
              <a:t>    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宋体"/>
              </a:rPr>
              <a:t>3  </a:t>
            </a: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宋体"/>
              </a:rPr>
              <a:t>陶后</a:t>
            </a:r>
            <a:r>
              <a:rPr b="1" lang="zh-CN" sz="25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鲜</a:t>
            </a: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宋体"/>
              </a:rPr>
              <a:t>有闻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                    </a:t>
            </a:r>
            <a:endParaRPr b="1" lang="en-US" sz="2500" spc="-1" strike="noStrike">
              <a:solidFill>
                <a:srgbClr val="ccecff"/>
              </a:solidFill>
              <a:latin typeface="Arial"/>
            </a:endParaRPr>
          </a:p>
          <a:p>
            <a:pPr marL="457200" indent="-457200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  <a:ea typeface="宋体"/>
              </a:rPr>
              <a:t>    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zh-CN" sz="25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宜</a:t>
            </a: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宋体"/>
              </a:rPr>
              <a:t>乎众矣</a:t>
            </a:r>
            <a:r>
              <a:rPr b="0" lang="zh-CN" sz="2500" spc="-1" strike="noStrike">
                <a:solidFill>
                  <a:srgbClr val="000099"/>
                </a:solidFill>
                <a:latin typeface="Arial"/>
                <a:ea typeface="宋体"/>
              </a:rPr>
              <a:t>                                                              </a:t>
            </a:r>
            <a:endParaRPr b="1" lang="en-US" sz="2500" spc="-1" strike="noStrike">
              <a:solidFill>
                <a:srgbClr val="ccecff"/>
              </a:solidFill>
              <a:latin typeface="Arial"/>
            </a:endParaRPr>
          </a:p>
          <a:p>
            <a:pPr marL="457200" indent="-457200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                              </a:t>
            </a:r>
            <a:endParaRPr b="1" lang="en-US" sz="25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7" dur="50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21" dur="50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矩形 1黄色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cc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07" name="Picture 8" descr="3d44432df15f1869ca955937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08" name="Text Box 5"/>
          <p:cNvSpPr/>
          <p:nvPr/>
        </p:nvSpPr>
        <p:spPr>
          <a:xfrm>
            <a:off x="-4572000" y="1052640"/>
            <a:ext cx="474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d92f9"/>
                </a:solidFill>
                <a:latin typeface="Arial"/>
                <a:ea typeface="长城中行书体"/>
              </a:rPr>
              <a:t>晋陶渊明独爱菊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09" name="Picture 9" descr="6dcff009a9e2ddf92fddd428"/>
          <p:cNvPicPr/>
          <p:nvPr/>
        </p:nvPicPr>
        <p:blipFill>
          <a:blip r:embed="rId2"/>
          <a:stretch/>
        </p:blipFill>
        <p:spPr>
          <a:xfrm>
            <a:off x="0" y="0"/>
            <a:ext cx="9990000" cy="6946920"/>
          </a:xfrm>
          <a:prstGeom prst="rect">
            <a:avLst/>
          </a:prstGeom>
          <a:ln w="0">
            <a:noFill/>
          </a:ln>
        </p:spPr>
      </p:pic>
      <p:sp>
        <p:nvSpPr>
          <p:cNvPr id="510" name="Text Box 6"/>
          <p:cNvSpPr/>
          <p:nvPr/>
        </p:nvSpPr>
        <p:spPr>
          <a:xfrm>
            <a:off x="9612360" y="1700280"/>
            <a:ext cx="338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长城中行书体"/>
              </a:rPr>
              <a:t>自李唐来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-250920" y="6858000"/>
            <a:ext cx="496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长城中行书体"/>
              </a:rPr>
              <a:t>世人甚爱牡丹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5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7726 0.15486 L 0.6125 0.24791 C 0.61962 0.26782 0.63472 0.28842 0.65295 0.3044 C 0.67431 0.32199 0.69375 0.33078 0.71042 0.33032 L 0.78854 0.33333 E">
                                      <p:cBhvr>
                                        <p:cTn id="96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" dur="300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00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1" dur="3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1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3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path" presetID="35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74601 -0.13935 L -0.99601 -0.13935 E">
                                      <p:cBhvr>
                                        <p:cTn id="113" dur="2000" fill="hold"/>
                                        <p:tgtEl>
                                          <p:spTgt spid="5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path" presetID="64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0.03559 -0.27454 L 0.04341 -0.68149 E">
                                      <p:cBhvr>
                                        <p:cTn id="118" dur="2000" fill="hold"/>
                                        <p:tgtEl>
                                          <p:spTgt spid="5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8000"/>
                            </p:stCondLst>
                            <p:childTnLst>
                              <p:par>
                                <p:cTn id="1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5" descr="c2411cd23ed22b84a8ec9a9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1" name="Rectangle 6"/>
          <p:cNvSpPr/>
          <p:nvPr/>
        </p:nvSpPr>
        <p:spPr>
          <a:xfrm>
            <a:off x="2916360" y="260280"/>
            <a:ext cx="6629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bbe0e3"/>
                </a:solidFill>
                <a:latin typeface="Arial"/>
                <a:ea typeface="黑体"/>
              </a:rPr>
              <a:t>作业</a:t>
            </a:r>
            <a:endParaRPr b="1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2" name="Rectangle 7"/>
          <p:cNvSpPr/>
          <p:nvPr/>
        </p:nvSpPr>
        <p:spPr>
          <a:xfrm>
            <a:off x="5364000" y="2565360"/>
            <a:ext cx="406728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cc"/>
                </a:solidFill>
                <a:latin typeface="华文新魏"/>
                <a:ea typeface="华文新魏"/>
              </a:rPr>
              <a:t>1.</a:t>
            </a:r>
            <a:r>
              <a:rPr b="1" lang="zh-CN" sz="3600" spc="-1" strike="noStrike">
                <a:solidFill>
                  <a:srgbClr val="0099cc"/>
                </a:solidFill>
                <a:latin typeface="华文新魏"/>
                <a:ea typeface="华文新魏"/>
              </a:rPr>
              <a:t>背诵课文。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cc"/>
                </a:solidFill>
                <a:latin typeface="华文新魏"/>
                <a:ea typeface="华文新魏"/>
              </a:rPr>
              <a:t>2.</a:t>
            </a:r>
            <a:r>
              <a:rPr b="1" lang="zh-CN" sz="3600" spc="-1" strike="noStrike">
                <a:solidFill>
                  <a:srgbClr val="0099cc"/>
                </a:solidFill>
                <a:latin typeface="华文新魏"/>
                <a:ea typeface="华文新魏"/>
              </a:rPr>
              <a:t>采用象征的写作手法写一篇小短文或歌词，题目自拟。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ff"/>
                </a:solidFill>
                <a:latin typeface="Arial"/>
                <a:ea typeface="长城中行书体"/>
              </a:rPr>
              <a:t>爱莲说主题歌欣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41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44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8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2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4500"/>
                            </p:stCondLst>
                            <p:childTnLst>
                              <p:par>
                                <p:cTn id="5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9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矩形 2"/>
          <p:cNvSpPr/>
          <p:nvPr/>
        </p:nvSpPr>
        <p:spPr>
          <a:xfrm>
            <a:off x="2392920" y="6067440"/>
            <a:ext cx="28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  <a:ea typeface="宋体"/>
              </a:rPr>
              <a:t>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"/>
              </a:rPr>
              <a:t>www.1ppt.com/xiazai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1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615" name="Picture 2" descr="c2411cd23ed22b84a8ec9a9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6" name="Freeform 1281"/>
          <p:cNvSpPr/>
          <p:nvPr/>
        </p:nvSpPr>
        <p:spPr>
          <a:xfrm>
            <a:off x="7885080" y="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7" name="Freeform 1276"/>
          <p:cNvSpPr/>
          <p:nvPr/>
        </p:nvSpPr>
        <p:spPr>
          <a:xfrm>
            <a:off x="7667640" y="-601560"/>
            <a:ext cx="2070000" cy="1542960"/>
          </a:xfrm>
          <a:custGeom>
            <a:avLst/>
            <a:gdLst>
              <a:gd name="textAreaLeft" fmla="*/ 0 w 2070000"/>
              <a:gd name="textAreaRight" fmla="*/ 2070360 w 2070000"/>
              <a:gd name="textAreaTop" fmla="*/ 0 h 1542960"/>
              <a:gd name="textAreaBottom" fmla="*/ 1543320 h 1542960"/>
            </a:gdLst>
            <a:ahLst/>
            <a:rect l="textAreaLeft" t="textAreaTop" r="textAreaRight" b="textAreaBottom"/>
            <a:pathLst>
              <a:path w="642" h="479">
                <a:moveTo>
                  <a:pt x="524" y="435"/>
                </a:moveTo>
                <a:cubicBezTo>
                  <a:pt x="539" y="424"/>
                  <a:pt x="557" y="404"/>
                  <a:pt x="553" y="374"/>
                </a:cubicBezTo>
                <a:cubicBezTo>
                  <a:pt x="548" y="335"/>
                  <a:pt x="539" y="313"/>
                  <a:pt x="524" y="297"/>
                </a:cubicBezTo>
                <a:cubicBezTo>
                  <a:pt x="524" y="435"/>
                  <a:pt x="524" y="435"/>
                  <a:pt x="524" y="435"/>
                </a:cubicBezTo>
                <a:close/>
                <a:moveTo>
                  <a:pt x="524" y="278"/>
                </a:moveTo>
                <a:cubicBezTo>
                  <a:pt x="529" y="281"/>
                  <a:pt x="534" y="282"/>
                  <a:pt x="537" y="283"/>
                </a:cubicBezTo>
                <a:cubicBezTo>
                  <a:pt x="562" y="287"/>
                  <a:pt x="578" y="271"/>
                  <a:pt x="588" y="265"/>
                </a:cubicBezTo>
                <a:cubicBezTo>
                  <a:pt x="597" y="259"/>
                  <a:pt x="608" y="265"/>
                  <a:pt x="608" y="265"/>
                </a:cubicBezTo>
                <a:cubicBezTo>
                  <a:pt x="608" y="265"/>
                  <a:pt x="603" y="247"/>
                  <a:pt x="588" y="247"/>
                </a:cubicBezTo>
                <a:cubicBezTo>
                  <a:pt x="574" y="247"/>
                  <a:pt x="557" y="256"/>
                  <a:pt x="550" y="248"/>
                </a:cubicBezTo>
                <a:cubicBezTo>
                  <a:pt x="543" y="239"/>
                  <a:pt x="580" y="233"/>
                  <a:pt x="585" y="230"/>
                </a:cubicBezTo>
                <a:cubicBezTo>
                  <a:pt x="591" y="227"/>
                  <a:pt x="619" y="203"/>
                  <a:pt x="623" y="188"/>
                </a:cubicBezTo>
                <a:cubicBezTo>
                  <a:pt x="629" y="174"/>
                  <a:pt x="628" y="174"/>
                  <a:pt x="628" y="174"/>
                </a:cubicBezTo>
                <a:cubicBezTo>
                  <a:pt x="628" y="174"/>
                  <a:pt x="632" y="172"/>
                  <a:pt x="635" y="168"/>
                </a:cubicBezTo>
                <a:cubicBezTo>
                  <a:pt x="640" y="162"/>
                  <a:pt x="642" y="156"/>
                  <a:pt x="642" y="150"/>
                </a:cubicBezTo>
                <a:cubicBezTo>
                  <a:pt x="642" y="149"/>
                  <a:pt x="642" y="149"/>
                  <a:pt x="642" y="149"/>
                </a:cubicBezTo>
                <a:cubicBezTo>
                  <a:pt x="642" y="147"/>
                  <a:pt x="642" y="147"/>
                  <a:pt x="642" y="147"/>
                </a:cubicBezTo>
                <a:cubicBezTo>
                  <a:pt x="642" y="137"/>
                  <a:pt x="636" y="125"/>
                  <a:pt x="628" y="120"/>
                </a:cubicBezTo>
                <a:cubicBezTo>
                  <a:pt x="628" y="120"/>
                  <a:pt x="630" y="114"/>
                  <a:pt x="625" y="112"/>
                </a:cubicBezTo>
                <a:cubicBezTo>
                  <a:pt x="620" y="110"/>
                  <a:pt x="609" y="109"/>
                  <a:pt x="608" y="119"/>
                </a:cubicBezTo>
                <a:cubicBezTo>
                  <a:pt x="608" y="122"/>
                  <a:pt x="608" y="125"/>
                  <a:pt x="610" y="127"/>
                </a:cubicBezTo>
                <a:cubicBezTo>
                  <a:pt x="611" y="129"/>
                  <a:pt x="614" y="131"/>
                  <a:pt x="618" y="130"/>
                </a:cubicBezTo>
                <a:cubicBezTo>
                  <a:pt x="623" y="130"/>
                  <a:pt x="627" y="125"/>
                  <a:pt x="627" y="123"/>
                </a:cubicBezTo>
                <a:cubicBezTo>
                  <a:pt x="630" y="125"/>
                  <a:pt x="632" y="128"/>
                  <a:pt x="635" y="132"/>
                </a:cubicBezTo>
                <a:cubicBezTo>
                  <a:pt x="637" y="135"/>
                  <a:pt x="639" y="140"/>
                  <a:pt x="639" y="145"/>
                </a:cubicBezTo>
                <a:cubicBezTo>
                  <a:pt x="640" y="154"/>
                  <a:pt x="636" y="163"/>
                  <a:pt x="625" y="168"/>
                </a:cubicBezTo>
                <a:cubicBezTo>
                  <a:pt x="618" y="171"/>
                  <a:pt x="606" y="171"/>
                  <a:pt x="601" y="164"/>
                </a:cubicBezTo>
                <a:cubicBezTo>
                  <a:pt x="596" y="157"/>
                  <a:pt x="585" y="151"/>
                  <a:pt x="571" y="151"/>
                </a:cubicBezTo>
                <a:cubicBezTo>
                  <a:pt x="556" y="152"/>
                  <a:pt x="530" y="159"/>
                  <a:pt x="529" y="160"/>
                </a:cubicBezTo>
                <a:cubicBezTo>
                  <a:pt x="528" y="160"/>
                  <a:pt x="526" y="161"/>
                  <a:pt x="524" y="162"/>
                </a:cubicBezTo>
                <a:cubicBezTo>
                  <a:pt x="524" y="208"/>
                  <a:pt x="524" y="208"/>
                  <a:pt x="524" y="208"/>
                </a:cubicBezTo>
                <a:cubicBezTo>
                  <a:pt x="526" y="208"/>
                  <a:pt x="529" y="207"/>
                  <a:pt x="531" y="206"/>
                </a:cubicBezTo>
                <a:cubicBezTo>
                  <a:pt x="565" y="195"/>
                  <a:pt x="586" y="189"/>
                  <a:pt x="586" y="189"/>
                </a:cubicBezTo>
                <a:cubicBezTo>
                  <a:pt x="567" y="202"/>
                  <a:pt x="546" y="211"/>
                  <a:pt x="524" y="217"/>
                </a:cubicBezTo>
                <a:cubicBezTo>
                  <a:pt x="524" y="278"/>
                  <a:pt x="524" y="278"/>
                  <a:pt x="524" y="278"/>
                </a:cubicBezTo>
                <a:close/>
                <a:moveTo>
                  <a:pt x="524" y="157"/>
                </a:moveTo>
                <a:cubicBezTo>
                  <a:pt x="524" y="116"/>
                  <a:pt x="524" y="116"/>
                  <a:pt x="524" y="116"/>
                </a:cubicBezTo>
                <a:cubicBezTo>
                  <a:pt x="538" y="114"/>
                  <a:pt x="549" y="113"/>
                  <a:pt x="551" y="113"/>
                </a:cubicBezTo>
                <a:cubicBezTo>
                  <a:pt x="554" y="112"/>
                  <a:pt x="562" y="95"/>
                  <a:pt x="562" y="95"/>
                </a:cubicBezTo>
                <a:cubicBezTo>
                  <a:pt x="562" y="95"/>
                  <a:pt x="562" y="99"/>
                  <a:pt x="560" y="108"/>
                </a:cubicBezTo>
                <a:cubicBezTo>
                  <a:pt x="558" y="116"/>
                  <a:pt x="552" y="128"/>
                  <a:pt x="546" y="133"/>
                </a:cubicBezTo>
                <a:cubicBezTo>
                  <a:pt x="542" y="137"/>
                  <a:pt x="531" y="149"/>
                  <a:pt x="524" y="157"/>
                </a:cubicBezTo>
                <a:close/>
                <a:moveTo>
                  <a:pt x="455" y="452"/>
                </a:moveTo>
                <a:cubicBezTo>
                  <a:pt x="466" y="463"/>
                  <a:pt x="468" y="463"/>
                  <a:pt x="468" y="463"/>
                </a:cubicBezTo>
                <a:cubicBezTo>
                  <a:pt x="468" y="463"/>
                  <a:pt x="477" y="436"/>
                  <a:pt x="477" y="427"/>
                </a:cubicBezTo>
                <a:cubicBezTo>
                  <a:pt x="477" y="417"/>
                  <a:pt x="468" y="401"/>
                  <a:pt x="479" y="403"/>
                </a:cubicBezTo>
                <a:cubicBezTo>
                  <a:pt x="491" y="405"/>
                  <a:pt x="508" y="445"/>
                  <a:pt x="508" y="445"/>
                </a:cubicBezTo>
                <a:cubicBezTo>
                  <a:pt x="508" y="445"/>
                  <a:pt x="515" y="442"/>
                  <a:pt x="524" y="435"/>
                </a:cubicBezTo>
                <a:cubicBezTo>
                  <a:pt x="524" y="297"/>
                  <a:pt x="524" y="297"/>
                  <a:pt x="524" y="297"/>
                </a:cubicBezTo>
                <a:cubicBezTo>
                  <a:pt x="520" y="292"/>
                  <a:pt x="516" y="289"/>
                  <a:pt x="511" y="285"/>
                </a:cubicBezTo>
                <a:cubicBezTo>
                  <a:pt x="496" y="275"/>
                  <a:pt x="472" y="263"/>
                  <a:pt x="455" y="255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62" y="283"/>
                  <a:pt x="468" y="289"/>
                  <a:pt x="472" y="295"/>
                </a:cubicBezTo>
                <a:cubicBezTo>
                  <a:pt x="487" y="320"/>
                  <a:pt x="497" y="353"/>
                  <a:pt x="497" y="353"/>
                </a:cubicBezTo>
                <a:cubicBezTo>
                  <a:pt x="497" y="353"/>
                  <a:pt x="479" y="319"/>
                  <a:pt x="455" y="292"/>
                </a:cubicBezTo>
                <a:cubicBezTo>
                  <a:pt x="455" y="452"/>
                  <a:pt x="455" y="452"/>
                  <a:pt x="455" y="452"/>
                </a:cubicBezTo>
                <a:close/>
                <a:moveTo>
                  <a:pt x="455" y="233"/>
                </a:moveTo>
                <a:cubicBezTo>
                  <a:pt x="455" y="158"/>
                  <a:pt x="455" y="158"/>
                  <a:pt x="455" y="158"/>
                </a:cubicBezTo>
                <a:cubicBezTo>
                  <a:pt x="463" y="144"/>
                  <a:pt x="479" y="135"/>
                  <a:pt x="495" y="125"/>
                </a:cubicBezTo>
                <a:cubicBezTo>
                  <a:pt x="504" y="121"/>
                  <a:pt x="515" y="118"/>
                  <a:pt x="524" y="116"/>
                </a:cubicBezTo>
                <a:cubicBezTo>
                  <a:pt x="524" y="157"/>
                  <a:pt x="524" y="157"/>
                  <a:pt x="524" y="157"/>
                </a:cubicBezTo>
                <a:cubicBezTo>
                  <a:pt x="520" y="162"/>
                  <a:pt x="517" y="166"/>
                  <a:pt x="517" y="166"/>
                </a:cubicBezTo>
                <a:cubicBezTo>
                  <a:pt x="517" y="166"/>
                  <a:pt x="521" y="164"/>
                  <a:pt x="524" y="162"/>
                </a:cubicBezTo>
                <a:cubicBezTo>
                  <a:pt x="524" y="208"/>
                  <a:pt x="524" y="208"/>
                  <a:pt x="524" y="208"/>
                </a:cubicBezTo>
                <a:cubicBezTo>
                  <a:pt x="492" y="218"/>
                  <a:pt x="462" y="222"/>
                  <a:pt x="462" y="222"/>
                </a:cubicBezTo>
                <a:cubicBezTo>
                  <a:pt x="473" y="224"/>
                  <a:pt x="484" y="224"/>
                  <a:pt x="494" y="223"/>
                </a:cubicBezTo>
                <a:cubicBezTo>
                  <a:pt x="505" y="222"/>
                  <a:pt x="515" y="220"/>
                  <a:pt x="524" y="217"/>
                </a:cubicBezTo>
                <a:cubicBezTo>
                  <a:pt x="524" y="278"/>
                  <a:pt x="524" y="278"/>
                  <a:pt x="524" y="278"/>
                </a:cubicBezTo>
                <a:cubicBezTo>
                  <a:pt x="502" y="268"/>
                  <a:pt x="473" y="242"/>
                  <a:pt x="459" y="234"/>
                </a:cubicBezTo>
                <a:cubicBezTo>
                  <a:pt x="458" y="234"/>
                  <a:pt x="456" y="233"/>
                  <a:pt x="455" y="233"/>
                </a:cubicBezTo>
                <a:close/>
                <a:moveTo>
                  <a:pt x="388" y="453"/>
                </a:moveTo>
                <a:cubicBezTo>
                  <a:pt x="392" y="456"/>
                  <a:pt x="396" y="458"/>
                  <a:pt x="400" y="460"/>
                </a:cubicBezTo>
                <a:cubicBezTo>
                  <a:pt x="407" y="463"/>
                  <a:pt x="414" y="460"/>
                  <a:pt x="418" y="456"/>
                </a:cubicBezTo>
                <a:cubicBezTo>
                  <a:pt x="423" y="450"/>
                  <a:pt x="424" y="441"/>
                  <a:pt x="414" y="437"/>
                </a:cubicBezTo>
                <a:cubicBezTo>
                  <a:pt x="405" y="433"/>
                  <a:pt x="398" y="433"/>
                  <a:pt x="398" y="433"/>
                </a:cubicBezTo>
                <a:cubicBezTo>
                  <a:pt x="398" y="433"/>
                  <a:pt x="399" y="437"/>
                  <a:pt x="406" y="439"/>
                </a:cubicBezTo>
                <a:cubicBezTo>
                  <a:pt x="416" y="442"/>
                  <a:pt x="419" y="448"/>
                  <a:pt x="416" y="452"/>
                </a:cubicBezTo>
                <a:cubicBezTo>
                  <a:pt x="410" y="460"/>
                  <a:pt x="401" y="457"/>
                  <a:pt x="393" y="452"/>
                </a:cubicBezTo>
                <a:cubicBezTo>
                  <a:pt x="391" y="451"/>
                  <a:pt x="390" y="450"/>
                  <a:pt x="388" y="448"/>
                </a:cubicBezTo>
                <a:cubicBezTo>
                  <a:pt x="388" y="453"/>
                  <a:pt x="388" y="453"/>
                  <a:pt x="388" y="453"/>
                </a:cubicBezTo>
                <a:close/>
                <a:moveTo>
                  <a:pt x="388" y="316"/>
                </a:moveTo>
                <a:cubicBezTo>
                  <a:pt x="388" y="134"/>
                  <a:pt x="388" y="134"/>
                  <a:pt x="388" y="134"/>
                </a:cubicBezTo>
                <a:cubicBezTo>
                  <a:pt x="400" y="164"/>
                  <a:pt x="392" y="227"/>
                  <a:pt x="392" y="227"/>
                </a:cubicBezTo>
                <a:cubicBezTo>
                  <a:pt x="411" y="212"/>
                  <a:pt x="409" y="175"/>
                  <a:pt x="399" y="144"/>
                </a:cubicBezTo>
                <a:cubicBezTo>
                  <a:pt x="396" y="134"/>
                  <a:pt x="393" y="125"/>
                  <a:pt x="388" y="117"/>
                </a:cubicBezTo>
                <a:cubicBezTo>
                  <a:pt x="388" y="29"/>
                  <a:pt x="388" y="29"/>
                  <a:pt x="388" y="29"/>
                </a:cubicBezTo>
                <a:cubicBezTo>
                  <a:pt x="392" y="31"/>
                  <a:pt x="395" y="33"/>
                  <a:pt x="398" y="35"/>
                </a:cubicBezTo>
                <a:cubicBezTo>
                  <a:pt x="418" y="50"/>
                  <a:pt x="427" y="78"/>
                  <a:pt x="436" y="107"/>
                </a:cubicBezTo>
                <a:cubicBezTo>
                  <a:pt x="445" y="136"/>
                  <a:pt x="426" y="188"/>
                  <a:pt x="420" y="197"/>
                </a:cubicBezTo>
                <a:cubicBezTo>
                  <a:pt x="414" y="206"/>
                  <a:pt x="424" y="228"/>
                  <a:pt x="424" y="228"/>
                </a:cubicBezTo>
                <a:cubicBezTo>
                  <a:pt x="424" y="228"/>
                  <a:pt x="440" y="218"/>
                  <a:pt x="445" y="213"/>
                </a:cubicBezTo>
                <a:cubicBezTo>
                  <a:pt x="449" y="208"/>
                  <a:pt x="446" y="189"/>
                  <a:pt x="451" y="169"/>
                </a:cubicBezTo>
                <a:cubicBezTo>
                  <a:pt x="452" y="165"/>
                  <a:pt x="453" y="161"/>
                  <a:pt x="455" y="158"/>
                </a:cubicBezTo>
                <a:cubicBezTo>
                  <a:pt x="455" y="233"/>
                  <a:pt x="455" y="233"/>
                  <a:pt x="455" y="233"/>
                </a:cubicBezTo>
                <a:cubicBezTo>
                  <a:pt x="441" y="228"/>
                  <a:pt x="439" y="248"/>
                  <a:pt x="439" y="248"/>
                </a:cubicBezTo>
                <a:cubicBezTo>
                  <a:pt x="439" y="248"/>
                  <a:pt x="446" y="251"/>
                  <a:pt x="455" y="255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37" y="261"/>
                  <a:pt x="414" y="251"/>
                  <a:pt x="414" y="251"/>
                </a:cubicBezTo>
                <a:cubicBezTo>
                  <a:pt x="414" y="251"/>
                  <a:pt x="428" y="260"/>
                  <a:pt x="453" y="289"/>
                </a:cubicBezTo>
                <a:cubicBezTo>
                  <a:pt x="454" y="290"/>
                  <a:pt x="454" y="291"/>
                  <a:pt x="455" y="292"/>
                </a:cubicBezTo>
                <a:cubicBezTo>
                  <a:pt x="455" y="452"/>
                  <a:pt x="455" y="452"/>
                  <a:pt x="455" y="452"/>
                </a:cubicBezTo>
                <a:cubicBezTo>
                  <a:pt x="453" y="449"/>
                  <a:pt x="451" y="447"/>
                  <a:pt x="448" y="443"/>
                </a:cubicBezTo>
                <a:cubicBezTo>
                  <a:pt x="432" y="424"/>
                  <a:pt x="413" y="371"/>
                  <a:pt x="412" y="365"/>
                </a:cubicBezTo>
                <a:cubicBezTo>
                  <a:pt x="411" y="358"/>
                  <a:pt x="410" y="299"/>
                  <a:pt x="403" y="292"/>
                </a:cubicBezTo>
                <a:cubicBezTo>
                  <a:pt x="396" y="286"/>
                  <a:pt x="394" y="306"/>
                  <a:pt x="388" y="316"/>
                </a:cubicBezTo>
                <a:close/>
                <a:moveTo>
                  <a:pt x="341" y="182"/>
                </a:moveTo>
                <a:cubicBezTo>
                  <a:pt x="344" y="185"/>
                  <a:pt x="346" y="187"/>
                  <a:pt x="348" y="188"/>
                </a:cubicBezTo>
                <a:cubicBezTo>
                  <a:pt x="355" y="193"/>
                  <a:pt x="363" y="206"/>
                  <a:pt x="352" y="206"/>
                </a:cubicBezTo>
                <a:cubicBezTo>
                  <a:pt x="349" y="206"/>
                  <a:pt x="346" y="205"/>
                  <a:pt x="341" y="203"/>
                </a:cubicBezTo>
                <a:cubicBezTo>
                  <a:pt x="341" y="230"/>
                  <a:pt x="341" y="230"/>
                  <a:pt x="341" y="230"/>
                </a:cubicBezTo>
                <a:cubicBezTo>
                  <a:pt x="358" y="238"/>
                  <a:pt x="370" y="244"/>
                  <a:pt x="367" y="243"/>
                </a:cubicBezTo>
                <a:cubicBezTo>
                  <a:pt x="358" y="240"/>
                  <a:pt x="349" y="238"/>
                  <a:pt x="341" y="235"/>
                </a:cubicBezTo>
                <a:cubicBezTo>
                  <a:pt x="341" y="278"/>
                  <a:pt x="341" y="278"/>
                  <a:pt x="341" y="278"/>
                </a:cubicBezTo>
                <a:cubicBezTo>
                  <a:pt x="349" y="269"/>
                  <a:pt x="357" y="264"/>
                  <a:pt x="357" y="264"/>
                </a:cubicBezTo>
                <a:cubicBezTo>
                  <a:pt x="357" y="264"/>
                  <a:pt x="350" y="277"/>
                  <a:pt x="344" y="288"/>
                </a:cubicBezTo>
                <a:cubicBezTo>
                  <a:pt x="343" y="290"/>
                  <a:pt x="342" y="292"/>
                  <a:pt x="341" y="294"/>
                </a:cubicBezTo>
                <a:cubicBezTo>
                  <a:pt x="341" y="359"/>
                  <a:pt x="341" y="359"/>
                  <a:pt x="341" y="359"/>
                </a:cubicBezTo>
                <a:cubicBezTo>
                  <a:pt x="357" y="357"/>
                  <a:pt x="382" y="327"/>
                  <a:pt x="388" y="317"/>
                </a:cubicBezTo>
                <a:cubicBezTo>
                  <a:pt x="388" y="317"/>
                  <a:pt x="388" y="317"/>
                  <a:pt x="388" y="316"/>
                </a:cubicBezTo>
                <a:cubicBezTo>
                  <a:pt x="388" y="134"/>
                  <a:pt x="388" y="134"/>
                  <a:pt x="388" y="134"/>
                </a:cubicBezTo>
                <a:cubicBezTo>
                  <a:pt x="388" y="134"/>
                  <a:pt x="388" y="134"/>
                  <a:pt x="388" y="133"/>
                </a:cubicBezTo>
                <a:cubicBezTo>
                  <a:pt x="376" y="104"/>
                  <a:pt x="371" y="98"/>
                  <a:pt x="371" y="98"/>
                </a:cubicBezTo>
                <a:cubicBezTo>
                  <a:pt x="376" y="98"/>
                  <a:pt x="383" y="106"/>
                  <a:pt x="388" y="117"/>
                </a:cubicBezTo>
                <a:cubicBezTo>
                  <a:pt x="388" y="29"/>
                  <a:pt x="388" y="29"/>
                  <a:pt x="388" y="29"/>
                </a:cubicBezTo>
                <a:cubicBezTo>
                  <a:pt x="369" y="15"/>
                  <a:pt x="347" y="0"/>
                  <a:pt x="347" y="0"/>
                </a:cubicBezTo>
                <a:cubicBezTo>
                  <a:pt x="347" y="0"/>
                  <a:pt x="360" y="22"/>
                  <a:pt x="353" y="28"/>
                </a:cubicBezTo>
                <a:cubicBezTo>
                  <a:pt x="348" y="32"/>
                  <a:pt x="344" y="31"/>
                  <a:pt x="341" y="28"/>
                </a:cubicBezTo>
                <a:cubicBezTo>
                  <a:pt x="341" y="182"/>
                  <a:pt x="341" y="182"/>
                  <a:pt x="341" y="182"/>
                </a:cubicBezTo>
                <a:close/>
                <a:moveTo>
                  <a:pt x="341" y="459"/>
                </a:moveTo>
                <a:cubicBezTo>
                  <a:pt x="351" y="479"/>
                  <a:pt x="351" y="479"/>
                  <a:pt x="351" y="479"/>
                </a:cubicBezTo>
                <a:cubicBezTo>
                  <a:pt x="351" y="479"/>
                  <a:pt x="364" y="478"/>
                  <a:pt x="359" y="466"/>
                </a:cubicBezTo>
                <a:cubicBezTo>
                  <a:pt x="355" y="459"/>
                  <a:pt x="350" y="448"/>
                  <a:pt x="341" y="438"/>
                </a:cubicBezTo>
                <a:cubicBezTo>
                  <a:pt x="341" y="459"/>
                  <a:pt x="341" y="459"/>
                  <a:pt x="341" y="459"/>
                </a:cubicBezTo>
                <a:close/>
                <a:moveTo>
                  <a:pt x="341" y="411"/>
                </a:moveTo>
                <a:cubicBezTo>
                  <a:pt x="341" y="404"/>
                  <a:pt x="341" y="404"/>
                  <a:pt x="341" y="404"/>
                </a:cubicBezTo>
                <a:cubicBezTo>
                  <a:pt x="345" y="405"/>
                  <a:pt x="349" y="406"/>
                  <a:pt x="353" y="407"/>
                </a:cubicBezTo>
                <a:cubicBezTo>
                  <a:pt x="375" y="413"/>
                  <a:pt x="375" y="431"/>
                  <a:pt x="377" y="435"/>
                </a:cubicBezTo>
                <a:cubicBezTo>
                  <a:pt x="378" y="438"/>
                  <a:pt x="383" y="443"/>
                  <a:pt x="388" y="448"/>
                </a:cubicBezTo>
                <a:cubicBezTo>
                  <a:pt x="388" y="453"/>
                  <a:pt x="388" y="453"/>
                  <a:pt x="388" y="453"/>
                </a:cubicBezTo>
                <a:cubicBezTo>
                  <a:pt x="384" y="450"/>
                  <a:pt x="381" y="447"/>
                  <a:pt x="381" y="447"/>
                </a:cubicBezTo>
                <a:cubicBezTo>
                  <a:pt x="381" y="447"/>
                  <a:pt x="380" y="452"/>
                  <a:pt x="378" y="460"/>
                </a:cubicBezTo>
                <a:cubicBezTo>
                  <a:pt x="376" y="468"/>
                  <a:pt x="364" y="477"/>
                  <a:pt x="364" y="477"/>
                </a:cubicBezTo>
                <a:cubicBezTo>
                  <a:pt x="364" y="477"/>
                  <a:pt x="376" y="452"/>
                  <a:pt x="376" y="445"/>
                </a:cubicBezTo>
                <a:cubicBezTo>
                  <a:pt x="376" y="439"/>
                  <a:pt x="375" y="438"/>
                  <a:pt x="370" y="439"/>
                </a:cubicBezTo>
                <a:cubicBezTo>
                  <a:pt x="366" y="439"/>
                  <a:pt x="369" y="431"/>
                  <a:pt x="369" y="431"/>
                </a:cubicBezTo>
                <a:cubicBezTo>
                  <a:pt x="370" y="421"/>
                  <a:pt x="360" y="415"/>
                  <a:pt x="347" y="412"/>
                </a:cubicBezTo>
                <a:cubicBezTo>
                  <a:pt x="345" y="412"/>
                  <a:pt x="343" y="411"/>
                  <a:pt x="341" y="411"/>
                </a:cubicBezTo>
                <a:close/>
                <a:moveTo>
                  <a:pt x="296" y="12"/>
                </a:moveTo>
                <a:cubicBezTo>
                  <a:pt x="296" y="12"/>
                  <a:pt x="301" y="26"/>
                  <a:pt x="295" y="34"/>
                </a:cubicBezTo>
                <a:cubicBezTo>
                  <a:pt x="289" y="42"/>
                  <a:pt x="274" y="89"/>
                  <a:pt x="297" y="127"/>
                </a:cubicBezTo>
                <a:cubicBezTo>
                  <a:pt x="315" y="158"/>
                  <a:pt x="331" y="174"/>
                  <a:pt x="341" y="182"/>
                </a:cubicBezTo>
                <a:cubicBezTo>
                  <a:pt x="341" y="28"/>
                  <a:pt x="341" y="28"/>
                  <a:pt x="341" y="28"/>
                </a:cubicBezTo>
                <a:cubicBezTo>
                  <a:pt x="340" y="26"/>
                  <a:pt x="339" y="24"/>
                  <a:pt x="338" y="22"/>
                </a:cubicBezTo>
                <a:cubicBezTo>
                  <a:pt x="335" y="16"/>
                  <a:pt x="329" y="6"/>
                  <a:pt x="329" y="6"/>
                </a:cubicBezTo>
                <a:cubicBezTo>
                  <a:pt x="329" y="6"/>
                  <a:pt x="338" y="28"/>
                  <a:pt x="334" y="32"/>
                </a:cubicBezTo>
                <a:cubicBezTo>
                  <a:pt x="330" y="37"/>
                  <a:pt x="324" y="43"/>
                  <a:pt x="319" y="36"/>
                </a:cubicBezTo>
                <a:cubicBezTo>
                  <a:pt x="313" y="28"/>
                  <a:pt x="311" y="20"/>
                  <a:pt x="306" y="16"/>
                </a:cubicBezTo>
                <a:cubicBezTo>
                  <a:pt x="302" y="13"/>
                  <a:pt x="296" y="12"/>
                  <a:pt x="296" y="12"/>
                </a:cubicBezTo>
                <a:close/>
                <a:moveTo>
                  <a:pt x="341" y="203"/>
                </a:moveTo>
                <a:cubicBezTo>
                  <a:pt x="341" y="230"/>
                  <a:pt x="341" y="230"/>
                  <a:pt x="341" y="230"/>
                </a:cubicBezTo>
                <a:cubicBezTo>
                  <a:pt x="308" y="215"/>
                  <a:pt x="259" y="193"/>
                  <a:pt x="273" y="202"/>
                </a:cubicBezTo>
                <a:cubicBezTo>
                  <a:pt x="294" y="216"/>
                  <a:pt x="313" y="227"/>
                  <a:pt x="337" y="234"/>
                </a:cubicBezTo>
                <a:cubicBezTo>
                  <a:pt x="338" y="234"/>
                  <a:pt x="340" y="235"/>
                  <a:pt x="341" y="235"/>
                </a:cubicBezTo>
                <a:cubicBezTo>
                  <a:pt x="341" y="278"/>
                  <a:pt x="341" y="278"/>
                  <a:pt x="341" y="278"/>
                </a:cubicBezTo>
                <a:cubicBezTo>
                  <a:pt x="337" y="284"/>
                  <a:pt x="332" y="292"/>
                  <a:pt x="330" y="301"/>
                </a:cubicBezTo>
                <a:cubicBezTo>
                  <a:pt x="324" y="326"/>
                  <a:pt x="325" y="351"/>
                  <a:pt x="325" y="351"/>
                </a:cubicBezTo>
                <a:cubicBezTo>
                  <a:pt x="325" y="351"/>
                  <a:pt x="335" y="312"/>
                  <a:pt x="341" y="294"/>
                </a:cubicBezTo>
                <a:cubicBezTo>
                  <a:pt x="341" y="359"/>
                  <a:pt x="341" y="359"/>
                  <a:pt x="341" y="359"/>
                </a:cubicBezTo>
                <a:cubicBezTo>
                  <a:pt x="341" y="359"/>
                  <a:pt x="340" y="359"/>
                  <a:pt x="339" y="359"/>
                </a:cubicBezTo>
                <a:cubicBezTo>
                  <a:pt x="324" y="359"/>
                  <a:pt x="326" y="377"/>
                  <a:pt x="326" y="377"/>
                </a:cubicBezTo>
                <a:cubicBezTo>
                  <a:pt x="326" y="377"/>
                  <a:pt x="313" y="365"/>
                  <a:pt x="308" y="338"/>
                </a:cubicBezTo>
                <a:cubicBezTo>
                  <a:pt x="305" y="313"/>
                  <a:pt x="323" y="278"/>
                  <a:pt x="328" y="269"/>
                </a:cubicBezTo>
                <a:cubicBezTo>
                  <a:pt x="321" y="270"/>
                  <a:pt x="310" y="272"/>
                  <a:pt x="300" y="275"/>
                </a:cubicBezTo>
                <a:cubicBezTo>
                  <a:pt x="289" y="279"/>
                  <a:pt x="281" y="283"/>
                  <a:pt x="276" y="288"/>
                </a:cubicBezTo>
                <a:cubicBezTo>
                  <a:pt x="270" y="294"/>
                  <a:pt x="266" y="302"/>
                  <a:pt x="264" y="313"/>
                </a:cubicBezTo>
                <a:cubicBezTo>
                  <a:pt x="264" y="313"/>
                  <a:pt x="270" y="310"/>
                  <a:pt x="275" y="311"/>
                </a:cubicBezTo>
                <a:cubicBezTo>
                  <a:pt x="280" y="312"/>
                  <a:pt x="275" y="322"/>
                  <a:pt x="272" y="323"/>
                </a:cubicBezTo>
                <a:cubicBezTo>
                  <a:pt x="269" y="324"/>
                  <a:pt x="261" y="318"/>
                  <a:pt x="261" y="318"/>
                </a:cubicBezTo>
                <a:cubicBezTo>
                  <a:pt x="256" y="334"/>
                  <a:pt x="259" y="406"/>
                  <a:pt x="296" y="405"/>
                </a:cubicBezTo>
                <a:cubicBezTo>
                  <a:pt x="313" y="405"/>
                  <a:pt x="326" y="402"/>
                  <a:pt x="341" y="404"/>
                </a:cubicBezTo>
                <a:cubicBezTo>
                  <a:pt x="341" y="411"/>
                  <a:pt x="341" y="411"/>
                  <a:pt x="341" y="411"/>
                </a:cubicBezTo>
                <a:cubicBezTo>
                  <a:pt x="324" y="409"/>
                  <a:pt x="305" y="411"/>
                  <a:pt x="303" y="413"/>
                </a:cubicBezTo>
                <a:cubicBezTo>
                  <a:pt x="303" y="413"/>
                  <a:pt x="307" y="414"/>
                  <a:pt x="325" y="424"/>
                </a:cubicBezTo>
                <a:cubicBezTo>
                  <a:pt x="331" y="427"/>
                  <a:pt x="336" y="432"/>
                  <a:pt x="341" y="438"/>
                </a:cubicBezTo>
                <a:cubicBezTo>
                  <a:pt x="341" y="459"/>
                  <a:pt x="341" y="459"/>
                  <a:pt x="341" y="459"/>
                </a:cubicBezTo>
                <a:cubicBezTo>
                  <a:pt x="335" y="445"/>
                  <a:pt x="335" y="445"/>
                  <a:pt x="335" y="445"/>
                </a:cubicBezTo>
                <a:cubicBezTo>
                  <a:pt x="315" y="432"/>
                  <a:pt x="315" y="432"/>
                  <a:pt x="315" y="432"/>
                </a:cubicBezTo>
                <a:cubicBezTo>
                  <a:pt x="315" y="432"/>
                  <a:pt x="294" y="421"/>
                  <a:pt x="275" y="406"/>
                </a:cubicBezTo>
                <a:cubicBezTo>
                  <a:pt x="257" y="391"/>
                  <a:pt x="250" y="352"/>
                  <a:pt x="251" y="339"/>
                </a:cubicBezTo>
                <a:cubicBezTo>
                  <a:pt x="252" y="327"/>
                  <a:pt x="257" y="294"/>
                  <a:pt x="256" y="274"/>
                </a:cubicBezTo>
                <a:cubicBezTo>
                  <a:pt x="255" y="257"/>
                  <a:pt x="252" y="249"/>
                  <a:pt x="247" y="245"/>
                </a:cubicBezTo>
                <a:cubicBezTo>
                  <a:pt x="232" y="237"/>
                  <a:pt x="211" y="245"/>
                  <a:pt x="214" y="265"/>
                </a:cubicBezTo>
                <a:cubicBezTo>
                  <a:pt x="216" y="273"/>
                  <a:pt x="220" y="281"/>
                  <a:pt x="221" y="283"/>
                </a:cubicBezTo>
                <a:cubicBezTo>
                  <a:pt x="225" y="283"/>
                  <a:pt x="228" y="283"/>
                  <a:pt x="229" y="281"/>
                </a:cubicBezTo>
                <a:cubicBezTo>
                  <a:pt x="232" y="277"/>
                  <a:pt x="232" y="270"/>
                  <a:pt x="232" y="270"/>
                </a:cubicBezTo>
                <a:cubicBezTo>
                  <a:pt x="232" y="270"/>
                  <a:pt x="239" y="286"/>
                  <a:pt x="234" y="304"/>
                </a:cubicBezTo>
                <a:cubicBezTo>
                  <a:pt x="229" y="319"/>
                  <a:pt x="211" y="334"/>
                  <a:pt x="207" y="336"/>
                </a:cubicBezTo>
                <a:cubicBezTo>
                  <a:pt x="207" y="319"/>
                  <a:pt x="207" y="319"/>
                  <a:pt x="207" y="319"/>
                </a:cubicBezTo>
                <a:cubicBezTo>
                  <a:pt x="209" y="317"/>
                  <a:pt x="211" y="316"/>
                  <a:pt x="212" y="314"/>
                </a:cubicBezTo>
                <a:cubicBezTo>
                  <a:pt x="219" y="304"/>
                  <a:pt x="226" y="291"/>
                  <a:pt x="226" y="291"/>
                </a:cubicBezTo>
                <a:cubicBezTo>
                  <a:pt x="226" y="291"/>
                  <a:pt x="214" y="305"/>
                  <a:pt x="209" y="310"/>
                </a:cubicBezTo>
                <a:cubicBezTo>
                  <a:pt x="208" y="311"/>
                  <a:pt x="208" y="312"/>
                  <a:pt x="207" y="312"/>
                </a:cubicBezTo>
                <a:cubicBezTo>
                  <a:pt x="207" y="283"/>
                  <a:pt x="207" y="283"/>
                  <a:pt x="207" y="283"/>
                </a:cubicBezTo>
                <a:cubicBezTo>
                  <a:pt x="209" y="283"/>
                  <a:pt x="211" y="283"/>
                  <a:pt x="214" y="283"/>
                </a:cubicBezTo>
                <a:cubicBezTo>
                  <a:pt x="213" y="279"/>
                  <a:pt x="211" y="274"/>
                  <a:pt x="210" y="270"/>
                </a:cubicBezTo>
                <a:cubicBezTo>
                  <a:pt x="207" y="261"/>
                  <a:pt x="207" y="252"/>
                  <a:pt x="212" y="245"/>
                </a:cubicBezTo>
                <a:cubicBezTo>
                  <a:pt x="217" y="240"/>
                  <a:pt x="222" y="237"/>
                  <a:pt x="227" y="236"/>
                </a:cubicBezTo>
                <a:cubicBezTo>
                  <a:pt x="243" y="232"/>
                  <a:pt x="254" y="241"/>
                  <a:pt x="259" y="252"/>
                </a:cubicBezTo>
                <a:cubicBezTo>
                  <a:pt x="264" y="265"/>
                  <a:pt x="262" y="279"/>
                  <a:pt x="264" y="293"/>
                </a:cubicBezTo>
                <a:cubicBezTo>
                  <a:pt x="264" y="293"/>
                  <a:pt x="266" y="291"/>
                  <a:pt x="269" y="288"/>
                </a:cubicBezTo>
                <a:cubicBezTo>
                  <a:pt x="278" y="279"/>
                  <a:pt x="284" y="275"/>
                  <a:pt x="297" y="271"/>
                </a:cubicBezTo>
                <a:cubicBezTo>
                  <a:pt x="321" y="263"/>
                  <a:pt x="321" y="263"/>
                  <a:pt x="321" y="263"/>
                </a:cubicBezTo>
                <a:cubicBezTo>
                  <a:pt x="307" y="258"/>
                  <a:pt x="280" y="246"/>
                  <a:pt x="267" y="227"/>
                </a:cubicBezTo>
                <a:cubicBezTo>
                  <a:pt x="249" y="201"/>
                  <a:pt x="252" y="173"/>
                  <a:pt x="252" y="173"/>
                </a:cubicBezTo>
                <a:cubicBezTo>
                  <a:pt x="252" y="173"/>
                  <a:pt x="258" y="184"/>
                  <a:pt x="264" y="188"/>
                </a:cubicBezTo>
                <a:cubicBezTo>
                  <a:pt x="270" y="194"/>
                  <a:pt x="295" y="179"/>
                  <a:pt x="302" y="179"/>
                </a:cubicBezTo>
                <a:cubicBezTo>
                  <a:pt x="308" y="179"/>
                  <a:pt x="327" y="195"/>
                  <a:pt x="341" y="203"/>
                </a:cubicBezTo>
                <a:close/>
                <a:moveTo>
                  <a:pt x="207" y="391"/>
                </a:moveTo>
                <a:cubicBezTo>
                  <a:pt x="211" y="392"/>
                  <a:pt x="215" y="393"/>
                  <a:pt x="217" y="392"/>
                </a:cubicBezTo>
                <a:cubicBezTo>
                  <a:pt x="226" y="389"/>
                  <a:pt x="229" y="400"/>
                  <a:pt x="229" y="400"/>
                </a:cubicBezTo>
                <a:cubicBezTo>
                  <a:pt x="229" y="400"/>
                  <a:pt x="234" y="390"/>
                  <a:pt x="231" y="374"/>
                </a:cubicBezTo>
                <a:cubicBezTo>
                  <a:pt x="229" y="359"/>
                  <a:pt x="211" y="341"/>
                  <a:pt x="207" y="338"/>
                </a:cubicBezTo>
                <a:cubicBezTo>
                  <a:pt x="207" y="350"/>
                  <a:pt x="207" y="350"/>
                  <a:pt x="207" y="350"/>
                </a:cubicBezTo>
                <a:cubicBezTo>
                  <a:pt x="209" y="352"/>
                  <a:pt x="211" y="354"/>
                  <a:pt x="212" y="357"/>
                </a:cubicBezTo>
                <a:cubicBezTo>
                  <a:pt x="220" y="370"/>
                  <a:pt x="224" y="385"/>
                  <a:pt x="224" y="385"/>
                </a:cubicBezTo>
                <a:cubicBezTo>
                  <a:pt x="224" y="385"/>
                  <a:pt x="214" y="368"/>
                  <a:pt x="207" y="358"/>
                </a:cubicBezTo>
                <a:lnTo>
                  <a:pt x="207" y="391"/>
                </a:lnTo>
                <a:close/>
                <a:moveTo>
                  <a:pt x="207" y="283"/>
                </a:moveTo>
                <a:cubicBezTo>
                  <a:pt x="206" y="283"/>
                  <a:pt x="206" y="283"/>
                  <a:pt x="205" y="283"/>
                </a:cubicBezTo>
                <a:cubicBezTo>
                  <a:pt x="201" y="284"/>
                  <a:pt x="188" y="305"/>
                  <a:pt x="182" y="307"/>
                </a:cubicBezTo>
                <a:cubicBezTo>
                  <a:pt x="176" y="310"/>
                  <a:pt x="178" y="300"/>
                  <a:pt x="181" y="296"/>
                </a:cubicBezTo>
                <a:cubicBezTo>
                  <a:pt x="184" y="292"/>
                  <a:pt x="193" y="279"/>
                  <a:pt x="199" y="253"/>
                </a:cubicBezTo>
                <a:cubicBezTo>
                  <a:pt x="204" y="227"/>
                  <a:pt x="188" y="203"/>
                  <a:pt x="183" y="199"/>
                </a:cubicBezTo>
                <a:cubicBezTo>
                  <a:pt x="178" y="196"/>
                  <a:pt x="178" y="187"/>
                  <a:pt x="178" y="187"/>
                </a:cubicBezTo>
                <a:cubicBezTo>
                  <a:pt x="178" y="187"/>
                  <a:pt x="175" y="188"/>
                  <a:pt x="173" y="192"/>
                </a:cubicBezTo>
                <a:cubicBezTo>
                  <a:pt x="171" y="195"/>
                  <a:pt x="171" y="200"/>
                  <a:pt x="169" y="205"/>
                </a:cubicBezTo>
                <a:cubicBezTo>
                  <a:pt x="168" y="210"/>
                  <a:pt x="164" y="208"/>
                  <a:pt x="160" y="206"/>
                </a:cubicBezTo>
                <a:cubicBezTo>
                  <a:pt x="157" y="203"/>
                  <a:pt x="158" y="190"/>
                  <a:pt x="158" y="190"/>
                </a:cubicBezTo>
                <a:cubicBezTo>
                  <a:pt x="158" y="190"/>
                  <a:pt x="157" y="197"/>
                  <a:pt x="156" y="200"/>
                </a:cubicBezTo>
                <a:cubicBezTo>
                  <a:pt x="156" y="203"/>
                  <a:pt x="155" y="205"/>
                  <a:pt x="154" y="206"/>
                </a:cubicBezTo>
                <a:cubicBezTo>
                  <a:pt x="154" y="302"/>
                  <a:pt x="154" y="302"/>
                  <a:pt x="154" y="302"/>
                </a:cubicBezTo>
                <a:cubicBezTo>
                  <a:pt x="158" y="315"/>
                  <a:pt x="164" y="326"/>
                  <a:pt x="164" y="326"/>
                </a:cubicBezTo>
                <a:cubicBezTo>
                  <a:pt x="164" y="326"/>
                  <a:pt x="159" y="326"/>
                  <a:pt x="155" y="319"/>
                </a:cubicBezTo>
                <a:cubicBezTo>
                  <a:pt x="154" y="318"/>
                  <a:pt x="154" y="317"/>
                  <a:pt x="154" y="316"/>
                </a:cubicBezTo>
                <a:cubicBezTo>
                  <a:pt x="154" y="346"/>
                  <a:pt x="154" y="346"/>
                  <a:pt x="154" y="346"/>
                </a:cubicBezTo>
                <a:cubicBezTo>
                  <a:pt x="154" y="344"/>
                  <a:pt x="155" y="344"/>
                  <a:pt x="155" y="344"/>
                </a:cubicBezTo>
                <a:cubicBezTo>
                  <a:pt x="155" y="344"/>
                  <a:pt x="155" y="345"/>
                  <a:pt x="154" y="346"/>
                </a:cubicBezTo>
                <a:cubicBezTo>
                  <a:pt x="154" y="459"/>
                  <a:pt x="154" y="459"/>
                  <a:pt x="154" y="459"/>
                </a:cubicBezTo>
                <a:cubicBezTo>
                  <a:pt x="157" y="466"/>
                  <a:pt x="164" y="474"/>
                  <a:pt x="164" y="474"/>
                </a:cubicBezTo>
                <a:cubicBezTo>
                  <a:pt x="164" y="474"/>
                  <a:pt x="165" y="474"/>
                  <a:pt x="171" y="460"/>
                </a:cubicBezTo>
                <a:cubicBezTo>
                  <a:pt x="177" y="445"/>
                  <a:pt x="178" y="412"/>
                  <a:pt x="177" y="408"/>
                </a:cubicBezTo>
                <a:cubicBezTo>
                  <a:pt x="177" y="404"/>
                  <a:pt x="166" y="370"/>
                  <a:pt x="169" y="365"/>
                </a:cubicBezTo>
                <a:cubicBezTo>
                  <a:pt x="172" y="361"/>
                  <a:pt x="177" y="372"/>
                  <a:pt x="182" y="377"/>
                </a:cubicBezTo>
                <a:cubicBezTo>
                  <a:pt x="186" y="380"/>
                  <a:pt x="197" y="387"/>
                  <a:pt x="207" y="391"/>
                </a:cubicBezTo>
                <a:cubicBezTo>
                  <a:pt x="207" y="358"/>
                  <a:pt x="207" y="358"/>
                  <a:pt x="207" y="358"/>
                </a:cubicBezTo>
                <a:cubicBezTo>
                  <a:pt x="205" y="356"/>
                  <a:pt x="203" y="353"/>
                  <a:pt x="202" y="352"/>
                </a:cubicBezTo>
                <a:cubicBezTo>
                  <a:pt x="196" y="347"/>
                  <a:pt x="190" y="341"/>
                  <a:pt x="190" y="341"/>
                </a:cubicBezTo>
                <a:cubicBezTo>
                  <a:pt x="190" y="341"/>
                  <a:pt x="199" y="343"/>
                  <a:pt x="207" y="350"/>
                </a:cubicBezTo>
                <a:cubicBezTo>
                  <a:pt x="207" y="338"/>
                  <a:pt x="207" y="338"/>
                  <a:pt x="207" y="338"/>
                </a:cubicBezTo>
                <a:cubicBezTo>
                  <a:pt x="206" y="337"/>
                  <a:pt x="206" y="337"/>
                  <a:pt x="206" y="337"/>
                </a:cubicBezTo>
                <a:cubicBezTo>
                  <a:pt x="206" y="337"/>
                  <a:pt x="206" y="337"/>
                  <a:pt x="207" y="336"/>
                </a:cubicBezTo>
                <a:cubicBezTo>
                  <a:pt x="207" y="319"/>
                  <a:pt x="207" y="319"/>
                  <a:pt x="207" y="319"/>
                </a:cubicBezTo>
                <a:cubicBezTo>
                  <a:pt x="197" y="326"/>
                  <a:pt x="180" y="330"/>
                  <a:pt x="180" y="330"/>
                </a:cubicBezTo>
                <a:cubicBezTo>
                  <a:pt x="182" y="328"/>
                  <a:pt x="182" y="328"/>
                  <a:pt x="182" y="328"/>
                </a:cubicBezTo>
                <a:cubicBezTo>
                  <a:pt x="182" y="328"/>
                  <a:pt x="199" y="318"/>
                  <a:pt x="207" y="312"/>
                </a:cubicBezTo>
                <a:lnTo>
                  <a:pt x="207" y="283"/>
                </a:lnTo>
                <a:close/>
                <a:moveTo>
                  <a:pt x="154" y="206"/>
                </a:moveTo>
                <a:cubicBezTo>
                  <a:pt x="152" y="207"/>
                  <a:pt x="151" y="208"/>
                  <a:pt x="149" y="206"/>
                </a:cubicBezTo>
                <a:cubicBezTo>
                  <a:pt x="144" y="204"/>
                  <a:pt x="147" y="189"/>
                  <a:pt x="147" y="189"/>
                </a:cubicBezTo>
                <a:cubicBezTo>
                  <a:pt x="147" y="189"/>
                  <a:pt x="144" y="192"/>
                  <a:pt x="141" y="197"/>
                </a:cubicBezTo>
                <a:cubicBezTo>
                  <a:pt x="141" y="314"/>
                  <a:pt x="141" y="314"/>
                  <a:pt x="141" y="314"/>
                </a:cubicBezTo>
                <a:cubicBezTo>
                  <a:pt x="141" y="314"/>
                  <a:pt x="141" y="314"/>
                  <a:pt x="142" y="315"/>
                </a:cubicBezTo>
                <a:cubicBezTo>
                  <a:pt x="147" y="319"/>
                  <a:pt x="145" y="333"/>
                  <a:pt x="145" y="333"/>
                </a:cubicBezTo>
                <a:cubicBezTo>
                  <a:pt x="145" y="333"/>
                  <a:pt x="143" y="332"/>
                  <a:pt x="141" y="331"/>
                </a:cubicBezTo>
                <a:cubicBezTo>
                  <a:pt x="141" y="359"/>
                  <a:pt x="141" y="359"/>
                  <a:pt x="141" y="359"/>
                </a:cubicBezTo>
                <a:cubicBezTo>
                  <a:pt x="146" y="353"/>
                  <a:pt x="151" y="348"/>
                  <a:pt x="154" y="346"/>
                </a:cubicBezTo>
                <a:cubicBezTo>
                  <a:pt x="154" y="316"/>
                  <a:pt x="154" y="316"/>
                  <a:pt x="154" y="316"/>
                </a:cubicBezTo>
                <a:cubicBezTo>
                  <a:pt x="151" y="308"/>
                  <a:pt x="148" y="293"/>
                  <a:pt x="144" y="282"/>
                </a:cubicBezTo>
                <a:cubicBezTo>
                  <a:pt x="141" y="270"/>
                  <a:pt x="152" y="250"/>
                  <a:pt x="152" y="250"/>
                </a:cubicBezTo>
                <a:cubicBezTo>
                  <a:pt x="152" y="250"/>
                  <a:pt x="149" y="253"/>
                  <a:pt x="148" y="273"/>
                </a:cubicBezTo>
                <a:cubicBezTo>
                  <a:pt x="147" y="281"/>
                  <a:pt x="150" y="292"/>
                  <a:pt x="154" y="302"/>
                </a:cubicBezTo>
                <a:cubicBezTo>
                  <a:pt x="154" y="206"/>
                  <a:pt x="154" y="206"/>
                  <a:pt x="154" y="206"/>
                </a:cubicBezTo>
                <a:close/>
                <a:moveTo>
                  <a:pt x="141" y="452"/>
                </a:moveTo>
                <a:cubicBezTo>
                  <a:pt x="141" y="370"/>
                  <a:pt x="141" y="370"/>
                  <a:pt x="141" y="370"/>
                </a:cubicBezTo>
                <a:cubicBezTo>
                  <a:pt x="147" y="357"/>
                  <a:pt x="151" y="350"/>
                  <a:pt x="154" y="346"/>
                </a:cubicBezTo>
                <a:cubicBezTo>
                  <a:pt x="154" y="459"/>
                  <a:pt x="154" y="459"/>
                  <a:pt x="154" y="459"/>
                </a:cubicBezTo>
                <a:cubicBezTo>
                  <a:pt x="153" y="458"/>
                  <a:pt x="152" y="456"/>
                  <a:pt x="152" y="456"/>
                </a:cubicBezTo>
                <a:cubicBezTo>
                  <a:pt x="150" y="450"/>
                  <a:pt x="152" y="439"/>
                  <a:pt x="146" y="442"/>
                </a:cubicBezTo>
                <a:cubicBezTo>
                  <a:pt x="144" y="443"/>
                  <a:pt x="142" y="448"/>
                  <a:pt x="141" y="452"/>
                </a:cubicBezTo>
                <a:close/>
                <a:moveTo>
                  <a:pt x="141" y="197"/>
                </a:moveTo>
                <a:cubicBezTo>
                  <a:pt x="136" y="203"/>
                  <a:pt x="130" y="212"/>
                  <a:pt x="125" y="219"/>
                </a:cubicBezTo>
                <a:cubicBezTo>
                  <a:pt x="116" y="231"/>
                  <a:pt x="116" y="248"/>
                  <a:pt x="116" y="266"/>
                </a:cubicBezTo>
                <a:cubicBezTo>
                  <a:pt x="116" y="284"/>
                  <a:pt x="135" y="309"/>
                  <a:pt x="141" y="314"/>
                </a:cubicBezTo>
                <a:cubicBezTo>
                  <a:pt x="141" y="197"/>
                  <a:pt x="141" y="197"/>
                  <a:pt x="141" y="197"/>
                </a:cubicBezTo>
                <a:close/>
                <a:moveTo>
                  <a:pt x="141" y="331"/>
                </a:moveTo>
                <a:cubicBezTo>
                  <a:pt x="141" y="359"/>
                  <a:pt x="141" y="359"/>
                  <a:pt x="141" y="359"/>
                </a:cubicBezTo>
                <a:cubicBezTo>
                  <a:pt x="136" y="365"/>
                  <a:pt x="132" y="373"/>
                  <a:pt x="130" y="380"/>
                </a:cubicBezTo>
                <a:cubicBezTo>
                  <a:pt x="126" y="397"/>
                  <a:pt x="127" y="417"/>
                  <a:pt x="127" y="417"/>
                </a:cubicBezTo>
                <a:cubicBezTo>
                  <a:pt x="127" y="417"/>
                  <a:pt x="131" y="393"/>
                  <a:pt x="140" y="373"/>
                </a:cubicBezTo>
                <a:cubicBezTo>
                  <a:pt x="140" y="372"/>
                  <a:pt x="141" y="371"/>
                  <a:pt x="141" y="370"/>
                </a:cubicBezTo>
                <a:cubicBezTo>
                  <a:pt x="141" y="452"/>
                  <a:pt x="141" y="452"/>
                  <a:pt x="141" y="452"/>
                </a:cubicBezTo>
                <a:cubicBezTo>
                  <a:pt x="139" y="461"/>
                  <a:pt x="138" y="472"/>
                  <a:pt x="138" y="472"/>
                </a:cubicBezTo>
                <a:cubicBezTo>
                  <a:pt x="138" y="472"/>
                  <a:pt x="104" y="468"/>
                  <a:pt x="99" y="440"/>
                </a:cubicBezTo>
                <a:cubicBezTo>
                  <a:pt x="94" y="411"/>
                  <a:pt x="96" y="395"/>
                  <a:pt x="107" y="381"/>
                </a:cubicBezTo>
                <a:cubicBezTo>
                  <a:pt x="117" y="367"/>
                  <a:pt x="140" y="347"/>
                  <a:pt x="140" y="347"/>
                </a:cubicBezTo>
                <a:cubicBezTo>
                  <a:pt x="140" y="347"/>
                  <a:pt x="135" y="334"/>
                  <a:pt x="127" y="343"/>
                </a:cubicBezTo>
                <a:cubicBezTo>
                  <a:pt x="118" y="351"/>
                  <a:pt x="104" y="378"/>
                  <a:pt x="91" y="385"/>
                </a:cubicBezTo>
                <a:cubicBezTo>
                  <a:pt x="89" y="386"/>
                  <a:pt x="86" y="387"/>
                  <a:pt x="84" y="387"/>
                </a:cubicBezTo>
                <a:cubicBezTo>
                  <a:pt x="84" y="345"/>
                  <a:pt x="84" y="345"/>
                  <a:pt x="84" y="345"/>
                </a:cubicBezTo>
                <a:cubicBezTo>
                  <a:pt x="97" y="344"/>
                  <a:pt x="114" y="341"/>
                  <a:pt x="114" y="341"/>
                </a:cubicBezTo>
                <a:cubicBezTo>
                  <a:pt x="123" y="336"/>
                  <a:pt x="123" y="336"/>
                  <a:pt x="123" y="336"/>
                </a:cubicBezTo>
                <a:cubicBezTo>
                  <a:pt x="123" y="336"/>
                  <a:pt x="104" y="340"/>
                  <a:pt x="84" y="340"/>
                </a:cubicBezTo>
                <a:cubicBezTo>
                  <a:pt x="84" y="288"/>
                  <a:pt x="84" y="288"/>
                  <a:pt x="84" y="288"/>
                </a:cubicBezTo>
                <a:cubicBezTo>
                  <a:pt x="85" y="288"/>
                  <a:pt x="86" y="288"/>
                  <a:pt x="86" y="288"/>
                </a:cubicBezTo>
                <a:cubicBezTo>
                  <a:pt x="100" y="291"/>
                  <a:pt x="113" y="294"/>
                  <a:pt x="119" y="305"/>
                </a:cubicBezTo>
                <a:cubicBezTo>
                  <a:pt x="126" y="315"/>
                  <a:pt x="128" y="326"/>
                  <a:pt x="131" y="328"/>
                </a:cubicBezTo>
                <a:cubicBezTo>
                  <a:pt x="133" y="329"/>
                  <a:pt x="138" y="331"/>
                  <a:pt x="141" y="331"/>
                </a:cubicBezTo>
                <a:close/>
                <a:moveTo>
                  <a:pt x="84" y="288"/>
                </a:moveTo>
                <a:cubicBezTo>
                  <a:pt x="71" y="286"/>
                  <a:pt x="53" y="291"/>
                  <a:pt x="52" y="291"/>
                </a:cubicBezTo>
                <a:cubicBezTo>
                  <a:pt x="50" y="291"/>
                  <a:pt x="42" y="283"/>
                  <a:pt x="42" y="283"/>
                </a:cubicBezTo>
                <a:cubicBezTo>
                  <a:pt x="42" y="283"/>
                  <a:pt x="43" y="286"/>
                  <a:pt x="46" y="290"/>
                </a:cubicBezTo>
                <a:cubicBezTo>
                  <a:pt x="48" y="294"/>
                  <a:pt x="54" y="300"/>
                  <a:pt x="59" y="302"/>
                </a:cubicBezTo>
                <a:cubicBezTo>
                  <a:pt x="63" y="304"/>
                  <a:pt x="81" y="314"/>
                  <a:pt x="81" y="314"/>
                </a:cubicBezTo>
                <a:cubicBezTo>
                  <a:pt x="81" y="314"/>
                  <a:pt x="74" y="313"/>
                  <a:pt x="73" y="313"/>
                </a:cubicBezTo>
                <a:cubicBezTo>
                  <a:pt x="73" y="313"/>
                  <a:pt x="56" y="314"/>
                  <a:pt x="48" y="316"/>
                </a:cubicBezTo>
                <a:cubicBezTo>
                  <a:pt x="40" y="318"/>
                  <a:pt x="35" y="324"/>
                  <a:pt x="33" y="329"/>
                </a:cubicBezTo>
                <a:cubicBezTo>
                  <a:pt x="31" y="334"/>
                  <a:pt x="25" y="335"/>
                  <a:pt x="20" y="335"/>
                </a:cubicBezTo>
                <a:cubicBezTo>
                  <a:pt x="10" y="336"/>
                  <a:pt x="4" y="327"/>
                  <a:pt x="8" y="318"/>
                </a:cubicBezTo>
                <a:cubicBezTo>
                  <a:pt x="9" y="314"/>
                  <a:pt x="11" y="311"/>
                  <a:pt x="11" y="311"/>
                </a:cubicBezTo>
                <a:cubicBezTo>
                  <a:pt x="11" y="311"/>
                  <a:pt x="15" y="313"/>
                  <a:pt x="18" y="312"/>
                </a:cubicBezTo>
                <a:cubicBezTo>
                  <a:pt x="21" y="312"/>
                  <a:pt x="22" y="311"/>
                  <a:pt x="21" y="305"/>
                </a:cubicBezTo>
                <a:cubicBezTo>
                  <a:pt x="19" y="299"/>
                  <a:pt x="12" y="302"/>
                  <a:pt x="10" y="304"/>
                </a:cubicBezTo>
                <a:cubicBezTo>
                  <a:pt x="8" y="307"/>
                  <a:pt x="9" y="310"/>
                  <a:pt x="9" y="310"/>
                </a:cubicBezTo>
                <a:cubicBezTo>
                  <a:pt x="0" y="319"/>
                  <a:pt x="3" y="336"/>
                  <a:pt x="19" y="338"/>
                </a:cubicBezTo>
                <a:cubicBezTo>
                  <a:pt x="19" y="338"/>
                  <a:pt x="19" y="340"/>
                  <a:pt x="25" y="347"/>
                </a:cubicBezTo>
                <a:cubicBezTo>
                  <a:pt x="42" y="369"/>
                  <a:pt x="61" y="356"/>
                  <a:pt x="76" y="365"/>
                </a:cubicBezTo>
                <a:cubicBezTo>
                  <a:pt x="78" y="365"/>
                  <a:pt x="78" y="366"/>
                  <a:pt x="78" y="367"/>
                </a:cubicBezTo>
                <a:cubicBezTo>
                  <a:pt x="75" y="373"/>
                  <a:pt x="64" y="371"/>
                  <a:pt x="55" y="374"/>
                </a:cubicBezTo>
                <a:cubicBezTo>
                  <a:pt x="47" y="376"/>
                  <a:pt x="48" y="388"/>
                  <a:pt x="48" y="388"/>
                </a:cubicBezTo>
                <a:cubicBezTo>
                  <a:pt x="48" y="388"/>
                  <a:pt x="53" y="382"/>
                  <a:pt x="60" y="384"/>
                </a:cubicBezTo>
                <a:cubicBezTo>
                  <a:pt x="65" y="385"/>
                  <a:pt x="74" y="390"/>
                  <a:pt x="84" y="387"/>
                </a:cubicBezTo>
                <a:cubicBezTo>
                  <a:pt x="84" y="345"/>
                  <a:pt x="84" y="345"/>
                  <a:pt x="84" y="345"/>
                </a:cubicBezTo>
                <a:cubicBezTo>
                  <a:pt x="82" y="345"/>
                  <a:pt x="81" y="345"/>
                  <a:pt x="79" y="346"/>
                </a:cubicBezTo>
                <a:cubicBezTo>
                  <a:pt x="66" y="346"/>
                  <a:pt x="46" y="340"/>
                  <a:pt x="46" y="340"/>
                </a:cubicBezTo>
                <a:cubicBezTo>
                  <a:pt x="46" y="340"/>
                  <a:pt x="59" y="340"/>
                  <a:pt x="80" y="340"/>
                </a:cubicBezTo>
                <a:cubicBezTo>
                  <a:pt x="82" y="340"/>
                  <a:pt x="83" y="340"/>
                  <a:pt x="84" y="340"/>
                </a:cubicBezTo>
                <a:lnTo>
                  <a:pt x="84" y="288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8" name="Freeform 1281"/>
          <p:cNvSpPr/>
          <p:nvPr/>
        </p:nvSpPr>
        <p:spPr>
          <a:xfrm>
            <a:off x="2411280" y="134136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9" name="Freeform 1281"/>
          <p:cNvSpPr/>
          <p:nvPr/>
        </p:nvSpPr>
        <p:spPr>
          <a:xfrm>
            <a:off x="2340000" y="134136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0" name="Freeform 1281"/>
          <p:cNvSpPr/>
          <p:nvPr/>
        </p:nvSpPr>
        <p:spPr>
          <a:xfrm>
            <a:off x="-923760" y="3068640"/>
            <a:ext cx="923760" cy="817560"/>
          </a:xfrm>
          <a:custGeom>
            <a:avLst/>
            <a:gdLst>
              <a:gd name="textAreaLeft" fmla="*/ 0 w 923760"/>
              <a:gd name="textAreaRight" fmla="*/ 924120 w 9237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1" name="Freeform 1281"/>
          <p:cNvSpPr/>
          <p:nvPr/>
        </p:nvSpPr>
        <p:spPr>
          <a:xfrm>
            <a:off x="3924360" y="234936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2" name="Freeform 1281"/>
          <p:cNvSpPr/>
          <p:nvPr/>
        </p:nvSpPr>
        <p:spPr>
          <a:xfrm>
            <a:off x="8218440" y="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3" name="Freeform 1281"/>
          <p:cNvSpPr/>
          <p:nvPr/>
        </p:nvSpPr>
        <p:spPr>
          <a:xfrm>
            <a:off x="7524720" y="26028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4" name="Freeform 1281"/>
          <p:cNvSpPr/>
          <p:nvPr/>
        </p:nvSpPr>
        <p:spPr>
          <a:xfrm>
            <a:off x="7164360" y="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5" name="Freeform 1281"/>
          <p:cNvSpPr/>
          <p:nvPr/>
        </p:nvSpPr>
        <p:spPr>
          <a:xfrm>
            <a:off x="3995640" y="234936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6" name="Freeform 1281"/>
          <p:cNvSpPr/>
          <p:nvPr/>
        </p:nvSpPr>
        <p:spPr>
          <a:xfrm>
            <a:off x="8434440" y="21600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7" name="Freeform 1281"/>
          <p:cNvSpPr/>
          <p:nvPr/>
        </p:nvSpPr>
        <p:spPr>
          <a:xfrm>
            <a:off x="7812000" y="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8" name="Freeform 1281"/>
          <p:cNvSpPr/>
          <p:nvPr/>
        </p:nvSpPr>
        <p:spPr>
          <a:xfrm>
            <a:off x="4067280" y="242100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9" name="Oval 7"/>
          <p:cNvSpPr/>
          <p:nvPr/>
        </p:nvSpPr>
        <p:spPr>
          <a:xfrm>
            <a:off x="-912960" y="5486400"/>
            <a:ext cx="96840" cy="96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0" name="Oval 7"/>
          <p:cNvSpPr/>
          <p:nvPr/>
        </p:nvSpPr>
        <p:spPr>
          <a:xfrm>
            <a:off x="-898560" y="6237360"/>
            <a:ext cx="96840" cy="96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1" name="Oval 7"/>
          <p:cNvSpPr/>
          <p:nvPr/>
        </p:nvSpPr>
        <p:spPr>
          <a:xfrm>
            <a:off x="-466560" y="4724280"/>
            <a:ext cx="96840" cy="96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2" name="Text Box 24"/>
          <p:cNvSpPr/>
          <p:nvPr/>
        </p:nvSpPr>
        <p:spPr>
          <a:xfrm>
            <a:off x="7024680" y="549360"/>
            <a:ext cx="1521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333333"/>
                </a:solidFill>
                <a:latin typeface="Arial"/>
                <a:ea typeface="长城中行书体"/>
              </a:rPr>
              <a:t>爱</a:t>
            </a:r>
            <a:endParaRPr b="1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3" name="Text Box 25"/>
          <p:cNvSpPr/>
          <p:nvPr/>
        </p:nvSpPr>
        <p:spPr>
          <a:xfrm>
            <a:off x="7020000" y="2060640"/>
            <a:ext cx="1150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5f5f5f"/>
                </a:solidFill>
                <a:latin typeface="Arial"/>
                <a:ea typeface="长城中行书体"/>
              </a:rPr>
              <a:t>莲</a:t>
            </a:r>
            <a:endParaRPr b="1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4" name="Text Box 27"/>
          <p:cNvSpPr/>
          <p:nvPr/>
        </p:nvSpPr>
        <p:spPr>
          <a:xfrm>
            <a:off x="7093080" y="3789360"/>
            <a:ext cx="143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4d4d4d"/>
                </a:solidFill>
                <a:latin typeface="Arial"/>
                <a:ea typeface="长城中行书体"/>
              </a:rPr>
              <a:t>说</a:t>
            </a:r>
            <a:endParaRPr b="1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5" name="Text Box 29"/>
          <p:cNvSpPr/>
          <p:nvPr/>
        </p:nvSpPr>
        <p:spPr>
          <a:xfrm>
            <a:off x="-1643400" y="0"/>
            <a:ext cx="1643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长城中行书体"/>
                <a:ea typeface="长城中行书体"/>
              </a:rPr>
              <a:t>泛舟华池边 凝望叶田田  芙蓉乱水月 翩若惊鸿现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长城中行书体"/>
                <a:ea typeface="长城中行书体"/>
              </a:rPr>
              <a:t>夜风化香浅 密叶罗青烟  姝影水中现 画下月中天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6" name="Text Box 31"/>
          <p:cNvSpPr/>
          <p:nvPr/>
        </p:nvSpPr>
        <p:spPr>
          <a:xfrm>
            <a:off x="-2201400" y="0"/>
            <a:ext cx="146808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长城中行书体"/>
                <a:ea typeface="长城中行书体"/>
              </a:rPr>
              <a:t>你的美 倒映在缱绻流水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长城中行书体"/>
                <a:ea typeface="长城中行书体"/>
              </a:rPr>
              <a:t>月下绽放新妍 莲若冰雪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7" name="Text Box 32"/>
          <p:cNvSpPr/>
          <p:nvPr/>
        </p:nvSpPr>
        <p:spPr>
          <a:xfrm>
            <a:off x="313920" y="1197000"/>
            <a:ext cx="164340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长城中行书体"/>
                <a:ea typeface="长城中行书体"/>
              </a:rPr>
              <a:t>花尖泪 飘零在莲叶间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长城中行书体"/>
                <a:ea typeface="长城中行书体"/>
              </a:rPr>
              <a:t>漫天扑朔的香味 任风随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8" name="Text Box 33"/>
          <p:cNvSpPr/>
          <p:nvPr/>
        </p:nvSpPr>
        <p:spPr>
          <a:xfrm>
            <a:off x="-2789280" y="333360"/>
            <a:ext cx="256536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长城中行书体"/>
                <a:ea typeface="长城中行书体"/>
              </a:rPr>
              <a:t>莲动下渔舟 水潺潺 琉璃月 银色染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长城中行书体"/>
                <a:ea typeface="长城中行书体"/>
              </a:rPr>
              <a:t>袅袅荷香 宛在水中央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长城中行书体"/>
                <a:ea typeface="长城中行书体"/>
              </a:rPr>
              <a:t>羡煞那蒹葭苍苍 你孤芳自赏 最美的芬芳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9" name="Text Box 34"/>
          <p:cNvSpPr/>
          <p:nvPr/>
        </p:nvSpPr>
        <p:spPr>
          <a:xfrm>
            <a:off x="-2789280" y="260280"/>
            <a:ext cx="256536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长城中行书体"/>
                <a:ea typeface="长城中行书体"/>
              </a:rPr>
              <a:t>水依然长流 濯清涟 花幽香 为谁远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长城中行书体"/>
                <a:ea typeface="长城中行书体"/>
              </a:rPr>
              <a:t>红藕香残 无人来嗅 荷塘月色的惆怅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长城中行书体"/>
                <a:ea typeface="长城中行书体"/>
              </a:rPr>
              <a:t>何妨述衷肠 把酒饮千觞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0" name="Text Box 35"/>
          <p:cNvSpPr/>
          <p:nvPr/>
        </p:nvSpPr>
        <p:spPr>
          <a:xfrm>
            <a:off x="-474480" y="0"/>
            <a:ext cx="146808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长城中行书体"/>
                <a:ea typeface="长城中行书体"/>
              </a:rPr>
              <a:t>你的美 出浴在流光华岁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长城中行书体"/>
                <a:ea typeface="长城中行书体"/>
              </a:rPr>
              <a:t>罢去污淤泥裳 净植一方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1" name="Text Box 36"/>
          <p:cNvSpPr/>
          <p:nvPr/>
        </p:nvSpPr>
        <p:spPr>
          <a:xfrm>
            <a:off x="-1277640" y="0"/>
            <a:ext cx="1277640" cy="42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长城中行书体"/>
                <a:ea typeface="长城中行书体"/>
              </a:rPr>
              <a:t>花尖泪 飘零在莲叶间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长城中行书体"/>
                <a:ea typeface="长城中行书体"/>
              </a:rPr>
              <a:t>漫天扑朔的香味 任风随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2" name="Text Box 37"/>
          <p:cNvSpPr/>
          <p:nvPr/>
        </p:nvSpPr>
        <p:spPr>
          <a:xfrm>
            <a:off x="8738280" y="189000"/>
            <a:ext cx="2009160" cy="63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长城中行书体"/>
                <a:ea typeface="长城中行书体"/>
              </a:rPr>
              <a:t>爱此红蕖鲜 生幽泉 飞满天 芳华年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长城中行书体"/>
                <a:ea typeface="长城中行书体"/>
              </a:rPr>
              <a:t>何日荷香 再与谁共赏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长城中行书体"/>
                <a:ea typeface="长城中行书体"/>
              </a:rPr>
              <a:t>穿越那忘川之上 感知你忧伤 泪透着月光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3" name="Text Box 38"/>
          <p:cNvSpPr/>
          <p:nvPr/>
        </p:nvSpPr>
        <p:spPr>
          <a:xfrm>
            <a:off x="3488040" y="0"/>
            <a:ext cx="12776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长城中行书体"/>
                <a:ea typeface="长城中行书体"/>
              </a:rPr>
              <a:t>荷塘上白露为霜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长城中行书体"/>
                <a:ea typeface="长城中行书体"/>
              </a:rPr>
              <a:t>奈何夜未央  风带走暗香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4" name="Text Box 39"/>
          <p:cNvSpPr/>
          <p:nvPr/>
        </p:nvSpPr>
        <p:spPr>
          <a:xfrm>
            <a:off x="-1838520" y="1197000"/>
            <a:ext cx="16434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长城中行书体"/>
                <a:ea typeface="长城中行书体"/>
              </a:rPr>
              <a:t>莲露滴清响 凉风前 浣纱人 在吟唱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长城中行书体"/>
                <a:ea typeface="长城中行书体"/>
              </a:rPr>
              <a:t>渺渺荷香 愁断人肠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长城中行书体"/>
                <a:ea typeface="长城中行书体"/>
              </a:rPr>
              <a:t>不见那在水一方 伊人的模样  爱莲的芬芳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5" name="Freeform 1281"/>
          <p:cNvSpPr/>
          <p:nvPr/>
        </p:nvSpPr>
        <p:spPr>
          <a:xfrm>
            <a:off x="-923760" y="3645000"/>
            <a:ext cx="923760" cy="817560"/>
          </a:xfrm>
          <a:custGeom>
            <a:avLst/>
            <a:gdLst>
              <a:gd name="textAreaLeft" fmla="*/ 0 w 923760"/>
              <a:gd name="textAreaRight" fmla="*/ 924120 w 9237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6" name="Text Box 43"/>
          <p:cNvSpPr/>
          <p:nvPr/>
        </p:nvSpPr>
        <p:spPr>
          <a:xfrm>
            <a:off x="6706440" y="1916280"/>
            <a:ext cx="1826280" cy="26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8080"/>
                </a:solidFill>
                <a:latin typeface="Arial"/>
                <a:ea typeface="长城中行书体"/>
              </a:rPr>
              <a:t>结   束</a:t>
            </a:r>
            <a:endParaRPr b="1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647" name="爱莲说 (3).mp3" descr=""/>
          <p:cNvPicPr/>
          <p:nvPr/>
        </p:nvPicPr>
        <p:blipFill>
          <a:blip r:embed="rId5"/>
          <a:stretch/>
        </p:blipFill>
        <p:spPr>
          <a:xfrm>
            <a:off x="939636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0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2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3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0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3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xit" presetID="10">
                                  <p:stCondLst>
                                    <p:cond delay="1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5" dur="3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xit" presetID="10">
                                  <p:stCondLst>
                                    <p:cond delay="1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8" dur="3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nodeType="withEffect" fill="hold" presetClass="exit" presetID="10">
                                  <p:stCondLst>
                                    <p:cond delay="1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1" dur="3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85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691 -0.03192 C -0.00278 0.09944 0.02135 0.23126 0.02517 0.3247 C 0.02899 0.4179 0.00017 0.47525 -0.00365 0.52705 C -0.00747 0.57886 -0.00764 0.58533 0.00191 0.63529 C 0.01146 0.68478 0.04496 0.79394 0.05382 0.82585 E">
                                      <p:cBhvr>
                                        <p:cTn id="590" dur="7000" fill="hold"/>
                                        <p:tgtEl>
                                          <p:spTgt spid="6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1" nodeType="withEffect" fill="hold" presetClass="emph" presetID="6" repeatCount="10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2" dur="7000" fill="hold"/>
                                        <p:tgtEl>
                                          <p:spTgt spid="616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593" nodeType="withEffect" fill="hold" presetClass="emph" presetID="8" repeatCount="10000">
                                  <p:stCondLst>
                                    <p:cond delay="15000"/>
                                  </p:stCondLst>
                                  <p:childTnLst>
                                    <p:animRot by="5400000">
                                      <p:cBhvr>
                                        <p:cTn id="594" dur="7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0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path" presetID="0" repeatCount="10000">
                                  <p:stCondLst>
                                    <p:cond delay="12300"/>
                                  </p:stCondLst>
                                  <p:childTnLst>
                                    <p:animMotion origin="layout" path="M -8.33333E-007 3.14524E-007 C -0.00885 0.05296 -0.01771 0.10592 -0.01771 0.15981 C -0.01771 0.21346 -0.00851 0.26573 -8.33333E-007 0.32331 C 0.00851 0.38067 0.0099 0.44149 0.03299 0.50393 C 0.05608 0.5666 0.11892 0.64801 0.13837 0.6982 C 0.15781 0.74838 0.15 0.78816 0.14931 0.80458 E">
                                      <p:cBhvr>
                                        <p:cTn id="599" dur="5500" fill="hold"/>
                                        <p:tgtEl>
                                          <p:spTgt spid="6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0" nodeType="withEffect" fill="hold" presetClass="emph" presetID="6" repeatCount="10000">
                                  <p:stCondLst>
                                    <p:cond delay="12400"/>
                                  </p:stCondLst>
                                  <p:childTnLst>
                                    <p:animScale>
                                      <p:cBhvr>
                                        <p:cTn id="601" dur="5500" fill="hold"/>
                                        <p:tgtEl>
                                          <p:spTgt spid="618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602" nodeType="withEffect" fill="hold" presetClass="emph" presetID="8" repeatCount="10000">
                                  <p:stCondLst>
                                    <p:cond delay="12400"/>
                                  </p:stCondLst>
                                  <p:childTnLst>
                                    <p:animRot by="-5399880">
                                      <p:cBhvr>
                                        <p:cTn id="603" dur="5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8" presetSubtype="9">
                                  <p:stCondLst>
                                    <p:cond delay="1240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06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path" presetID="0" repeatCount="indefinite">
                                  <p:stCondLst>
                                    <p:cond delay="9800"/>
                                  </p:stCondLst>
                                  <p:childTnLst>
                                    <p:animMotion origin="layout" path="M -0.00972 0.01387 C -0.02604 0.04995 -0.04236 0.08603 -0.04253 0.11609 C -0.0427 0.14593 -0.02691 0.1642 -0.01111 0.19426 C 0.00469 0.22433 0.03837 0.25416 0.05191 0.29648 C 0.06546 0.3388 0.07466 0.37858 0.0698 0.44773 C 0.06493 0.51711 0.03125 0.65379 0.02309 0.71207 C 0.01493 0.77035 0.01771 0.78399 0.02049 0.79787 E">
                                      <p:cBhvr>
                                        <p:cTn id="608" dur="6000" fill="hold"/>
                                        <p:tgtEl>
                                          <p:spTgt spid="6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9" nodeType="withEffect" fill="hold" presetClass="emph" presetID="6" repeatCount="indefinite">
                                  <p:stCondLst>
                                    <p:cond delay="9800"/>
                                  </p:stCondLst>
                                  <p:childTnLst>
                                    <p:animScale>
                                      <p:cBhvr>
                                        <p:cTn id="610" dur="6000" fill="hold"/>
                                        <p:tgtEl>
                                          <p:spTgt spid="619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611" nodeType="withEffect" fill="hold" presetClass="emph" presetID="8" repeatCount="indefinite">
                                  <p:stCondLst>
                                    <p:cond delay="9800"/>
                                  </p:stCondLst>
                                  <p:childTnLst>
                                    <p:animRot by="10800000">
                                      <p:cBhvr>
                                        <p:cTn id="612" dur="6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0">
                                  <p:stCondLst>
                                    <p:cond delay="98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path" presetID="0" repeatCount="indefinite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0.55833 -0.11194 C 0.58246 0.01919 0.6066 0.15101 0.61042 0.24445 C 0.61424 0.33741 0.58542 0.39477 0.5816 0.44657 C 0.57778 0.49838 0.5776 0.50485 0.58715 0.55457 C 0.5967 0.60407 0.63021 0.71322 0.63906 0.74514 E">
                                      <p:cBhvr>
                                        <p:cTn id="617" dur="7000" fill="hold"/>
                                        <p:tgtEl>
                                          <p:spTgt spid="6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8" nodeType="withEffect" fill="hold" presetClass="emph" presetID="6" repeatCount="indefinite">
                                  <p:stCondLst>
                                    <p:cond delay="15000"/>
                                  </p:stCondLst>
                                  <p:childTnLst>
                                    <p:animScale>
                                      <p:cBhvr>
                                        <p:cTn id="619" dur="7000" fill="hold"/>
                                        <p:tgtEl>
                                          <p:spTgt spid="620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620" nodeType="withEffect" fill="hold" presetClass="emph" presetID="8" repeatCount="indefinite">
                                  <p:stCondLst>
                                    <p:cond delay="15000"/>
                                  </p:stCondLst>
                                  <p:childTnLst>
                                    <p:animRot by="5400000">
                                      <p:cBhvr>
                                        <p:cTn id="621" dur="7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0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path" presetID="0" repeatCount="indefinite">
                                  <p:stCondLst>
                                    <p:cond delay="13400"/>
                                  </p:stCondLst>
                                  <p:childTnLst>
                                    <p:animMotion origin="layout" path="M 0.00486 -0.02798 C -0.01788 0.03839 -0.04063 0.105 -0.0415 0.20375 C -0.04271 0.3025 -0.02587 0.46762 -0.00191 0.56499 C 0.02222 0.66235 0.08316 0.74792 0.1033 0.7877 C 0.12361 0.82748 0.12014 0.80019 0.11892 0.80412 E">
                                      <p:cBhvr>
                                        <p:cTn id="626" dur="4500" fill="hold"/>
                                        <p:tgtEl>
                                          <p:spTgt spid="6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7" nodeType="withEffect" fill="hold" presetClass="emph" presetID="6" repeatCount="indefinite">
                                  <p:stCondLst>
                                    <p:cond delay="13400"/>
                                  </p:stCondLst>
                                  <p:childTnLst>
                                    <p:animScale>
                                      <p:cBhvr>
                                        <p:cTn id="628" dur="4500" fill="hold"/>
                                        <p:tgtEl>
                                          <p:spTgt spid="621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629" nodeType="withEffect" fill="hold" presetClass="emph" presetID="8" repeatCount="indefinite">
                                  <p:stCondLst>
                                    <p:cond delay="13400"/>
                                  </p:stCondLst>
                                  <p:childTnLst>
                                    <p:animRot by="-10799880">
                                      <p:cBhvr>
                                        <p:cTn id="630" dur="4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path" presetID="0" repeatCount="indefinite">
                                  <p:stCondLst>
                                    <p:cond delay="10200"/>
                                  </p:stCondLst>
                                  <p:childTnLst>
                                    <p:animMotion origin="layout" path="M 0 0 C 0.01805 0.06637 0.03611 0.13298 0.03698 0.23173 C 0.03785 0.33048 0.02448 0.49561 0.00538 0.59297 C -0.01372 0.69033 -0.06215 0.7759 -0.07813 0.81568 C -0.0941 0.85546 -0.09149 0.82817 -0.09045 0.8321 E">
                                      <p:cBhvr>
                                        <p:cTn id="635" dur="4500" fill="hold"/>
                                        <p:tgtEl>
                                          <p:spTgt spid="6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6" nodeType="withEffect" fill="hold" presetClass="emph" presetID="6" repeatCount="indefinite">
                                  <p:stCondLst>
                                    <p:cond delay="13400"/>
                                  </p:stCondLst>
                                  <p:childTnLst>
                                    <p:animScale>
                                      <p:cBhvr>
                                        <p:cTn id="637" dur="4500" fill="hold"/>
                                        <p:tgtEl>
                                          <p:spTgt spid="622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638" nodeType="withEffect" fill="hold" presetClass="emph" presetID="8" repeatCount="indefinite">
                                  <p:stCondLst>
                                    <p:cond delay="13400"/>
                                  </p:stCondLst>
                                  <p:childTnLst>
                                    <p:animRot by="-10799880">
                                      <p:cBhvr>
                                        <p:cTn id="639" dur="4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path" presetID="0" repeatCount="indefinite">
                                  <p:stCondLst>
                                    <p:cond delay="13400"/>
                                  </p:stCondLst>
                                  <p:childTnLst>
                                    <p:animMotion origin="layout" path="M 0 0 C 0.01805 0.06637 0.03611 0.13298 0.03698 0.23173 C 0.03785 0.33048 0.02448 0.49561 0.00538 0.59297 C -0.01372 0.69033 -0.06215 0.7759 -0.07813 0.81568 C -0.0941 0.85546 -0.09149 0.82817 -0.09045 0.8321 E">
                                      <p:cBhvr>
                                        <p:cTn id="644" dur="4500" fill="hold"/>
                                        <p:tgtEl>
                                          <p:spTgt spid="6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5" nodeType="withEffect" fill="hold" presetClass="emph" presetID="6" repeatCount="indefinite">
                                  <p:stCondLst>
                                    <p:cond delay="13400"/>
                                  </p:stCondLst>
                                  <p:childTnLst>
                                    <p:animScale>
                                      <p:cBhvr>
                                        <p:cTn id="646" dur="4500" fill="hold"/>
                                        <p:tgtEl>
                                          <p:spTgt spid="623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647" nodeType="withEffect" fill="hold" presetClass="emph" presetID="8" repeatCount="10000">
                                  <p:stCondLst>
                                    <p:cond delay="13400"/>
                                  </p:stCondLst>
                                  <p:childTnLst>
                                    <p:animRot by="-10799880">
                                      <p:cBhvr>
                                        <p:cTn id="648" dur="4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0">
                                  <p:stCondLst>
                                    <p:cond delay="1340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path" presetID="0" repeatCount="indefinite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-0.0033 -0.00047 C 0.02083 0.13089 0.04496 0.26272 0.04878 0.35615 C 0.0526 0.44935 0.02378 0.5067 0.01996 0.55851 C 0.01614 0.61031 0.01597 0.61679 0.02552 0.66674 C 0.03507 0.71623 0.06857 0.82539 0.07743 0.8573 E">
                                      <p:cBhvr>
                                        <p:cTn id="653" dur="7000" fill="hold"/>
                                        <p:tgtEl>
                                          <p:spTgt spid="6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4" nodeType="withEffect" fill="hold" presetClass="emph" presetID="6" repeatCount="indefinite">
                                  <p:stCondLst>
                                    <p:cond delay="15000"/>
                                  </p:stCondLst>
                                  <p:childTnLst>
                                    <p:animScale>
                                      <p:cBhvr>
                                        <p:cTn id="655" dur="7000" fill="hold"/>
                                        <p:tgtEl>
                                          <p:spTgt spid="624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656" nodeType="withEffect" fill="hold" presetClass="emph" presetID="8" repeatCount="indefinite">
                                  <p:stCondLst>
                                    <p:cond delay="15000"/>
                                  </p:stCondLst>
                                  <p:childTnLst>
                                    <p:animRot by="5400000">
                                      <p:cBhvr>
                                        <p:cTn id="657" dur="7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10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2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path" presetID="0" repeatCount="indefinite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0.58733 0.09783 C 0.61146 0.22919 0.63559 0.36101 0.63941 0.45444 C 0.64323 0.54764 0.61441 0.605 0.61059 0.6568 C 0.60677 0.7086 0.6066 0.71508 0.61615 0.76503 C 0.62569 0.81452 0.6592 0.92368 0.66806 0.9556 L 0.58733 0.09783 Z">
                                      <p:cBhvr>
                                        <p:cTn id="662" dur="7000" fill="hold"/>
                                        <p:tgtEl>
                                          <p:spTgt spid="6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3" nodeType="withEffect" fill="hold" presetClass="emph" presetID="6" repeatCount="indefinite">
                                  <p:stCondLst>
                                    <p:cond delay="15000"/>
                                  </p:stCondLst>
                                  <p:childTnLst>
                                    <p:animScale>
                                      <p:cBhvr>
                                        <p:cTn id="664" dur="7000" fill="hold"/>
                                        <p:tgtEl>
                                          <p:spTgt spid="625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665" nodeType="withEffect" fill="hold" presetClass="emph" presetID="8" repeatCount="indefinite">
                                  <p:stCondLst>
                                    <p:cond delay="15000"/>
                                  </p:stCondLst>
                                  <p:childTnLst>
                                    <p:animRot by="5400000">
                                      <p:cBhvr>
                                        <p:cTn id="666" dur="7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0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path" presetID="0" repeatCount="indefinite">
                                  <p:stCondLst>
                                    <p:cond delay="13400"/>
                                  </p:stCondLst>
                                  <p:childTnLst>
                                    <p:animMotion origin="layout" path="M 0 0 C 0.01805 0.06637 0.03611 0.13298 0.03698 0.23173 C 0.03785 0.33048 0.02448 0.49561 0.00538 0.59297 C -0.01372 0.69033 -0.06215 0.7759 -0.07813 0.81568 C -0.0941 0.85546 -0.09149 0.82817 -0.09045 0.8321 E">
                                      <p:cBhvr>
                                        <p:cTn id="671" dur="4500" fill="hold"/>
                                        <p:tgtEl>
                                          <p:spTgt spid="6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2" nodeType="withEffect" fill="hold" presetClass="emph" presetID="6" repeatCount="indefinite">
                                  <p:stCondLst>
                                    <p:cond delay="13400"/>
                                  </p:stCondLst>
                                  <p:childTnLst>
                                    <p:animScale>
                                      <p:cBhvr>
                                        <p:cTn id="673" dur="4500" fill="hold"/>
                                        <p:tgtEl>
                                          <p:spTgt spid="626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674" nodeType="withEffect" fill="hold" presetClass="emph" presetID="8" repeatCount="indefinite">
                                  <p:stCondLst>
                                    <p:cond delay="13400"/>
                                  </p:stCondLst>
                                  <p:childTnLst>
                                    <p:animRot by="-10799880">
                                      <p:cBhvr>
                                        <p:cTn id="675" dur="4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path" presetID="0" repeatCount="indefinite">
                                  <p:stCondLst>
                                    <p:cond delay="13400"/>
                                  </p:stCondLst>
                                  <p:childTnLst>
                                    <p:animMotion origin="layout" path="M 0 0 C 0.01805 0.06637 0.03611 0.13298 0.03698 0.23173 C 0.03785 0.33048 0.02448 0.49561 0.00538 0.59297 C -0.01372 0.69033 -0.06215 0.7759 -0.07813 0.81568 C -0.0941 0.85546 -0.09149 0.82817 -0.09045 0.8321 E">
                                      <p:cBhvr>
                                        <p:cTn id="680" dur="4500" fill="hold"/>
                                        <p:tgtEl>
                                          <p:spTgt spid="6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1" nodeType="withEffect" fill="hold" presetClass="emph" presetID="6" repeatCount="indefinite">
                                  <p:stCondLst>
                                    <p:cond delay="13400"/>
                                  </p:stCondLst>
                                  <p:childTnLst>
                                    <p:animScale>
                                      <p:cBhvr>
                                        <p:cTn id="682" dur="4500" fill="hold"/>
                                        <p:tgtEl>
                                          <p:spTgt spid="627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683" nodeType="withEffect" fill="hold" presetClass="emph" presetID="8" repeatCount="indefinite">
                                  <p:stCondLst>
                                    <p:cond delay="13400"/>
                                  </p:stCondLst>
                                  <p:childTnLst>
                                    <p:animRot by="-10799880">
                                      <p:cBhvr>
                                        <p:cTn id="684" dur="4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134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path" presetID="0" repeatCount="indefinite">
                                  <p:stCondLst>
                                    <p:cond delay="13400"/>
                                  </p:stCondLst>
                                  <p:childTnLst>
                                    <p:animMotion origin="layout" path="M -0.01528 -0.00694 C -0.01302 0.05943 -0.01093 0.12604 -0.01076 0.22479 C -0.01059 0.32354 -0.0125 0.48867 -0.01475 0.58603 C -0.01718 0.68339 -0.02291 0.76896 -0.02482 0.80874 C -0.02673 0.84852 -0.02673 0.82123 -0.02656 0.82516 E">
                                      <p:cBhvr>
                                        <p:cTn id="689" dur="4500" fill="hold"/>
                                        <p:tgtEl>
                                          <p:spTgt spid="6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0" nodeType="withEffect" fill="hold" presetClass="emph" presetID="6" repeatCount="indefinite">
                                  <p:stCondLst>
                                    <p:cond delay="13400"/>
                                  </p:stCondLst>
                                  <p:childTnLst>
                                    <p:animScale>
                                      <p:cBhvr>
                                        <p:cTn id="691" dur="4500" fill="hold"/>
                                        <p:tgtEl>
                                          <p:spTgt spid="628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692" nodeType="withEffect" fill="hold" presetClass="emph" presetID="8" repeatCount="indefinite">
                                  <p:stCondLst>
                                    <p:cond delay="13400"/>
                                  </p:stCondLst>
                                  <p:childTnLst>
                                    <p:animRot by="-10799880">
                                      <p:cBhvr>
                                        <p:cTn id="693" dur="4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4" nodeType="withEffect" fill="hold" presetClass="path" presetID="0" repeatCount="1000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0823 0.01966 C 0.14306 0.00995 0.20382 0.00046 0.21667 -0.00416 C 0.22952 -0.00879 0.14862 -0.01295 0.15921 -0.00856 C 0.16962 -0.00416 0.24341 0.01619 0.28056 0.02197 C 0.31771 0.02775 0.3757 0.02128 0.3823 0.02637 C 0.38889 0.03145 0.33195 0.0562 0.31997 0.0525 C 0.30799 0.0488 0.28247 0.00948 0.31007 0.0044 C 0.33768 -0.00069 0.4349 0.01873 0.48542 0.02197 C 0.53594 0.02521 0.6066 0.02035 0.6132 0.02405 C 0.61997 0.02775 0.54705 0.04579 0.52483 0.04371 C 0.50243 0.04163 0.45469 0.0148 0.479 0.0111 C 0.5033 0.0074 0.62743 0.01873 0.67084 0.02197 C 0.71424 0.02521 0.72952 0.03215 0.73959 0.03076 C 0.74966 0.02937 0.74601 0.00856 0.73143 0.01318 C 0.71667 0.01781 0.64445 0.04996 0.65105 0.05897 C 0.65764 0.06799 0.74184 0.06961 0.77084 0.06776 C 0.79983 0.06591 0.79584 0.05389 0.82483 0.04811 C 0.85382 0.04232 0.9191 0.03284 0.94445 0.03284 C 0.9698 0.03284 0.96667 0.04186 0.97726 0.04811 C 0.98785 0.05435 1.01719 0.06545 1.00851 0.07008 C 0.99983 0.0747 0.96059 0.08418 0.92483 0.07655 C 0.88907 0.06892 0.84601 0.03816 0.79375 0.02405 C 0.7415 0.00995 0.66806 0.00301 0.61181 -0.00856 C 0.55556 -0.02012 0.48559 -0.05411 0.45608 -0.04579 C 0.42657 -0.03746 0.45799 0.03539 0.43473 0.04163 C 0.41146 0.04787 0.34237 0.00162 0.31667 -0.00856 C 0.29063 -0.01873 0.29063 -0.02428 0.279 -0.01966 C 0.26719 -0.01503 0.25191 0.03677 0.24618 0.01966 C 0.24046 0.00255 0.25261 -0.0895 0.24445 -0.12211 C 0.23629 -0.15472 0.2132 -0.16767 0.19705 -0.17669 C 0.18091 -0.18571 0.16112 -0.20513 0.14775 -0.17669 C 0.13438 -0.14824 0.13351 -0.03885 0.11632 -0.00647 C 0.09983 0.0259 0.07292 0.02174 0.04618 0.01758 E">
                                      <p:cBhvr>
                                        <p:cTn id="695" dur="20000" fill="hold"/>
                                        <p:tgtEl>
                                          <p:spTgt spid="6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6" nodeType="withEffect" fill="hold" presetClass="path" presetID="0" repeatCount="1000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06806 0.00693 C 0.12882 -0.00278 0.18959 -0.01226 0.20243 -0.01688 C 0.21528 -0.02151 0.13438 -0.02567 0.14497 -0.02128 C 0.15538 -0.01688 0.22917 0.00346 0.26632 0.00924 C 0.30347 0.01502 0.36146 0.00855 0.36806 0.01364 C 0.37465 0.01872 0.31771 0.04346 0.30573 0.03976 C 0.29375 0.03606 0.26823 -0.00324 0.29584 -0.00833 C 0.32344 -0.01342 0.42066 0.00601 0.47118 0.00924 C 0.5217 0.01248 0.59236 0.00763 0.59896 0.01132 C 0.60573 0.01502 0.53281 0.03306 0.51059 0.03098 C 0.4882 0.0289 0.44045 0.00208 0.46476 -0.00162 C 0.48906 -0.00532 0.6132 0.00601 0.6566 0.00924 C 0.7 0.01248 0.71528 0.01942 0.72535 0.01803 C 0.73542 0.01664 0.73177 -0.00417 0.71719 0.00046 C 0.70243 0.00508 0.63021 0.03722 0.63681 0.04624 C 0.6434 0.05526 0.72761 0.05687 0.7566 0.05502 C 0.78559 0.05317 0.7816 0.04115 0.81059 0.03537 C 0.83959 0.02959 0.90486 0.02011 0.93021 0.02011 C 0.95556 0.02011 0.95243 0.02913 0.96302 0.03537 C 0.97361 0.04161 1.00295 0.05271 0.99427 0.05734 C 0.98559 0.06196 0.94636 0.07144 0.91059 0.06381 C 0.87483 0.05618 0.83177 0.02543 0.77952 0.01132 C 0.72726 -0.00278 0.65382 -0.00972 0.59757 -0.02128 C 0.54132 -0.03284 0.47136 -0.06683 0.44184 -0.0585 C 0.41233 -0.05018 0.44375 0.02265 0.42049 0.0289 C 0.39722 0.03514 0.32813 -0.0111 0.30243 -0.02128 C 0.27639 -0.03145 0.27639 -0.037 0.26476 -0.03237 C 0.25295 -0.02775 0.23768 0.02404 0.23195 0.00693 C 0.22622 -0.01018 0.23837 -0.1022 0.23021 -0.1348 C 0.22205 -0.1674 0.19896 -0.18035 0.18281 -0.18937 C 0.16667 -0.19839 0.14688 -0.21781 0.13351 -0.18937 C 0.12014 -0.16093 0.11927 -0.05157 0.10209 -0.0192 C 0.08559 0.01317 0.05868 0.00901 0.03195 0.00485 E">
                                      <p:cBhvr>
                                        <p:cTn id="697" dur="20000" fill="hold"/>
                                        <p:tgtEl>
                                          <p:spTgt spid="6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8" nodeType="withEffect" fill="hold" presetClass="path" presetID="0" repeatCount="1000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0.0026 0.12848 C 0.05816 0.11875 0.11893 0.10926 0.13177 0.10463 C 0.14462 0.1 0.06372 0.09584 0.07431 0.10024 C 0.08472 0.10463 0.15851 0.125 0.19566 0.13079 C 0.23281 0.13658 0.2908 0.1301 0.2974 0.13519 C 0.304 0.14028 0.24705 0.16505 0.23507 0.16135 C 0.22309 0.15764 0.19757 0.11829 0.22518 0.1132 C 0.25278 0.10811 0.35 0.12755 0.40052 0.13079 C 0.45104 0.13403 0.5217 0.12917 0.5283 0.13287 C 0.53507 0.13658 0.46215 0.15463 0.43993 0.15255 C 0.41754 0.15047 0.36979 0.12362 0.3941 0.11991 C 0.4184 0.11621 0.54254 0.12755 0.58594 0.13079 C 0.62934 0.13403 0.64462 0.14098 0.65469 0.13959 C 0.66476 0.1382 0.66111 0.11737 0.64653 0.122 C 0.63177 0.12662 0.55955 0.1588 0.56615 0.16783 C 0.57275 0.17686 0.65695 0.17848 0.68594 0.17662 C 0.71493 0.17477 0.71094 0.16274 0.73993 0.15695 C 0.76893 0.15116 0.8342 0.14167 0.85955 0.14167 C 0.8849 0.14167 0.88177 0.1507 0.89236 0.15695 C 0.90295 0.1632 0.93229 0.17431 0.92361 0.17894 C 0.91493 0.18357 0.8757 0.19306 0.83993 0.18542 C 0.80417 0.17778 0.76111 0.147 0.70886 0.13287 C 0.6566 0.11875 0.58316 0.11181 0.52691 0.10024 C 0.47066 0.08866 0.4007 0.05463 0.37118 0.06297 C 0.34167 0.0713 0.37309 0.14422 0.34983 0.15047 C 0.32656 0.15672 0.25747 0.11042 0.23177 0.10024 C 0.20573 0.09005 0.20573 0.0845 0.1941 0.08912 C 0.18229 0.09375 0.16702 0.14561 0.16129 0.12848 C 0.15556 0.11135 0.16771 0.01922 0.15955 -0.01342 C 0.15139 -0.04606 0.1283 -0.05902 0.11215 -0.06805 C 0.09601 -0.07708 0.07622 -0.09652 0.06285 -0.06805 C 0.04948 -0.03958 0.04879 0.06991 0.0316 0.10232 C 0.01493 0.13473 -0.01198 0.13056 -0.03871 0.12639 E">
                                      <p:cBhvr>
                                        <p:cTn id="699" dur="20000" fill="hold"/>
                                        <p:tgtEl>
                                          <p:spTgt spid="6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10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3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path" presetID="63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4.16667E-006 2.53469E-006 L 0.96458 2.53469E-006 E">
                                      <p:cBhvr>
                                        <p:cTn id="704" dur="22000" fill="hold"/>
                                        <p:tgtEl>
                                          <p:spTgt spid="6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5" nodeType="withEffect" fill="hold" presetClass="exit" presetID="10">
                                  <p:stCondLst>
                                    <p:cond delay="4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6" dur="48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7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10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68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path" presetID="63">
                                  <p:stCondLst>
                                    <p:cond delay="16000"/>
                                  </p:stCondLst>
                                  <p:childTnLst>
                                    <p:animMotion origin="layout" path="M 0.16024 0.0488 L 0.99097 0.03816 E">
                                      <p:cBhvr>
                                        <p:cTn id="712" dur="24000" fill="hold"/>
                                        <p:tgtEl>
                                          <p:spTgt spid="6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10">
                                  <p:stCondLst>
                                    <p:cond delay="5250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15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path" presetID="63">
                                  <p:stCondLst>
                                    <p:cond delay="45000"/>
                                  </p:stCondLst>
                                  <p:childTnLst>
                                    <p:animMotion origin="layout" path="M 0.03021 0.16074 L 0.78628 0.16074 E">
                                      <p:cBhvr>
                                        <p:cTn id="717" dur="22000" fill="hold"/>
                                        <p:tgtEl>
                                          <p:spTgt spid="6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8" nodeType="withEffect" fill="hold" presetClass="exit" presetID="10">
                                  <p:stCondLst>
                                    <p:cond delay="5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9" dur="12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119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xit" presetID="10">
                                  <p:stCondLst>
                                    <p:cond delay="6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2" dur="18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179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10">
                                  <p:stCondLst>
                                    <p:cond delay="575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path" presetID="63">
                                  <p:stCondLst>
                                    <p:cond delay="60000"/>
                                  </p:stCondLst>
                                  <p:childTnLst>
                                    <p:animMotion origin="layout" path="M 0.09983 0.13125 L 0.85191 0.13148 E">
                                      <p:cBhvr>
                                        <p:cTn id="728" dur="22000" fill="hold"/>
                                        <p:tgtEl>
                                          <p:spTgt spid="6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9" nodeType="withEffect" fill="hold" presetClass="exit" presetID="10">
                                  <p:stCondLst>
                                    <p:cond delay="8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0" dur="22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219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10">
                                  <p:stCondLst>
                                    <p:cond delay="8500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2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path" presetID="63">
                                  <p:stCondLst>
                                    <p:cond delay="89000"/>
                                  </p:stCondLst>
                                  <p:childTnLst>
                                    <p:animMotion origin="layout" path="M -0.1 0.06829 L 0.22292 0.06829 E">
                                      <p:cBhvr>
                                        <p:cTn id="736" dur="20000" fill="hold"/>
                                        <p:tgtEl>
                                          <p:spTgt spid="6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0">
                                  <p:stCondLst>
                                    <p:cond delay="120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8" dur="25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249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0">
                                  <p:stCondLst>
                                    <p:cond delay="13900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10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10">
                                  <p:stCondLst>
                                    <p:cond delay="15400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3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10">
                                  <p:stCondLst>
                                    <p:cond delay="15300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30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path" presetID="35">
                                  <p:stCondLst>
                                    <p:cond delay="155000"/>
                                  </p:stCondLst>
                                  <p:childTnLst>
                                    <p:animMotion origin="layout" path="M 0.00469 -0.025 L -0.21545 -0.02477 E">
                                      <p:cBhvr>
                                        <p:cTn id="750" dur="12000" fill="hold"/>
                                        <p:tgtEl>
                                          <p:spTgt spid="6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1" nodeType="withEffect" fill="hold" presetClass="exit" presetID="10">
                                  <p:stCondLst>
                                    <p:cond delay="17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2" dur="3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nodeType="withEffect" fill="hold" presetClass="exit" presetID="10">
                                  <p:stCondLst>
                                    <p:cond delay="17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5" dur="3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nodeType="withEffect" fill="hold" presetClass="exit" presetID="10">
                                  <p:stCondLst>
                                    <p:cond delay="19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8" dur="8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79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0">
                                  <p:stCondLst>
                                    <p:cond delay="20600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8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0">
                                  <p:stCondLst>
                                    <p:cond delay="21350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28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path" presetID="63">
                                  <p:stCondLst>
                                    <p:cond delay="215000"/>
                                  </p:stCondLst>
                                  <p:childTnLst>
                                    <p:animMotion origin="layout" path="M 0.31007 -0.12592 L 0.80608 -0.12569 E">
                                      <p:cBhvr>
                                        <p:cTn id="767" dur="28000" fill="hold"/>
                                        <p:tgtEl>
                                          <p:spTgt spid="6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8" nodeType="withEffect" fill="hold" presetClass="exit" presetID="10">
                                  <p:stCondLst>
                                    <p:cond delay="21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9" dur="5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exit" presetID="10">
                                  <p:stCondLst>
                                    <p:cond delay="239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2" dur="2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219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10">
                                  <p:stCondLst>
                                    <p:cond delay="980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path" presetID="0" repeatCount="indefinite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0.36215 -0.34274 C 0.32639 -0.21161 0.29115 -0.07979 0.28576 0.01364 C 0.27969 0.10661 0.32222 0.16396 0.32812 0.21577 C 0.33368 0.26757 0.33403 0.27405 0.31979 0.32377 C 0.30555 0.37326 0.2566 0.48242 0.2434 0.51433 E">
                                      <p:cBhvr>
                                        <p:cTn id="778" dur="7000" fill="hold"/>
                                        <p:tgtEl>
                                          <p:spTgt spid="6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9" nodeType="withEffect" fill="hold" presetClass="emph" presetID="6" repeatCount="indefinite">
                                  <p:stCondLst>
                                    <p:cond delay="15000"/>
                                  </p:stCondLst>
                                  <p:childTnLst>
                                    <p:animScale>
                                      <p:cBhvr>
                                        <p:cTn id="780" dur="7000" fill="hold"/>
                                        <p:tgtEl>
                                          <p:spTgt spid="645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781" nodeType="withEffect" fill="hold" presetClass="emph" presetID="8" repeatCount="indefinite">
                                  <p:stCondLst>
                                    <p:cond delay="15000"/>
                                  </p:stCondLst>
                                  <p:childTnLst>
                                    <p:animRot by="5400000">
                                      <p:cBhvr>
                                        <p:cTn id="782" dur="7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3" presetSubtype="10">
                                  <p:stCondLst>
                                    <p:cond delay="24800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5" dur="9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7" dur="261591" fill="hold"/>
                                        <p:tgtEl>
                                          <p:spTgt spid="6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4" descr="e823f482e50a726566096e03"/>
          <p:cNvPicPr/>
          <p:nvPr/>
        </p:nvPicPr>
        <p:blipFill>
          <a:blip r:embed="rId1"/>
          <a:stretch/>
        </p:blipFill>
        <p:spPr>
          <a:xfrm>
            <a:off x="0" y="-1033560"/>
            <a:ext cx="9540720" cy="8494920"/>
          </a:xfrm>
          <a:prstGeom prst="rect">
            <a:avLst/>
          </a:prstGeom>
          <a:ln w="0">
            <a:noFill/>
          </a:ln>
        </p:spPr>
      </p:pic>
      <p:sp>
        <p:nvSpPr>
          <p:cNvPr id="513" name="Text Box 5"/>
          <p:cNvSpPr/>
          <p:nvPr/>
        </p:nvSpPr>
        <p:spPr>
          <a:xfrm>
            <a:off x="0" y="90792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长城中行书体"/>
              </a:rPr>
              <a:t>予独爱莲之出淤泥而不染</a:t>
            </a: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4" name="Text Box 6"/>
          <p:cNvSpPr/>
          <p:nvPr/>
        </p:nvSpPr>
        <p:spPr>
          <a:xfrm>
            <a:off x="4932360" y="278136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长城中行书体"/>
              </a:rPr>
              <a:t>濯清涟而不妖</a:t>
            </a: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3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500"/>
                            </p:stCondLst>
                            <p:childTnLst>
                              <p:par>
                                <p:cTn id="14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10" descr="efa067c604bbad269d163d85副本"/>
          <p:cNvPicPr/>
          <p:nvPr/>
        </p:nvPicPr>
        <p:blipFill>
          <a:blip r:embed="rId1"/>
          <a:stretch/>
        </p:blipFill>
        <p:spPr>
          <a:xfrm>
            <a:off x="0" y="0"/>
            <a:ext cx="9325080" cy="7375680"/>
          </a:xfrm>
          <a:prstGeom prst="rect">
            <a:avLst/>
          </a:prstGeom>
          <a:ln w="0">
            <a:noFill/>
          </a:ln>
        </p:spPr>
      </p:pic>
      <p:sp>
        <p:nvSpPr>
          <p:cNvPr id="516" name="Text Box 6"/>
          <p:cNvSpPr/>
          <p:nvPr/>
        </p:nvSpPr>
        <p:spPr>
          <a:xfrm>
            <a:off x="250920" y="26028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长城中行书体"/>
              </a:rPr>
              <a:t>中通外直</a:t>
            </a: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7" name="Text Box 7"/>
          <p:cNvSpPr/>
          <p:nvPr/>
        </p:nvSpPr>
        <p:spPr>
          <a:xfrm>
            <a:off x="250920" y="1197000"/>
            <a:ext cx="27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长城中行书体"/>
              </a:rPr>
              <a:t>不蔓不枝</a:t>
            </a: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8" name="Text Box 8"/>
          <p:cNvSpPr/>
          <p:nvPr/>
        </p:nvSpPr>
        <p:spPr>
          <a:xfrm>
            <a:off x="6156360" y="486900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长城中行书体"/>
              </a:rPr>
              <a:t>香远益清</a:t>
            </a: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9" name="Text Box 9"/>
          <p:cNvSpPr/>
          <p:nvPr/>
        </p:nvSpPr>
        <p:spPr>
          <a:xfrm>
            <a:off x="6156360" y="573408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长城中行书体"/>
              </a:rPr>
              <a:t>亭亭净植</a:t>
            </a: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6000"/>
                            </p:stCondLst>
                            <p:childTnLst>
                              <p:par>
                                <p:cTn id="17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8000"/>
                            </p:stCondLst>
                            <p:childTnLst>
                              <p:par>
                                <p:cTn id="17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5" descr="d5b6a6cf8adf436d0fb34586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21" name="Text Box 6"/>
          <p:cNvSpPr/>
          <p:nvPr/>
        </p:nvSpPr>
        <p:spPr>
          <a:xfrm>
            <a:off x="2700360" y="587700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长城中行书体"/>
              </a:rPr>
              <a:t>可远观而不可亵玩焉</a:t>
            </a: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3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5" descr="2760_1241575317Bcps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6" descr="01200000000481120176688062528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6858000"/>
          </a:xfrm>
          <a:prstGeom prst="rect">
            <a:avLst/>
          </a:prstGeom>
          <a:ln w="0">
            <a:noFill/>
          </a:ln>
        </p:spPr>
      </p:pic>
      <p:sp>
        <p:nvSpPr>
          <p:cNvPr id="524" name="Text Box 7"/>
          <p:cNvSpPr/>
          <p:nvPr/>
        </p:nvSpPr>
        <p:spPr>
          <a:xfrm>
            <a:off x="8031240" y="981000"/>
            <a:ext cx="85068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Arial"/>
                <a:ea typeface="长城中行书体"/>
              </a:rPr>
              <a:t>予   谓    菊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5" name="Text Box 10"/>
          <p:cNvSpPr/>
          <p:nvPr/>
        </p:nvSpPr>
        <p:spPr>
          <a:xfrm>
            <a:off x="-544320" y="981000"/>
            <a:ext cx="12776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"/>
                <a:ea typeface="长城中行书体"/>
              </a:rPr>
              <a:t>花  之  隐  逸  者  也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5278 0.97155 L 2.77778E-007 1.92414E-006 E">
                                      <p:cBhvr>
                                        <p:cTn id="203" dur="2000" fill="hold"/>
                                        <p:tgtEl>
                                          <p:spTgt spid="5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33303 L -3.61111E-006 4.7271E-006 E">
                                      <p:cBhvr>
                                        <p:cTn id="208" dur="2000" fill="hold"/>
                                        <p:tgtEl>
                                          <p:spTgt spid="5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path" presetID="64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.00313 0.64523 L 0.00313 -0.04718 E">
                                      <p:cBhvr>
                                        <p:cTn id="216" dur="2000" fill="hold"/>
                                        <p:tgtEl>
                                          <p:spTgt spid="5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7" nodeType="withEffect" fill="hold" presetClass="path" presetID="56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.71267 1.35602 L 2.77778E-006 0 E">
                                      <p:cBhvr>
                                        <p:cTn id="218" dur="2000" fill="hold"/>
                                        <p:tgtEl>
                                          <p:spTgt spid="5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Picture 4" descr="200726103737564"/>
          <p:cNvPicPr/>
          <p:nvPr/>
        </p:nvPicPr>
        <p:blipFill>
          <a:blip r:embed="rId1"/>
          <a:stretch/>
        </p:blipFill>
        <p:spPr>
          <a:xfrm>
            <a:off x="0" y="-817560"/>
            <a:ext cx="6877080" cy="488160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6" descr="200942419268619"/>
          <p:cNvPicPr/>
          <p:nvPr/>
        </p:nvPicPr>
        <p:blipFill>
          <a:blip r:embed="rId2"/>
          <a:stretch/>
        </p:blipFill>
        <p:spPr>
          <a:xfrm>
            <a:off x="4167360" y="-385920"/>
            <a:ext cx="4976640" cy="6856560"/>
          </a:xfrm>
          <a:prstGeom prst="rect">
            <a:avLst/>
          </a:prstGeom>
          <a:ln w="0">
            <a:noFill/>
          </a:ln>
        </p:spPr>
      </p:pic>
      <p:sp>
        <p:nvSpPr>
          <p:cNvPr id="528" name="Text Box 5"/>
          <p:cNvSpPr/>
          <p:nvPr/>
        </p:nvSpPr>
        <p:spPr>
          <a:xfrm>
            <a:off x="7236000" y="981000"/>
            <a:ext cx="165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cc"/>
                </a:solidFill>
                <a:latin typeface="Arial"/>
                <a:ea typeface="长城中行书体"/>
              </a:rPr>
              <a:t>牡  丹</a:t>
            </a:r>
            <a:endParaRPr b="1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9" name="Text Box 7"/>
          <p:cNvSpPr/>
          <p:nvPr/>
        </p:nvSpPr>
        <p:spPr>
          <a:xfrm>
            <a:off x="244800" y="2205000"/>
            <a:ext cx="164268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cc"/>
                </a:solidFill>
                <a:latin typeface="Arial"/>
                <a:ea typeface="长城中行书体"/>
              </a:rPr>
              <a:t>花之富贵者也</a:t>
            </a:r>
            <a:endParaRPr b="1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path" presetID="5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91 -0.31383 L -0.07812 -0.19866 C -0.09496 -0.17438 -0.10434 -0.1383 -0.10434 -0.10061 C -0.10434 -0.05759 -0.09496 -0.02336 -0.07812 0.00092 L -0.00191 0.11632 E">
                                      <p:cBhvr>
                                        <p:cTn id="227" dur="2000" fill="hold"/>
                                        <p:tgtEl>
                                          <p:spTgt spid="5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2" dur="2000" fill="hold"/>
                                        <p:tgtEl>
                                          <p:spTgt spid="5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3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8 -0.38621 L -0.00381 0.26411 E">
                                      <p:cBhvr>
                                        <p:cTn id="234" dur="2000" fill="hold"/>
                                        <p:tgtEl>
                                          <p:spTgt spid="5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path" presetID="6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5.55556E-007 0.33303 L -0.0026 -0.2308 E">
                                      <p:cBhvr>
                                        <p:cTn id="239" dur="2000" fill="hold"/>
                                        <p:tgtEl>
                                          <p:spTgt spid="5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1" dur="3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path" presetID="51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0.03507 -0.31083 L 0.09357 -0.21254 C 0.10694 -0.19195 0.11441 -0.16096 0.11441 -0.12882 C 0.11441 -0.09205 0.10694 -0.06268 0.09357 -0.04232 L 0.03507 0.05643 E">
                                      <p:cBhvr>
                                        <p:cTn id="250" dur="2000" fill="hold"/>
                                        <p:tgtEl>
                                          <p:spTgt spid="5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4" descr="3970101_122423626615_2"/>
          <p:cNvPicPr/>
          <p:nvPr/>
        </p:nvPicPr>
        <p:blipFill>
          <a:blip r:embed="rId1"/>
          <a:stretch/>
        </p:blipFill>
        <p:spPr>
          <a:xfrm>
            <a:off x="0" y="0"/>
            <a:ext cx="9468000" cy="6865920"/>
          </a:xfrm>
          <a:prstGeom prst="rect">
            <a:avLst/>
          </a:prstGeom>
          <a:ln w="0">
            <a:noFill/>
          </a:ln>
        </p:spPr>
      </p:pic>
      <p:sp>
        <p:nvSpPr>
          <p:cNvPr id="531" name="Text Box 5"/>
          <p:cNvSpPr/>
          <p:nvPr/>
        </p:nvSpPr>
        <p:spPr>
          <a:xfrm>
            <a:off x="468360" y="620640"/>
            <a:ext cx="30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bbe0e3"/>
                </a:solidFill>
                <a:latin typeface="Arial"/>
                <a:ea typeface="长城中行书体"/>
              </a:rPr>
              <a:t>莲</a:t>
            </a:r>
            <a:endParaRPr b="1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2" name="Text Box 6"/>
          <p:cNvSpPr/>
          <p:nvPr/>
        </p:nvSpPr>
        <p:spPr>
          <a:xfrm>
            <a:off x="0" y="2133720"/>
            <a:ext cx="59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bbe0e3"/>
                </a:solidFill>
                <a:latin typeface="Arial"/>
                <a:ea typeface="长城中行书体"/>
              </a:rPr>
              <a:t>花之君子者也</a:t>
            </a:r>
            <a:endParaRPr b="1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4" descr="45536bce3f88583893457e05"/>
          <p:cNvPicPr/>
          <p:nvPr/>
        </p:nvPicPr>
        <p:blipFill>
          <a:blip r:embed="rId1"/>
          <a:stretch/>
        </p:blipFill>
        <p:spPr>
          <a:xfrm>
            <a:off x="0" y="0"/>
            <a:ext cx="9144000" cy="783756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5"/>
          <p:cNvSpPr/>
          <p:nvPr/>
        </p:nvSpPr>
        <p:spPr>
          <a:xfrm>
            <a:off x="755640" y="6858000"/>
            <a:ext cx="12970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长城中行书体"/>
                <a:ea typeface="长城中行书体"/>
              </a:rPr>
              <a:t>噫</a:t>
            </a:r>
            <a:r>
              <a:rPr b="0" lang="en-US" sz="6000" spc="-1" strike="noStrike">
                <a:solidFill>
                  <a:srgbClr val="ffffff"/>
                </a:solidFill>
                <a:latin typeface="长城中行书体"/>
                <a:ea typeface="长城中行书体"/>
              </a:rPr>
              <a:t>!</a:t>
            </a:r>
            <a:endParaRPr b="1" lang="en-US" sz="60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5" name="Text Box 6"/>
          <p:cNvSpPr/>
          <p:nvPr/>
        </p:nvSpPr>
        <p:spPr>
          <a:xfrm>
            <a:off x="900000" y="7101000"/>
            <a:ext cx="331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长城中行书体"/>
              </a:rPr>
              <a:t>菊之爱</a:t>
            </a:r>
            <a:endParaRPr b="1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6" name="Text Box 7"/>
          <p:cNvSpPr/>
          <p:nvPr/>
        </p:nvSpPr>
        <p:spPr>
          <a:xfrm>
            <a:off x="0" y="7966080"/>
            <a:ext cx="496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长城中行书体"/>
              </a:rPr>
              <a:t>陶后鲜有闻</a:t>
            </a:r>
            <a:endParaRPr b="1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7" name="Text Box 8"/>
          <p:cNvSpPr/>
          <p:nvPr/>
        </p:nvSpPr>
        <p:spPr>
          <a:xfrm>
            <a:off x="539640" y="7605720"/>
            <a:ext cx="30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长城中行书体"/>
              </a:rPr>
              <a:t>莲之爱</a:t>
            </a:r>
            <a:endParaRPr b="1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8" name="Text Box 9"/>
          <p:cNvSpPr/>
          <p:nvPr/>
        </p:nvSpPr>
        <p:spPr>
          <a:xfrm>
            <a:off x="4788000" y="7893000"/>
            <a:ext cx="504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长城中行书体"/>
              </a:rPr>
              <a:t>同予者何人</a:t>
            </a:r>
            <a:endParaRPr b="1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9" name="Text Box 10"/>
          <p:cNvSpPr/>
          <p:nvPr/>
        </p:nvSpPr>
        <p:spPr>
          <a:xfrm>
            <a:off x="900000" y="8325000"/>
            <a:ext cx="414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长城中行书体"/>
              </a:rPr>
              <a:t>牡丹之爱</a:t>
            </a:r>
            <a:endParaRPr b="1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0" name="Text Box 11"/>
          <p:cNvSpPr/>
          <p:nvPr/>
        </p:nvSpPr>
        <p:spPr>
          <a:xfrm>
            <a:off x="395280" y="8182080"/>
            <a:ext cx="395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长城中行书体"/>
                <a:ea typeface="长城中行书体"/>
              </a:rPr>
              <a:t>宜乎众矣</a:t>
            </a:r>
            <a:r>
              <a:rPr b="0" lang="en-US" sz="6000" spc="-1" strike="noStrike">
                <a:solidFill>
                  <a:srgbClr val="ffffff"/>
                </a:solidFill>
                <a:latin typeface="长城中行书体"/>
                <a:ea typeface="长城中行书体"/>
              </a:rPr>
              <a:t>!</a:t>
            </a:r>
            <a:endParaRPr b="1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path" presetID="6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2.22222E-006 -0.10985 L -0.00781 -0.91513 E">
                                      <p:cBhvr>
                                        <p:cTn id="272" dur="2000" fill="hold"/>
                                        <p:tgtEl>
                                          <p:spTgt spid="5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-0.91512 L -0.00781 -1.24815 E">
                                      <p:cBhvr>
                                        <p:cTn id="281" dur="2000" fill="hold"/>
                                        <p:tgtEl>
                                          <p:spTgt spid="5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664 0.09204 L -0.08664 -0.79695 E">
                                      <p:cBhvr>
                                        <p:cTn id="283" dur="3000" fill="hold"/>
                                        <p:tgtEl>
                                          <p:spTgt spid="5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7000"/>
                            </p:stCondLst>
                            <p:childTnLst>
                              <p:par>
                                <p:cTn id="28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663 -0.79695 L -0.08663 -1.21647 E">
                                      <p:cBhvr>
                                        <p:cTn id="289" dur="2000" fill="hold"/>
                                        <p:tgtEl>
                                          <p:spTgt spid="5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63 -0.09713 L -0.02344 -0.83927 E">
                                      <p:cBhvr>
                                        <p:cTn id="294" dur="3000" fill="hold"/>
                                        <p:tgtEl>
                                          <p:spTgt spid="5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0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44 -0.83926 L -0.02344 -1.31914 E">
                                      <p:cBhvr>
                                        <p:cTn id="303" dur="2000" fill="hold"/>
                                        <p:tgtEl>
                                          <p:spTgt spid="5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1 -0.01572 L 0.071 -0.68177 E">
                                      <p:cBhvr>
                                        <p:cTn id="305" dur="20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" dur="2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1 -0.68178 L 0.071 -1.29024 E">
                                      <p:cBhvr>
                                        <p:cTn id="314" dur="20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3143 -0.09713 L -0.53924 -0.77613 E">
                                      <p:cBhvr>
                                        <p:cTn id="316" dur="2000" fill="hold"/>
                                        <p:tgtEl>
                                          <p:spTgt spid="5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2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3924 -0.77613 L -0.53924 -1.31105 E">
                                      <p:cBhvr>
                                        <p:cTn id="325" dur="2000" fill="hold"/>
                                        <p:tgtEl>
                                          <p:spTgt spid="5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712 -0.22294 L -0.05712 -0.84968 E">
                                      <p:cBhvr>
                                        <p:cTn id="327" dur="2000" fill="hold"/>
                                        <p:tgtEl>
                                          <p:spTgt spid="5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6000"/>
                            </p:stCondLst>
                            <p:childTnLst>
                              <p:par>
                                <p:cTn id="3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3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711 -0.84968 L -0.05711 -1.38437 E">
                                      <p:cBhvr>
                                        <p:cTn id="336" dur="2000" fill="hold"/>
                                        <p:tgtEl>
                                          <p:spTgt spid="5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63 -0.12581 L 0.00782 -0.79718 E">
                                      <p:cBhvr>
                                        <p:cTn id="338" dur="2000" fill="hold"/>
                                        <p:tgtEl>
                                          <p:spTgt spid="5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8000"/>
                            </p:stCondLst>
                            <p:childTnLst>
                              <p:par>
                                <p:cTn id="34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1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2 -0.79718 L 0.00782 -1.32169 E">
                                      <p:cBhvr>
                                        <p:cTn id="344" dur="2000" fill="hold"/>
                                        <p:tgtEl>
                                          <p:spTgt spid="5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9T07:50:10Z</dcterms:created>
  <dc:creator>堂芝鸣</dc:creator>
  <dc:description/>
  <dc:language>en-US</dc:language>
  <cp:lastModifiedBy>jccook</cp:lastModifiedBy>
  <dcterms:modified xsi:type="dcterms:W3CDTF">2015-07-14T06:18:00Z</dcterms:modified>
  <cp:revision>1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