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D86-C016-4082-B883-4204B95D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5AF-D100-4605-BAE6-22D2BF3C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EBC-CBAC-4B34-9ABB-C3CACABB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3AE-A33D-47BB-9660-9DC07B73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4BF-5F33-42FE-83B4-D4C609EA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7CC-FFA5-496B-B505-9843D6A7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C04-C5B2-4CF9-B9EC-01AC4C37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B0F-B0BC-4909-8246-87E2B852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9FA-D99B-4E4B-852D-60A3798E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03D-1749-40F7-ACBF-2010105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266-E155-4166-B5A3-BBDB3098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D54-98B4-4406-8E94-524E68FB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215CB9C6-650C-448E-A891-944B293F3B57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幻灯片1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幻灯片10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幻灯片11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幻灯片12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幻灯片13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幻灯片2"/>
          <p:cNvPicPr/>
          <p:nvPr/>
        </p:nvPicPr>
        <p:blipFill>
          <a:blip r:embed="rId9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幻灯片3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幻灯片4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幻灯片5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幻灯片6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幻灯片7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幻灯片8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幻灯片9"/>
          <p:cNvPicPr/>
          <p:nvPr/>
        </p:nvPicPr>
        <p:blipFill>
          <a:blip r:embed="rId1"/>
          <a:stretch/>
        </p:blipFill>
        <p:spPr>
          <a:xfrm>
            <a:off x="1440" y="3240"/>
            <a:ext cx="1727856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6:30:46Z</dcterms:created>
  <dc:creator>新教育</dc:creator>
  <dc:description/>
  <dc:language>en-US</dc:language>
  <cp:lastModifiedBy>Sky123.Org</cp:lastModifiedBy>
  <dcterms:modified xsi:type="dcterms:W3CDTF">2015-08-04T02:49:34Z</dcterms:modified>
  <cp:revision>3</cp:revision>
  <dc:subject/>
  <dc:title>幻灯片 1</dc:title>
</cp:coreProperties>
</file>