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E86-5266-4C99-8762-5DA30BEB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CFA-FBA5-4E3D-BD5F-C33B1BB2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925-BD0C-41EC-946D-9FE3FA60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348-698E-4689-95EE-C3419CB2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84E-A55C-4496-B8B3-43132C30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14B-15C1-431E-904A-0075DBD9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9E6-392F-463B-9F29-522D319F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D87-9F83-4EB7-9AB6-E49F556E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A8B-DF6D-4028-BE8E-096F4263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267-62F0-4A81-847B-1E1F550D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9C2-0C11-4E7C-987D-63D5A769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D11-B5AC-4C1B-9293-5FE0C639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4618B296-85E5-4322-A0C2-195F40108364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幻灯片1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幻灯片10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幻灯片11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幻灯片12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幻灯片13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幻灯片2"/>
          <p:cNvPicPr/>
          <p:nvPr/>
        </p:nvPicPr>
        <p:blipFill>
          <a:blip r:embed="rId9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幻灯片3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幻灯片4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幻灯片5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幻灯片6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幻灯片7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幻灯片8"/>
          <p:cNvPicPr/>
          <p:nvPr/>
        </p:nvPicPr>
        <p:blipFill>
          <a:blip r:embed="rId1"/>
          <a:stretch/>
        </p:blipFill>
        <p:spPr>
          <a:xfrm>
            <a:off x="3240" y="3240"/>
            <a:ext cx="1727820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幻灯片9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6:36:01Z</dcterms:created>
  <dc:creator>新教育</dc:creator>
  <dc:description/>
  <dc:language>en-US</dc:language>
  <cp:lastModifiedBy>Sky123.Org</cp:lastModifiedBy>
  <dcterms:modified xsi:type="dcterms:W3CDTF">2015-08-04T03:05:10Z</dcterms:modified>
  <cp:revision>3</cp:revision>
  <dc:subject/>
  <dc:title>幻灯片 1</dc:title>
</cp:coreProperties>
</file>