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7279938" cy="12963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A9AE-F410-4AF7-91B5-F0507EAE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9BD8-0087-49B4-96F3-47EC3429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908C-64EB-4A26-B50E-8AF2848A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D5AA-D94B-44D7-A108-8D868C06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A506-6192-4BDA-B769-4A20988A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F7C9-43C6-4B1B-9F54-909B9BBB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107D-94CE-4322-A9EB-7DD23B5D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9F47-228B-4CF0-A774-39E41A6B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62B4-A012-4E1C-8B0C-85DEC216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B441-53B7-405C-8E1D-CD911EE2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A1D8-47B6-423C-8879-3F1BBF36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E02F-70BA-431E-A4ED-2CAEC529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2160720" indent="-4320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3280" y="11802600"/>
            <a:ext cx="403236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04000" y="11802600"/>
            <a:ext cx="547344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385800" y="11802600"/>
            <a:ext cx="403200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lstStyle>
            <a:lvl1pPr indent="0" algn="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fld id="{C765D886-8C68-451C-A482-BB111E846FF9}" type="slidenum">
              <a:rPr b="0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mg212"/>
          <p:cNvPicPr/>
          <p:nvPr/>
        </p:nvPicPr>
        <p:blipFill>
          <a:blip r:embed="rId1"/>
          <a:stretch/>
        </p:blipFill>
        <p:spPr>
          <a:xfrm>
            <a:off x="3527280" y="0"/>
            <a:ext cx="10728360" cy="129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rcRect l="0" t="3999" r="0" b="4013"/>
          <a:stretch/>
        </p:blipFill>
        <p:spPr>
          <a:xfrm>
            <a:off x="1440" y="1512720"/>
            <a:ext cx="17287920" cy="9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"/>
          <p:cNvPicPr/>
          <p:nvPr/>
        </p:nvPicPr>
        <p:blipFill>
          <a:blip r:embed="rId1"/>
          <a:srcRect l="0" t="4319" r="0" b="3664"/>
          <a:stretch/>
        </p:blipFill>
        <p:spPr>
          <a:xfrm>
            <a:off x="6480" y="1512720"/>
            <a:ext cx="17278200" cy="10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"/>
          <p:cNvPicPr/>
          <p:nvPr/>
        </p:nvPicPr>
        <p:blipFill>
          <a:blip r:embed="rId1">
            <a:lum contrast="18000"/>
          </a:blip>
          <a:srcRect l="0" t="3999" r="0" b="4013"/>
          <a:stretch/>
        </p:blipFill>
        <p:spPr>
          <a:xfrm>
            <a:off x="6480" y="1512720"/>
            <a:ext cx="17278200" cy="9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"/>
          <p:cNvPicPr/>
          <p:nvPr/>
        </p:nvPicPr>
        <p:blipFill>
          <a:blip r:embed="rId1"/>
          <a:srcRect l="0" t="3086" r="0" b="2413"/>
          <a:stretch/>
        </p:blipFill>
        <p:spPr>
          <a:xfrm>
            <a:off x="0" y="1440000"/>
            <a:ext cx="17211600" cy="1000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1"/>
          <a:srcRect l="0" t="3712" r="0" b="3048"/>
          <a:stretch/>
        </p:blipFill>
        <p:spPr>
          <a:xfrm>
            <a:off x="6480" y="1512720"/>
            <a:ext cx="17278200" cy="10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1"/>
          <a:srcRect l="0" t="2069" r="0" b="2754"/>
          <a:stretch/>
        </p:blipFill>
        <p:spPr>
          <a:xfrm>
            <a:off x="0" y="1655640"/>
            <a:ext cx="17278200" cy="1015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rcRect l="0" t="4358" r="0" b="3703"/>
          <a:stretch/>
        </p:blipFill>
        <p:spPr>
          <a:xfrm>
            <a:off x="39600" y="1495440"/>
            <a:ext cx="17241840" cy="1002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rcRect l="0" t="1723" r="0" b="1737"/>
          <a:stretch/>
        </p:blipFill>
        <p:spPr>
          <a:xfrm>
            <a:off x="39600" y="1638360"/>
            <a:ext cx="17241840" cy="1024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"/>
          <p:cNvPicPr/>
          <p:nvPr/>
        </p:nvPicPr>
        <p:blipFill>
          <a:blip r:embed="rId1"/>
          <a:srcRect l="0" t="4036" r="0" b="4053"/>
          <a:stretch/>
        </p:blipFill>
        <p:spPr>
          <a:xfrm>
            <a:off x="3240" y="1728720"/>
            <a:ext cx="17278200" cy="9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rcRect l="0" t="3032" r="0" b="3045"/>
          <a:stretch/>
        </p:blipFill>
        <p:spPr>
          <a:xfrm>
            <a:off x="39600" y="1440000"/>
            <a:ext cx="17211600" cy="1008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5"/>
          <p:cNvSpPr/>
          <p:nvPr/>
        </p:nvSpPr>
        <p:spPr>
          <a:xfrm>
            <a:off x="461880" y="280836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9"/>
          <a:srcRect l="0" t="2054" r="0" b="2068"/>
          <a:stretch/>
        </p:blipFill>
        <p:spPr>
          <a:xfrm>
            <a:off x="0" y="1415880"/>
            <a:ext cx="17281440" cy="1012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rcRect l="0" t="2027" r="0" b="2040"/>
          <a:stretch/>
        </p:blipFill>
        <p:spPr>
          <a:xfrm>
            <a:off x="39600" y="1368360"/>
            <a:ext cx="17211600" cy="1022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05:03:48Z</dcterms:created>
  <dc:creator>新教育</dc:creator>
  <dc:description/>
  <dc:language>en-US</dc:language>
  <cp:lastModifiedBy>Sky123.Org</cp:lastModifiedBy>
  <dcterms:modified xsi:type="dcterms:W3CDTF">2015-08-04T04:15:19Z</dcterms:modified>
  <cp:revision>5</cp:revision>
  <dc:subject/>
  <dc:title>幻灯片 1</dc:title>
</cp:coreProperties>
</file>