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wind.wav" ContentType="audio/x-wav"/>
  <Override PartName="/ppt/media/type.wav" ContentType="audio/x-wav"/>
  <Override PartName="/ppt/media/click.wav" ContentType="audio/x-wav"/>
  <Override PartName="/ppt/media/chimes.wav" ContentType="audio/x-wav"/>
  <Override PartName="/ppt/media/image21.jpeg" ContentType="image/jpeg"/>
  <Override PartName="/ppt/media/drumroll.wav" ContentType="audio/x-wav"/>
  <Override PartName="/ppt/media/image6.png" ContentType="image/png"/>
  <Override PartName="/ppt/media/image1.png" ContentType="image/png"/>
  <Override PartName="/ppt/media/explode.wav" ContentType="audio/x-wav"/>
  <Override PartName="/ppt/media/bomb.wav" ContentType="audio/x-wav"/>
  <Override PartName="/ppt/media/image10.png" ContentType="image/png"/>
  <Override PartName="/ppt/media/camera.wav" ContentType="audio/x-wav"/>
  <Override PartName="/ppt/media/breeze.wav" ContentType="audio/x-wav"/>
  <Override PartName="/ppt/media/image11.png" ContentType="image/png"/>
  <Override PartName="/ppt/media/image2.gif" ContentType="image/gif"/>
  <Override PartName="/ppt/media/image19.jpeg" ContentType="image/jpeg"/>
  <Override PartName="/ppt/media/image12.png" ContentType="image/png"/>
  <Override PartName="/ppt/media/image13.jpeg" ContentType="image/jpeg"/>
  <Override PartName="/ppt/media/image14.png" ContentType="image/png"/>
  <Override PartName="/ppt/media/image15.jpeg" ContentType="image/jpeg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0AF-5F68-4D40-8A98-B64456C9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07C-C709-4AEC-AB1A-7311E8DC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AD9-B468-4726-885F-8754AA33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F26-792E-400D-8852-181F6452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ED8-D776-447A-97B1-561094F6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BE7-A076-4B4E-A897-05E2C114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362-3B75-47AD-A2FF-9A4F2BEE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A1A-BB28-4DBE-9F6D-D376217E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5C8-96F9-4C8E-BA8B-A3FCB68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4FA-1A47-4C2E-9DC0-C43E4DB5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A0A-3DEE-4904-900A-6020E29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D9A-36B1-4BDD-B8D4-C7E1C4A5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D3E6-B6C3-4CC1-AA37-1FC16EB4BE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audio" Target="../media/drumroll.wav"/><Relationship Id="rId9" Type="http://schemas.openxmlformats.org/officeDocument/2006/relationships/audio" Target="../media/chimes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audio" Target="../media/chimes.wav"/><Relationship Id="rId9" Type="http://schemas.openxmlformats.org/officeDocument/2006/relationships/audio" Target="../media/drumroll.wav"/><Relationship Id="rId10" Type="http://schemas.openxmlformats.org/officeDocument/2006/relationships/audio" Target="../media/chimes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file:///tmp/home/.config/libreoffice/4/user/gallery/wind.wav" TargetMode="External"/><Relationship Id="rId7" Type="http://schemas.microsoft.com/office/2007/relationships/media" Target="file:///tmp/home/.config/libreoffice/4/user/gallery/wind.wav" TargetMode="External"/><Relationship Id="rId8" Type="http://schemas.openxmlformats.org/officeDocument/2006/relationships/image" Target="../media/image6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9.pn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click.wav"/><Relationship Id="rId15" Type="http://schemas.openxmlformats.org/officeDocument/2006/relationships/audio" Target="../media/drumroll.wav"/><Relationship Id="rId16" Type="http://schemas.openxmlformats.org/officeDocument/2006/relationships/audio" Target="../media/explode.wav"/><Relationship Id="rId17" Type="http://schemas.openxmlformats.org/officeDocument/2006/relationships/audio" Target="../media/bomb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7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audio" Target="../media/camera.wav"/><Relationship Id="rId13" Type="http://schemas.openxmlformats.org/officeDocument/2006/relationships/audio" Target="../media/breez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7.jpeg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3614760" cy="244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971640" y="765000"/>
            <a:ext cx="3806640" cy="269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5076720" y="836640"/>
            <a:ext cx="3686400" cy="2627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50920" y="3573360"/>
            <a:ext cx="381636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20640"/>
            <a:ext cx="9144000" cy="293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01080" y="3573360"/>
            <a:ext cx="104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三毛最渴望得到的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623736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84280" y="855720"/>
            <a:ext cx="33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我说“家庭关系”的确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61657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84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四和李三恋爱半年结婚成了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34920" y="249228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依照法定条件和法定程序结婚组成新家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婚姻关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860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年后生下三胞胎使家庭喜添新成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72428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因生育导致的血缘关系结合成家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缘关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484280" y="855720"/>
            <a:ext cx="33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我说“家庭关系”的确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60958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84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养子女与养父母成为一家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4920" y="26370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依照法定条件和法定程序收养而组成家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收养关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4149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继子女与继父母也是一家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486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随父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再婚组建新的家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婚姻关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630864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4360" y="112536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一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.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家庭的含义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7380360" y="4581360"/>
            <a:ext cx="1584360" cy="1524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68360" y="2924280"/>
            <a:ext cx="79930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家庭是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婚姻关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血缘关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收养关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结合成的亲属生活组织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 rot="5400000">
            <a:off x="-865080" y="2097000"/>
            <a:ext cx="446544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家庭的结构类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57200"/>
            <a:ext cx="367992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核 心 家 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533520"/>
            <a:ext cx="457200" cy="4190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1600200"/>
            <a:ext cx="3608640" cy="825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主 干 家 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2819520"/>
            <a:ext cx="3608640" cy="8251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单 亲 家 庭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4038480"/>
            <a:ext cx="3608640" cy="8251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联 合 家 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13720" cy="5564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2268360" y="5950080"/>
            <a:ext cx="4608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核心家庭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 rot="5400000">
            <a:off x="5508000" y="2709720"/>
            <a:ext cx="568800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主干家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748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 rot="5400000">
            <a:off x="-865080" y="2097000"/>
            <a:ext cx="446544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家庭的结构类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457200"/>
            <a:ext cx="367992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核 心 家 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533520"/>
            <a:ext cx="457200" cy="4190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1600200"/>
            <a:ext cx="3608640" cy="825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主 干 家 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2819520"/>
            <a:ext cx="3608640" cy="8251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单 亲 家 庭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4038480"/>
            <a:ext cx="3608640" cy="8251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联 合 家 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558972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</a:rPr>
              <a:t>讨论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</a:rPr>
              <a:t>你现在的家庭属于什么类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01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1268280"/>
            <a:ext cx="91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虽然我们的家庭可能因为种种原因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建立的情形不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家庭的结构也有别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但我们的家却有一个共同点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24000" y="18900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温馨提示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50028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我们的家都有亲人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都有亲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家”的情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我可以选择吗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04640"/>
            <a:ext cx="91440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3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我是某市重点中学的一名学生，我周围的同学都很优秀，他们有着优越的家庭环境和优秀的父母。每当他们谈及父母时，看着他们眉飞色舞的神情，我只觉得我心中的“秘密”压得我喘不过气来，因为我的家庭跟他们相差十万八千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3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我出生在农村，父亲为让我受好教育，带着我和母亲来到这个城市，和别人合租了一套房子，为了让我有个独立的空间，他戒掉了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年的烟，每月多花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Times New Roman"/>
              </a:rPr>
              <a:t>200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多元钱给我租下了那房子的阳台，但是我睡觉还是得缩着脚。我们一家的生活全靠父亲在街边摆的修车摊，为了多赚钱，父亲从来起早摸黑。我怕同学看不起我，一直不敢提及我的父母，这个秘密存在我心底七八年了。每次和同学一起经过父亲的修车摊前，我都痛苦地低下头，装做没看见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3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我常常想不明白，在班上，我总考第一名，为什么我还是在同学面前抬不起头来？为什么我就偏偏生在这么个家庭？为什么我的父母这么辛苦，却还不能改变家庭的现状？为什么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3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我可以重新选择我的家庭、我的父母吗？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3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3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　　　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3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3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63640" y="2133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孝敬父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00000" y="692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思考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1844640"/>
            <a:ext cx="60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个”优秀”学生为什么不满意自己的家庭和父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03280" y="3645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给你一次重新选择的机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会选择什么样的父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样的家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歌曲《我想有个家》</a:t>
            </a:r>
            <a:r>
              <a:rPr b="1" lang="zh-CN" sz="2400" spc="-1" strike="noStrike">
                <a:solidFill>
                  <a:srgbClr val="e109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（潘美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407880" cy="1401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249720" y="5805360"/>
            <a:ext cx="674640" cy="112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154480" y="6095880"/>
            <a:ext cx="40824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686800" y="6248520"/>
            <a:ext cx="407880" cy="609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676520" y="1828800"/>
            <a:ext cx="556236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我想有个家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33360"/>
            <a:ext cx="89629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我想要有个家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一个不需要华丽的地方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在我疲倦的时候我会想到它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我想要有个家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一个不需要多大的地方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在我受惊吓的时候我才不会害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谁不会想要家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可是就有人没有它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脸上流着眼泪只能自己轻轻擦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我好羡慕他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受伤后可以回家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而我只能孤单地孤单地寻找我的家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虽然我不曾有温暖的家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但是我一样渐渐的长大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只要心中充满爱就会被关怀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无法埋怨谁一切只能靠自己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虽然你有家什么也不缺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为何看不见你露出笑脸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永远都说没有爱整天不回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相同的年纪不同的心灵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让我拥有一个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5148360" y="3716280"/>
            <a:ext cx="1079280" cy="13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3419640" y="3933720"/>
            <a:ext cx="407880" cy="60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7415280" y="549360"/>
            <a:ext cx="1728720" cy="5184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755640" y="3141720"/>
            <a:ext cx="2448000" cy="3240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468360" y="765000"/>
            <a:ext cx="93492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1932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211640" y="1341360"/>
            <a:ext cx="468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华文彩云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华文彩云"/>
              </a:rPr>
              <a:t>父母给予我们生命，这种天然生成的最自然的亲情，是无法选择、无法改变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42920" y="476280"/>
            <a:ext cx="194472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结论：</a:t>
            </a:r>
            <a:endParaRPr b="0" i="1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70760" y="981000"/>
            <a:ext cx="197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家”的情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6462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诺贝尔奖得主贝克特的剧本《结局》中有这样一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儿子对父亲吼：“混帐！你为什么生下我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父亲：“我不晓得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儿子：“什么？你不晓得什么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父亲：“我不晓得生下的会是你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16360" y="4941720"/>
            <a:ext cx="53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父母子女的关系不可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51577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60958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101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39640" y="836640"/>
            <a:ext cx="799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搜寻心底的故事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说说你们家的”好家风”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159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99480" y="855720"/>
            <a:ext cx="197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家”的情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164160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一年轻人向一智者抱怨自己父母的平庸、家境的平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智者：“假如有人用１００万换你强健的四肢，你愿意吗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年轻人：“不愿意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智者：“假如有人用１０００万换你明亮的眼睛，你愿意吗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年轻人：“不愿意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智者：“假如有人用１亿元换你健康的生命，你愿意吗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年轻人：“不愿意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智者：那就快感谢你的父母吧，他们一次性馈赠给你超过一亿一千一百万的巨额财富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35280" y="54450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3280" y="5300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学会感恩父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60958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68360" y="260280"/>
            <a:ext cx="23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1268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什么是家庭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4365720"/>
            <a:ext cx="5832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我们与父母之间的关系可以选择或改变吗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2997360"/>
            <a:ext cx="5905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家庭的结构有哪几种情形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如何理解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213372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家庭关系的确立有哪几种情形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0920" y="620640"/>
            <a:ext cx="8353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i="1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家庭是我们疲倦时最想依傍的港湾。它带给我们的是温馨和浪漫。愿同学们都能拥有一个温馨和睦的家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0" y="0"/>
            <a:ext cx="4572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歌曲《我想有个家》</a:t>
            </a:r>
            <a:r>
              <a:rPr b="1" lang="zh-CN" sz="2400" spc="-1" strike="noStrike">
                <a:solidFill>
                  <a:srgbClr val="e109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（潘美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407880" cy="1401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249720" y="5805360"/>
            <a:ext cx="674640" cy="1128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5154480" y="6095880"/>
            <a:ext cx="408240" cy="609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8686800" y="6248520"/>
            <a:ext cx="407880" cy="6094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1676520" y="1828800"/>
            <a:ext cx="556236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我想有个家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33360"/>
            <a:ext cx="89629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我想要有个家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一个不需要华丽的地方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在我疲倦的时候我会想到它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我想要有个家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一个不需要多大的地方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在我受惊吓的时候我才不会害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谁不会想要家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可是就有人没有它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脸上流着眼泪只能自己轻轻擦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我好羡慕他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受伤后可以回家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而我只能孤单地孤单地寻找我的家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虽然我不曾有温暖的家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但是我一样渐渐的长大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只要心中充满爱就会被关怀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无法埋怨谁一切只能靠自己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虽然你有家什么也不缺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为何看不见你露出笑脸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永远都说没有爱整天不回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相同的年纪不同的心灵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华文楷体"/>
                <a:ea typeface="华文楷体"/>
              </a:rPr>
              <a:t>让我拥有一个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5148360" y="3716280"/>
            <a:ext cx="1079280" cy="1330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"/>
          <a:stretch/>
        </p:blipFill>
        <p:spPr>
          <a:xfrm>
            <a:off x="3419640" y="3933720"/>
            <a:ext cx="407880" cy="6098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9"/>
          <a:stretch/>
        </p:blipFill>
        <p:spPr>
          <a:xfrm>
            <a:off x="7415280" y="549360"/>
            <a:ext cx="1728720" cy="5184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0"/>
          <a:stretch/>
        </p:blipFill>
        <p:spPr>
          <a:xfrm>
            <a:off x="755640" y="3141720"/>
            <a:ext cx="2448000" cy="3240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1"/>
          <a:stretch/>
        </p:blipFill>
        <p:spPr>
          <a:xfrm>
            <a:off x="468360" y="765000"/>
            <a:ext cx="93492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5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90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63640" y="2133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孝敬父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84360" y="1341360"/>
            <a:ext cx="6121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预习提纲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P8--P11)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完成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P8--P9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表格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并回答下面的问题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404640"/>
            <a:ext cx="499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美国某城市，一个醉汉躺在街头，警察把他扶起来，认出他是当地的富豪。警察说：“我送你回吧。”“家？我没有……家。”警察指着远处的一幢别墅说：“那不是你的家吗？”富豪说：“那……是我的房子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435640" y="2924280"/>
            <a:ext cx="32716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家是什么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372360" y="5013360"/>
            <a:ext cx="158436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45744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81280" y="765000"/>
            <a:ext cx="215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行楷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cc0000"/>
                </a:solidFill>
                <a:latin typeface="华文行楷"/>
                <a:ea typeface="华文行楷"/>
              </a:rPr>
              <a:t>家”的遐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0" y="619560"/>
            <a:ext cx="9144000" cy="71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64008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324000" y="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8459640" y="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6732720" y="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3924360" y="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1628640"/>
            <a:ext cx="799308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家在珠海市新香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初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班是我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明是我的好朋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两个是一家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家吃饭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座房子就是我的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地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2492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人群的集合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3789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好朋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443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吃饭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5300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住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623736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37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某国内战期间，一个中年男子与家人离散，几十个亲人丧生。后来，他打听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的小女儿还活着，几经周折，冒死找到自己的亲生骨肉。悲喜交加的他紧紧搂着女儿，泪流满面地说：“我又有家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4360" y="112536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家是什么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588000" y="1125360"/>
            <a:ext cx="1584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23736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00000" y="2637000"/>
            <a:ext cx="6553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"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家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"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最大的特点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227720" y="920880"/>
            <a:ext cx="1916280" cy="593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1908000" y="3573360"/>
            <a:ext cx="1297080" cy="360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332000" y="981000"/>
            <a:ext cx="302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有亲人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40360" y="4005360"/>
            <a:ext cx="396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有亲情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630864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360" y="112536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一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.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家庭的含义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7380360" y="4581360"/>
            <a:ext cx="1584360" cy="1524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8360" y="2637000"/>
            <a:ext cx="79930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家庭是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婚姻关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血缘关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收养关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结合成的亲属生活组织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221000"/>
            <a:ext cx="60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最大特点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家里有亲人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,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家中有亲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509760" cy="76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971800" y="59436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17680" y="2025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924680" y="6172200"/>
            <a:ext cx="4590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6400800" y="5943600"/>
            <a:ext cx="45864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4572000" y="6172200"/>
            <a:ext cx="45864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84280" y="855720"/>
            <a:ext cx="33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我说“家庭关系”的确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课《爱在屋檐下》  第一框《我知我家》（一课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60958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教版《思想品德》八年级上册  第一单元《相亲相爱一家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84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四和李三恋爱半年结婚成了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012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733920" y="3808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049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43800" y="4038480"/>
            <a:ext cx="260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04280" y="3373560"/>
            <a:ext cx="473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39:27Z</dcterms:created>
  <dc:creator>为您服务教育网http://www.wsbedu.com</dc:creator>
  <dc:description/>
  <dc:language>en-US</dc:language>
  <cp:lastModifiedBy>qq</cp:lastModifiedBy>
  <dcterms:modified xsi:type="dcterms:W3CDTF">2009-08-07T03:59:57Z</dcterms:modified>
  <cp:revision>38</cp:revision>
  <dc:subject/>
  <dc:title>PowerPoint 演示文稿</dc:title>
</cp:coreProperties>
</file>