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87C-8E1E-4994-B0D5-EAC2CE36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800892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826800"/>
            <a:ext cx="800892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882-FF0F-413B-8267-4D783642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012-B5B6-4146-BDA7-1EE723DE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4200" y="10602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0602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8268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4200" y="38268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38268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57B-AAC5-4D07-8907-A6D9FCD2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F8D1-0DEA-4AF5-B81B-33292D4B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060200"/>
            <a:ext cx="800892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F377-922E-4723-A727-6F09219A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80089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CEFA-1370-4612-957F-11E6DBFA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0179-09CC-45BE-A07B-D27EEB8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919-77D6-4E37-B104-D00B5F6C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66280" y="36792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314A-670C-4BA2-AA3D-36CC8735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12D5-0C61-4762-A1F5-32A72AA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060200"/>
            <a:ext cx="800892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F67-1D28-4D83-9387-7E13F8D5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C7AB-F0A2-4C04-AE8B-9DB37B95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826800"/>
            <a:ext cx="800892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D629-3F4D-47DD-8004-0F88420C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800892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826800"/>
            <a:ext cx="800892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6E68-C2F6-4EF3-951C-718F7E3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00C-08A5-42B8-8D6D-8F33FAE8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4200" y="10602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2120" y="10602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8268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4200" y="38268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2120" y="3826800"/>
            <a:ext cx="257868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DF61-D84F-45E5-889B-A881F639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80089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F09-2666-4743-BFA2-989BA9E3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55F-BA30-47E5-8D29-5192AAD9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511-B6FB-42E0-AAD5-BB032D4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6280" y="36792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0F4-DCB5-4C37-9297-DBAC1B98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015-464B-4240-8C1F-5B4E6ECE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268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EEE-75EB-4DA8-A7C9-8583A6C4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060200"/>
            <a:ext cx="390816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826800"/>
            <a:ext cx="8008920" cy="25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CC4-CE18-4E9C-90FF-CCD6538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66280" y="1060200"/>
            <a:ext cx="80089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6216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447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4119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411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4119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5482-7CBD-421D-B412-5625BD4EFC09}" type="slidenum">
              <a:rPr b="0" lang="zh-CN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b77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7b7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E5AD-25AB-4BBA-B72A-4BE0094E6D3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42303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2303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275440"/>
            <a:ext cx="6400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7b77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060200"/>
            <a:ext cx="80089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8-25T07:34:07Z</dcterms:modified>
  <cp:revision>108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fileid">
    <vt:lpwstr>535426</vt:lpwstr>
  </property>
  <property fmtid="{D5CDD505-2E9C-101B-9397-08002B2CF9AE}" pid="4" name="name">
    <vt:lpwstr>A000520150131A00PWBG.ppt</vt:lpwstr>
  </property>
</Properties>
</file>