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F74-2859-4802-9E80-D692F5DE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E22-9062-4BFA-8495-F875ED62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D73-7AFF-45C1-BC18-67C7574A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BD0-B297-4B37-9C0E-00AD25AD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524-D272-41E9-AA81-46C8BCD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EDE-576C-4C62-A3E5-DAA63F8A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823-F4FC-4970-8921-F9F4B32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8A6-0550-4773-9238-3C4B51C5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897-67D3-4DC5-8137-25744019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43B-9423-42F9-B214-4C886C18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321-F3F1-4FD7-9C2D-DDD942D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84E-0ABF-46B8-AE7F-9909F94B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D064-67D6-4F76-ABFB-4177C8DB8C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964" t="17879" r="15988" b="8608"/>
          <a:stretch/>
        </p:blipFill>
        <p:spPr>
          <a:xfrm>
            <a:off x="250920" y="18900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1773360"/>
            <a:ext cx="2304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0" spc="-1" strike="noStrike">
                <a:solidFill>
                  <a:srgbClr val="ffff00"/>
                </a:solidFill>
                <a:latin typeface="腾祥孔淼卡通简"/>
                <a:ea typeface="腾祥孔淼卡通简"/>
              </a:rPr>
              <a:t>1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1331" t="0" r="13103" b="0"/>
          <a:stretch/>
        </p:blipFill>
        <p:spPr>
          <a:xfrm>
            <a:off x="5724360" y="3789360"/>
            <a:ext cx="1727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2964" t="17879" r="15988" b="8608"/>
          <a:stretch/>
        </p:blipFill>
        <p:spPr>
          <a:xfrm>
            <a:off x="250920" y="18900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1773360"/>
            <a:ext cx="2304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0" spc="-1" strike="noStrike">
                <a:solidFill>
                  <a:srgbClr val="ffff00"/>
                </a:solidFill>
                <a:latin typeface="腾祥孔淼卡通简"/>
                <a:ea typeface="腾祥孔淼卡通简"/>
              </a:rPr>
              <a:t>2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8197" t="0" r="21149" b="0"/>
          <a:stretch/>
        </p:blipFill>
        <p:spPr>
          <a:xfrm>
            <a:off x="5508720" y="3716280"/>
            <a:ext cx="1727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2964" t="17879" r="15988" b="8608"/>
          <a:stretch/>
        </p:blipFill>
        <p:spPr>
          <a:xfrm>
            <a:off x="250920" y="18900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9640" y="1773360"/>
            <a:ext cx="2304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0" spc="-1" strike="noStrike">
                <a:solidFill>
                  <a:srgbClr val="ffff00"/>
                </a:solidFill>
                <a:latin typeface="腾祥孔淼卡通简"/>
                <a:ea typeface="腾祥孔淼卡通简"/>
              </a:rPr>
              <a:t>3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8824" t="0" r="14506" b="0"/>
          <a:stretch/>
        </p:blipFill>
        <p:spPr>
          <a:xfrm>
            <a:off x="5940360" y="3789360"/>
            <a:ext cx="1727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2964" t="17879" r="15988" b="8608"/>
          <a:stretch/>
        </p:blipFill>
        <p:spPr>
          <a:xfrm>
            <a:off x="250920" y="18900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32000" y="1628640"/>
            <a:ext cx="266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0" spc="-1" strike="noStrike">
                <a:solidFill>
                  <a:srgbClr val="ffff00"/>
                </a:solidFill>
                <a:latin typeface="腾祥孔淼卡通简"/>
                <a:ea typeface="腾祥孔淼卡通简"/>
              </a:rPr>
              <a:t>4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16720" t="4429" r="13177" b="0"/>
          <a:stretch/>
        </p:blipFill>
        <p:spPr>
          <a:xfrm>
            <a:off x="5940360" y="3933720"/>
            <a:ext cx="1727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2964" t="17879" r="15988" b="8608"/>
          <a:stretch/>
        </p:blipFill>
        <p:spPr>
          <a:xfrm>
            <a:off x="250920" y="189000"/>
            <a:ext cx="8637480" cy="647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6019" t="0" r="14579" b="0"/>
          <a:stretch/>
        </p:blipFill>
        <p:spPr>
          <a:xfrm>
            <a:off x="5580000" y="4005360"/>
            <a:ext cx="1727280" cy="187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1700280"/>
            <a:ext cx="266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0" spc="-1" strike="noStrike">
                <a:solidFill>
                  <a:srgbClr val="ffff00"/>
                </a:solidFill>
                <a:latin typeface="腾祥孔淼卡通简"/>
                <a:ea typeface="腾祥孔淼卡通简"/>
              </a:rPr>
              <a:t>5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03:00:00Z</dcterms:created>
  <dc:creator>PC</dc:creator>
  <dc:description/>
  <dc:language>en-US</dc:language>
  <cp:lastModifiedBy>PC</cp:lastModifiedBy>
  <dcterms:modified xsi:type="dcterms:W3CDTF">2014-01-08T09:01:44Z</dcterms:modified>
  <cp:revision>3</cp:revision>
  <dc:subject/>
  <dc:title>幻灯片 1</dc:title>
</cp:coreProperties>
</file>