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2968-7136-4857-BF20-D7EDBE34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A78E-F304-4CE5-8B6B-FE1E348C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495E-BF9B-4208-9464-4A9342983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00A9-5617-44A7-8EE5-45E6F8B1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A065-E85E-494E-B16E-BC6D2B7B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6122-D98F-4AC5-8F1B-D32554B2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F5E5-BCE8-4F56-9BE3-7AAA4566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288E-1AB8-4D6C-822F-C556AA88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7715-56DB-4AB3-931E-87BD4C64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5937-F42F-494E-B309-64BAF15E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05F2-EA3C-42DE-B3DB-116BFBD0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0832-0B12-485F-A6B6-E7D6BC07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4698-0E00-4405-889D-9143B0F5B2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57120" y="2500200"/>
            <a:ext cx="52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28760" y="328608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Windows 用户</cp:lastModifiedBy>
  <dcterms:modified xsi:type="dcterms:W3CDTF">2015-06-18T02:39:00Z</dcterms:modified>
  <cp:revision>76</cp:revision>
  <dc:subject/>
  <dc:title>幻灯片 1</dc:title>
</cp:coreProperties>
</file>