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732A-F141-4332-A1D9-96F618217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751A-A333-4AEB-981A-3D1AF854D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FE95-93AC-42B8-8274-5869116D9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3C18-B738-4A22-88A9-7A04698A1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A41-A7FC-47F2-8938-54ED5771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591-DBA2-4B7E-BC18-8E8BFBAF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B06-1BE4-4A9B-BA98-C4C76BF0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D27-0379-4ADD-9A96-BAFD3CCA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0F6C-18CB-4EFA-B6B4-0B17DB35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C790-D5E9-45FC-AA89-05C3638E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B414-DACF-4B02-B004-B41EB7C2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A95A-FA6C-4107-987B-A9C1B009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2E4C-AC7E-45C8-BB2E-4B4EB897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3E4B-B3FD-432B-8530-538299A9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9C68-E77D-4B80-AA19-EA2C71B2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658-6D8E-4CA6-8F21-583B0833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9292-3202-4B81-9E25-F782AFF1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783B-68CD-494D-9A9E-158395F4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546D-69BE-4B3A-9353-372B8208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E9ED-6D41-4900-B721-9CED18D1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0EAC-8BFC-45B1-9D2D-4450A5AB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B583F-7307-489E-9DB5-8B4D33B7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D8D44-112C-4BDD-A90E-E66A4978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8F15-8909-4C90-BB09-5A76E3A6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BD53-6D00-4718-869A-34E3D98C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E245B-2242-4DC6-94F5-6F58EF46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22F-35C6-419F-ABEF-B355B800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57F5-9020-48EB-B86C-05E3898D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599E6-4510-4453-8B6B-21CB8521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4321-4CD1-4B41-A5AF-D5BF5C5F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9DBB-5A1E-4651-8663-CEB295A7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25A1-51F7-455C-9E77-365985E4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38E3-CF32-4ECA-B5F5-385407CF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EA30-207A-4941-97EC-56AF04ED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3615-D60C-4446-A15F-0A0BADAF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FBFBC-E481-42C1-837D-3713004B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6402A-187D-4BAF-8362-D6DA1AD5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ECC-2796-444F-B468-81E9C9C1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41883-3F45-4B62-8C01-CA474D2C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28BF7-1D81-480B-A5A5-FB3BEC07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F2E6-706D-4955-87BE-EF3098D2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8EE7E-216F-4F6A-AC9F-C3B92ACD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4B039-09AB-4F28-99B9-655503AD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A1F16-E405-49A9-825F-DB6D7134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8E8D8-D027-4C8D-BD0D-52CAAD44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F117-20C5-4AF8-8242-0422F94C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4AB08-A49E-468F-9B47-3DC6921E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812-2044-4802-B4BB-1315E321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B3B-86CE-4549-A6AF-C97F12B1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4B1-AB43-4432-AFE5-E86E4013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027-275A-4F3A-A17B-A4B9E29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6A8-2008-4795-B54F-485F4284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B567-5E54-42BC-94B5-4AA3391808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EF3A-340B-4CD3-8DBE-E92E6E033B0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0D70-8712-450B-9F33-E0C3EB2A522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F8D9-8DAE-4998-B67D-A519BEB260C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514600" y="0"/>
            <a:ext cx="428616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3"/>
          <p:cNvSpPr txBox="1"/>
          <p:nvPr/>
        </p:nvSpPr>
        <p:spPr>
          <a:xfrm>
            <a:off x="1600200" y="4724280"/>
            <a:ext cx="601992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新細明體"/>
              </a:rPr>
              <a:t> 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1428480" cy="1857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3"/>
          <a:stretch/>
        </p:blipFill>
        <p:spPr>
          <a:xfrm>
            <a:off x="7238880" y="1828800"/>
            <a:ext cx="13338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206" name="TextBox 8"/>
          <p:cNvGrpSpPr/>
          <p:nvPr/>
        </p:nvGrpSpPr>
        <p:grpSpPr>
          <a:xfrm>
            <a:off x="853920" y="5572080"/>
            <a:ext cx="7498080" cy="1395360"/>
            <a:chOff x="853920" y="5572080"/>
            <a:chExt cx="7498080" cy="1395360"/>
          </a:xfrm>
        </p:grpSpPr>
        <p:pic>
          <p:nvPicPr>
            <p:cNvPr id="207" name="TextBox 8" descr=""/>
            <p:cNvPicPr/>
            <p:nvPr/>
          </p:nvPicPr>
          <p:blipFill>
            <a:blip r:embed="rId4"/>
            <a:stretch/>
          </p:blipFill>
          <p:spPr>
            <a:xfrm>
              <a:off x="853920" y="5572080"/>
              <a:ext cx="74980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928800" y="5842080"/>
              <a:ext cx="7358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阿尔伯特</a:t>
              </a:r>
              <a:r>
                <a:rPr b="0" lang="en-US" sz="60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·</a:t>
              </a:r>
              <a:r>
                <a:rPr b="0" lang="zh-CN" sz="60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爱因斯坦</a:t>
              </a:r>
              <a:endParaRPr b="0" lang="en-US" sz="6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7162920" y="4267080"/>
            <a:ext cx="1476360" cy="2362320"/>
          </a:xfrm>
          <a:prstGeom prst="rect">
            <a:avLst/>
          </a:prstGeom>
          <a:ln w="0">
            <a:noFill/>
          </a:ln>
        </p:spPr>
      </p:pic>
      <p:grpSp>
        <p:nvGrpSpPr>
          <p:cNvPr id="247" name="TextBox 6"/>
          <p:cNvGrpSpPr/>
          <p:nvPr/>
        </p:nvGrpSpPr>
        <p:grpSpPr>
          <a:xfrm>
            <a:off x="2073240" y="2359080"/>
            <a:ext cx="6137280" cy="1334880"/>
            <a:chOff x="2073240" y="2359080"/>
            <a:chExt cx="6137280" cy="1334880"/>
          </a:xfrm>
        </p:grpSpPr>
        <p:pic>
          <p:nvPicPr>
            <p:cNvPr id="248" name="TextBox 6" descr=""/>
            <p:cNvPicPr/>
            <p:nvPr/>
          </p:nvPicPr>
          <p:blipFill>
            <a:blip r:embed="rId3"/>
            <a:stretch/>
          </p:blipFill>
          <p:spPr>
            <a:xfrm>
              <a:off x="2073240" y="2359080"/>
              <a:ext cx="613728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143080" y="25718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职业生涯</a:t>
              </a:r>
              <a:endParaRPr b="0" lang="en-US" sz="6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4510440" y="64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富漢通細圓體"/>
              </a:rPr>
              <a:t>早年被开除学籍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3571560" y="1214280"/>
            <a:ext cx="347256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爱因斯坦的学术生涯可说是一波三折。少年的爱因斯坦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比较孤独，不喜欢说话，小学时成绩很差，很讨厌上学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常装病缺课，上课时则神游四海，思考自己喜欢的问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。他甚至与老师争执，还被老师教训说：“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爱因斯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出席破坏了全班对我的尊敬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最后因此而被开除学籍。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爱因斯坦之所以不喜欢上学，是因为他无法接受德国当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时那种混合了威权主义和百科全书式的填鸭教育。他后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来写道：“现代教育事业没有扼杀了研究的好奇心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真是一项奇迹。因为这脆弱的小树苗需要鼓励和自由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否则它将枯萎。主张规范和责任感能引发观察和研究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乐趣的想法，真是大错特错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只再健康的驯兽如果不断地用鞭子威胁他，逼他在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不饿时进食，他也会丧失胃口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2143080" y="928800"/>
            <a:ext cx="572472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但是，他却没有因不上学，而减少学习知识的机会。他喜欢阅读课外书籍，其中包括物理、化学、几何、数学，以致哲学。在十二三岁的时候，已经开始钻研大学要读的书籍。他经常和叔叔研究有关数学的理论。在当时，他的家人对爱因斯坦的智能和消化力，感到吃惊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9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2365560" y="24400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富漢通細圓體"/>
                <a:ea typeface="富漢通細圓體"/>
              </a:rPr>
              <a:t>　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4155480" y="4287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富漢通細圓體"/>
              </a:rPr>
              <a:t>毕业后求职不顺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8" name="矩形 7"/>
          <p:cNvSpPr/>
          <p:nvPr/>
        </p:nvSpPr>
        <p:spPr>
          <a:xfrm>
            <a:off x="2143080" y="1000080"/>
            <a:ext cx="607212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89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秋，爱因斯坦以不到报名年限的资格，申请到许可证参加瑞士的苏黎士综合技术学院的考试，但并未考上。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个学年，他进入当地的一所补习学校就读。来年成功考进该所学院，并攻读数学和物理。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毕业后，爱因斯坦的求职生涯并不顺利。两年来，他到处打零工，其中他最不喜欢的是当家庭教师。直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9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，他才经由一位同学父亲的推荐，在伯尔尼专利局找到一份鉴定员的工作。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0" name="TextBox 5"/>
          <p:cNvGrpSpPr/>
          <p:nvPr/>
        </p:nvGrpSpPr>
        <p:grpSpPr>
          <a:xfrm>
            <a:off x="2571840" y="2571840"/>
            <a:ext cx="5713200" cy="1341360"/>
            <a:chOff x="2571840" y="2571840"/>
            <a:chExt cx="5713200" cy="1341360"/>
          </a:xfrm>
        </p:grpSpPr>
        <p:pic>
          <p:nvPicPr>
            <p:cNvPr id="261" name="TextBox 5" descr=""/>
            <p:cNvPicPr/>
            <p:nvPr/>
          </p:nvPicPr>
          <p:blipFill>
            <a:blip r:embed="rId2"/>
            <a:stretch/>
          </p:blipFill>
          <p:spPr>
            <a:xfrm>
              <a:off x="2571840" y="2571840"/>
              <a:ext cx="571320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2643120" y="2786040"/>
              <a:ext cx="5572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奖项</a:t>
              </a:r>
              <a:endParaRPr b="0" lang="en-US" sz="6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2365560" y="3657600"/>
            <a:ext cx="40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富漢通細圓體"/>
              </a:rPr>
              <a:t>　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4302000" y="30002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爱因斯坦没有亲自领奖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3314880" y="533520"/>
            <a:ext cx="2436120" cy="459720"/>
          </a:xfrm>
          <a:prstGeom prst="rect">
            <a:avLst/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得</a:t>
            </a:r>
            <a:r>
              <a:rPr b="0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一九二一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诺贝尔物理学奖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1"/>
          <a:stretch/>
        </p:blipFill>
        <p:spPr>
          <a:xfrm>
            <a:off x="3581280" y="1143000"/>
            <a:ext cx="1428840" cy="1743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2"/>
          <a:stretch/>
        </p:blipFill>
        <p:spPr>
          <a:xfrm>
            <a:off x="5486400" y="16765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/>
          <p:cNvPicPr/>
          <p:nvPr/>
        </p:nvPicPr>
        <p:blipFill>
          <a:blip r:embed="rId3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矩形 10"/>
          <p:cNvSpPr/>
          <p:nvPr/>
        </p:nvSpPr>
        <p:spPr>
          <a:xfrm>
            <a:off x="1928880" y="364320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爱因斯坦在一九二一年，荣获诺贝尔物理学奖。但是，令他得到这最高荣誉的并不是著名的相对论，而是另一套名为光电效应的理论。相对论不被肯定，是因为当时相对论对全球的科学家来说实在太陌生，而且这套革命性理论受到多方面的批评和质疑。亦因为相对论大受质疑，所以爱因斯坦并没有亲自领取诺贝尔物理学奖。经过几十年的实验验证，全球科学家才发现相对论的可信性。直到现在为止，相对论仍然是屹立不倒。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6"/>
          <p:cNvSpPr/>
          <p:nvPr/>
        </p:nvSpPr>
        <p:spPr>
          <a:xfrm>
            <a:off x="2786040" y="2857680"/>
            <a:ext cx="4800600" cy="160020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3571920" y="3214800"/>
            <a:ext cx="3181320" cy="971280"/>
          </a:xfrm>
          <a:prstGeom prst="rect">
            <a:avLst/>
          </a:prstGeom>
          <a:ln w="0">
            <a:noFill/>
          </a:ln>
        </p:spPr>
      </p:pic>
      <p:grpSp>
        <p:nvGrpSpPr>
          <p:cNvPr id="272" name="Text Box 5"/>
          <p:cNvGrpSpPr/>
          <p:nvPr/>
        </p:nvGrpSpPr>
        <p:grpSpPr>
          <a:xfrm>
            <a:off x="1785960" y="1341360"/>
            <a:ext cx="5005440" cy="719280"/>
            <a:chOff x="1785960" y="1341360"/>
            <a:chExt cx="5005440" cy="719280"/>
          </a:xfrm>
        </p:grpSpPr>
        <p:pic>
          <p:nvPicPr>
            <p:cNvPr id="273" name="Text Box 5" descr=""/>
            <p:cNvPicPr/>
            <p:nvPr/>
          </p:nvPicPr>
          <p:blipFill>
            <a:blip r:embed="rId2"/>
            <a:stretch/>
          </p:blipFill>
          <p:spPr>
            <a:xfrm>
              <a:off x="1785960" y="1341360"/>
              <a:ext cx="5005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857240" y="1428840"/>
              <a:ext cx="485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阿尔伯特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·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爱因斯坦的签名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pic>
        <p:nvPicPr>
          <p:cNvPr id="275" name="Picture 7" descr=""/>
          <p:cNvPicPr/>
          <p:nvPr/>
        </p:nvPicPr>
        <p:blipFill>
          <a:blip r:embed="rId3"/>
          <a:stretch/>
        </p:blipFill>
        <p:spPr>
          <a:xfrm>
            <a:off x="7010280" y="4800600"/>
            <a:ext cx="1695600" cy="1800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9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77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TextBox 1"/>
          <p:cNvGrpSpPr/>
          <p:nvPr/>
        </p:nvGrpSpPr>
        <p:grpSpPr>
          <a:xfrm>
            <a:off x="1712880" y="1925640"/>
            <a:ext cx="5784840" cy="2811600"/>
            <a:chOff x="1712880" y="1925640"/>
            <a:chExt cx="5784840" cy="2811600"/>
          </a:xfrm>
        </p:grpSpPr>
        <p:pic>
          <p:nvPicPr>
            <p:cNvPr id="279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1925640"/>
              <a:ext cx="5784840" cy="28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785960" y="2071800"/>
              <a:ext cx="5643720" cy="25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小组成员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杨燕华   李艳茹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7162920" y="4572000"/>
            <a:ext cx="1428480" cy="2066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1828800" y="457200"/>
            <a:ext cx="1523880" cy="1857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TextBox 8"/>
          <p:cNvGrpSpPr/>
          <p:nvPr/>
        </p:nvGrpSpPr>
        <p:grpSpPr>
          <a:xfrm>
            <a:off x="2425680" y="3005280"/>
            <a:ext cx="4713480" cy="1334880"/>
            <a:chOff x="2425680" y="3005280"/>
            <a:chExt cx="4713480" cy="1334880"/>
          </a:xfrm>
        </p:grpSpPr>
        <p:pic>
          <p:nvPicPr>
            <p:cNvPr id="213" name="TextBox 8" descr=""/>
            <p:cNvPicPr/>
            <p:nvPr/>
          </p:nvPicPr>
          <p:blipFill>
            <a:blip r:embed="rId4"/>
            <a:stretch/>
          </p:blipFill>
          <p:spPr>
            <a:xfrm>
              <a:off x="2425680" y="3005280"/>
              <a:ext cx="471348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2500200" y="3214800"/>
              <a:ext cx="457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童年生活</a:t>
              </a:r>
              <a:endParaRPr b="0" lang="en-US" sz="6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2666880" y="167652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爱因斯坦童年发生的每一件事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都象征着成年的爱因斯坦必定有所成就。爱因斯坦出生于一个颇富裕的家庭。父亲赫尔曼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爱因斯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Hermann Einstein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叔叔雅各布在德国慕尼黑一带经营电工设备店。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666880" y="3125880"/>
            <a:ext cx="56199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爱因斯坦生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87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他的母亲就觉得这位儿子有点不正常。他的头很大，形状也奇怪。他说话所用的时间比起别的孩子要长得多。当时，他父母觉得自己儿子可能是智力迟钝。爱因斯坦比较孤独，不喜欢说话。学校的运动，他不喜欢参与。他很讨厌上学，经常装病缺席。在上课时，经常神游四方，思考一切他喜欢的问题。后来，更因为上课与老师争执，被开除学籍。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300920" y="7858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少时孤独，行为迟钝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04840" cy="1600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1251000" cy="1523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085200" y="1285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指南针独发好奇心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057400" y="2590920"/>
            <a:ext cx="5372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无疑，与所有科学家都一样，爱因斯坦拥有惊人的智能和对大自然的好奇心。他五岁时一次生病，父亲送给他一个指南针，他发觉指针无论如何只会向着同一个方向，令他开始探索大自然的奥秘。十二岁时，他从几何书籍中迷上了数学，几个数字令这个小朋友开窍。爱因斯坦后来在自传中说，一个直角三角形的两条直角边平方相加等于斜边平方（勾股定理）。这个平方不是显而易见的事，但却能证明。“人的思维能证明不是显而见的事，这是多么奇妙！一次证明能代替一千次、一万次量度。”几何学给爱因斯坦思维奇妙性，对他以后发展影响极为深远。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533600" cy="2133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4131000" y="100008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99"/>
                </a:solidFill>
                <a:latin typeface="宋体"/>
                <a:ea typeface="宋体"/>
              </a:rPr>
              <a:t>厌恶军事纪律 逃服兵役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616200" y="2362320"/>
            <a:ext cx="424044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爱因斯坦原本即已厌恶军事纪律，再加上某些老师对他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独立行径，表现出敌意，他终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89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初决定离开德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，前往意大利。这次逃离当然隐含着另一原因－逃服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兵役。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中学教育结束前离开，及时取得瑞士国籍，就可以让他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不必被背上逃兵的罪名。“如果有人听到音乐，会兴致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盎然地列队前进，这点就足以使我轻视他，上天错植了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大脑给他，他只要有脊髓就绰绰有余了。”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1873080" cy="1981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6248520" y="4343400"/>
            <a:ext cx="2376360" cy="2108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1" name="TextBox 7"/>
          <p:cNvGrpSpPr/>
          <p:nvPr/>
        </p:nvGrpSpPr>
        <p:grpSpPr>
          <a:xfrm>
            <a:off x="2712960" y="2719440"/>
            <a:ext cx="5072040" cy="1334880"/>
            <a:chOff x="2712960" y="2719440"/>
            <a:chExt cx="5072040" cy="1334880"/>
          </a:xfrm>
        </p:grpSpPr>
        <p:pic>
          <p:nvPicPr>
            <p:cNvPr id="232" name="TextBox 7" descr=""/>
            <p:cNvPicPr/>
            <p:nvPr/>
          </p:nvPicPr>
          <p:blipFill>
            <a:blip r:embed="rId4"/>
            <a:stretch/>
          </p:blipFill>
          <p:spPr>
            <a:xfrm>
              <a:off x="2712960" y="2719440"/>
              <a:ext cx="50720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786040" y="2928960"/>
              <a:ext cx="492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私人生活</a:t>
              </a:r>
              <a:endParaRPr b="0" lang="en-US" sz="6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3941280" y="2858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结婚遭父母反对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523880" y="723960"/>
            <a:ext cx="6416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入读苏黎士综合技术学院时，爱因斯坦认识了他的第一任妻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子密内娃．马里许。密内娃是塞尔维亚人，和他一样攻读数学与物理。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爱因斯坦和密内娃深深相爱，很快地就想成立家庭。但这却遭受到爱因斯坦父母的强烈反对。他们认为密内娃比爱因斯坦年长，脚又有点跛，又学习如此泠硬的科目，一点也不像大家闺秀；更重要的是，她不是犹太人。发生过几次争执后，母亲怒叱爱因斯坦，如果他再坚持与密内娃交往，就好像把有财务困难的父母逼上绝路。爱因斯坦只有悲忿地妥协。密内娃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0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春发现自己怀孕了，她回到父母家产下女婴，但爱因斯坦无从探知婴孩的消息，可能随即夭折了。不久之后，密内娃回到苏黎士，没有通过毕业试，也没有拿到文凭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899-190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间，爱因斯坦饱受挫折。因为在这期间，他同时遭遇了失业、痛失女儿，而密内娃也因没有文凭，无法找到工作，而他和父母数不尽的争执也令他伤神。直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父亲去世，爱因斯坦与家人的关系才渐渐和好，也才顺利与密内娃完婚。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7810560" y="2133720"/>
            <a:ext cx="1333440" cy="2019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3942000" y="5335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富漢通細圓體"/>
              </a:rPr>
              <a:t>屡受挫折 以思想做避难所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14680" y="1071720"/>
            <a:ext cx="7110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但不要忘记，就是在这期间内，爱因斯坦酝酿完成了他的惊人成就。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，应一位美国编辑要求所写的自传中曾描述，早熟的性格使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他从很年轻时就看穿期望和憧憬的虚浮，它们把大多数人卷进需求无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的生活漩涡里。他似乎在童年就感受到世界的残酷与伪善，曾一度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宗教和充满敬畏的虔试心境中找寻避难所，但阅读过一些通俗的科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学作品后，他便不再相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圣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内的故事是真实的，所以很快就放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弃了宗教。后来他如此评论这段宗教信仰时期：“年轻时迷失那段的宗教信仰，是我第一次尝试，为的是从那个受原始欲望、希望和感情宰制的个人宇宙中解放出来。”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终其一生，爱因斯坦似乎一直不断地在抗拒这个世界残酷和生命的狭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隘－－受到原始的情感所统治的生命。然而在生命之外，有一个与人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类无关的广大世界，寻找这谜样世界的答案，成了他逃避现实生活的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最佳壁垒。他在自传中写着：“沉思这个世界的问题，才能指望获得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解放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5508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009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886200" y="380880"/>
            <a:ext cx="2305080" cy="24386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"/>
          <p:cNvSpPr/>
          <p:nvPr/>
        </p:nvSpPr>
        <p:spPr>
          <a:xfrm>
            <a:off x="2136960" y="4114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富漢通細圓體"/>
              </a:rPr>
              <a:t>　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55268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矩形 8"/>
          <p:cNvSpPr/>
          <p:nvPr/>
        </p:nvSpPr>
        <p:spPr>
          <a:xfrm>
            <a:off x="2643120" y="3103560"/>
            <a:ext cx="45720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就我们所知，爱因斯坦不太具有慈父的爱心。这可能是没有机会培养这份感情。他与密内娃离婚后，密内娃独自照顾患有慢性痴病的小儿子。爱因斯坦只用诺贝尔奖金来供养他们。他和长子汉斯的关系也相当冷淡。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5T08:13:32Z</dcterms:created>
  <dc:creator>Franco Chan</dc:creator>
  <dc:description/>
  <dc:language>en-US</dc:language>
  <cp:lastModifiedBy>acer</cp:lastModifiedBy>
  <dcterms:modified xsi:type="dcterms:W3CDTF">2012-06-08T01:14:29Z</dcterms:modified>
  <cp:revision>20</cp:revision>
  <dc:subject/>
  <dc:title>無投影片標題</dc:title>
</cp:coreProperties>
</file>