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153-D5A9-480E-898F-9FBFDC90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C5C-20AC-44D3-92A0-A41F4756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B36-4C8A-474C-A652-9D45FB0D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25B-3A8C-4E43-B73D-0A5D5CA2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9A3-4BAE-4730-BCC2-7D9F537C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3EB-3743-4D6E-BB5A-022F78F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952-ADC1-4983-9789-5B311E7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2F0-2B7D-4084-9AAA-739AE1CF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950-34FA-4DEA-9C9D-A942246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9C4-E271-4783-9BCE-6B4D1C1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95D-CB0D-4BB9-BF48-4CC59792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338-F37E-41B3-9DBC-3DEB616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90F8-4F5C-4E15-AD9A-2F5D19BECED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爱游协会招新面试会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3280" y="3860280"/>
            <a:ext cx="5905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爱游协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13.3.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260280"/>
            <a:ext cx="60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爱游协会招新面试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2205000"/>
            <a:ext cx="3384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宣传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负责协会及各部门的宣传工作（工作内容包括海报的设计、书写和张贴工作等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负责活动的会场设计及布置等工作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负责协会主页、邮箱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的管理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积极弘扬协会文化，扩大本协会影响力，鼓励更多人积极加入协会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配合协会与其他部门进行活动开展、宣传工作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负责与全校其他宣传部门（如：校报、广播站、学生会宣传部等）的交流和沟通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会议制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工作年会：全体会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工作月会：副部级以上参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99"/>
                </a:solidFill>
                <a:latin typeface="Arial"/>
              </a:rPr>
              <a:t>会费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：</a:t>
            </a:r>
            <a:r>
              <a:rPr b="0" lang="zh-CN" sz="8800" spc="-1" strike="noStrike">
                <a:solidFill>
                  <a:srgbClr val="ffff99"/>
                </a:solidFill>
                <a:latin typeface="Arial"/>
              </a:rPr>
              <a:t>30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￥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人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年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2570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47640" y="4005360"/>
            <a:ext cx="640908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68360" y="3500280"/>
            <a:ext cx="57596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协会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Arial"/>
              </a:rPr>
              <a:t>协会简介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协会宗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协会理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机构设置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办公室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旅游部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策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2764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联部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宣传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协会会议制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会费制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84360" y="1989000"/>
            <a:ext cx="362916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协会宗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协会宗旨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丰富大学生课余生活，探索大学生未知世界，传播大学生旅游文化，促进大学生思想交流，提高大学生素质修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47640" y="1628640"/>
            <a:ext cx="547236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协会理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协会理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旅游中成长，在旅游中睿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都是一群少年，有些事现在不做，也许永远都不会去做了。共同在旅行中放逐自我，追逐梦想。了解旅游目的地的文化，历史，经济，宗教及诸多方面的情况，通过旅游来领略自然风光，品味当地风土人情，使自己增长知识，开阔视野，丰富阅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95640" y="2133720"/>
            <a:ext cx="5113080" cy="30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办公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办公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职能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负责协会自律会全体成员的考勤考核工作。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负责做好每周部长例会的会议纪录，做好档案的整理与存档。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三、负责记录协会自律会开展的各项活动情况。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四、妥善管理协会自律会各类文件。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五、做好协会自律会办公室的值班考勤，并对请假进行考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六、整理工作，并负责办公室财产的管理。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七、负责各部门业务使用资金书面的批准与报销。          （  注：报销时必须有发票。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19280" y="2421000"/>
            <a:ext cx="5545080" cy="32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旅游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旅游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负责教导旅游知识、促进同学旅游激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负责收集旅游资料以便接受同学的旅游     咨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帮助社团外出游玩时解决大家的吃、住、游、娱。简单的说，就是社团成员在外出时与大家协定游览路线，什么样的路线快，安全。在饮食上照顾好大家，并且为大家尽可能的节省花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2133720"/>
            <a:ext cx="4897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组织策划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策划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负责社团的组织策划工作。包括策划书的培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策划好自己部门工作的同时也要协同其他部门的工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 与其他社团的组织策划部保持联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484360" y="2133720"/>
            <a:ext cx="446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外联部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外联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外联部的工作相对其他部来说比较特殊，我们的工作要走在其他部门的前面，很需要其他部门的配合和提前得到各部门的协助，所以我们与各部门搞好关系是非常必要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外联部要尽可能的发挥本部的作用，要为协会的各大活动提供物资所需，保障协会的完善与到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外联部工作，要学会说话的技巧，平时应该是要去拉赞助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0920" y="2060640"/>
            <a:ext cx="60501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生活部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协调、督促、指导各社团文艺部开展活动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举办丰富多彩的文艺活动，以活跃校园文化氛围；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组织文娱骨干培训活动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承办院团委计划内大型特色活动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主动发现校内文艺特长人才，为大型文艺活动及对外文艺交流做储备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4:39:53Z</dcterms:created>
  <dc:creator>DELL</dc:creator>
  <dc:description/>
  <dc:language>en-US</dc:language>
  <cp:lastModifiedBy>DELL</cp:lastModifiedBy>
  <dcterms:modified xsi:type="dcterms:W3CDTF">2013-03-26T05:17:20Z</dcterms:modified>
  <cp:revision>7</cp:revision>
  <dc:subject/>
  <dc:title>爱游协会招新面试会</dc:title>
</cp:coreProperties>
</file>