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A9D-777D-4625-B4A1-10A0DDD8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2B3-1245-40A9-ACFD-379340E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30C-76D5-4C06-BF01-25E8AF2F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A92-F081-43C0-ABE5-9A6CFC45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516-B05A-4C54-BD56-0432EAB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756-5D9C-420A-BBF9-CB7CB39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7B2-3E40-4AF0-A281-E306F5D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597-172F-46A0-970F-8019A2C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05C-4562-4B9F-A58E-E3B707FC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B67-3F0A-4819-8326-8914B46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9CB-41D6-4F38-883F-F7E295A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144-FAAA-4094-B6B5-642710B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2EBF-A1D1-47A5-8871-3738663DE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143000"/>
            <a:ext cx="6495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“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恩父母”主题班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/>
          <p:nvPr/>
        </p:nvSpPr>
        <p:spPr>
          <a:xfrm>
            <a:off x="3762000" y="4363920"/>
            <a:ext cx="22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潼川四小   三年级一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指导老师：陈红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98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744720" cy="295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3888000" cy="2768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932360" y="3213000"/>
            <a:ext cx="3527280" cy="291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932360" y="404640"/>
            <a:ext cx="3527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92360" y="1773000"/>
            <a:ext cx="669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ff"/>
                </a:solidFill>
                <a:latin typeface="Arial"/>
              </a:rPr>
              <a:t>对于辛苦工作的爸爸妈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ff"/>
                </a:solidFill>
                <a:latin typeface="Arial"/>
              </a:rPr>
              <a:t>你现在最想对他们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68000" y="1483920"/>
            <a:ext cx="5975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报答父母的养育之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你已经做过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以后还打算怎么做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妈妈，别哭，我去了天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1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95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19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8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381636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74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358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1282000">
            <a:off x="2730600" y="1348920"/>
            <a:ext cx="5257800" cy="366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04640"/>
            <a:ext cx="316872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亲爱的宝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你能活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一定要记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妈妈爱你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80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00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68000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78560" y="126828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韩红与潘子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364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344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天亮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那是一个秋天    风儿那么缠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让我想起他们    那双无助的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就在那美丽风景相伴的地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听到一声巨响震彻山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就是那个秋天   再看不到爸爸的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用他的双肩托起我重生的起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黑暗中泪水      沾满了双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不要离开         不要伤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看到爸爸妈妈就这么走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留下我在这陌生的人世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不知道未来还会有什么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想要紧紧抓住他的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妈妈告诉我希望还会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看到太阳出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妈妈笑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亮了</a:t>
            </a:r>
            <a:r>
              <a:rPr b="0" lang="zh-CN" sz="20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620640"/>
            <a:ext cx="4932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是一个夜晚    天上宿星点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在梦里看见    我的妈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一个人在世上    要学会坚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你不要离开        不要伤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看到爸爸妈妈就这么走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留下我在这陌生的人世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愿为他建造一个美丽的花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想要紧紧抓住他的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妈妈告诉我希望还会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看到太阳出来     天亮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看到爸爸妈妈就这么走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留下我在这陌生的人世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愿为他建造一个美丽的花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想要紧紧抓住他的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妈妈告诉我希望还会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看到太阳出来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们笑了       天亮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0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4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959280" cy="30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396108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8360" y="35733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396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961080" cy="3237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3888000" cy="30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3888000" cy="302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3280" y="3645000"/>
            <a:ext cx="396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6:36:41Z</dcterms:created>
  <dc:creator>island</dc:creator>
  <dc:description/>
  <dc:language>en-US</dc:language>
  <cp:lastModifiedBy>island</cp:lastModifiedBy>
  <dcterms:modified xsi:type="dcterms:W3CDTF">2011-10-18T19:56:14Z</dcterms:modified>
  <cp:revision>4</cp:revision>
  <dc:subject/>
  <dc:title>幻灯片 1</dc:title>
</cp:coreProperties>
</file>