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6A2-3832-428B-BD08-E994E01F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823-3BCB-44FB-9AC9-EF2D5F40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518-1066-47B9-9A25-8B7E5B0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ED8-6DD6-4037-817A-171EF799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491-7245-4334-A68B-ED8794C6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262-AD5C-4E88-82C6-DFDE2C43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AEA-8A9C-4861-ACF0-CA83DC2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C79-35F3-4BBB-8972-71D6627D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122-32D6-491C-8593-BB154F52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F9E-07C1-4C19-96ED-EEFAE026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B87-0DA3-4DCF-BD75-9E04B8A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C69-C47B-4A0B-8F33-0890E71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0937E06C-1564-4595-AF1A-3EF5D226ACF9}" type="slidenum">
              <a:rPr b="0" lang="zh-CN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79640" y="0"/>
            <a:ext cx="11428560" cy="129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697" r="0" b="2682"/>
          <a:stretch/>
        </p:blipFill>
        <p:spPr>
          <a:xfrm>
            <a:off x="39600" y="1081080"/>
            <a:ext cx="17211600" cy="10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006" r="0" b="1023"/>
          <a:stretch/>
        </p:blipFill>
        <p:spPr>
          <a:xfrm>
            <a:off x="0" y="1092240"/>
            <a:ext cx="17281440" cy="107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684" r="0" b="1051"/>
          <a:stretch/>
        </p:blipFill>
        <p:spPr>
          <a:xfrm>
            <a:off x="-25560" y="1152360"/>
            <a:ext cx="17345160" cy="107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330" r="0" b="1343"/>
          <a:stretch/>
        </p:blipFill>
        <p:spPr>
          <a:xfrm>
            <a:off x="73080" y="1081080"/>
            <a:ext cx="17145000" cy="107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697" r="0" b="1364"/>
          <a:stretch/>
        </p:blipFill>
        <p:spPr>
          <a:xfrm>
            <a:off x="82440" y="1081080"/>
            <a:ext cx="17125920" cy="107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47" r="0" b="1373"/>
          <a:stretch/>
        </p:blipFill>
        <p:spPr>
          <a:xfrm>
            <a:off x="0" y="1873080"/>
            <a:ext cx="17281440" cy="9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647" r="0" b="1373"/>
          <a:stretch/>
        </p:blipFill>
        <p:spPr>
          <a:xfrm>
            <a:off x="0" y="1438200"/>
            <a:ext cx="17281440" cy="9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5241" r="0" b="1049"/>
          <a:stretch/>
        </p:blipFill>
        <p:spPr>
          <a:xfrm>
            <a:off x="0" y="1609560"/>
            <a:ext cx="17281440" cy="10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347" r="0" b="1364"/>
          <a:stretch/>
        </p:blipFill>
        <p:spPr>
          <a:xfrm>
            <a:off x="0" y="1109520"/>
            <a:ext cx="17281440" cy="10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2083" r="0" b="2758"/>
          <a:stretch/>
        </p:blipFill>
        <p:spPr>
          <a:xfrm>
            <a:off x="0" y="1297080"/>
            <a:ext cx="17281440" cy="105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06" r="0" b="1678"/>
          <a:stretch/>
        </p:blipFill>
        <p:spPr>
          <a:xfrm>
            <a:off x="6480" y="1152360"/>
            <a:ext cx="17278200" cy="105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194" r="0" b="1545"/>
          <a:stretch/>
        </p:blipFill>
        <p:spPr>
          <a:xfrm>
            <a:off x="0" y="946080"/>
            <a:ext cx="17281440" cy="10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967" r="0" b="4208"/>
          <a:stretch/>
        </p:blipFill>
        <p:spPr>
          <a:xfrm>
            <a:off x="0" y="1098720"/>
            <a:ext cx="17281440" cy="104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5141" r="0" b="679"/>
          <a:stretch/>
        </p:blipFill>
        <p:spPr>
          <a:xfrm>
            <a:off x="-71280" y="1446120"/>
            <a:ext cx="17305200" cy="10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7:23:44Z</dcterms:created>
  <dc:creator>新教育</dc:creator>
  <dc:description/>
  <dc:language>en-US</dc:language>
  <cp:lastModifiedBy>新教育</cp:lastModifiedBy>
  <dcterms:modified xsi:type="dcterms:W3CDTF">2007-10-17T08:09:00Z</dcterms:modified>
  <cp:revision>6</cp:revision>
  <dc:subject/>
  <dc:title>幻灯片 1</dc:title>
</cp:coreProperties>
</file>