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06A4-C9FB-4D0D-977A-DD8D4BE4E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26E4-F74D-42E6-9896-082B5817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8D0A-1F4E-475A-92A1-5A381577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245-3DF1-4EAC-9A66-D7BC89F8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935C-3567-4F2D-AB74-8901D5B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C97-5DBE-4568-A2E0-35151881F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9AB-1363-481C-84E9-D5F28B38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879E-0C2F-461B-974D-18712ED1A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C362-B98F-4875-B539-517D24D23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101A-0DEC-45FD-B84D-006F9D36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6C20-18A9-48D7-8D6F-66CA6A9EE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CFE1-AB98-4F7E-9EF7-EB216A8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C6E4-FC5B-414C-BF34-0CB0E8ECA0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5486760" y="928800"/>
            <a:ext cx="1642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5902920" y="4013640"/>
            <a:ext cx="11552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6375600" y="1000080"/>
            <a:ext cx="109512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唯美梦幻及相关类别演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449784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9"/>
          <p:cNvSpPr/>
          <p:nvPr/>
        </p:nvSpPr>
        <p:spPr>
          <a:xfrm>
            <a:off x="249768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6"/>
          <p:cNvSpPr/>
          <p:nvPr/>
        </p:nvSpPr>
        <p:spPr>
          <a:xfrm>
            <a:off x="414072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5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71680" y="42876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506952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8"/>
          <p:cNvSpPr/>
          <p:nvPr/>
        </p:nvSpPr>
        <p:spPr>
          <a:xfrm>
            <a:off x="45691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6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28356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84528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3854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49266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283560" y="35593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35492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2857680" y="42148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140640" y="2500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5"/>
          <p:cNvSpPr/>
          <p:nvPr/>
        </p:nvSpPr>
        <p:spPr>
          <a:xfrm>
            <a:off x="585504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/>
          <p:cNvSpPr/>
          <p:nvPr/>
        </p:nvSpPr>
        <p:spPr>
          <a:xfrm>
            <a:off x="57837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84528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/>
          <p:cNvSpPr/>
          <p:nvPr/>
        </p:nvSpPr>
        <p:spPr>
          <a:xfrm>
            <a:off x="2071800" y="2357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2125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9486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26406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/>
          <p:cNvSpPr/>
          <p:nvPr/>
        </p:nvSpPr>
        <p:spPr>
          <a:xfrm>
            <a:off x="649800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164052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42836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55695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7835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9"/>
          <p:cNvSpPr/>
          <p:nvPr/>
        </p:nvSpPr>
        <p:spPr>
          <a:xfrm>
            <a:off x="564084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34977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"/>
          <p:cNvSpPr/>
          <p:nvPr/>
        </p:nvSpPr>
        <p:spPr>
          <a:xfrm>
            <a:off x="43549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44978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9"/>
          <p:cNvSpPr/>
          <p:nvPr/>
        </p:nvSpPr>
        <p:spPr>
          <a:xfrm>
            <a:off x="606960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2426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8"/>
          <p:cNvSpPr/>
          <p:nvPr/>
        </p:nvSpPr>
        <p:spPr>
          <a:xfrm>
            <a:off x="87696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9"/>
          <p:cNvSpPr/>
          <p:nvPr/>
        </p:nvSpPr>
        <p:spPr>
          <a:xfrm>
            <a:off x="72838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283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1425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5"/>
          <p:cNvSpPr/>
          <p:nvPr/>
        </p:nvSpPr>
        <p:spPr>
          <a:xfrm>
            <a:off x="52837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9-01T09:48:59Z</dcterms:modified>
  <cp:revision>45</cp:revision>
  <dc:subject/>
  <dc:title>幻灯片 1</dc:title>
</cp:coreProperties>
</file>