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F27-D2B7-4A7D-AB56-4C920FAF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803-5493-4366-B483-838F6AAA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B28-B69B-47DC-8928-6A34501B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7A5-DE96-485E-A577-0663783B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9DF-7A61-4BAB-B034-5E44CE6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C4C-DAD4-449C-BB80-165D0B18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AD0-C019-4836-AC65-C6298B5B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417-BEF7-4571-AC2A-D2CF9F94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15-66E0-4900-8846-12E69F6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2C7-8C83-4950-8A29-3525238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D12-A1A5-4D66-AA31-39166D54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25F-B462-4F98-98EF-728D2599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F16-8200-4D72-ABC2-0C437F9E8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_imgloadCAJFJ99S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办公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_imgloadCA9MLVU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部室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办公室是图书馆文献助理的综合办事机构，具有综合性、政治性、从属性和服务性的工作性质。办公室作为领导的直接服务机构，承担着为领导决策提供文件、资料、信息和建议，对领导工作部署进行组织、协调、监督、检查，以及协助领导处理日常事务的任务，处于参谋和助手的地位；因此说办公室是一个单位沟通上下左右关系的枢纽和桥梁，是领导的重要参谋和助手。另外，办公室要承担接收、接待上级、下级和兄弟单位的来文、来函、来人任务，需要沟通上下左右，联系四面八方，所以说，它又处于“门面”和“窗口”的地位。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http_imgloadCA2LNJ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会及助理内各种会议的会议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档案整理及管理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责安排值班、考勤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好财务报账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责通知队员参加各种会议和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调支持各部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_imgloadCAPR6C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事细心、踏实、耐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有强烈的责任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特长的优先考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通办公软件的优先考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_imgloadCALKCKU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欢迎大家踊跃参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2:05:26Z</dcterms:created>
  <dc:creator>杨洁</dc:creator>
  <dc:description/>
  <dc:language>en-US</dc:language>
  <cp:lastModifiedBy>微软用户</cp:lastModifiedBy>
  <dcterms:modified xsi:type="dcterms:W3CDTF">2015-09-17T02:53:42Z</dcterms:modified>
  <cp:revision>3</cp:revision>
  <dc:subject/>
  <dc:title>办公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