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34563050" cy="25923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A1D-84FC-4765-8735-57046A3A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716-EA66-4750-A25D-4FC90DE3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4EFB-D237-47EE-9222-135C8576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ED816-CE57-463A-B06A-76E3129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FE3A2-5B12-4BD6-B18D-0ADDE39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26CD5-F735-418A-B511-EE1B509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8A9B2-8691-45E9-91EE-B0F3D70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B6FF-2A1E-450C-A59C-85BFE1D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48F0F-56F6-4438-8D14-06CF2D44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29CC8-21CD-4A30-AF11-47760678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3F715-512C-43E3-922E-4F05B1D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DD8F5-F161-4C4D-9429-CBDD1DC0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482-C11B-48AF-9558-CB4742E5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CD2DF-FDB7-4672-978B-F1189F3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CC67D-013C-41D7-9F0C-37EB17F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8140C-3815-4F3B-AE0A-F3FF4752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62AE3-A6C1-46C6-817E-ECF73BC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EFBA3-D66D-499C-A93C-5F8FC45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A3913-3D66-47D9-ACB2-37C8895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0C97-E9A7-483E-A496-B3D7A5C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180ED-E756-4F2F-931E-2567763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1BC09-ECED-4881-BA23-D9056E20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E27D-59C8-4847-9EED-B79C7467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8E-7658-4CD9-A7CD-9531BB55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F02F0-5D49-44B5-AEE8-37E9FEDB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3ABAE-C284-4277-943C-E5D92F7D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1793D-7860-48CB-9121-B6C0AC83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D4AA5-067C-412C-84CE-800C879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6456-F5B6-4CDD-B7AC-A8A8646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09009-4CDA-4527-ABE6-FA74FB2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F19AB-7B90-43D9-B2BC-D3BA1A2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0B35-567B-4C42-A4CB-A95F18A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2908F-1DE0-4107-A218-7EF1ED7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D0E74-79E2-457C-A78D-B19D843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B00A-3BC1-405A-8123-FA178C0D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5DC12-ACB0-4D24-B90B-A1023DE6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A300-A248-4446-AE86-E64200DC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22B75-8194-4893-9DB1-673312AC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EF5C5-5C3D-499C-B7B4-C41BB24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63BA7-BCF4-474D-9800-081B545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065F7-A636-4262-B301-8A8BF40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FB314-6BFE-4FCF-A11B-80F037A6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C2F78-BFEB-4262-BEAC-C5490535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AA9FD-D0A6-4489-965F-CCA84A1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71B9E-6A07-4DAC-B44B-C95740A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AE7-9091-46FF-B7B5-FEC5475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41474-696B-4A21-9FEB-A2BA669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D6D4A-145B-46F1-A75A-FFD19C9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BAD04-0A31-4686-A571-1F3A6DE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329E9-0658-4975-8022-B3A6EF6B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789B4-3EFF-4DC0-A5C5-68CF98FD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90B0-F17D-4454-8215-C4483F9D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216F-F75B-42A6-A46F-FA4ED82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236C-2070-4D5C-87EB-5721FA7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3FB4-DBFC-46F2-8361-15668FE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8D2-0392-4B84-AC9E-8FDCA63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49A-5C61-4F2E-80BD-774C26F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D479-DBFB-42E0-A111-36DD6F4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6C15-CBEE-473D-8F6A-0D25D12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F92-C310-4634-A1A5-5F1A620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5A7-D4E6-481B-9650-475695C0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947-249A-459F-927A-9657E81E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638A-6768-4FC9-9A4E-2557865D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8EED-0B2D-4535-B72D-E474269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0470-4600-47EF-826E-22AE8BA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EAB0-2B7F-4466-A3D7-2D9F1DF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23D5-D20F-44F9-9642-15906F6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4DC-6711-4F9F-8C1E-D5067F84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B87C-C346-49B6-B69F-CF3B6F69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C715-DBB9-47EE-85C4-DD4609F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F7F7-AF92-4D5A-88C1-247B415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DDBA-FCCB-4769-BAB7-87C0CFE0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21F9-08DF-461E-9E41-B28A0B0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3EDC-B71D-44C0-BAF8-A0EE87D6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D4C2-3935-4D7C-B4E3-CA3087F4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FEBD-AE10-40DB-82FB-2E28595A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F589-B1BE-491D-BDEA-AA5D7AB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C9AB-C851-416B-A92A-34FAEE5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42E-D171-46C3-92AC-9917C37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D010-6C8E-47F9-9F9F-85D3430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7203-8986-4034-A5B4-57208043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E07C-B903-4EB0-A6F7-734E5E54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C6A7-C209-4B3B-85F2-68A6DEE6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0A2D-40EB-4840-9CE0-5BB6BD7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F0A3-B55C-4CC2-A2E8-D148B21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6947-7FC4-47ED-8BC4-CDC7387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0D7B-6823-4165-AD6B-47DF63D4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A019-875C-43FD-820D-6472F941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DD6A-89C1-421C-BEED-A960D2CD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899-4952-416E-B0F9-D60207FF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D0A7-5123-4A11-B47E-9627C93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89DC-F124-4E6E-884C-03350FD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E1D4-2485-4D30-BADC-1852E8C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2B95-449D-4263-B1C8-B7CFFE7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74AC0-F980-4D0E-809E-DC826CC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FC7E-BFF5-44B5-AE54-D171CA3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55A59-0CB5-4081-8DDD-367F4B3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61D0-89D4-427F-87C6-FE67BB6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8E40A-FC57-4EAC-9794-1058D69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DF76-9CEF-4197-B3B8-E28A5E89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3C5-2732-45A6-BBE0-93BAEE9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4AB4-13F4-4267-BC8D-14DCD168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BCE8-016F-4938-AD68-41BC256F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72E3-69E5-47F8-A5EC-485FC8A7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B012-7D9A-4BA9-A0A1-EE819EA8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06AE-E7A7-4371-9B09-EBE4521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7C7F-A93B-4DFD-97C8-CFDDE6A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7C93-6753-49B0-956B-F5EB702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E24B-39DD-4186-A121-B736FE4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1B37-7092-4B20-9012-1D6961C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19D6-D53F-4FC1-8ED8-6D5BB05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B6B-93C3-42C2-875D-1D6516D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280BC-F0CB-4AB2-88E1-9C04D52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74C6-6BA1-4889-9F9D-7EFC7F35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8FB2-AE5E-4C22-8E34-C65252AA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4555-792A-4654-B899-80EFA6C1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0F263-90BB-4DB0-9EB7-E618C66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5EAD-1E69-4561-97E8-1EF9EA51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5E83-E4AC-46D3-A91F-A002476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22B4-8371-41E9-9152-B469261E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D44C9-0B58-4F0C-9824-4EA7D6A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32DA3-A1CE-45F4-AC2E-6199E2C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6D1-57EB-4154-82E9-DE21C65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2C0C-39A9-4328-A2C6-C7CA4AC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0014-CBE3-4626-B7C1-E87572F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BA86-86E3-4EBD-84C0-E72A8EE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138F-2B9C-43B5-A8E7-733F6F63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60E9E-F07D-4A04-A3B8-FA93176A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B0803-9B7B-4119-8B8B-11EBAE22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B84EB-04A1-44E0-82B8-750BDE7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B22D-2B90-4B2E-8956-7AE55718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00F0-AEF2-41A9-8706-8E51CC5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FAF3-94F7-4409-AD1D-911ED336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D6D-A39F-44E5-954D-E796CFC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730520" y="1037880"/>
            <a:ext cx="3110544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B33D-6802-4E14-BB91-C08186DA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16EB-79C9-46CB-9DC2-A70716C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7E11-BE8F-43C0-B024-A4F3A61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7EA58-52D9-41C8-852D-EC817A8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30520" y="14984640"/>
            <a:ext cx="3110544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79144-1854-4CFE-8787-CC88151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7669160" y="604836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3052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7669160" y="14984640"/>
            <a:ext cx="1517940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0893-833C-44F6-93EF-1D823A8F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24720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763880" y="604836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3052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224720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2763880" y="14984640"/>
            <a:ext cx="10015560" cy="81604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2B77-DE97-409F-AE8D-5BBB1BD2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F2757-2766-4FC7-883B-1519E36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C71C-8905-47C0-96F1-8C7A5D63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56000"/>
                <a:tab algn="l" pos="6912000"/>
                <a:tab algn="l" pos="1036800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A7955-D0DA-4B34-98E5-A475E87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2" marL="4321080" indent="-8650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4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5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6" marL="777708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30160" y="23607360"/>
            <a:ext cx="806292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09080" y="23607360"/>
            <a:ext cx="1094580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771240" y="23607360"/>
            <a:ext cx="8064720" cy="180036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lstStyle>
            <a:lvl1pPr indent="0" algn="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fld id="{96C1278F-27A7-40D7-AD28-680667AC5B1A}" type="slidenum">
              <a:rPr b="0" lang="en-US" sz="5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F58-834E-4920-98A6-C2A64400D9DE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565-CFB5-4040-BD06-0A85E9A3D2FB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73E-8BE7-41F8-8C6E-C16E49C0DBC9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zh-CN" sz="4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  <a:defRPr b="0" lang="zh-CN" sz="4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fld id="{AE949B19-3252-4220-81C1-99EBC3588DAF}" type="slidenum">
              <a:rPr b="0" lang="zh-CN" sz="4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E84B-B21E-441B-8ADB-776084A88A1F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BE20-98A2-441F-A8C7-57B2D9F9CCF9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D20C-2A9A-408F-A781-EB3219F95C25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6DC-2DC2-47FF-B6AD-FAA506C9CF59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CBD-6406-49E5-9191-91F6F0268AC1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0E8-713B-48A9-B008-F94E5C76474C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30520" y="1037880"/>
            <a:ext cx="3110544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6000"/>
                <a:tab algn="l" pos="6912000"/>
                <a:tab algn="l" pos="103680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30520" y="6048360"/>
            <a:ext cx="31105440" cy="1710864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1" marL="2808360" indent="-1079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2" marL="4319640" indent="-86364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3" marL="6048360" indent="-8636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4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5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  <a:p>
            <a:pPr lvl="6" marL="7775640" indent="-86364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56000"/>
                <a:tab algn="l" pos="6912000"/>
                <a:tab algn="l" pos="1036800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730160" y="24028560"/>
            <a:ext cx="80629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1809080" y="24028560"/>
            <a:ext cx="1094580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24771240" y="24028560"/>
            <a:ext cx="8064720" cy="137952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B70-C455-495B-BA37-E00D7E6DA5DC}" type="slidenum">
              <a:rPr b="0" lang="zh-CN" sz="4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搬过来搬过去001"/>
          <p:cNvPicPr/>
          <p:nvPr/>
        </p:nvPicPr>
        <p:blipFill>
          <a:blip r:embed="rId1"/>
          <a:stretch/>
        </p:blipFill>
        <p:spPr>
          <a:xfrm>
            <a:off x="6840360" y="0"/>
            <a:ext cx="188755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搬过来搬过去011"/>
          <p:cNvPicPr/>
          <p:nvPr/>
        </p:nvPicPr>
        <p:blipFill>
          <a:blip r:embed="rId1"/>
          <a:srcRect l="0" t="0" r="0" b="8850"/>
          <a:stretch/>
        </p:blipFill>
        <p:spPr>
          <a:xfrm>
            <a:off x="7305840" y="0"/>
            <a:ext cx="207072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5"/>
          <p:cNvSpPr/>
          <p:nvPr/>
        </p:nvSpPr>
        <p:spPr>
          <a:xfrm>
            <a:off x="14185800" y="12169800"/>
            <a:ext cx="6476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搬过来搬过去012"/>
          <p:cNvPicPr/>
          <p:nvPr/>
        </p:nvPicPr>
        <p:blipFill>
          <a:blip r:embed="rId16"/>
          <a:srcRect l="9254" t="3261" r="0" b="6159"/>
          <a:stretch/>
        </p:blipFill>
        <p:spPr>
          <a:xfrm>
            <a:off x="8067600" y="0"/>
            <a:ext cx="189104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搬过来搬过去013"/>
          <p:cNvPicPr/>
          <p:nvPr/>
        </p:nvPicPr>
        <p:blipFill>
          <a:blip r:embed="rId1"/>
          <a:srcRect l="2321" t="0" r="0" b="7777"/>
          <a:stretch/>
        </p:blipFill>
        <p:spPr>
          <a:xfrm>
            <a:off x="7273800" y="0"/>
            <a:ext cx="199929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搬过来搬过去014"/>
          <p:cNvPicPr/>
          <p:nvPr/>
        </p:nvPicPr>
        <p:blipFill>
          <a:blip r:embed="rId1"/>
          <a:srcRect l="2677" t="0" r="0" b="6944"/>
          <a:stretch/>
        </p:blipFill>
        <p:spPr>
          <a:xfrm>
            <a:off x="7705800" y="0"/>
            <a:ext cx="197420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搬过来搬过去015"/>
          <p:cNvPicPr/>
          <p:nvPr/>
        </p:nvPicPr>
        <p:blipFill>
          <a:blip r:embed="rId1"/>
          <a:srcRect l="0" t="0" r="0" b="10556"/>
          <a:stretch/>
        </p:blipFill>
        <p:spPr>
          <a:xfrm>
            <a:off x="7843680" y="0"/>
            <a:ext cx="211028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搬过来搬过去016"/>
          <p:cNvPicPr/>
          <p:nvPr/>
        </p:nvPicPr>
        <p:blipFill>
          <a:blip r:embed="rId1"/>
          <a:srcRect l="8041" t="0" r="0" b="8057"/>
          <a:stretch/>
        </p:blipFill>
        <p:spPr>
          <a:xfrm>
            <a:off x="9361440" y="0"/>
            <a:ext cx="188802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搬过来搬过去017"/>
          <p:cNvPicPr/>
          <p:nvPr/>
        </p:nvPicPr>
        <p:blipFill>
          <a:blip r:embed="rId1"/>
          <a:srcRect l="0" t="0" r="0" b="6944"/>
          <a:stretch/>
        </p:blipFill>
        <p:spPr>
          <a:xfrm>
            <a:off x="7843680" y="0"/>
            <a:ext cx="202834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搬过来搬过去018"/>
          <p:cNvPicPr/>
          <p:nvPr/>
        </p:nvPicPr>
        <p:blipFill>
          <a:blip r:embed="rId1"/>
          <a:srcRect l="6897" t="0" r="0" b="8334"/>
          <a:stretch/>
        </p:blipFill>
        <p:spPr>
          <a:xfrm>
            <a:off x="9145440" y="0"/>
            <a:ext cx="191707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搬过来搬过去019"/>
          <p:cNvPicPr/>
          <p:nvPr/>
        </p:nvPicPr>
        <p:blipFill>
          <a:blip r:embed="rId1"/>
          <a:srcRect l="2321" t="0" r="0" b="7501"/>
          <a:stretch/>
        </p:blipFill>
        <p:spPr>
          <a:xfrm>
            <a:off x="8283600" y="0"/>
            <a:ext cx="199310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搬过来搬过去020"/>
          <p:cNvPicPr/>
          <p:nvPr/>
        </p:nvPicPr>
        <p:blipFill>
          <a:blip r:embed="rId1"/>
          <a:srcRect l="7239" t="0" r="0" b="7501"/>
          <a:stretch/>
        </p:blipFill>
        <p:spPr>
          <a:xfrm>
            <a:off x="8424720" y="0"/>
            <a:ext cx="1893096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0" y="933480"/>
            <a:ext cx="34564680" cy="240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搬过来搬过去021"/>
          <p:cNvPicPr/>
          <p:nvPr/>
        </p:nvPicPr>
        <p:blipFill>
          <a:blip r:embed="rId1"/>
          <a:srcRect l="0" t="0" r="0" b="7801"/>
          <a:stretch/>
        </p:blipFill>
        <p:spPr>
          <a:xfrm>
            <a:off x="6624720" y="0"/>
            <a:ext cx="204739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搬过来搬过去022"/>
          <p:cNvPicPr/>
          <p:nvPr/>
        </p:nvPicPr>
        <p:blipFill>
          <a:blip r:embed="rId1"/>
          <a:srcRect l="1663" t="0" r="0" b="8890"/>
          <a:stretch/>
        </p:blipFill>
        <p:spPr>
          <a:xfrm>
            <a:off x="7129440" y="0"/>
            <a:ext cx="203738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搬过来搬过去023"/>
          <p:cNvPicPr/>
          <p:nvPr/>
        </p:nvPicPr>
        <p:blipFill>
          <a:blip r:embed="rId1"/>
          <a:srcRect l="0" t="0" r="0" b="7228"/>
          <a:stretch/>
        </p:blipFill>
        <p:spPr>
          <a:xfrm>
            <a:off x="6840360" y="0"/>
            <a:ext cx="203472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搬过来搬过去024"/>
          <p:cNvPicPr/>
          <p:nvPr/>
        </p:nvPicPr>
        <p:blipFill>
          <a:blip r:embed="rId1"/>
          <a:srcRect l="11088" t="0" r="4048" b="8182"/>
          <a:stretch/>
        </p:blipFill>
        <p:spPr>
          <a:xfrm>
            <a:off x="9126360" y="0"/>
            <a:ext cx="1744524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搬过来搬过去025"/>
          <p:cNvPicPr/>
          <p:nvPr/>
        </p:nvPicPr>
        <p:blipFill>
          <a:blip r:embed="rId1"/>
          <a:srcRect l="0" t="0" r="0" b="11666"/>
          <a:stretch/>
        </p:blipFill>
        <p:spPr>
          <a:xfrm>
            <a:off x="6985080" y="0"/>
            <a:ext cx="213678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8" descr=""/>
          <p:cNvPicPr/>
          <p:nvPr/>
        </p:nvPicPr>
        <p:blipFill>
          <a:blip r:embed="rId1"/>
          <a:stretch/>
        </p:blipFill>
        <p:spPr>
          <a:xfrm>
            <a:off x="0" y="576360"/>
            <a:ext cx="34564680" cy="250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搬过来搬过去004"/>
          <p:cNvPicPr/>
          <p:nvPr/>
        </p:nvPicPr>
        <p:blipFill>
          <a:blip r:embed="rId1"/>
          <a:srcRect l="9013" t="0" r="0" b="9531"/>
          <a:stretch/>
        </p:blipFill>
        <p:spPr>
          <a:xfrm>
            <a:off x="7921800" y="0"/>
            <a:ext cx="189846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搬过来搬过去005"/>
          <p:cNvPicPr/>
          <p:nvPr/>
        </p:nvPicPr>
        <p:blipFill>
          <a:blip r:embed="rId1"/>
          <a:srcRect l="4609" t="0" r="0" b="7501"/>
          <a:stretch/>
        </p:blipFill>
        <p:spPr>
          <a:xfrm>
            <a:off x="8067600" y="0"/>
            <a:ext cx="194644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搬过来搬过去006"/>
          <p:cNvPicPr/>
          <p:nvPr/>
        </p:nvPicPr>
        <p:blipFill>
          <a:blip r:embed="rId1"/>
          <a:srcRect l="1556" t="0" r="0" b="7777"/>
          <a:stretch/>
        </p:blipFill>
        <p:spPr>
          <a:xfrm>
            <a:off x="6408720" y="0"/>
            <a:ext cx="201484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搬过来搬过去007"/>
          <p:cNvPicPr/>
          <p:nvPr/>
        </p:nvPicPr>
        <p:blipFill>
          <a:blip r:embed="rId1"/>
          <a:srcRect l="3465" t="5838" r="0" b="12223"/>
          <a:stretch/>
        </p:blipFill>
        <p:spPr>
          <a:xfrm>
            <a:off x="7489800" y="0"/>
            <a:ext cx="2223612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搬过来搬过去008"/>
          <p:cNvPicPr/>
          <p:nvPr/>
        </p:nvPicPr>
        <p:blipFill>
          <a:blip r:embed="rId1"/>
          <a:srcRect l="2645" t="0" r="0" b="8850"/>
          <a:stretch/>
        </p:blipFill>
        <p:spPr>
          <a:xfrm>
            <a:off x="6985080" y="0"/>
            <a:ext cx="201610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搬过来搬过去009"/>
          <p:cNvPicPr/>
          <p:nvPr/>
        </p:nvPicPr>
        <p:blipFill>
          <a:blip r:embed="rId1"/>
          <a:srcRect l="2756" t="0" r="0" b="12226"/>
          <a:stretch/>
        </p:blipFill>
        <p:spPr>
          <a:xfrm>
            <a:off x="6985080" y="0"/>
            <a:ext cx="209106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搬过来搬过去010"/>
          <p:cNvPicPr/>
          <p:nvPr/>
        </p:nvPicPr>
        <p:blipFill>
          <a:blip r:embed="rId1"/>
          <a:srcRect l="4618" t="0" r="0" b="6826"/>
          <a:stretch/>
        </p:blipFill>
        <p:spPr>
          <a:xfrm>
            <a:off x="8070840" y="0"/>
            <a:ext cx="1932300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1:30:56Z</dcterms:created>
  <dc:creator>新教育</dc:creator>
  <dc:description/>
  <dc:language>en-US</dc:language>
  <cp:lastModifiedBy>lenovo</cp:lastModifiedBy>
  <dcterms:modified xsi:type="dcterms:W3CDTF">2015-08-08T02:36:0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