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DE67-0062-4633-A740-50060B9B70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岁宝宝的营养食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E05-3FA2-4D6E-A426-115C9427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B07-483F-4952-B8A1-06048A51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135-E77A-48EC-B389-0F60AF8D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904-404A-497D-BE2B-5C29613E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F4B-8DE9-4C93-9CE3-17FA5D5E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F6F-6536-4AF9-8223-5DED0F60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B46-3ACA-461B-8665-615F22AA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21F-D7A9-4260-8A23-7CDEE217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C95-5531-4ADE-9DA6-3F9B9CDC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71B-4D52-4926-9B8C-3ED307A4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CE5-B3EE-4057-8509-95D4B1C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C64-0DFE-40C8-A0CE-B1239FB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EEA0-89BB-4479-9E58-AF97D81F59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岁宝宝营养食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早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升煎荷包蛋夹面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早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香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午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烧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馄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肉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虾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青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香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大白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午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桃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晚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海带烧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海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黄瓜木耳豆腐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炸素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原料】胡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-250~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土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，香菜适量，鸡蛋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，淀粉、食用油、味精、精盐各少许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做法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胡萝卜、土豆、香莱分别剁成细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鸡蛋清搅拌成泡沫状，放入切好的菜蓉，加入淀粉、精盐和味精，搅拌均匀，待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旺火起油锅，待油热后，用小勺取调好的原料逐个放入锅中，炸透的捞出沥油，装盘即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锦炒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原料】胡萝卜、黄瓜、豌豆、火腿、米饭各适量，鸡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，精盐、味精、食用油少许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做法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胡萝卜、黄瓜、火腿分别切成细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鸡蛋打碎调匀，放入热油锅炒熟；净胡萝卜丁用热水焯一下，捞起沥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旺火起油锅，放入豌豆、胡萝卜丁、黄瓜丁、火腿丁、炒鸡蛋、米饭，一起炒熟，加少许精盐和味精，即可起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特点】菜饭相融，色彩多样，能使孩子食欲大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泥鳅炖豆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原料】 活泥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，豆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，盐、葱、姜、黄酒、味精、淀粉各适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做法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活泥鳅放入盆中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后，去鳃、内脏，洗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泥鳅放入锅内，加盐、葱、姜、黄酒、清水适量。用武火烧沸后，转用文火炖煮，至泥鳅五成熟时，加入豆腐，至泥鳅熟烂时，调水淀粉、味精即成，分顿食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品有利湿清热之功，适于甲肝湿重于热型。对小便不利，发热不高，头重乏困。水肿、食欲不振等症状的患儿，效果颇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炒胡萝卜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原料】胡萝卜适量，葱、姜少许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做法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胡萝卜洗净切成细丝；葱、姜切成碎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旺火起油锅，油热后放入胡萝卜丝，加入调料后改用文火煸炒，待快熟时，加一点温水，胡萝卜丝软了便可起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特点】滋味可口，营养丰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7960" y="32457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特点】滋味可口，营养丰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炸素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原料】胡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-250~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土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，香菜适量，鸡蛋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，淀粉、食用油、味精、精盐各少许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做法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胡萝卜、土豆、香莱分别剁成细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鸡蛋清搅拌成泡沫状，放入切好的菜蓉，加入淀粉、精盐和味精，搅拌均匀，待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旺火起油锅，待油热后，用小勺取调好的原料逐个放入锅中，炸透的捞出沥油，装盘即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酱爆鱼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原料】鱼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，酱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，姜末、葱花、鸡蛋、水淀粉、味精、甜面酱、糖、蒜泥、肉汤适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做法】将鱼丁用盐、鸡蛋、黄酒、水淀粉上浆，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。另取碗将姜末、味精、糖、酱油、肉汤、淀粉调成汁，开油锅，油温五成，先下入葱、蒜泥煸出香味后加面酱，投入鱼丁煸炒片刻，速倒入调好的芡汁翻炒，加明油拌匀即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菜健脾利湿，可治脾虚食少、乏力浮肿等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腌咸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原料】新鲜鸭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克，白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，姜、葱、花椒、糖适量，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做法】将蛋洗净、晾干放入坛里，清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克放入锅里，加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成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切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花椒烧开，用文火煮片刻，闻到香味后放进盐煮开。停火后加白酒、食糖、味精搅匀，等冷透后倒进坛里，封好坛口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后，即成美味咸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芙蓉鸡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原料】鸡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精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湿淀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味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鸡蛋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料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猪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奶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，姜汁、白糖各少许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做法】将鸡肉用刀背砸为细泥，分数次对入鸡蛋清和少许淀粉，用筷子朝一个方向搅匀成糊：炒勺内放上猪肉烧至五成熟，之后放入鸡片，用筷子搅开，倒入漏勺内，控掉油。将奶汤、精盐、料酒、姜汁、白糖、味精及余下的淀粉调成黄汁。倒入炒勺内，随后下入鸡片，片刻出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海带炖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原料】净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水发海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，明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，料酒、葱花、姜片、精盐、味精、花椒、胡椒面各适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做法】 将鸡剁块，海带洗净，切菱形块；锅内放入凉水，将鸡块下锅，用旺火烧开，撇去浮沫，加入葱花、姜片、花椒、胡椒面、料酒和海带，用中火炖到鸡肉烂时，撒入精盐、味精拌匀，即可出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期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餐 牛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，鸡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，点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午餐 大米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清蒸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熘豆腐虾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虾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豆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香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:3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，蛋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餐 卤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挂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胡萝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猪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木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小白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土豆碎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睡前 牛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岁宝宝的营养食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早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蒸蛋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早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橘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鱼肝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午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猪肝炒面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面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、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、葱适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凉拌菜拼盘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莴笋、萝卜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、豆腐干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排骨汤加小白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午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夹心饼干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晚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米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青菜汆丸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肉末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、青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期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餐 牛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，煎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鸡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面包番茄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番茄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午餐 小烧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馄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瘦猪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香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黄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:3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，饼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餐 小米枣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枣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海带炒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瘦猪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睡前 牛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期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餐 牛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，五香鸡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鸡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混合面花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玉米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午餐 饺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芹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猪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瓜片虾皮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虾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瓜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:3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小桃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餐 米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小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瘦猪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胡萝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黄瓜木耳豆腐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木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豆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睡前 牛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期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餐 豆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，馒头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鸡蛋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鸡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、虾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午餐 大米小豆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小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红烧土豆牛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牛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土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:3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，绿豆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餐 香菇冬瓜珍珠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鸡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面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香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、冬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睡前 牛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期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早餐 牛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毫升，菜肉包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瘦猪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萝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牛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午餐 鸡蛋软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鸡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西红柿排骨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骨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西红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猪肝炒竹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猪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竹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:3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小蛋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晚餐 小米枣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枣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白菜胡萝卜木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瘦猪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白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胡萝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木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睡前 牛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毫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早餐 牛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毫升，芝麻烧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芝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鸡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午餐 混合面花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荞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肉末蘑菇炖土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瘦猪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蘑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土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拌腐竹黄瓜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腐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黄瓜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香菜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:3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，饼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晚餐 小米黑米香米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黑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香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红烧鲤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鲤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睡前 牛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毫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早餐 豆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毫升，枣发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枣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午餐 肉包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瘦猪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冬瓜鸡肉末虾皮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鸡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虾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冬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拌腐竹黄瓜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腐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黄瓜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香菜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:3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，点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晚餐 米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瘦猪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小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胡萝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猪肝炒黄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猪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黄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胡萝卜蛋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胡萝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、鸡蛋少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睡前 牛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毫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岁宝宝营养食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早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素盒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早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橘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鱼肝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香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午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米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碗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鱼香肉丝一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冬瓜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、虾皮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午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曲奇饼干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晚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蛋炒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碗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、鸡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炒绿豆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豆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小白菜虾米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岁宝宝营养食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早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面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早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绿豆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毫升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饼干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鱼肝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滴，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午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米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糖醋排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1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素炒菜花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小白菜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午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蒸鸡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，苹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晚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馒头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面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炖牛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5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黄瓜木耳豆腐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炒扁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洋白菜豆腐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岁宝宝营养食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早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蒸蛋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早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橘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鱼肝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滴，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午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猪肝炒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，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，葱适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凉拌菜拼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莴笋、胡萝卜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，豆腐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排骨汤加小白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午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夹心饼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晚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青菜丸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肉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，青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岁宝宝营养食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早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馒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鸡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早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苹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午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饺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肉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虾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韭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午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蛋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晚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炖鸡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青菜炒豆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青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豆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岁宝宝营养食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食谱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早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馒头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煎蛋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鸡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、肉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早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橘子一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午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肉末蘑菇炒油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、肉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红柿鸡蛋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午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麦饼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晚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花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烧鲤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炒芹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酸辣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，鱼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岁宝宝营养食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早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芝麻烧饼一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早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香蕉一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午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馅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面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肉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白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米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午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牛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膨化玉米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晚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猪肝炒黄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猪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黄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木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胡萝卜蛋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胡萝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炒胡萝卜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原料】胡萝卜适量，葱、姜少许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做法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胡萝卜洗净切成细丝；葱、姜切成碎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旺火起油锅，油热后放入胡萝卜丝，加入调料后改用文火煸炒，待快熟时，加一点温水，胡萝卜丝软了便可起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特点】滋味可口，营养丰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3:50:27Z</dcterms:created>
  <dc:creator>user</dc:creator>
  <dc:description/>
  <dc:language>en-US</dc:language>
  <cp:lastModifiedBy>user</cp:lastModifiedBy>
  <dcterms:modified xsi:type="dcterms:W3CDTF">2012-02-26T13:59:45Z</dcterms:modified>
  <cp:revision>2</cp:revision>
  <dc:subject/>
  <dc:title>3岁宝宝营养食谱A</dc:title>
</cp:coreProperties>
</file>