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3E51-7B05-44C7-81AA-42C724B67E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D598-E8A5-497C-816A-779A4261CA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CBE-4CED-42DE-9CB8-4B1D7CD9F4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4E1-D41E-4DC8-BC85-5351EE0F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2A9-1DE0-42B3-8FF1-EF4555E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76C9-E697-429F-8F22-7EF8A07A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B7E5E-83D6-4910-9D38-413D9E4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2B589-AC58-4760-ADE7-142960CE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74A21-1213-4339-9949-1FFC214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8F3D-5B39-4C06-AA67-9E13FC5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9E60-6F3E-4381-971B-476DE3C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ED9E-A972-40C3-BA7B-613C0C75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FA9C-8D5A-409E-B1CF-6EDB205F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26DAA-4606-4793-B317-BF2C785B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96F9D-53F8-4921-876C-BE7C78B7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4FE-F508-4CFA-866D-4BCD1F69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391E-DCBA-45BA-AD3C-82F5F71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3100A-424F-4618-9A92-CD91655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D2160-37C6-4876-9890-AFCA162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5BF40-2566-4DD1-B170-D86201B4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8DB36-655F-4715-9441-865592F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32B6D-12EB-47A8-ACFA-4493382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2D191-6620-47BF-9AE7-7ACEB39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06A2-BD12-4EB8-A06F-A17D246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FAA5-8B03-408E-BD9A-A634F082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99EA-9733-4BE7-9EB4-C6A992EB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23F-69FD-4291-804B-C4FE9AD6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6CD83-FE94-45DA-8023-D29E7667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8BD8A-22C3-40DE-9CA3-E0A14582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C98B-D3DB-4474-BB35-43B4D802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47237-53FE-44E4-9F37-3BA46B5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28FE-0C74-4B1A-BB50-468241B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E72A7-56A3-43DA-942E-FCA50B7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857FA-8CB7-40A1-BB1F-6EC6C99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42A6-06F6-4BA8-98C3-70FD564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F69FA-B3F9-46ED-A174-9EED0C8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4F5B-E1D0-4290-B492-7C81539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616-4DA9-4579-9B94-4D33D464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D1B2-D1A2-4A52-970C-FF8478D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2AF0B-F7D8-48EA-AF05-B7D22F1C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778F8-B89B-4056-9702-65140CD5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E509D-0FC3-4935-83F3-ACD0345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23BD2-A0F4-4A3A-9775-C0068B36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5B11C-9AD4-4E0D-9E03-30B508A2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FB64D-1C69-4988-BA10-5E41144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A246A-7773-400D-BC3F-ADBBE77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FB238-26A8-4FE6-98E2-8FCC3699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90DCB-83FE-4D44-8F0D-5FCEF12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1D57-15BA-4051-A3DB-386FCAD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68209-9B05-4231-BF12-81D6BE9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35AAD-E35B-49C6-90D0-F33302F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FC40D-D7AC-4BDA-8613-014D75D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BDC33-82B0-4DDD-8D82-72F3A0EB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A90FA-E23F-495B-993A-EA2A7D25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902-5746-48F5-AD60-E3CA158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DBE-4CFB-4D90-9A79-7B5B528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DDC9-DDF9-417D-B9CA-08F8C8E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36C1-98B5-46EE-92D6-0635FAA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1354-149D-41D3-8124-D8E971D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E99-E37F-4A2F-888D-3DFD8409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73E-BB33-407F-BBE4-400BD87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7AC4-2D8D-4233-8FE9-B395005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185E-B0D5-4049-9C6A-983A0EA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CF24-077D-49CE-A2B1-F179169B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46A-8C5A-42D5-B0DD-6099D936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376E-631F-4CA9-9C0A-C1729D0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B73B-29AF-41DF-BB93-0A74E78D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A851-FCB5-4603-B0BA-D99A4143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F044-79CE-4DD5-A182-C093FA1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E755-10DF-429A-A0AF-6C5BD6B0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321-F1FD-45FE-80F3-2F02FA5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9CB8-8A15-4902-9501-701F5B2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2B5C-EC31-470F-8F26-6C97A6B2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A681-01DD-4660-8E37-B63D041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BC84-27F0-40FF-8CB3-A02C2D1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576E-3F22-4B31-87DC-A672F560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95FC-A1C4-4F26-9500-ACA13AE4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226D-2496-423A-88E4-2A688A6C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39BD-0011-4EBE-A476-1DCE854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D781-A0C5-4E0D-B145-530A3F5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5F91-A376-4C13-A601-8A8E8DC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8D5-3479-4299-8CE6-8143A7EA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3D3C-52E2-440F-B9A8-7BA0512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AF7C-8C97-4959-986F-B9CAEF1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3B9A-1ED6-4B57-AE2C-61B217B0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8826-4446-4914-A984-A801EC2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442C-ED7B-45E5-BDD1-2AB9F73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F920-D48C-42C2-8CBC-321C63E1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B712-DF0E-4EDF-8FE9-BB59EB7E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DDC2-7E6D-49B8-9058-B371FCEF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ED2A-E99B-4C1C-87A4-A4D5D727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49DD-CAD7-423F-8519-099F91C5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C5A-6A81-4AFC-87D3-28D944B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4E86-8E8C-49A3-BF0B-AB3565B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8507-15CC-4ECC-88A3-36484A7E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50649-0788-4FA0-BFCC-FFB35D0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57B06-CD34-4026-9868-6608DBD4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2E59-2EB3-4ECE-AD1C-33D03AE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F4C8-8459-4AD9-837A-42E5E27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458F-F240-4D10-9EF3-4B8E707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CDC3-5F6B-44F8-A2B6-5B5F4F3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E1A9-E018-4B0A-B5D7-787190EC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7DC7F-7821-4F41-905B-A65E5F4D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0C6-345F-4A31-8413-B351E954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9095-EEEF-48F0-80F1-5A102547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EC104-B47E-4D31-880D-6B1FCFED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2BE8-CAC5-42B5-A2E1-1A5417EE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FC48A-3A69-4AE5-96D1-15553EA3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9B60-4160-4C9F-BB56-95D4496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E20E-6A70-419D-958C-B4083D8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7BF5-AA2A-41E3-896E-05D8CF4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DC18-A355-4683-AC5D-D45042D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D5445-152C-4F9A-B021-0A42A448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EE86-11BE-45DD-BD14-B859109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F33-5320-48B1-AB73-7C3779E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6FCB-E384-4DCE-9349-45A69E6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127D-D2C9-4658-9A62-7F7E73AF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802A-D0B0-4F9C-B2E5-E37DF067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6F9B-9653-4D43-B934-9A6BCC99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3163-873E-4BE2-89CA-8AA6C76E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1EA9-4932-404F-AB8A-0954AFA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A63F-1586-4A85-A203-19F54DB8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81DC2-C1DC-4DEE-BFC9-4340B18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53B2-D689-4A48-8257-E4C94AE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0FA6-AF54-4244-BF4A-685AAC9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E87-E4AD-4878-84A0-15E442E1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ABD4-B8DE-4C39-9C12-660A9DC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61C0-81D9-4A54-A4C1-71DB9F0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4822-DE91-432E-A851-28082E6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1F32-7D5B-40C0-99A0-6B61E244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6B4B-A83E-4188-9033-C02AC222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F2BC-DFCB-4CCD-9192-B1441299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D9E13-323C-4459-A34A-2C540FB0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B21B-D726-47E8-B5C4-64138FEB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E8C6E-DAF1-48AA-846D-F6E1DC4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CCC2-8303-4CE7-BE73-8EA4FB1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B76-8D6D-4152-B876-BC3DB85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A09B-34BF-435F-A093-B351BB5F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27DF1-5402-4917-87C0-C98F41D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17A4-BFCC-47A4-A309-6C9A03A6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A707-9CD9-4484-B4FE-B481B92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63AA-3AC0-4D82-88FF-F4CAB00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1E55-C06A-42E5-9082-51BF258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F429-18D1-4603-A112-8F0E2D43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33273-95DD-4811-85E3-F28A30E6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9AB1C-9FD0-482D-A066-FBDE2F8B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7C0F1-11F6-49D4-956B-F2310AAA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6197-22F7-4A73-BD4C-7C9E99108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F88-72EC-4BA4-8B71-B8D598AB6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F23-7348-4CBC-883F-CFF3582A5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1DD-20C4-4DF7-B13D-2780591B2E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641-E37A-4512-AF1B-A97D6EB6DA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589-F8B0-4C81-944C-2C555B5E93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E8AF-0D93-4C59-9D67-632313D037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CE68-14B1-4B7D-9C63-EECAD7BB0A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B11-B74A-4401-8A7E-4AB55394BA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418-8221-42D0-9C48-1853601BA9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C6E-6C4A-4E53-9343-035D26436D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304920" y="2168640"/>
            <a:ext cx="6211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5364000" y="260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北京师范大学硕士论文答辩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690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引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890-34FD-43F4-ABE0-2AE16CE8FA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7"/>
          <p:cNvSpPr/>
          <p:nvPr/>
        </p:nvSpPr>
        <p:spPr>
          <a:xfrm>
            <a:off x="2708280" y="105264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恳请各位老师指导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1403280" y="2827440"/>
            <a:ext cx="6039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8:35:36Z</dcterms:created>
  <dc:creator>WHZ</dc:creator>
  <dc:description/>
  <dc:language>en-US</dc:language>
  <cp:lastModifiedBy>微软用户</cp:lastModifiedBy>
  <dcterms:modified xsi:type="dcterms:W3CDTF">2011-07-02T14:52:45Z</dcterms:modified>
  <cp:revision>406</cp:revision>
  <dc:subject/>
  <dc:title>幻灯片 1</dc:title>
</cp:coreProperties>
</file>