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1.png" ContentType="image/png"/>
  <Override PartName="/ppt/media/image6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22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63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EC8-AF4C-44C6-8570-73A7ED251D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A0DF-77BF-4489-92C7-1C9695B02B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F2E-3AE2-4BA2-9F74-6DB2CCE739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611-7CDD-463F-8079-489CF2F8B7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163-C3DB-4E6C-AFFB-6F36AC3AB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655-5693-4725-A34E-47A6A539C9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BC6-2018-4C51-BB71-6F6C1123C1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268-D881-40CD-BE9D-5B7CD17F91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4DF2-7953-42CF-8F1C-8AA7781647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968-F094-4D8F-A624-F2698941F6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CCAA-AE7E-4113-945B-EF17BEC46D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658-C6B5-40C8-930B-4AA22DAA26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977-5CC6-405B-8D7A-44D4FAE841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89D-CD88-4B34-96B3-02AC840C9F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7EA-0EE0-448D-9B06-828675C4A3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D1EB-F526-452A-BF5E-17FCBEFAF4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F33F-D6E3-4DDA-8B8E-08053AA0E7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F855-F725-412E-8B03-BA0700C964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F83-E788-4A50-8673-1C30191287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75E7-EF64-44B0-AA51-62B24D86F9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65C-4D38-4C93-A112-80F2040507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1F0-70C8-479C-A0BA-F36867C58F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C76-6899-47F4-B32A-114BE08EB6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C0A-53C1-4A5C-946D-DA95925397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C84-7C23-4580-AE55-FAE94C776A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D66-E039-49AE-8A07-49866B0C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E0B-A615-416F-9FC7-20C13D3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7C9-A1A0-4C89-979A-67B09AE3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C9D-A33A-4516-BFF9-97369D43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E006-396A-49C3-8D0D-5736DA8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F122-269D-4B66-84D7-9DAA289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F3FB-2E0F-48B9-9FEC-072C892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066-C573-4189-BBE4-D7FBFCF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12C8-1286-4C10-A4D3-AD79DF9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009-AE49-4944-A0C9-D5CD14A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BCD-4178-4BCF-A8FD-63A0599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002-37A2-4D4B-B246-A7004D7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685-3F63-4568-ACFE-A2B2CBB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556-96AA-47D1-95AC-CA69649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D73-F228-4D81-8902-882CA1D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ECCB-602B-4547-A613-5BB7CF4F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514C-A590-462E-A37C-84F57F61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839-44D8-435A-9947-8C4B13E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39D-F215-4721-86CC-C3C795F8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844-7402-48BE-97EC-A3DCEA12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F81-C0CC-4FDD-BC3C-023B53FC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A68-0DFD-4EA2-BA27-6F4C6EF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E1F-6E83-460D-871F-E31A15F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5DF-3101-4B38-BA85-7B9836D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C45-36CC-4914-818A-C183F7D4E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白底蓝字-01.jpg"/>
          <p:cNvPicPr/>
          <p:nvPr/>
        </p:nvPicPr>
        <p:blipFill>
          <a:blip r:embed="rId2"/>
          <a:stretch/>
        </p:blipFill>
        <p:spPr>
          <a:xfrm>
            <a:off x="7443720" y="-6480"/>
            <a:ext cx="17067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白底蓝字-01.jpg"/>
          <p:cNvPicPr/>
          <p:nvPr/>
        </p:nvPicPr>
        <p:blipFill>
          <a:blip r:embed="rId2"/>
          <a:stretch/>
        </p:blipFill>
        <p:spPr>
          <a:xfrm>
            <a:off x="7443720" y="-6480"/>
            <a:ext cx="1706760" cy="1073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白底蓝字-01.jpg"/>
          <p:cNvPicPr/>
          <p:nvPr/>
        </p:nvPicPr>
        <p:blipFill>
          <a:blip r:embed="rId3"/>
          <a:stretch/>
        </p:blipFill>
        <p:spPr>
          <a:xfrm>
            <a:off x="7443720" y="-6480"/>
            <a:ext cx="1706760" cy="107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FB7-C8C4-40F6-BB18-3BA739F864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2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pn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2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0" y="1057320"/>
            <a:ext cx="9144000" cy="4657680"/>
          </a:xfrm>
          <a:prstGeom prst="rect">
            <a:avLst/>
          </a:prstGeom>
          <a:solidFill>
            <a:srgbClr val="0080c0"/>
          </a:solidFill>
          <a:ln w="25560">
            <a:solidFill>
              <a:srgbClr val="008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白底蓝字-01.jpg"/>
          <p:cNvPicPr/>
          <p:nvPr/>
        </p:nvPicPr>
        <p:blipFill>
          <a:blip r:embed="rId1"/>
          <a:stretch/>
        </p:blipFill>
        <p:spPr>
          <a:xfrm>
            <a:off x="7443720" y="-6480"/>
            <a:ext cx="1706760" cy="1073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2809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</a:rPr>
              <a:t>备战淘宝双十一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558ed5"/>
              </a:solidFill>
              <a:latin typeface="微软雅黑"/>
            </a:endParaRPr>
          </a:p>
        </p:txBody>
      </p:sp>
      <p:sp>
        <p:nvSpPr>
          <p:cNvPr id="95" name="标题 6"/>
          <p:cNvSpPr/>
          <p:nvPr/>
        </p:nvSpPr>
        <p:spPr>
          <a:xfrm>
            <a:off x="1908000" y="2352600"/>
            <a:ext cx="53960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1908000" y="1574640"/>
            <a:ext cx="5488200" cy="8416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4"/>
          <p:cNvGrpSpPr/>
          <p:nvPr/>
        </p:nvGrpSpPr>
        <p:grpSpPr>
          <a:xfrm>
            <a:off x="2282760" y="1128600"/>
            <a:ext cx="5040360" cy="986040"/>
            <a:chOff x="2282760" y="1128600"/>
            <a:chExt cx="5040360" cy="986040"/>
          </a:xfrm>
        </p:grpSpPr>
        <p:sp>
          <p:nvSpPr>
            <p:cNvPr id="203" name="圆角矩形 9"/>
            <p:cNvSpPr/>
            <p:nvPr/>
          </p:nvSpPr>
          <p:spPr>
            <a:xfrm>
              <a:off x="2282760" y="1128600"/>
              <a:ext cx="5040360" cy="9860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圆角矩形 5"/>
            <p:cNvSpPr/>
            <p:nvPr/>
          </p:nvSpPr>
          <p:spPr>
            <a:xfrm>
              <a:off x="2331720" y="1176120"/>
              <a:ext cx="4942080" cy="89100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5"/>
          <p:cNvSpPr/>
          <p:nvPr/>
        </p:nvSpPr>
        <p:spPr>
          <a:xfrm>
            <a:off x="1908000" y="2952720"/>
            <a:ext cx="5488200" cy="84132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6"/>
          <p:cNvGrpSpPr/>
          <p:nvPr/>
        </p:nvGrpSpPr>
        <p:grpSpPr>
          <a:xfrm>
            <a:off x="2295360" y="2514600"/>
            <a:ext cx="5038920" cy="985680"/>
            <a:chOff x="2295360" y="2514600"/>
            <a:chExt cx="5038920" cy="985680"/>
          </a:xfrm>
        </p:grpSpPr>
        <p:sp>
          <p:nvSpPr>
            <p:cNvPr id="207" name="圆角矩形 7"/>
            <p:cNvSpPr/>
            <p:nvPr/>
          </p:nvSpPr>
          <p:spPr>
            <a:xfrm>
              <a:off x="2295360" y="2514600"/>
              <a:ext cx="5038920" cy="98568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8"/>
            <p:cNvSpPr/>
            <p:nvPr/>
          </p:nvSpPr>
          <p:spPr>
            <a:xfrm>
              <a:off x="2344320" y="2562120"/>
              <a:ext cx="4940640" cy="8906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设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1"/>
          <p:cNvSpPr/>
          <p:nvPr/>
        </p:nvSpPr>
        <p:spPr>
          <a:xfrm>
            <a:off x="1908000" y="4321080"/>
            <a:ext cx="5488200" cy="8398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2295360" y="3882960"/>
            <a:ext cx="5038920" cy="986040"/>
            <a:chOff x="2295360" y="3882960"/>
            <a:chExt cx="5038920" cy="986040"/>
          </a:xfrm>
        </p:grpSpPr>
        <p:sp>
          <p:nvSpPr>
            <p:cNvPr id="211" name="圆角矩形 13"/>
            <p:cNvSpPr/>
            <p:nvPr/>
          </p:nvSpPr>
          <p:spPr>
            <a:xfrm>
              <a:off x="2295360" y="3882960"/>
              <a:ext cx="5038920" cy="98604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8"/>
            <p:cNvSpPr/>
            <p:nvPr/>
          </p:nvSpPr>
          <p:spPr>
            <a:xfrm>
              <a:off x="2344320" y="3930480"/>
              <a:ext cx="4940640" cy="89100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分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extBox 2" descr=""/>
          <p:cNvPicPr/>
          <p:nvPr/>
        </p:nvPicPr>
        <p:blipFill>
          <a:blip r:embed="rId1"/>
          <a:stretch/>
        </p:blipFill>
        <p:spPr>
          <a:xfrm>
            <a:off x="73080" y="-762120"/>
            <a:ext cx="4718160" cy="167004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3"/>
          <p:cNvSpPr/>
          <p:nvPr/>
        </p:nvSpPr>
        <p:spPr>
          <a:xfrm>
            <a:off x="6037200" y="2311560"/>
            <a:ext cx="2157480" cy="342576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3425760"/>
              <a:gd name="textAreaBottom" fmla="*/ 3426120 h 3425760"/>
            </a:gdLst>
            <a:ahLst/>
            <a:rect l="textAreaLeft" t="textAreaTop" r="textAreaRight" b="textAreaBottom"/>
            <a:pathLst>
              <a:path w="1359" h="2158">
                <a:moveTo>
                  <a:pt x="0" y="207"/>
                </a:moveTo>
                <a:cubicBezTo>
                  <a:pt x="0" y="1097"/>
                  <a:pt x="1" y="1987"/>
                  <a:pt x="1" y="1987"/>
                </a:cubicBezTo>
                <a:cubicBezTo>
                  <a:pt x="105" y="2151"/>
                  <a:pt x="210" y="2148"/>
                  <a:pt x="309" y="2154"/>
                </a:cubicBezTo>
                <a:cubicBezTo>
                  <a:pt x="421" y="2158"/>
                  <a:pt x="576" y="2091"/>
                  <a:pt x="681" y="2040"/>
                </a:cubicBezTo>
                <a:cubicBezTo>
                  <a:pt x="786" y="1989"/>
                  <a:pt x="843" y="1908"/>
                  <a:pt x="999" y="1902"/>
                </a:cubicBezTo>
                <a:cubicBezTo>
                  <a:pt x="1155" y="1896"/>
                  <a:pt x="1224" y="1908"/>
                  <a:pt x="1359" y="2017"/>
                </a:cubicBezTo>
                <a:lnTo>
                  <a:pt x="1359" y="180"/>
                </a:lnTo>
                <a:cubicBezTo>
                  <a:pt x="1272" y="72"/>
                  <a:pt x="1219" y="0"/>
                  <a:pt x="1025" y="21"/>
                </a:cubicBezTo>
                <a:cubicBezTo>
                  <a:pt x="831" y="42"/>
                  <a:pt x="644" y="378"/>
                  <a:pt x="366" y="378"/>
                </a:cubicBezTo>
                <a:cubicBezTo>
                  <a:pt x="88" y="378"/>
                  <a:pt x="87" y="222"/>
                  <a:pt x="0" y="20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3276720" y="2311560"/>
            <a:ext cx="2157120" cy="342576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3425760"/>
              <a:gd name="textAreaBottom" fmla="*/ 3426120 h 3425760"/>
            </a:gdLst>
            <a:ahLst/>
            <a:rect l="textAreaLeft" t="textAreaTop" r="textAreaRight" b="textAreaBottom"/>
            <a:pathLst>
              <a:path w="1359" h="2158">
                <a:moveTo>
                  <a:pt x="0" y="207"/>
                </a:moveTo>
                <a:cubicBezTo>
                  <a:pt x="0" y="1097"/>
                  <a:pt x="1" y="1987"/>
                  <a:pt x="1" y="1987"/>
                </a:cubicBezTo>
                <a:cubicBezTo>
                  <a:pt x="105" y="2151"/>
                  <a:pt x="210" y="2148"/>
                  <a:pt x="309" y="2154"/>
                </a:cubicBezTo>
                <a:cubicBezTo>
                  <a:pt x="421" y="2158"/>
                  <a:pt x="576" y="2091"/>
                  <a:pt x="681" y="2040"/>
                </a:cubicBezTo>
                <a:cubicBezTo>
                  <a:pt x="786" y="1989"/>
                  <a:pt x="843" y="1908"/>
                  <a:pt x="999" y="1902"/>
                </a:cubicBezTo>
                <a:cubicBezTo>
                  <a:pt x="1155" y="1896"/>
                  <a:pt x="1224" y="1908"/>
                  <a:pt x="1359" y="2017"/>
                </a:cubicBezTo>
                <a:lnTo>
                  <a:pt x="1359" y="180"/>
                </a:lnTo>
                <a:cubicBezTo>
                  <a:pt x="1272" y="72"/>
                  <a:pt x="1219" y="0"/>
                  <a:pt x="1025" y="21"/>
                </a:cubicBezTo>
                <a:cubicBezTo>
                  <a:pt x="831" y="42"/>
                  <a:pt x="644" y="378"/>
                  <a:pt x="366" y="378"/>
                </a:cubicBezTo>
                <a:cubicBezTo>
                  <a:pt x="88" y="378"/>
                  <a:pt x="87" y="222"/>
                  <a:pt x="0" y="20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oup 20" descr=""/>
          <p:cNvPicPr/>
          <p:nvPr/>
        </p:nvPicPr>
        <p:blipFill>
          <a:blip r:embed="rId2"/>
          <a:stretch/>
        </p:blipFill>
        <p:spPr>
          <a:xfrm>
            <a:off x="920880" y="689040"/>
            <a:ext cx="731880" cy="8348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8"/>
          <p:cNvSpPr/>
          <p:nvPr/>
        </p:nvSpPr>
        <p:spPr>
          <a:xfrm>
            <a:off x="3398760" y="3075120"/>
            <a:ext cx="174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调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互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短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35"/>
          <p:cNvSpPr txBox="1"/>
          <p:nvPr/>
        </p:nvSpPr>
        <p:spPr>
          <a:xfrm>
            <a:off x="3652920" y="200340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微软雅黑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微软雅黑"/>
              <a:ea typeface="微软雅黑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6269040" y="3075120"/>
            <a:ext cx="174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短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47"/>
          <p:cNvSpPr txBox="1"/>
          <p:nvPr/>
        </p:nvSpPr>
        <p:spPr>
          <a:xfrm>
            <a:off x="6310440" y="201924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微软雅黑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微软雅黑"/>
              <a:ea typeface="微软雅黑"/>
            </a:endParaRPr>
          </a:p>
        </p:txBody>
      </p:sp>
      <p:sp>
        <p:nvSpPr>
          <p:cNvPr id="222" name="Line 59"/>
          <p:cNvSpPr/>
          <p:nvPr/>
        </p:nvSpPr>
        <p:spPr>
          <a:xfrm flipV="1">
            <a:off x="468360" y="1488600"/>
            <a:ext cx="80802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26"/>
          <p:cNvSpPr txBox="1"/>
          <p:nvPr/>
        </p:nvSpPr>
        <p:spPr>
          <a:xfrm>
            <a:off x="1042920" y="888840"/>
            <a:ext cx="433440" cy="3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前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24" name="Group 29"/>
          <p:cNvGrpSpPr/>
          <p:nvPr/>
        </p:nvGrpSpPr>
        <p:grpSpPr>
          <a:xfrm>
            <a:off x="3616200" y="696960"/>
            <a:ext cx="739440" cy="821880"/>
            <a:chOff x="3616200" y="696960"/>
            <a:chExt cx="739440" cy="821880"/>
          </a:xfrm>
        </p:grpSpPr>
        <p:grpSp>
          <p:nvGrpSpPr>
            <p:cNvPr id="225" name="Group 30"/>
            <p:cNvGrpSpPr/>
            <p:nvPr/>
          </p:nvGrpSpPr>
          <p:grpSpPr>
            <a:xfrm>
              <a:off x="3616200" y="696960"/>
              <a:ext cx="739440" cy="821880"/>
              <a:chOff x="3616200" y="696960"/>
              <a:chExt cx="739440" cy="821880"/>
            </a:xfrm>
          </p:grpSpPr>
          <p:pic>
            <p:nvPicPr>
              <p:cNvPr id="226" name="Picture 31" descr="light_shadow"/>
              <p:cNvPicPr/>
              <p:nvPr/>
            </p:nvPicPr>
            <p:blipFill>
              <a:blip r:embed="rId3"/>
              <a:stretch/>
            </p:blipFill>
            <p:spPr>
              <a:xfrm>
                <a:off x="3687120" y="1333080"/>
                <a:ext cx="6087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16200" y="696960"/>
                <a:ext cx="73944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Oval 33"/>
              <p:cNvSpPr/>
              <p:nvPr/>
            </p:nvSpPr>
            <p:spPr>
              <a:xfrm>
                <a:off x="3623760" y="704520"/>
                <a:ext cx="718920" cy="748800"/>
              </a:xfrm>
              <a:prstGeom prst="ellipse">
                <a:avLst/>
              </a:prstGeom>
              <a:gradFill rotWithShape="0">
                <a:gsLst>
                  <a:gs pos="0">
                    <a:srgbClr val="592524">
                      <a:alpha val="90196"/>
                    </a:srgbClr>
                  </a:gs>
                  <a:gs pos="50000">
                    <a:srgbClr val="c0504d">
                      <a:alpha val="55294"/>
                    </a:srgbClr>
                  </a:gs>
                  <a:gs pos="100000">
                    <a:srgbClr val="5925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9" name="Picture 34" descr="Picture2"/>
            <p:cNvPicPr/>
            <p:nvPr/>
          </p:nvPicPr>
          <p:blipFill>
            <a:blip r:embed="rId5"/>
            <a:stretch/>
          </p:blipFill>
          <p:spPr>
            <a:xfrm>
              <a:off x="3700080" y="701640"/>
              <a:ext cx="58572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WordArt 35"/>
          <p:cNvSpPr txBox="1"/>
          <p:nvPr/>
        </p:nvSpPr>
        <p:spPr>
          <a:xfrm>
            <a:off x="3728880" y="901800"/>
            <a:ext cx="4780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中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31" name="Group 41"/>
          <p:cNvGrpSpPr/>
          <p:nvPr/>
        </p:nvGrpSpPr>
        <p:grpSpPr>
          <a:xfrm>
            <a:off x="6227640" y="666720"/>
            <a:ext cx="739440" cy="821880"/>
            <a:chOff x="6227640" y="666720"/>
            <a:chExt cx="739440" cy="821880"/>
          </a:xfrm>
        </p:grpSpPr>
        <p:grpSp>
          <p:nvGrpSpPr>
            <p:cNvPr id="232" name="Group 42"/>
            <p:cNvGrpSpPr/>
            <p:nvPr/>
          </p:nvGrpSpPr>
          <p:grpSpPr>
            <a:xfrm>
              <a:off x="6227640" y="666720"/>
              <a:ext cx="739440" cy="821880"/>
              <a:chOff x="6227640" y="666720"/>
              <a:chExt cx="739440" cy="821880"/>
            </a:xfrm>
          </p:grpSpPr>
          <p:pic>
            <p:nvPicPr>
              <p:cNvPr id="233" name="Picture 43" descr="light_shadow"/>
              <p:cNvPicPr/>
              <p:nvPr/>
            </p:nvPicPr>
            <p:blipFill>
              <a:blip r:embed="rId6"/>
              <a:stretch/>
            </p:blipFill>
            <p:spPr>
              <a:xfrm>
                <a:off x="6293160" y="1302840"/>
                <a:ext cx="6141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44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666720"/>
                <a:ext cx="73944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Oval 45"/>
              <p:cNvSpPr/>
              <p:nvPr/>
            </p:nvSpPr>
            <p:spPr>
              <a:xfrm>
                <a:off x="6230520" y="674280"/>
                <a:ext cx="725040" cy="748800"/>
              </a:xfrm>
              <a:prstGeom prst="ellipse">
                <a:avLst/>
              </a:prstGeom>
              <a:gradFill rotWithShape="0">
                <a:gsLst>
                  <a:gs pos="0">
                    <a:srgbClr val="000076">
                      <a:alpha val="90196"/>
                    </a:srgbClr>
                  </a:gs>
                  <a:gs pos="50000">
                    <a:srgbClr val="0000ff">
                      <a:alpha val="55294"/>
                    </a:srgbClr>
                  </a:gs>
                  <a:gs pos="100000">
                    <a:srgbClr val="0000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6" name="Picture 46" descr="Picture2"/>
            <p:cNvPicPr/>
            <p:nvPr/>
          </p:nvPicPr>
          <p:blipFill>
            <a:blip r:embed="rId8"/>
            <a:stretch/>
          </p:blipFill>
          <p:spPr>
            <a:xfrm>
              <a:off x="6308280" y="669960"/>
              <a:ext cx="586080" cy="2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WordArt 47"/>
          <p:cNvSpPr txBox="1"/>
          <p:nvPr/>
        </p:nvSpPr>
        <p:spPr>
          <a:xfrm>
            <a:off x="6351480" y="846000"/>
            <a:ext cx="48600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后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8" name="矩形 33"/>
          <p:cNvSpPr/>
          <p:nvPr/>
        </p:nvSpPr>
        <p:spPr>
          <a:xfrm>
            <a:off x="2916360" y="912960"/>
            <a:ext cx="3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4"/>
          <p:cNvSpPr/>
          <p:nvPr/>
        </p:nvSpPr>
        <p:spPr>
          <a:xfrm>
            <a:off x="5619600" y="912960"/>
            <a:ext cx="3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9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5"/>
          <p:cNvSpPr/>
          <p:nvPr/>
        </p:nvSpPr>
        <p:spPr>
          <a:xfrm>
            <a:off x="539640" y="163368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准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预热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3059280" y="163368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当天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5724360" y="163368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后期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"/>
          <p:cNvSpPr/>
          <p:nvPr/>
        </p:nvSpPr>
        <p:spPr>
          <a:xfrm>
            <a:off x="468360" y="2311560"/>
            <a:ext cx="2157480" cy="342576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3425760"/>
              <a:gd name="textAreaBottom" fmla="*/ 3426120 h 3425760"/>
            </a:gdLst>
            <a:ahLst/>
            <a:rect l="textAreaLeft" t="textAreaTop" r="textAreaRight" b="textAreaBottom"/>
            <a:pathLst>
              <a:path w="1359" h="2158">
                <a:moveTo>
                  <a:pt x="0" y="207"/>
                </a:moveTo>
                <a:cubicBezTo>
                  <a:pt x="0" y="1097"/>
                  <a:pt x="1" y="1987"/>
                  <a:pt x="1" y="1987"/>
                </a:cubicBezTo>
                <a:cubicBezTo>
                  <a:pt x="105" y="2151"/>
                  <a:pt x="210" y="2148"/>
                  <a:pt x="309" y="2154"/>
                </a:cubicBezTo>
                <a:cubicBezTo>
                  <a:pt x="421" y="2158"/>
                  <a:pt x="576" y="2091"/>
                  <a:pt x="681" y="2040"/>
                </a:cubicBezTo>
                <a:cubicBezTo>
                  <a:pt x="786" y="1989"/>
                  <a:pt x="843" y="1908"/>
                  <a:pt x="999" y="1902"/>
                </a:cubicBezTo>
                <a:cubicBezTo>
                  <a:pt x="1155" y="1896"/>
                  <a:pt x="1224" y="1908"/>
                  <a:pt x="1359" y="2017"/>
                </a:cubicBezTo>
                <a:lnTo>
                  <a:pt x="1359" y="180"/>
                </a:lnTo>
                <a:cubicBezTo>
                  <a:pt x="1272" y="72"/>
                  <a:pt x="1219" y="0"/>
                  <a:pt x="1025" y="21"/>
                </a:cubicBezTo>
                <a:cubicBezTo>
                  <a:pt x="831" y="42"/>
                  <a:pt x="644" y="378"/>
                  <a:pt x="366" y="378"/>
                </a:cubicBezTo>
                <a:cubicBezTo>
                  <a:pt x="88" y="378"/>
                  <a:pt x="87" y="222"/>
                  <a:pt x="0" y="20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684360" y="3048120"/>
            <a:ext cx="174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预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准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调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员安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打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2"/>
          <p:cNvSpPr/>
          <p:nvPr/>
        </p:nvSpPr>
        <p:spPr>
          <a:xfrm>
            <a:off x="468360" y="506520"/>
            <a:ext cx="73436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1476360" y="1550880"/>
            <a:ext cx="5570640" cy="3394080"/>
          </a:xfrm>
          <a:prstGeom prst="rect">
            <a:avLst/>
          </a:prstGeom>
          <a:ln w="0">
            <a:noFill/>
          </a:ln>
        </p:spPr>
      </p:pic>
      <p:pic>
        <p:nvPicPr>
          <p:cNvPr id="249" name="Group 3" descr=""/>
          <p:cNvPicPr/>
          <p:nvPr/>
        </p:nvPicPr>
        <p:blipFill>
          <a:blip r:embed="rId3"/>
          <a:stretch/>
        </p:blipFill>
        <p:spPr>
          <a:xfrm>
            <a:off x="5931000" y="1407960"/>
            <a:ext cx="2311200" cy="1378080"/>
          </a:xfrm>
          <a:prstGeom prst="rect">
            <a:avLst/>
          </a:prstGeom>
          <a:ln w="0">
            <a:noFill/>
          </a:ln>
        </p:spPr>
      </p:pic>
      <p:pic>
        <p:nvPicPr>
          <p:cNvPr id="250" name="Group 6" descr=""/>
          <p:cNvPicPr/>
          <p:nvPr/>
        </p:nvPicPr>
        <p:blipFill>
          <a:blip r:embed="rId4"/>
          <a:stretch/>
        </p:blipFill>
        <p:spPr>
          <a:xfrm>
            <a:off x="463680" y="3932280"/>
            <a:ext cx="2303280" cy="1378080"/>
          </a:xfrm>
          <a:prstGeom prst="rect">
            <a:avLst/>
          </a:prstGeom>
          <a:ln w="0">
            <a:noFill/>
          </a:ln>
        </p:spPr>
      </p:pic>
      <p:pic>
        <p:nvPicPr>
          <p:cNvPr id="251" name="Group 9" descr=""/>
          <p:cNvPicPr/>
          <p:nvPr/>
        </p:nvPicPr>
        <p:blipFill>
          <a:blip r:embed="rId5"/>
          <a:stretch/>
        </p:blipFill>
        <p:spPr>
          <a:xfrm>
            <a:off x="463680" y="1407960"/>
            <a:ext cx="2303280" cy="1378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3"/>
          <p:cNvSpPr/>
          <p:nvPr/>
        </p:nvSpPr>
        <p:spPr>
          <a:xfrm>
            <a:off x="550800" y="200988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收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50800" y="45385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建会员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22800" y="1994040"/>
            <a:ext cx="21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赠送优惠券    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日限量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Group 9" descr=""/>
          <p:cNvPicPr/>
          <p:nvPr/>
        </p:nvPicPr>
        <p:blipFill>
          <a:blip r:embed="rId6"/>
          <a:stretch/>
        </p:blipFill>
        <p:spPr>
          <a:xfrm>
            <a:off x="6016680" y="3932280"/>
            <a:ext cx="2305080" cy="13780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3"/>
          <p:cNvSpPr/>
          <p:nvPr/>
        </p:nvSpPr>
        <p:spPr>
          <a:xfrm>
            <a:off x="6012000" y="4586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P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提前告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7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611280" y="193680"/>
            <a:ext cx="655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TextBox 3" descr=""/>
          <p:cNvPicPr/>
          <p:nvPr/>
        </p:nvPicPr>
        <p:blipFill>
          <a:blip r:embed="rId1"/>
          <a:stretch/>
        </p:blipFill>
        <p:spPr>
          <a:xfrm>
            <a:off x="-6480" y="-749160"/>
            <a:ext cx="4730760" cy="1687320"/>
          </a:xfrm>
          <a:prstGeom prst="rect">
            <a:avLst/>
          </a:prstGeom>
          <a:ln w="0">
            <a:noFill/>
          </a:ln>
        </p:spPr>
      </p:pic>
      <p:sp>
        <p:nvSpPr>
          <p:cNvPr id="260" name="圆角矩形 4"/>
          <p:cNvSpPr/>
          <p:nvPr/>
        </p:nvSpPr>
        <p:spPr>
          <a:xfrm>
            <a:off x="584280" y="912960"/>
            <a:ext cx="7991280" cy="3303360"/>
          </a:xfrm>
          <a:prstGeom prst="roundRect">
            <a:avLst>
              <a:gd name="adj" fmla="val 3056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圆角矩形 5" descr=""/>
          <p:cNvPicPr/>
          <p:nvPr/>
        </p:nvPicPr>
        <p:blipFill>
          <a:blip r:embed="rId2"/>
          <a:stretch/>
        </p:blipFill>
        <p:spPr>
          <a:xfrm>
            <a:off x="3286080" y="920880"/>
            <a:ext cx="2462400" cy="950760"/>
          </a:xfrm>
          <a:prstGeom prst="rect">
            <a:avLst/>
          </a:prstGeom>
          <a:ln w="0">
            <a:noFill/>
          </a:ln>
        </p:spPr>
      </p:pic>
      <p:pic>
        <p:nvPicPr>
          <p:cNvPr id="262" name="圆角矩形 6" descr=""/>
          <p:cNvPicPr/>
          <p:nvPr/>
        </p:nvPicPr>
        <p:blipFill>
          <a:blip r:embed="rId3"/>
          <a:stretch/>
        </p:blipFill>
        <p:spPr>
          <a:xfrm>
            <a:off x="5877000" y="920880"/>
            <a:ext cx="2462040" cy="950760"/>
          </a:xfrm>
          <a:prstGeom prst="rect">
            <a:avLst/>
          </a:prstGeom>
          <a:ln w="0">
            <a:noFill/>
          </a:ln>
        </p:spPr>
      </p:pic>
      <p:pic>
        <p:nvPicPr>
          <p:cNvPr id="263" name="圆角矩形 7" descr=""/>
          <p:cNvPicPr/>
          <p:nvPr/>
        </p:nvPicPr>
        <p:blipFill>
          <a:blip r:embed="rId4"/>
          <a:stretch/>
        </p:blipFill>
        <p:spPr>
          <a:xfrm>
            <a:off x="450720" y="1695600"/>
            <a:ext cx="2962440" cy="2809800"/>
          </a:xfrm>
          <a:prstGeom prst="rect">
            <a:avLst/>
          </a:prstGeom>
          <a:ln w="0">
            <a:noFill/>
          </a:ln>
        </p:spPr>
      </p:pic>
      <p:pic>
        <p:nvPicPr>
          <p:cNvPr id="264" name="圆角矩形 8" descr=""/>
          <p:cNvPicPr/>
          <p:nvPr/>
        </p:nvPicPr>
        <p:blipFill>
          <a:blip r:embed="rId5"/>
          <a:stretch/>
        </p:blipFill>
        <p:spPr>
          <a:xfrm>
            <a:off x="701640" y="920880"/>
            <a:ext cx="2462400" cy="950760"/>
          </a:xfrm>
          <a:prstGeom prst="rect">
            <a:avLst/>
          </a:prstGeom>
          <a:ln w="0">
            <a:noFill/>
          </a:ln>
        </p:spPr>
      </p:pic>
      <p:pic>
        <p:nvPicPr>
          <p:cNvPr id="265" name="矩形 9" descr=""/>
          <p:cNvPicPr/>
          <p:nvPr/>
        </p:nvPicPr>
        <p:blipFill>
          <a:blip r:embed="rId6"/>
          <a:stretch/>
        </p:blipFill>
        <p:spPr>
          <a:xfrm>
            <a:off x="1036800" y="1146240"/>
            <a:ext cx="1792080" cy="590400"/>
          </a:xfrm>
          <a:prstGeom prst="rect">
            <a:avLst/>
          </a:prstGeom>
          <a:ln w="0">
            <a:noFill/>
          </a:ln>
        </p:spPr>
      </p:pic>
      <p:pic>
        <p:nvPicPr>
          <p:cNvPr id="266" name="矩形 10" descr=""/>
          <p:cNvPicPr/>
          <p:nvPr/>
        </p:nvPicPr>
        <p:blipFill>
          <a:blip r:embed="rId7"/>
          <a:stretch/>
        </p:blipFill>
        <p:spPr>
          <a:xfrm>
            <a:off x="6211800" y="1146240"/>
            <a:ext cx="1785960" cy="590400"/>
          </a:xfrm>
          <a:prstGeom prst="rect">
            <a:avLst/>
          </a:prstGeom>
          <a:ln w="0">
            <a:noFill/>
          </a:ln>
        </p:spPr>
      </p:pic>
      <p:pic>
        <p:nvPicPr>
          <p:cNvPr id="267" name="圆角矩形 11" descr=""/>
          <p:cNvPicPr/>
          <p:nvPr/>
        </p:nvPicPr>
        <p:blipFill>
          <a:blip r:embed="rId8"/>
          <a:stretch/>
        </p:blipFill>
        <p:spPr>
          <a:xfrm>
            <a:off x="5619600" y="1695600"/>
            <a:ext cx="2970360" cy="2809800"/>
          </a:xfrm>
          <a:prstGeom prst="rect">
            <a:avLst/>
          </a:prstGeom>
          <a:ln w="0">
            <a:noFill/>
          </a:ln>
        </p:spPr>
      </p:pic>
      <p:sp>
        <p:nvSpPr>
          <p:cNvPr id="268" name="矩形 26"/>
          <p:cNvSpPr/>
          <p:nvPr/>
        </p:nvSpPr>
        <p:spPr>
          <a:xfrm>
            <a:off x="6006960" y="2122560"/>
            <a:ext cx="220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全国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城市征集当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会员去参加拥抱单身的活动，传递温暖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配合淘宝的五折活动提出广告口号“一半的价格，双倍的温暖”，运用事件营销实现线下活动与线上促销的互动传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矩形 13" descr=""/>
          <p:cNvPicPr/>
          <p:nvPr/>
        </p:nvPicPr>
        <p:blipFill>
          <a:blip r:embed="rId9"/>
          <a:stretch/>
        </p:blipFill>
        <p:spPr>
          <a:xfrm>
            <a:off x="3627360" y="1146240"/>
            <a:ext cx="1785960" cy="590400"/>
          </a:xfrm>
          <a:prstGeom prst="rect">
            <a:avLst/>
          </a:prstGeom>
          <a:ln w="0">
            <a:noFill/>
          </a:ln>
        </p:spPr>
      </p:pic>
      <p:pic>
        <p:nvPicPr>
          <p:cNvPr id="270" name="圆角矩形 14" descr=""/>
          <p:cNvPicPr/>
          <p:nvPr/>
        </p:nvPicPr>
        <p:blipFill>
          <a:blip r:embed="rId10"/>
          <a:stretch/>
        </p:blipFill>
        <p:spPr>
          <a:xfrm>
            <a:off x="3035160" y="1695600"/>
            <a:ext cx="2968920" cy="2809800"/>
          </a:xfrm>
          <a:prstGeom prst="rect">
            <a:avLst/>
          </a:prstGeom>
          <a:ln w="0">
            <a:noFill/>
          </a:ln>
        </p:spPr>
      </p:pic>
      <p:sp>
        <p:nvSpPr>
          <p:cNvPr id="271" name="矩形 25"/>
          <p:cNvSpPr/>
          <p:nvPr/>
        </p:nvSpPr>
        <p:spPr>
          <a:xfrm>
            <a:off x="3375000" y="2136600"/>
            <a:ext cx="229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一双男拖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双女拖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双小拖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拖鞋来代表六个一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蕴含温馨家庭的概念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冲击力不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843120" y="2136600"/>
            <a:ext cx="218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人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8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人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1.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身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很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与家纺的概念无法匹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燕尾形 17" descr=""/>
          <p:cNvPicPr/>
          <p:nvPr/>
        </p:nvPicPr>
        <p:blipFill>
          <a:blip r:embed="rId11"/>
          <a:stretch/>
        </p:blipFill>
        <p:spPr>
          <a:xfrm>
            <a:off x="1401840" y="4309920"/>
            <a:ext cx="106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74" name="组合 24"/>
          <p:cNvGrpSpPr/>
          <p:nvPr/>
        </p:nvGrpSpPr>
        <p:grpSpPr>
          <a:xfrm>
            <a:off x="671400" y="5065560"/>
            <a:ext cx="7761240" cy="541440"/>
            <a:chOff x="671400" y="5065560"/>
            <a:chExt cx="7761240" cy="541440"/>
          </a:xfrm>
        </p:grpSpPr>
        <p:pic>
          <p:nvPicPr>
            <p:cNvPr id="275" name="Rectangle 20" descr=""/>
            <p:cNvPicPr/>
            <p:nvPr/>
          </p:nvPicPr>
          <p:blipFill>
            <a:blip r:embed="rId12"/>
            <a:stretch/>
          </p:blipFill>
          <p:spPr>
            <a:xfrm>
              <a:off x="671400" y="5065560"/>
              <a:ext cx="776124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矩形 20" descr=""/>
            <p:cNvPicPr/>
            <p:nvPr/>
          </p:nvPicPr>
          <p:blipFill>
            <a:blip r:embed="rId13"/>
            <a:stretch/>
          </p:blipFill>
          <p:spPr>
            <a:xfrm>
              <a:off x="1480680" y="5207400"/>
              <a:ext cx="614808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7" name="燕尾形 21" descr=""/>
          <p:cNvPicPr/>
          <p:nvPr/>
        </p:nvPicPr>
        <p:blipFill>
          <a:blip r:embed="rId14"/>
          <a:stretch/>
        </p:blipFill>
        <p:spPr>
          <a:xfrm>
            <a:off x="3992400" y="4309920"/>
            <a:ext cx="1055880" cy="914400"/>
          </a:xfrm>
          <a:prstGeom prst="rect">
            <a:avLst/>
          </a:prstGeom>
          <a:ln w="0">
            <a:noFill/>
          </a:ln>
        </p:spPr>
      </p:pic>
      <p:pic>
        <p:nvPicPr>
          <p:cNvPr id="278" name="燕尾形 22" descr=""/>
          <p:cNvPicPr/>
          <p:nvPr/>
        </p:nvPicPr>
        <p:blipFill>
          <a:blip r:embed="rId15"/>
          <a:stretch/>
        </p:blipFill>
        <p:spPr>
          <a:xfrm>
            <a:off x="6576840" y="4309920"/>
            <a:ext cx="1055880" cy="914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16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"/>
          <p:cNvSpPr/>
          <p:nvPr/>
        </p:nvSpPr>
        <p:spPr>
          <a:xfrm>
            <a:off x="612720" y="525600"/>
            <a:ext cx="70549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关联销售商品，定义活动当天的首页陈列商品及替换商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确保流量进来时，最大化的拉动销量。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108000" y="-74304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c0"/>
                </a:solidFill>
                <a:latin typeface="微软雅黑"/>
                <a:ea typeface="微软雅黑"/>
              </a:rPr>
              <a:t>前。产品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2"/>
          <p:cNvSpPr/>
          <p:nvPr/>
        </p:nvSpPr>
        <p:spPr>
          <a:xfrm>
            <a:off x="1143000" y="2136600"/>
            <a:ext cx="3429000" cy="3534120"/>
          </a:xfrm>
          <a:custGeom>
            <a:avLst/>
            <a:gdLst>
              <a:gd name="textAreaLeft" fmla="*/ 501840 w 3429000"/>
              <a:gd name="textAreaRight" fmla="*/ 2927160 w 3429000"/>
              <a:gd name="textAreaTop" fmla="*/ 517320 h 3534120"/>
              <a:gd name="textAreaBottom" fmla="*/ 3016800 h 353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7790b0">
                  <a:alpha val="12156"/>
                </a:srgbClr>
              </a:gs>
              <a:gs pos="50000">
                <a:srgbClr val="1f497d"/>
              </a:gs>
              <a:gs pos="100000">
                <a:srgbClr val="7790b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1447920" y="2392200"/>
            <a:ext cx="2862000" cy="2949840"/>
          </a:xfrm>
          <a:prstGeom prst="ellipse">
            <a:avLst/>
          </a:prstGeom>
          <a:gradFill rotWithShape="0">
            <a:gsLst>
              <a:gs pos="0">
                <a:srgbClr val="db9c9a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/>
              </a:gs>
              <a:gs pos="100000">
                <a:srgbClr val="f5f8fb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流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/>
              </a:gs>
              <a:gs pos="100000">
                <a:srgbClr val="f5f8fb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推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/>
              </a:gs>
              <a:gs pos="100000">
                <a:srgbClr val="f5f8fb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星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389680" y="35686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品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468360" y="64440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X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CK &amp; JONE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者的定价相似，但客单价相差近一倍的原因？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2504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539640" y="3543480"/>
            <a:ext cx="7000920" cy="1176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衣更是占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1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和衬衫、牛仔裤、毛衣等服饰搭配，能够产品关联销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574560" y="2139840"/>
            <a:ext cx="6908760" cy="1067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e0019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顾客：满减、对折、包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购买力强：推出每小时单笔支付金额最高获赠皮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置换奔驰车的重磅促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2705040" y="1922400"/>
            <a:ext cx="2667240" cy="381240"/>
          </a:xfrm>
          <a:prstGeom prst="hexagon">
            <a:avLst>
              <a:gd name="adj" fmla="val 34981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2712960" y="3362400"/>
            <a:ext cx="2667240" cy="380880"/>
          </a:xfrm>
          <a:prstGeom prst="hexagon">
            <a:avLst>
              <a:gd name="adj" fmla="val 35014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3759480" y="1920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727800" y="3362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品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6" descr="7.JPG"/>
          <p:cNvPicPr/>
          <p:nvPr/>
        </p:nvPicPr>
        <p:blipFill>
          <a:blip r:embed="rId2"/>
          <a:stretch/>
        </p:blipFill>
        <p:spPr>
          <a:xfrm>
            <a:off x="5445000" y="1488960"/>
            <a:ext cx="3699000" cy="3216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3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281"/>
          <p:cNvSpPr/>
          <p:nvPr/>
        </p:nvSpPr>
        <p:spPr>
          <a:xfrm>
            <a:off x="1528920" y="3056040"/>
            <a:ext cx="374400" cy="1284120"/>
          </a:xfrm>
          <a:prstGeom prst="parallelogram">
            <a:avLst>
              <a:gd name="adj" fmla="val 43088"/>
            </a:avLst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179280" y="1201680"/>
            <a:ext cx="5113440" cy="1584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301680" y="1533600"/>
            <a:ext cx="1071360" cy="10684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6336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19200" y="1417680"/>
            <a:ext cx="408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博：产品更新、主题活动、转发有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短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179280" y="3191040"/>
            <a:ext cx="5113440" cy="19461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301680" y="3073320"/>
            <a:ext cx="1071360" cy="10684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85360" y="32180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519200" y="3263760"/>
            <a:ext cx="4089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通车：当日收入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9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钻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硬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淘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淘宝活动（淘金币、聚划算。。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殊资源：海景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684360" y="985680"/>
            <a:ext cx="5975280" cy="3346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3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"/>
          <p:cNvPicPr/>
          <p:nvPr/>
        </p:nvPicPr>
        <p:blipFill>
          <a:blip r:embed="rId4"/>
          <a:stretch/>
        </p:blipFill>
        <p:spPr>
          <a:xfrm>
            <a:off x="395280" y="696960"/>
            <a:ext cx="6458040" cy="36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"/>
          <p:cNvPicPr/>
          <p:nvPr/>
        </p:nvPicPr>
        <p:blipFill>
          <a:blip r:embed="rId5"/>
          <a:stretch/>
        </p:blipFill>
        <p:spPr>
          <a:xfrm>
            <a:off x="324000" y="1057320"/>
            <a:ext cx="7142040" cy="3240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6"/>
          <a:stretch/>
        </p:blipFill>
        <p:spPr>
          <a:xfrm>
            <a:off x="108000" y="1562040"/>
            <a:ext cx="72406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2"/>
          <p:cNvSpPr/>
          <p:nvPr/>
        </p:nvSpPr>
        <p:spPr>
          <a:xfrm>
            <a:off x="755640" y="841320"/>
            <a:ext cx="633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疯狂的双十一，激烈的战斗不仅仅在电脑上，各商家也开始了短信大战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默的说下：我们店铺做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哦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、催款、道歉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欢迎大家继续添加哦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900000" y="2857680"/>
            <a:ext cx="4248360" cy="26366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3"/>
          <p:cNvSpPr/>
          <p:nvPr/>
        </p:nvSpPr>
        <p:spPr>
          <a:xfrm>
            <a:off x="324000" y="336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短信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762600" cy="4229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324000" y="264960"/>
            <a:ext cx="6771960" cy="421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4"/>
          <a:stretch/>
        </p:blipFill>
        <p:spPr>
          <a:xfrm>
            <a:off x="684360" y="554040"/>
            <a:ext cx="6771960" cy="4228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5"/>
          <a:stretch/>
        </p:blipFill>
        <p:spPr>
          <a:xfrm>
            <a:off x="971640" y="912960"/>
            <a:ext cx="6772320" cy="4238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6"/>
          <a:stretch/>
        </p:blipFill>
        <p:spPr>
          <a:xfrm>
            <a:off x="1332000" y="1273320"/>
            <a:ext cx="6762600" cy="424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7"/>
          <a:stretch/>
        </p:blipFill>
        <p:spPr>
          <a:xfrm>
            <a:off x="1619280" y="1517760"/>
            <a:ext cx="6772320" cy="4219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8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37"/>
          <p:cNvGrpSpPr/>
          <p:nvPr/>
        </p:nvGrpSpPr>
        <p:grpSpPr>
          <a:xfrm>
            <a:off x="324000" y="2136600"/>
            <a:ext cx="1666800" cy="1052640"/>
            <a:chOff x="324000" y="2136600"/>
            <a:chExt cx="1666800" cy="1052640"/>
          </a:xfrm>
        </p:grpSpPr>
        <p:pic>
          <p:nvPicPr>
            <p:cNvPr id="327" name="Picture 23" descr=""/>
            <p:cNvPicPr/>
            <p:nvPr/>
          </p:nvPicPr>
          <p:blipFill>
            <a:blip r:embed="rId1"/>
            <a:stretch/>
          </p:blipFill>
          <p:spPr>
            <a:xfrm>
              <a:off x="324000" y="2136600"/>
              <a:ext cx="7426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圆角矩形 5"/>
            <p:cNvSpPr/>
            <p:nvPr/>
          </p:nvSpPr>
          <p:spPr>
            <a:xfrm rot="20835000">
              <a:off x="957240" y="2617560"/>
              <a:ext cx="1008000" cy="3445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指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圆角矩形 6"/>
          <p:cNvSpPr/>
          <p:nvPr/>
        </p:nvSpPr>
        <p:spPr>
          <a:xfrm rot="20835000">
            <a:off x="4257360" y="1757520"/>
            <a:ext cx="1008000" cy="3441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7"/>
          <p:cNvSpPr/>
          <p:nvPr/>
        </p:nvSpPr>
        <p:spPr>
          <a:xfrm rot="20835000">
            <a:off x="4309560" y="3179880"/>
            <a:ext cx="1008360" cy="347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营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8"/>
          <p:cNvSpPr/>
          <p:nvPr/>
        </p:nvSpPr>
        <p:spPr>
          <a:xfrm rot="20835000">
            <a:off x="4330800" y="3900600"/>
            <a:ext cx="1008000" cy="344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9"/>
          <p:cNvSpPr/>
          <p:nvPr/>
        </p:nvSpPr>
        <p:spPr>
          <a:xfrm rot="20835000">
            <a:off x="4186080" y="1069920"/>
            <a:ext cx="1008360" cy="344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品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6012000" y="1633680"/>
            <a:ext cx="1987560" cy="431640"/>
          </a:xfrm>
          <a:prstGeom prst="pie">
            <a:avLst/>
          </a:prstGeom>
          <a:solidFill>
            <a:srgbClr val="f7964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部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6012000" y="3003480"/>
            <a:ext cx="1985760" cy="430200"/>
          </a:xfrm>
          <a:prstGeom prst="pi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营部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9"/>
          <p:cNvSpPr/>
          <p:nvPr/>
        </p:nvSpPr>
        <p:spPr>
          <a:xfrm>
            <a:off x="6012000" y="2281320"/>
            <a:ext cx="1985760" cy="43164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仓储物流－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0"/>
          <p:cNvSpPr/>
          <p:nvPr/>
        </p:nvSpPr>
        <p:spPr>
          <a:xfrm>
            <a:off x="6012000" y="985680"/>
            <a:ext cx="1989000" cy="432000"/>
          </a:xfrm>
          <a:prstGeom prst="pie">
            <a:avLst/>
          </a:prstGeom>
          <a:solidFill>
            <a:srgbClr val="ff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品部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"/>
          <p:cNvSpPr/>
          <p:nvPr/>
        </p:nvSpPr>
        <p:spPr>
          <a:xfrm>
            <a:off x="6012000" y="3720960"/>
            <a:ext cx="1985760" cy="432000"/>
          </a:xfrm>
          <a:prstGeom prst="pie">
            <a:avLst/>
          </a:pr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部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左大括号 15"/>
          <p:cNvSpPr/>
          <p:nvPr/>
        </p:nvSpPr>
        <p:spPr>
          <a:xfrm>
            <a:off x="2124000" y="1273320"/>
            <a:ext cx="1224000" cy="3166920"/>
          </a:xfrm>
          <a:custGeom>
            <a:avLst/>
            <a:gdLst>
              <a:gd name="textAreaLeft" fmla="*/ 781920 w 1224000"/>
              <a:gd name="textAreaRight" fmla="*/ 1224360 w 1224000"/>
              <a:gd name="textAreaTop" fmla="*/ 31680 h 3166920"/>
              <a:gd name="textAreaBottom" fmla="*/ 3135240 h 31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8"/>
                  <a:pt x="10800" y="696"/>
                </a:cubicBezTo>
                <a:lnTo>
                  <a:pt x="10800" y="10104"/>
                </a:lnTo>
                <a:cubicBezTo>
                  <a:pt x="10800" y="10452"/>
                  <a:pt x="5400" y="10800"/>
                  <a:pt x="0" y="10800"/>
                </a:cubicBezTo>
                <a:cubicBezTo>
                  <a:pt x="5400" y="10800"/>
                  <a:pt x="10800" y="11148"/>
                  <a:pt x="10800" y="11496"/>
                </a:cubicBezTo>
                <a:lnTo>
                  <a:pt x="10800" y="20904"/>
                </a:lnTo>
                <a:cubicBezTo>
                  <a:pt x="10800" y="212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353880" y="4802040"/>
            <a:ext cx="2417760" cy="43200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十一活动指挥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6012000" y="4441680"/>
            <a:ext cx="1985760" cy="432000"/>
          </a:xfrm>
          <a:prstGeom prst="pie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部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TextBox 31" descr=""/>
          <p:cNvPicPr/>
          <p:nvPr/>
        </p:nvPicPr>
        <p:blipFill>
          <a:blip r:embed="rId2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sp>
        <p:nvSpPr>
          <p:cNvPr id="342" name="圆角矩形 17"/>
          <p:cNvSpPr/>
          <p:nvPr/>
        </p:nvSpPr>
        <p:spPr>
          <a:xfrm rot="20835000">
            <a:off x="4381560" y="4565520"/>
            <a:ext cx="1008000" cy="344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8"/>
          <p:cNvSpPr/>
          <p:nvPr/>
        </p:nvSpPr>
        <p:spPr>
          <a:xfrm rot="20835000">
            <a:off x="4309920" y="2403360"/>
            <a:ext cx="1008360" cy="347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库管经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3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1908000" y="1574640"/>
            <a:ext cx="5488200" cy="8416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"/>
          <p:cNvGrpSpPr/>
          <p:nvPr/>
        </p:nvGrpSpPr>
        <p:grpSpPr>
          <a:xfrm>
            <a:off x="2282760" y="1128600"/>
            <a:ext cx="5040360" cy="986040"/>
            <a:chOff x="2282760" y="1128600"/>
            <a:chExt cx="5040360" cy="986040"/>
          </a:xfrm>
        </p:grpSpPr>
        <p:sp>
          <p:nvSpPr>
            <p:cNvPr id="98" name="圆角矩形 9"/>
            <p:cNvSpPr/>
            <p:nvPr/>
          </p:nvSpPr>
          <p:spPr>
            <a:xfrm>
              <a:off x="2282760" y="1128600"/>
              <a:ext cx="5040360" cy="98604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5"/>
            <p:cNvSpPr/>
            <p:nvPr/>
          </p:nvSpPr>
          <p:spPr>
            <a:xfrm>
              <a:off x="2331720" y="1176120"/>
              <a:ext cx="494208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5"/>
          <p:cNvSpPr/>
          <p:nvPr/>
        </p:nvSpPr>
        <p:spPr>
          <a:xfrm>
            <a:off x="1908000" y="2952720"/>
            <a:ext cx="5488200" cy="84132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6"/>
          <p:cNvGrpSpPr/>
          <p:nvPr/>
        </p:nvGrpSpPr>
        <p:grpSpPr>
          <a:xfrm>
            <a:off x="2295360" y="2514600"/>
            <a:ext cx="5038920" cy="985680"/>
            <a:chOff x="2295360" y="2514600"/>
            <a:chExt cx="5038920" cy="985680"/>
          </a:xfrm>
        </p:grpSpPr>
        <p:sp>
          <p:nvSpPr>
            <p:cNvPr id="102" name="圆角矩形 7"/>
            <p:cNvSpPr/>
            <p:nvPr/>
          </p:nvSpPr>
          <p:spPr>
            <a:xfrm>
              <a:off x="2295360" y="2514600"/>
              <a:ext cx="5038920" cy="98568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 8"/>
            <p:cNvSpPr/>
            <p:nvPr/>
          </p:nvSpPr>
          <p:spPr>
            <a:xfrm>
              <a:off x="2344320" y="2562120"/>
              <a:ext cx="49406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设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1"/>
          <p:cNvSpPr/>
          <p:nvPr/>
        </p:nvSpPr>
        <p:spPr>
          <a:xfrm>
            <a:off x="1908000" y="4321080"/>
            <a:ext cx="5488200" cy="8398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2295360" y="3882960"/>
            <a:ext cx="5038920" cy="986040"/>
            <a:chOff x="2295360" y="3882960"/>
            <a:chExt cx="5038920" cy="986040"/>
          </a:xfrm>
        </p:grpSpPr>
        <p:sp>
          <p:nvSpPr>
            <p:cNvPr id="106" name="圆角矩形 13"/>
            <p:cNvSpPr/>
            <p:nvPr/>
          </p:nvSpPr>
          <p:spPr>
            <a:xfrm>
              <a:off x="2295360" y="3882960"/>
              <a:ext cx="5038920" cy="9860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8"/>
            <p:cNvSpPr/>
            <p:nvPr/>
          </p:nvSpPr>
          <p:spPr>
            <a:xfrm>
              <a:off x="2344320" y="3930480"/>
              <a:ext cx="49406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分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2"/>
          <p:cNvSpPr/>
          <p:nvPr/>
        </p:nvSpPr>
        <p:spPr>
          <a:xfrm>
            <a:off x="539640" y="3366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4"/>
          <p:cNvSpPr/>
          <p:nvPr/>
        </p:nvSpPr>
        <p:spPr>
          <a:xfrm>
            <a:off x="11160" y="3592440"/>
            <a:ext cx="942840" cy="1687680"/>
          </a:xfrm>
          <a:prstGeom prst="downArrow">
            <a:avLst>
              <a:gd name="adj1" fmla="val 50000"/>
              <a:gd name="adj2" fmla="val 39123"/>
            </a:avLst>
          </a:prstGeom>
          <a:gradFill rotWithShape="0">
            <a:gsLst>
              <a:gs pos="0">
                <a:srgbClr val="800080"/>
              </a:gs>
              <a:gs pos="100000">
                <a:srgbClr val="080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"/>
          <p:cNvSpPr/>
          <p:nvPr/>
        </p:nvSpPr>
        <p:spPr>
          <a:xfrm rot="5400000">
            <a:off x="2891520" y="1010160"/>
            <a:ext cx="1415880" cy="467856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a64542"/>
              </a:gs>
              <a:gs pos="100000">
                <a:srgbClr val="c0504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双十一有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单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流水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米的仓库面积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发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5400000">
            <a:off x="2892240" y="2458800"/>
            <a:ext cx="1415880" cy="468000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446fa3"/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的发货要求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计产生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-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单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平米的仓库里安排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流水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每天可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单来设计流程和配备人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52"/>
          <p:cNvSpPr/>
          <p:nvPr/>
        </p:nvSpPr>
        <p:spPr>
          <a:xfrm flipV="1">
            <a:off x="4573440" y="1271160"/>
            <a:ext cx="576360" cy="515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058"/>
          <p:cNvGrpSpPr/>
          <p:nvPr/>
        </p:nvGrpSpPr>
        <p:grpSpPr>
          <a:xfrm>
            <a:off x="250920" y="912600"/>
            <a:ext cx="2014200" cy="936360"/>
            <a:chOff x="250920" y="912600"/>
            <a:chExt cx="2014200" cy="936360"/>
          </a:xfrm>
        </p:grpSpPr>
        <p:sp>
          <p:nvSpPr>
            <p:cNvPr id="353" name="Rectangle 1059"/>
            <p:cNvSpPr/>
            <p:nvPr/>
          </p:nvSpPr>
          <p:spPr>
            <a:xfrm>
              <a:off x="250920" y="1191960"/>
              <a:ext cx="2014200" cy="65700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060"/>
            <p:cNvSpPr/>
            <p:nvPr/>
          </p:nvSpPr>
          <p:spPr>
            <a:xfrm>
              <a:off x="339840" y="1191960"/>
              <a:ext cx="1835640" cy="598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061"/>
            <p:cNvGrpSpPr/>
            <p:nvPr/>
          </p:nvGrpSpPr>
          <p:grpSpPr>
            <a:xfrm>
              <a:off x="670680" y="912600"/>
              <a:ext cx="1170000" cy="472680"/>
              <a:chOff x="670680" y="912600"/>
              <a:chExt cx="1170000" cy="472680"/>
            </a:xfrm>
          </p:grpSpPr>
          <p:sp>
            <p:nvSpPr>
              <p:cNvPr id="356" name="Oval 1062"/>
              <p:cNvSpPr/>
              <p:nvPr/>
            </p:nvSpPr>
            <p:spPr>
              <a:xfrm flipV="1">
                <a:off x="670680" y="912240"/>
                <a:ext cx="1170000" cy="466200"/>
              </a:xfrm>
              <a:prstGeom prst="ellipse">
                <a:avLst/>
              </a:prstGeom>
              <a:gradFill rotWithShape="0">
                <a:gsLst>
                  <a:gs pos="0">
                    <a:srgbClr val="4d004d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063"/>
              <p:cNvSpPr/>
              <p:nvPr/>
            </p:nvSpPr>
            <p:spPr>
              <a:xfrm flipV="1">
                <a:off x="735480" y="968400"/>
                <a:ext cx="1043280" cy="41688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4d0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Oval 1064"/>
            <p:cNvSpPr/>
            <p:nvPr/>
          </p:nvSpPr>
          <p:spPr>
            <a:xfrm flipV="1">
              <a:off x="920520" y="1191240"/>
              <a:ext cx="671760" cy="15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79"/>
          <p:cNvGrpSpPr/>
          <p:nvPr/>
        </p:nvGrpSpPr>
        <p:grpSpPr>
          <a:xfrm>
            <a:off x="2987640" y="912600"/>
            <a:ext cx="1431720" cy="936360"/>
            <a:chOff x="2987640" y="912600"/>
            <a:chExt cx="1431720" cy="936360"/>
          </a:xfrm>
        </p:grpSpPr>
        <p:sp>
          <p:nvSpPr>
            <p:cNvPr id="360" name="Rectangle 1080"/>
            <p:cNvSpPr/>
            <p:nvPr/>
          </p:nvSpPr>
          <p:spPr>
            <a:xfrm>
              <a:off x="2987640" y="1191960"/>
              <a:ext cx="1431720" cy="657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81"/>
            <p:cNvSpPr/>
            <p:nvPr/>
          </p:nvSpPr>
          <p:spPr>
            <a:xfrm>
              <a:off x="3051000" y="1191960"/>
              <a:ext cx="1305000" cy="597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082"/>
            <p:cNvGrpSpPr/>
            <p:nvPr/>
          </p:nvGrpSpPr>
          <p:grpSpPr>
            <a:xfrm>
              <a:off x="3286080" y="912600"/>
              <a:ext cx="831600" cy="472680"/>
              <a:chOff x="3286080" y="912600"/>
              <a:chExt cx="831600" cy="472680"/>
            </a:xfrm>
          </p:grpSpPr>
          <p:sp>
            <p:nvSpPr>
              <p:cNvPr id="363" name="Oval 1083"/>
              <p:cNvSpPr/>
              <p:nvPr/>
            </p:nvSpPr>
            <p:spPr>
              <a:xfrm flipV="1">
                <a:off x="3286080" y="912240"/>
                <a:ext cx="831600" cy="466200"/>
              </a:xfrm>
              <a:prstGeom prst="ellipse">
                <a:avLst/>
              </a:prstGeom>
              <a:gradFill rotWithShape="0">
                <a:gsLst>
                  <a:gs pos="0">
                    <a:srgbClr val="1f5c9a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1084"/>
              <p:cNvSpPr/>
              <p:nvPr/>
            </p:nvSpPr>
            <p:spPr>
              <a:xfrm flipV="1">
                <a:off x="3330000" y="968400"/>
                <a:ext cx="743400" cy="416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f5c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Oval 1085"/>
            <p:cNvSpPr/>
            <p:nvPr/>
          </p:nvSpPr>
          <p:spPr>
            <a:xfrm flipV="1">
              <a:off x="3463920" y="1191960"/>
              <a:ext cx="477720" cy="151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031"/>
          <p:cNvSpPr/>
          <p:nvPr/>
        </p:nvSpPr>
        <p:spPr>
          <a:xfrm>
            <a:off x="3341160" y="1451880"/>
            <a:ext cx="686520" cy="24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售前转售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2"/>
          <p:cNvSpPr/>
          <p:nvPr/>
        </p:nvSpPr>
        <p:spPr>
          <a:xfrm>
            <a:off x="722520" y="1447560"/>
            <a:ext cx="10980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动回复和自助购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28"/>
          <p:cNvSpPr/>
          <p:nvPr/>
        </p:nvSpPr>
        <p:spPr>
          <a:xfrm>
            <a:off x="3523680" y="1023120"/>
            <a:ext cx="3056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售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32"/>
          <p:cNvSpPr/>
          <p:nvPr/>
        </p:nvSpPr>
        <p:spPr>
          <a:xfrm>
            <a:off x="1076760" y="986400"/>
            <a:ext cx="3056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售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867280" y="2065320"/>
            <a:ext cx="777960" cy="7779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873760" y="2197080"/>
            <a:ext cx="80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投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处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6516720" y="1704960"/>
            <a:ext cx="777960" cy="7779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6523200" y="1828800"/>
            <a:ext cx="80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电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接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8"/>
          <p:cNvSpPr/>
          <p:nvPr/>
        </p:nvSpPr>
        <p:spPr>
          <a:xfrm>
            <a:off x="6351480" y="554040"/>
            <a:ext cx="777960" cy="7779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6357960" y="7761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8"/>
          <p:cNvSpPr/>
          <p:nvPr/>
        </p:nvSpPr>
        <p:spPr>
          <a:xfrm>
            <a:off x="5867280" y="-22320"/>
            <a:ext cx="777960" cy="7779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5873760" y="20160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6948360" y="1071720"/>
            <a:ext cx="777960" cy="77760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6954840" y="12952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催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54"/>
          <p:cNvSpPr/>
          <p:nvPr/>
        </p:nvSpPr>
        <p:spPr>
          <a:xfrm>
            <a:off x="2195640" y="1488960"/>
            <a:ext cx="900000" cy="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54"/>
          <p:cNvSpPr/>
          <p:nvPr/>
        </p:nvSpPr>
        <p:spPr>
          <a:xfrm flipV="1">
            <a:off x="4427640" y="770040"/>
            <a:ext cx="1152360" cy="50328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54"/>
          <p:cNvSpPr/>
          <p:nvPr/>
        </p:nvSpPr>
        <p:spPr>
          <a:xfrm flipV="1">
            <a:off x="4427640" y="1128240"/>
            <a:ext cx="1216080" cy="28908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54"/>
          <p:cNvSpPr/>
          <p:nvPr/>
        </p:nvSpPr>
        <p:spPr>
          <a:xfrm flipV="1">
            <a:off x="4427640" y="1488600"/>
            <a:ext cx="1296720" cy="7308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054"/>
          <p:cNvSpPr/>
          <p:nvPr/>
        </p:nvSpPr>
        <p:spPr>
          <a:xfrm>
            <a:off x="4427640" y="1704960"/>
            <a:ext cx="1224000" cy="14436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54"/>
          <p:cNvSpPr/>
          <p:nvPr/>
        </p:nvSpPr>
        <p:spPr>
          <a:xfrm>
            <a:off x="4427640" y="1849320"/>
            <a:ext cx="1224000" cy="360360"/>
          </a:xfrm>
          <a:prstGeom prst="line">
            <a:avLst/>
          </a:prstGeom>
          <a:ln w="5724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611280" y="336600"/>
            <a:ext cx="6985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造氛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报、条幅、零食一个都不能少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式方法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激励政策，鼓舞团队士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TextBox 4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451" descr="1"/>
          <p:cNvPicPr/>
          <p:nvPr/>
        </p:nvPicPr>
        <p:blipFill>
          <a:blip r:embed="rId2"/>
          <a:stretch/>
        </p:blipFill>
        <p:spPr>
          <a:xfrm>
            <a:off x="7093080" y="3144960"/>
            <a:ext cx="2050920" cy="2577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3"/>
          <a:stretch/>
        </p:blipFill>
        <p:spPr>
          <a:xfrm>
            <a:off x="4282920" y="4367160"/>
            <a:ext cx="2089440" cy="134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4"/>
          <a:stretch/>
        </p:blipFill>
        <p:spPr>
          <a:xfrm>
            <a:off x="6526080" y="1274760"/>
            <a:ext cx="2617920" cy="171288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3" descr="照 片 003.jpg"/>
          <p:cNvPicPr/>
          <p:nvPr/>
        </p:nvPicPr>
        <p:blipFill>
          <a:blip r:embed="rId5"/>
          <a:stretch/>
        </p:blipFill>
        <p:spPr>
          <a:xfrm>
            <a:off x="3203640" y="127476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6"/>
          <a:stretch/>
        </p:blipFill>
        <p:spPr>
          <a:xfrm>
            <a:off x="684360" y="1201680"/>
            <a:ext cx="1655640" cy="1735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7"/>
          <a:stretch/>
        </p:blipFill>
        <p:spPr>
          <a:xfrm>
            <a:off x="576360" y="4335480"/>
            <a:ext cx="2771640" cy="137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8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4"/>
          <p:cNvSpPr/>
          <p:nvPr/>
        </p:nvSpPr>
        <p:spPr>
          <a:xfrm>
            <a:off x="684360" y="33624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dad9"/>
              </a:gs>
              <a:gs pos="100000">
                <a:srgbClr val="c0504d"/>
              </a:gs>
            </a:gsLst>
            <a:lin ang="0"/>
          </a:gradFill>
          <a:ln w="12600">
            <a:solidFill>
              <a:srgbClr val="c0504d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茵曼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距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，还有五分钟，全体集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684360" y="38656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c9e4"/>
              </a:gs>
              <a:gs pos="100000">
                <a:srgbClr val="800080"/>
              </a:gs>
            </a:gsLst>
            <a:lin ang="0"/>
          </a:gradFill>
          <a:ln w="12600">
            <a:solidFill>
              <a:srgbClr val="800080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星家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目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预备库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达到目标每个员工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a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2"/>
          <p:cNvSpPr/>
          <p:nvPr/>
        </p:nvSpPr>
        <p:spPr>
          <a:xfrm>
            <a:off x="682560" y="409680"/>
            <a:ext cx="82821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宝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项工作的巨大的工作列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隔二天由运营指挥中心进行开会跟进，协调和变更，确保执行的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extBox 4" descr=""/>
          <p:cNvPicPr/>
          <p:nvPr/>
        </p:nvPicPr>
        <p:blipFill>
          <a:blip r:embed="rId1"/>
          <a:stretch/>
        </p:blipFill>
        <p:spPr>
          <a:xfrm>
            <a:off x="6480" y="-82224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15" descr="8.JPG"/>
          <p:cNvPicPr/>
          <p:nvPr/>
        </p:nvPicPr>
        <p:blipFill>
          <a:blip r:embed="rId2"/>
          <a:stretch/>
        </p:blipFill>
        <p:spPr>
          <a:xfrm>
            <a:off x="2195640" y="4390920"/>
            <a:ext cx="2232000" cy="1324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3"/>
          <a:stretch/>
        </p:blipFill>
        <p:spPr>
          <a:xfrm>
            <a:off x="71280" y="4371840"/>
            <a:ext cx="2052720" cy="1343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4"/>
          <a:stretch/>
        </p:blipFill>
        <p:spPr>
          <a:xfrm>
            <a:off x="6605640" y="4441680"/>
            <a:ext cx="2538360" cy="1273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5"/>
          <a:stretch/>
        </p:blipFill>
        <p:spPr>
          <a:xfrm>
            <a:off x="4500720" y="4429080"/>
            <a:ext cx="2016000" cy="1285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6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4"/>
          <p:cNvSpPr/>
          <p:nvPr/>
        </p:nvSpPr>
        <p:spPr>
          <a:xfrm rot="5400000">
            <a:off x="-1146960" y="162000"/>
            <a:ext cx="2257560" cy="34210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421080"/>
              <a:gd name="textAreaBottom" fmla="*/ 1240920 h 3421080"/>
            </a:gdLst>
            <a:ahLst/>
            <a:rect l="textAreaLeft" t="textAreaTop" r="textAreaRight" b="textAreaBottom"/>
            <a:pathLst>
              <a:path w="21600" h="21600">
                <a:moveTo>
                  <a:pt x="10056" y="10807"/>
                </a:moveTo>
                <a:cubicBezTo>
                  <a:pt x="10056" y="10805"/>
                  <a:pt x="10056" y="10802"/>
                  <a:pt x="10056" y="10800"/>
                </a:cubicBezTo>
                <a:cubicBezTo>
                  <a:pt x="10056" y="10389"/>
                  <a:pt x="10389" y="10056"/>
                  <a:pt x="10800" y="10056"/>
                </a:cubicBezTo>
                <a:cubicBezTo>
                  <a:pt x="11210" y="10056"/>
                  <a:pt x="11544" y="10389"/>
                  <a:pt x="11544" y="10800"/>
                </a:cubicBezTo>
                <a:cubicBezTo>
                  <a:pt x="11544" y="10802"/>
                  <a:pt x="11543" y="10805"/>
                  <a:pt x="11543" y="10807"/>
                </a:cubicBezTo>
                <a:lnTo>
                  <a:pt x="21599" y="10916"/>
                </a:lnTo>
                <a:cubicBezTo>
                  <a:pt x="21599" y="10877"/>
                  <a:pt x="21600" y="1083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38"/>
                  <a:pt x="0" y="10877"/>
                  <a:pt x="0" y="10916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4"/>
          <p:cNvGrpSpPr/>
          <p:nvPr/>
        </p:nvGrpSpPr>
        <p:grpSpPr>
          <a:xfrm>
            <a:off x="1317600" y="554040"/>
            <a:ext cx="5300640" cy="487080"/>
            <a:chOff x="1317600" y="554040"/>
            <a:chExt cx="5300640" cy="487080"/>
          </a:xfrm>
        </p:grpSpPr>
        <p:sp>
          <p:nvSpPr>
            <p:cNvPr id="406" name="AutoShape 6"/>
            <p:cNvSpPr/>
            <p:nvPr/>
          </p:nvSpPr>
          <p:spPr>
            <a:xfrm>
              <a:off x="1581480" y="554040"/>
              <a:ext cx="5036760" cy="478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4646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7"/>
            <p:cNvGrpSpPr/>
            <p:nvPr/>
          </p:nvGrpSpPr>
          <p:grpSpPr>
            <a:xfrm>
              <a:off x="1317600" y="586800"/>
              <a:ext cx="455760" cy="454320"/>
              <a:chOff x="1317600" y="586800"/>
              <a:chExt cx="455760" cy="454320"/>
            </a:xfrm>
          </p:grpSpPr>
          <p:sp>
            <p:nvSpPr>
              <p:cNvPr id="408" name="Oval 8"/>
              <p:cNvSpPr/>
              <p:nvPr/>
            </p:nvSpPr>
            <p:spPr>
              <a:xfrm>
                <a:off x="1317600" y="586800"/>
                <a:ext cx="455760" cy="454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9"/>
              <p:cNvSpPr/>
              <p:nvPr/>
            </p:nvSpPr>
            <p:spPr>
              <a:xfrm>
                <a:off x="1386360" y="657000"/>
                <a:ext cx="31716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Text Box 10"/>
            <p:cNvSpPr/>
            <p:nvPr/>
          </p:nvSpPr>
          <p:spPr>
            <a:xfrm>
              <a:off x="1404360" y="6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1"/>
            <p:cNvSpPr/>
            <p:nvPr/>
          </p:nvSpPr>
          <p:spPr>
            <a:xfrm>
              <a:off x="1962000" y="631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战略部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3"/>
          <p:cNvGrpSpPr/>
          <p:nvPr/>
        </p:nvGrpSpPr>
        <p:grpSpPr>
          <a:xfrm>
            <a:off x="1828800" y="1057320"/>
            <a:ext cx="5260680" cy="488880"/>
            <a:chOff x="1828800" y="1057320"/>
            <a:chExt cx="5260680" cy="488880"/>
          </a:xfrm>
        </p:grpSpPr>
        <p:sp>
          <p:nvSpPr>
            <p:cNvPr id="413" name="AutoShape 13"/>
            <p:cNvSpPr/>
            <p:nvPr/>
          </p:nvSpPr>
          <p:spPr>
            <a:xfrm>
              <a:off x="2141640" y="1057320"/>
              <a:ext cx="4947840" cy="47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840884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4"/>
            <p:cNvSpPr/>
            <p:nvPr/>
          </p:nvSpPr>
          <p:spPr>
            <a:xfrm>
              <a:off x="2502000" y="1134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格指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15"/>
            <p:cNvGrpSpPr/>
            <p:nvPr/>
          </p:nvGrpSpPr>
          <p:grpSpPr>
            <a:xfrm>
              <a:off x="1828800" y="1091880"/>
              <a:ext cx="455400" cy="454320"/>
              <a:chOff x="1828800" y="1091880"/>
              <a:chExt cx="455400" cy="454320"/>
            </a:xfrm>
          </p:grpSpPr>
          <p:sp>
            <p:nvSpPr>
              <p:cNvPr id="416" name="Oval 16"/>
              <p:cNvSpPr/>
              <p:nvPr/>
            </p:nvSpPr>
            <p:spPr>
              <a:xfrm>
                <a:off x="1828800" y="1091880"/>
                <a:ext cx="455400" cy="454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7"/>
              <p:cNvSpPr/>
              <p:nvPr/>
            </p:nvSpPr>
            <p:spPr>
              <a:xfrm>
                <a:off x="1897560" y="1162080"/>
                <a:ext cx="31680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18"/>
            <p:cNvSpPr/>
            <p:nvPr/>
          </p:nvSpPr>
          <p:spPr>
            <a:xfrm>
              <a:off x="1918440" y="1160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2"/>
          <p:cNvGrpSpPr/>
          <p:nvPr/>
        </p:nvGrpSpPr>
        <p:grpSpPr>
          <a:xfrm>
            <a:off x="2046240" y="1562040"/>
            <a:ext cx="5339880" cy="487080"/>
            <a:chOff x="2046240" y="1562040"/>
            <a:chExt cx="5339880" cy="487080"/>
          </a:xfrm>
        </p:grpSpPr>
        <p:sp>
          <p:nvSpPr>
            <p:cNvPr id="420" name="AutoShape 20"/>
            <p:cNvSpPr/>
            <p:nvPr/>
          </p:nvSpPr>
          <p:spPr>
            <a:xfrm>
              <a:off x="2310120" y="1562040"/>
              <a:ext cx="5076000" cy="47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1"/>
            <p:cNvGrpSpPr/>
            <p:nvPr/>
          </p:nvGrpSpPr>
          <p:grpSpPr>
            <a:xfrm>
              <a:off x="2046240" y="1595160"/>
              <a:ext cx="455760" cy="453960"/>
              <a:chOff x="2046240" y="1595160"/>
              <a:chExt cx="455760" cy="453960"/>
            </a:xfrm>
          </p:grpSpPr>
          <p:sp>
            <p:nvSpPr>
              <p:cNvPr id="422" name="Oval 22"/>
              <p:cNvSpPr/>
              <p:nvPr/>
            </p:nvSpPr>
            <p:spPr>
              <a:xfrm>
                <a:off x="2046240" y="1595160"/>
                <a:ext cx="455760" cy="4539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3"/>
              <p:cNvSpPr/>
              <p:nvPr/>
            </p:nvSpPr>
            <p:spPr>
              <a:xfrm>
                <a:off x="2115000" y="1665360"/>
                <a:ext cx="31716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24"/>
            <p:cNvSpPr/>
            <p:nvPr/>
          </p:nvSpPr>
          <p:spPr>
            <a:xfrm>
              <a:off x="2133000" y="1665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5"/>
            <p:cNvSpPr/>
            <p:nvPr/>
          </p:nvSpPr>
          <p:spPr>
            <a:xfrm>
              <a:off x="2694600" y="1639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调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51"/>
          <p:cNvGrpSpPr/>
          <p:nvPr/>
        </p:nvGrpSpPr>
        <p:grpSpPr>
          <a:xfrm>
            <a:off x="2000160" y="2065320"/>
            <a:ext cx="5260680" cy="488880"/>
            <a:chOff x="2000160" y="2065320"/>
            <a:chExt cx="5260680" cy="488880"/>
          </a:xfrm>
        </p:grpSpPr>
        <p:sp>
          <p:nvSpPr>
            <p:cNvPr id="427" name="AutoShape 27"/>
            <p:cNvSpPr/>
            <p:nvPr/>
          </p:nvSpPr>
          <p:spPr>
            <a:xfrm>
              <a:off x="2313000" y="2065320"/>
              <a:ext cx="4947840" cy="47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8"/>
            <p:cNvSpPr/>
            <p:nvPr/>
          </p:nvSpPr>
          <p:spPr>
            <a:xfrm>
              <a:off x="2673720" y="2142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页监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9"/>
            <p:cNvGrpSpPr/>
            <p:nvPr/>
          </p:nvGrpSpPr>
          <p:grpSpPr>
            <a:xfrm>
              <a:off x="2000160" y="2099880"/>
              <a:ext cx="455760" cy="454320"/>
              <a:chOff x="2000160" y="2099880"/>
              <a:chExt cx="455760" cy="454320"/>
            </a:xfrm>
          </p:grpSpPr>
          <p:sp>
            <p:nvSpPr>
              <p:cNvPr id="430" name="Oval 30"/>
              <p:cNvSpPr/>
              <p:nvPr/>
            </p:nvSpPr>
            <p:spPr>
              <a:xfrm>
                <a:off x="2000160" y="2099880"/>
                <a:ext cx="455760" cy="454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31"/>
              <p:cNvSpPr/>
              <p:nvPr/>
            </p:nvSpPr>
            <p:spPr>
              <a:xfrm>
                <a:off x="2068920" y="2170080"/>
                <a:ext cx="31716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32"/>
            <p:cNvSpPr/>
            <p:nvPr/>
          </p:nvSpPr>
          <p:spPr>
            <a:xfrm>
              <a:off x="2089800" y="2169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1766880" y="2570040"/>
            <a:ext cx="5940000" cy="487080"/>
            <a:chOff x="1766880" y="2570040"/>
            <a:chExt cx="5940000" cy="487080"/>
          </a:xfrm>
        </p:grpSpPr>
        <p:sp>
          <p:nvSpPr>
            <p:cNvPr id="434" name="AutoShape 34"/>
            <p:cNvSpPr/>
            <p:nvPr/>
          </p:nvSpPr>
          <p:spPr>
            <a:xfrm>
              <a:off x="2030760" y="2570040"/>
              <a:ext cx="5676120" cy="47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5"/>
            <p:cNvGrpSpPr/>
            <p:nvPr/>
          </p:nvGrpSpPr>
          <p:grpSpPr>
            <a:xfrm>
              <a:off x="1766880" y="2602800"/>
              <a:ext cx="455400" cy="454320"/>
              <a:chOff x="1766880" y="2602800"/>
              <a:chExt cx="455400" cy="454320"/>
            </a:xfrm>
          </p:grpSpPr>
          <p:sp>
            <p:nvSpPr>
              <p:cNvPr id="436" name="Oval 36"/>
              <p:cNvSpPr/>
              <p:nvPr/>
            </p:nvSpPr>
            <p:spPr>
              <a:xfrm>
                <a:off x="1766880" y="2602800"/>
                <a:ext cx="455400" cy="454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7"/>
              <p:cNvSpPr/>
              <p:nvPr/>
            </p:nvSpPr>
            <p:spPr>
              <a:xfrm>
                <a:off x="1835640" y="2673000"/>
                <a:ext cx="31680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Text Box 38"/>
            <p:cNvSpPr/>
            <p:nvPr/>
          </p:nvSpPr>
          <p:spPr>
            <a:xfrm>
              <a:off x="1853640" y="267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9"/>
            <p:cNvSpPr/>
            <p:nvPr/>
          </p:nvSpPr>
          <p:spPr>
            <a:xfrm>
              <a:off x="2411280" y="2647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仓库调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9"/>
          <p:cNvGrpSpPr/>
          <p:nvPr/>
        </p:nvGrpSpPr>
        <p:grpSpPr>
          <a:xfrm>
            <a:off x="1368360" y="3073320"/>
            <a:ext cx="5940000" cy="487080"/>
            <a:chOff x="1368360" y="3073320"/>
            <a:chExt cx="5940000" cy="487080"/>
          </a:xfrm>
        </p:grpSpPr>
        <p:sp>
          <p:nvSpPr>
            <p:cNvPr id="441" name="AutoShape 41"/>
            <p:cNvSpPr/>
            <p:nvPr/>
          </p:nvSpPr>
          <p:spPr>
            <a:xfrm>
              <a:off x="1632240" y="3073320"/>
              <a:ext cx="5676120" cy="478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9f3e9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42"/>
            <p:cNvGrpSpPr/>
            <p:nvPr/>
          </p:nvGrpSpPr>
          <p:grpSpPr>
            <a:xfrm>
              <a:off x="1368360" y="3106080"/>
              <a:ext cx="455760" cy="454320"/>
              <a:chOff x="1368360" y="3106080"/>
              <a:chExt cx="455760" cy="454320"/>
            </a:xfrm>
          </p:grpSpPr>
          <p:sp>
            <p:nvSpPr>
              <p:cNvPr id="443" name="Oval 43"/>
              <p:cNvSpPr/>
              <p:nvPr/>
            </p:nvSpPr>
            <p:spPr>
              <a:xfrm>
                <a:off x="1368360" y="3106080"/>
                <a:ext cx="455760" cy="454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44"/>
              <p:cNvSpPr/>
              <p:nvPr/>
            </p:nvSpPr>
            <p:spPr>
              <a:xfrm>
                <a:off x="1437120" y="3176280"/>
                <a:ext cx="317160" cy="31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Text Box 45"/>
            <p:cNvSpPr/>
            <p:nvPr/>
          </p:nvSpPr>
          <p:spPr>
            <a:xfrm>
              <a:off x="1455120" y="317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6"/>
            <p:cNvSpPr/>
            <p:nvPr/>
          </p:nvSpPr>
          <p:spPr>
            <a:xfrm>
              <a:off x="2013120" y="3150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突发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47"/>
          <p:cNvSpPr/>
          <p:nvPr/>
        </p:nvSpPr>
        <p:spPr>
          <a:xfrm>
            <a:off x="38160" y="1633680"/>
            <a:ext cx="25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指挥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2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43"/>
          <p:cNvGrpSpPr/>
          <p:nvPr/>
        </p:nvGrpSpPr>
        <p:grpSpPr>
          <a:xfrm>
            <a:off x="2081160" y="1932120"/>
            <a:ext cx="1041480" cy="722160"/>
            <a:chOff x="2081160" y="1932120"/>
            <a:chExt cx="1041480" cy="722160"/>
          </a:xfrm>
        </p:grpSpPr>
        <p:sp>
          <p:nvSpPr>
            <p:cNvPr id="451" name="Parallelogram 5"/>
            <p:cNvSpPr/>
            <p:nvPr/>
          </p:nvSpPr>
          <p:spPr>
            <a:xfrm>
              <a:off x="2081160" y="1932120"/>
              <a:ext cx="1041480" cy="722160"/>
            </a:xfrm>
            <a:prstGeom prst="parallelogram">
              <a:avLst>
                <a:gd name="adj" fmla="val 28149"/>
              </a:avLst>
            </a:prstGeom>
            <a:gradFill rotWithShape="0">
              <a:gsLst>
                <a:gs pos="0">
                  <a:srgbClr val="5af300"/>
                </a:gs>
                <a:gs pos="100000">
                  <a:srgbClr val="208a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2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7"/>
            <p:cNvSpPr/>
            <p:nvPr/>
          </p:nvSpPr>
          <p:spPr>
            <a:xfrm>
              <a:off x="2408400" y="200232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Parallelogram 7"/>
          <p:cNvGrpSpPr/>
          <p:nvPr/>
        </p:nvGrpSpPr>
        <p:grpSpPr>
          <a:xfrm>
            <a:off x="3060720" y="1914480"/>
            <a:ext cx="2906640" cy="755640"/>
            <a:chOff x="3060720" y="1914480"/>
            <a:chExt cx="2906640" cy="755640"/>
          </a:xfrm>
        </p:grpSpPr>
        <p:pic>
          <p:nvPicPr>
            <p:cNvPr id="454" name="Parallelogram 7" descr=""/>
            <p:cNvPicPr/>
            <p:nvPr/>
          </p:nvPicPr>
          <p:blipFill>
            <a:blip r:embed="rId3"/>
            <a:stretch/>
          </p:blipFill>
          <p:spPr>
            <a:xfrm>
              <a:off x="3060720" y="1914480"/>
              <a:ext cx="2906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382920" y="2003400"/>
              <a:ext cx="2260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Rektangel 76"/>
          <p:cNvSpPr/>
          <p:nvPr/>
        </p:nvSpPr>
        <p:spPr>
          <a:xfrm>
            <a:off x="3238560" y="2133720"/>
            <a:ext cx="26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公布战绩，感谢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Parallelogram 32"/>
          <p:cNvGrpSpPr/>
          <p:nvPr/>
        </p:nvGrpSpPr>
        <p:grpSpPr>
          <a:xfrm>
            <a:off x="2865600" y="2749680"/>
            <a:ext cx="2912760" cy="755640"/>
            <a:chOff x="2865600" y="2749680"/>
            <a:chExt cx="2912760" cy="755640"/>
          </a:xfrm>
        </p:grpSpPr>
        <p:pic>
          <p:nvPicPr>
            <p:cNvPr id="458" name="Parallelogram 32" descr=""/>
            <p:cNvPicPr/>
            <p:nvPr/>
          </p:nvPicPr>
          <p:blipFill>
            <a:blip r:embed="rId4"/>
            <a:stretch/>
          </p:blipFill>
          <p:spPr>
            <a:xfrm>
              <a:off x="2865600" y="2749680"/>
              <a:ext cx="2912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191040" y="2835360"/>
              <a:ext cx="226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ktangel 76"/>
          <p:cNvSpPr/>
          <p:nvPr/>
        </p:nvSpPr>
        <p:spPr>
          <a:xfrm>
            <a:off x="3046320" y="2987640"/>
            <a:ext cx="26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短信沟通，五星好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Parallelogram 36"/>
          <p:cNvGrpSpPr/>
          <p:nvPr/>
        </p:nvGrpSpPr>
        <p:grpSpPr>
          <a:xfrm>
            <a:off x="2657520" y="3578400"/>
            <a:ext cx="2908080" cy="755640"/>
            <a:chOff x="2657520" y="3578400"/>
            <a:chExt cx="2908080" cy="755640"/>
          </a:xfrm>
        </p:grpSpPr>
        <p:pic>
          <p:nvPicPr>
            <p:cNvPr id="462" name="Parallelogram 36" descr=""/>
            <p:cNvPicPr/>
            <p:nvPr/>
          </p:nvPicPr>
          <p:blipFill>
            <a:blip r:embed="rId5"/>
            <a:stretch/>
          </p:blipFill>
          <p:spPr>
            <a:xfrm>
              <a:off x="2657520" y="3578400"/>
              <a:ext cx="2908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979720" y="3665520"/>
              <a:ext cx="22622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ktangel 76"/>
          <p:cNvSpPr/>
          <p:nvPr/>
        </p:nvSpPr>
        <p:spPr>
          <a:xfrm>
            <a:off x="2836800" y="3780000"/>
            <a:ext cx="26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物流发货，进度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4"/>
          <p:cNvGrpSpPr/>
          <p:nvPr/>
        </p:nvGrpSpPr>
        <p:grpSpPr>
          <a:xfrm>
            <a:off x="1830240" y="2774880"/>
            <a:ext cx="1041480" cy="720720"/>
            <a:chOff x="1830240" y="2774880"/>
            <a:chExt cx="1041480" cy="720720"/>
          </a:xfrm>
        </p:grpSpPr>
        <p:sp>
          <p:nvSpPr>
            <p:cNvPr id="466" name="Parallelogram 45"/>
            <p:cNvSpPr/>
            <p:nvPr/>
          </p:nvSpPr>
          <p:spPr>
            <a:xfrm>
              <a:off x="1830240" y="2774880"/>
              <a:ext cx="1041480" cy="720720"/>
            </a:xfrm>
            <a:prstGeom prst="parallelogram">
              <a:avLst>
                <a:gd name="adj" fmla="val 28145"/>
              </a:avLst>
            </a:prstGeom>
            <a:gradFill rotWithShape="0">
              <a:gsLst>
                <a:gs pos="0">
                  <a:srgbClr val="5af300"/>
                </a:gs>
                <a:gs pos="100000">
                  <a:srgbClr val="208a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2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7"/>
            <p:cNvSpPr/>
            <p:nvPr/>
          </p:nvSpPr>
          <p:spPr>
            <a:xfrm>
              <a:off x="2157480" y="284508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46"/>
          <p:cNvGrpSpPr/>
          <p:nvPr/>
        </p:nvGrpSpPr>
        <p:grpSpPr>
          <a:xfrm>
            <a:off x="1619280" y="3606840"/>
            <a:ext cx="1041480" cy="720720"/>
            <a:chOff x="1619280" y="3606840"/>
            <a:chExt cx="1041480" cy="720720"/>
          </a:xfrm>
        </p:grpSpPr>
        <p:sp>
          <p:nvSpPr>
            <p:cNvPr id="469" name="Parallelogram 48"/>
            <p:cNvSpPr/>
            <p:nvPr/>
          </p:nvSpPr>
          <p:spPr>
            <a:xfrm>
              <a:off x="1619280" y="3606840"/>
              <a:ext cx="1041480" cy="720720"/>
            </a:xfrm>
            <a:prstGeom prst="parallelogram">
              <a:avLst>
                <a:gd name="adj" fmla="val 28145"/>
              </a:avLst>
            </a:prstGeom>
            <a:gradFill rotWithShape="0">
              <a:gsLst>
                <a:gs pos="0">
                  <a:srgbClr val="5af300"/>
                </a:gs>
                <a:gs pos="100000">
                  <a:srgbClr val="208a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2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7"/>
            <p:cNvSpPr/>
            <p:nvPr/>
          </p:nvSpPr>
          <p:spPr>
            <a:xfrm>
              <a:off x="1946520" y="36770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5542560" y="2641680"/>
            <a:ext cx="34786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c0"/>
                </a:solidFill>
                <a:latin typeface="微软雅黑"/>
                <a:ea typeface="微软雅黑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684360" y="48096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c0"/>
                </a:solidFill>
                <a:latin typeface="微软雅黑"/>
                <a:ea typeface="微软雅黑"/>
              </a:rPr>
              <a:t>感谢聆听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Box 2" descr=""/>
          <p:cNvPicPr/>
          <p:nvPr/>
        </p:nvPicPr>
        <p:blipFill>
          <a:blip r:embed="rId1"/>
          <a:stretch/>
        </p:blipFill>
        <p:spPr>
          <a:xfrm>
            <a:off x="2090880" y="4145040"/>
            <a:ext cx="4717800" cy="167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24000" y="554040"/>
            <a:ext cx="7257960" cy="391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3144960"/>
            <a:ext cx="6369120" cy="2570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5" descr=""/>
          <p:cNvPicPr/>
          <p:nvPr/>
        </p:nvPicPr>
        <p:blipFill>
          <a:blip r:embed="rId3"/>
          <a:stretch/>
        </p:blipFill>
        <p:spPr>
          <a:xfrm>
            <a:off x="73080" y="-762120"/>
            <a:ext cx="4718160" cy="1670040"/>
          </a:xfrm>
          <a:prstGeom prst="rect">
            <a:avLst/>
          </a:prstGeom>
          <a:ln w="0">
            <a:noFill/>
          </a:ln>
        </p:spPr>
      </p:pic>
      <p:pic>
        <p:nvPicPr>
          <p:cNvPr id="115" name="Group 9" descr=""/>
          <p:cNvPicPr/>
          <p:nvPr/>
        </p:nvPicPr>
        <p:blipFill>
          <a:blip r:embed="rId4"/>
          <a:stretch/>
        </p:blipFill>
        <p:spPr>
          <a:xfrm>
            <a:off x="128520" y="762120"/>
            <a:ext cx="8051760" cy="2388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3"/>
          <p:cNvSpPr/>
          <p:nvPr/>
        </p:nvSpPr>
        <p:spPr>
          <a:xfrm>
            <a:off x="179280" y="852480"/>
            <a:ext cx="7848720" cy="26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淘宝商城“双十一” 在商品销售额、销量破千万元的卖家数量等方面刷新了电商记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宝交易额：突破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3.6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为去年同日交易量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近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淘宝网、淘宝商城支付宝交易总额突破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2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店销量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GXG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博洋家纺、骆驼服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品牌店销售额破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4000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万元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杰克琼斯超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3000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万元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C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名鞋库、富安娜、真维斯、水星家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超过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2000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万元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过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1000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万元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79280" y="-75888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c0"/>
                </a:solidFill>
                <a:latin typeface="微软雅黑"/>
                <a:ea typeface="微软雅黑"/>
              </a:rPr>
              <a:t>产品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1"/>
          <p:cNvSpPr/>
          <p:nvPr/>
        </p:nvSpPr>
        <p:spPr>
          <a:xfrm>
            <a:off x="2516040" y="1441440"/>
            <a:ext cx="6228000" cy="1103400"/>
          </a:xfrm>
          <a:prstGeom prst="roundRect">
            <a:avLst>
              <a:gd name="adj" fmla="val 11505"/>
            </a:avLst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12" descr=""/>
          <p:cNvPicPr/>
          <p:nvPr/>
        </p:nvPicPr>
        <p:blipFill>
          <a:blip r:embed="rId2"/>
          <a:stretch/>
        </p:blipFill>
        <p:spPr>
          <a:xfrm>
            <a:off x="590400" y="1407960"/>
            <a:ext cx="2981520" cy="11955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9"/>
          <p:cNvSpPr/>
          <p:nvPr/>
        </p:nvSpPr>
        <p:spPr>
          <a:xfrm>
            <a:off x="2479680" y="3195720"/>
            <a:ext cx="6265800" cy="1101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0"/>
          <p:cNvGrpSpPr/>
          <p:nvPr/>
        </p:nvGrpSpPr>
        <p:grpSpPr>
          <a:xfrm>
            <a:off x="576360" y="3187800"/>
            <a:ext cx="2914200" cy="1101240"/>
            <a:chOff x="576360" y="3187800"/>
            <a:chExt cx="2914200" cy="1101240"/>
          </a:xfrm>
        </p:grpSpPr>
        <p:sp>
          <p:nvSpPr>
            <p:cNvPr id="123" name="AutoShape 21"/>
            <p:cNvSpPr/>
            <p:nvPr/>
          </p:nvSpPr>
          <p:spPr>
            <a:xfrm>
              <a:off x="3094920" y="3390840"/>
              <a:ext cx="395640" cy="61092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576360" y="3187800"/>
              <a:ext cx="2521800" cy="1101240"/>
            </a:xfrm>
            <a:custGeom>
              <a:avLst/>
              <a:gdLst>
                <a:gd name="textAreaLeft" fmla="*/ 0 w 2521800"/>
                <a:gd name="textAreaRight" fmla="*/ 2522160 w 2521800"/>
                <a:gd name="textAreaTop" fmla="*/ 0 h 1101240"/>
                <a:gd name="textAreaBottom" fmla="*/ 1101600 h 1101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22061"/>
                </a:gs>
                <a:gs pos="50000">
                  <a:srgbClr val="cc3399"/>
                </a:gs>
                <a:gs pos="100000">
                  <a:srgbClr val="8220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6"/>
          <p:cNvSpPr/>
          <p:nvPr/>
        </p:nvSpPr>
        <p:spPr>
          <a:xfrm>
            <a:off x="611280" y="1635120"/>
            <a:ext cx="244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前一个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3564000" y="1697040"/>
            <a:ext cx="48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过聚划算的商品，不能参加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包括主会场和分会场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3564000" y="3322800"/>
            <a:ext cx="510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家不得手工下架商品或减少商品库存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有发现违规，商城有权下架其店铺内的所有商品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取消其双十一活动资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611280" y="3363840"/>
            <a:ext cx="244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前十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468360" y="4297320"/>
            <a:ext cx="68403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如何提前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250920" y="-814320"/>
            <a:ext cx="4394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c0"/>
                </a:solidFill>
                <a:latin typeface="微软雅黑"/>
                <a:ea typeface="微软雅黑"/>
              </a:rPr>
              <a:t>产品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"/>
          <p:cNvSpPr/>
          <p:nvPr/>
        </p:nvSpPr>
        <p:spPr>
          <a:xfrm>
            <a:off x="108000" y="1585800"/>
            <a:ext cx="4825800" cy="619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8ed5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780360" y="175248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须为商品吊牌价，由商家自行申报，小二抽检复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08000" y="2449440"/>
            <a:ext cx="4825800" cy="619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8ed5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402720" y="2496960"/>
            <a:ext cx="375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折扣须设置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折及以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且商品促销价必须小于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至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间淘宝商城历史成交最低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77000" y="258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会场商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18" descr=""/>
          <p:cNvPicPr/>
          <p:nvPr/>
        </p:nvPicPr>
        <p:blipFill>
          <a:blip r:embed="rId2"/>
          <a:stretch/>
        </p:blipFill>
        <p:spPr>
          <a:xfrm>
            <a:off x="171360" y="762120"/>
            <a:ext cx="2870280" cy="706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41720" y="175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品原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108000" y="4048200"/>
            <a:ext cx="4825800" cy="619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8ed5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53440" y="4214880"/>
            <a:ext cx="28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须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至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间淘宝商城历史成交订单该商品原价的平均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8000" y="4911840"/>
            <a:ext cx="4825800" cy="61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8ed5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402720" y="4959360"/>
            <a:ext cx="375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折扣须设置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折及以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且商品促销价必须小于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至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间淘宝商城历史成交最低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77000" y="5045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会场商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oup 18" descr=""/>
          <p:cNvPicPr/>
          <p:nvPr/>
        </p:nvPicPr>
        <p:blipFill>
          <a:blip r:embed="rId3"/>
          <a:stretch/>
        </p:blipFill>
        <p:spPr>
          <a:xfrm>
            <a:off x="171360" y="3224160"/>
            <a:ext cx="2870280" cy="708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441720" y="421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品原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1"/>
          <p:cNvSpPr/>
          <p:nvPr/>
        </p:nvSpPr>
        <p:spPr>
          <a:xfrm>
            <a:off x="324000" y="3649680"/>
            <a:ext cx="2916000" cy="324000"/>
          </a:xfrm>
          <a:prstGeom prst="roundRect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79280" y="3432240"/>
            <a:ext cx="80647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extBox 3" descr=""/>
          <p:cNvPicPr/>
          <p:nvPr/>
        </p:nvPicPr>
        <p:blipFill>
          <a:blip r:embed="rId1"/>
          <a:stretch/>
        </p:blipFill>
        <p:spPr>
          <a:xfrm>
            <a:off x="6480" y="-749160"/>
            <a:ext cx="4717800" cy="213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4"/>
          <p:cNvSpPr/>
          <p:nvPr/>
        </p:nvSpPr>
        <p:spPr>
          <a:xfrm>
            <a:off x="766800" y="1201680"/>
            <a:ext cx="732456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家承诺：付款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完成发货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家如有违反须赔付消费者单个商品售价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上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66800" y="2570040"/>
            <a:ext cx="732456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货区域：北京、上海、广州、深圳、杭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城市的订单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会场商家必须在买家付款后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8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时之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发货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出时限商城有权对其处罚，处罚标准为单笔订单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09480" y="770040"/>
            <a:ext cx="2378160" cy="5637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09480" y="2065320"/>
            <a:ext cx="2378160" cy="5637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8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942840" y="4052880"/>
            <a:ext cx="1828800" cy="5335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54061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1095480" y="41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商小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3030480" y="4052880"/>
            <a:ext cx="1828800" cy="5335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54061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162400" y="4052880"/>
            <a:ext cx="1828800" cy="5335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54061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7236000" y="4052880"/>
            <a:ext cx="1828800" cy="5335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54061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259080" y="41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胜外包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15040" y="41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立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7388280" y="4114800"/>
            <a:ext cx="14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2742840" y="4267080"/>
            <a:ext cx="313560" cy="12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 flipV="1">
            <a:off x="4878000" y="4267080"/>
            <a:ext cx="313560" cy="12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6991200" y="4267080"/>
            <a:ext cx="313200" cy="12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1128600" y="5091120"/>
            <a:ext cx="178776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4" descr="원(1)"/>
          <p:cNvPicPr/>
          <p:nvPr/>
        </p:nvPicPr>
        <p:blipFill>
          <a:blip r:embed="rId3">
            <a:grayscl/>
            <a:lum bright="12000"/>
          </a:blip>
          <a:stretch/>
        </p:blipFill>
        <p:spPr>
          <a:xfrm>
            <a:off x="971640" y="5256360"/>
            <a:ext cx="195120" cy="1936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6"/>
          <p:cNvSpPr/>
          <p:nvPr/>
        </p:nvSpPr>
        <p:spPr>
          <a:xfrm>
            <a:off x="3038400" y="5089680"/>
            <a:ext cx="2521080" cy="502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7"/>
          <p:cNvSpPr/>
          <p:nvPr/>
        </p:nvSpPr>
        <p:spPr>
          <a:xfrm>
            <a:off x="5724360" y="5089680"/>
            <a:ext cx="2664000" cy="502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8" descr="원(1)"/>
          <p:cNvPicPr/>
          <p:nvPr/>
        </p:nvPicPr>
        <p:blipFill>
          <a:blip r:embed="rId4">
            <a:grayscl/>
            <a:lum bright="12000"/>
          </a:blip>
          <a:stretch/>
        </p:blipFill>
        <p:spPr>
          <a:xfrm>
            <a:off x="2916360" y="5243400"/>
            <a:ext cx="195120" cy="19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9" descr="원(1)"/>
          <p:cNvPicPr/>
          <p:nvPr/>
        </p:nvPicPr>
        <p:blipFill>
          <a:blip r:embed="rId5">
            <a:grayscl/>
            <a:lum bright="12000"/>
          </a:blip>
          <a:stretch/>
        </p:blipFill>
        <p:spPr>
          <a:xfrm>
            <a:off x="5580000" y="5243400"/>
            <a:ext cx="195480" cy="193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2"/>
          <p:cNvSpPr/>
          <p:nvPr/>
        </p:nvSpPr>
        <p:spPr>
          <a:xfrm>
            <a:off x="1224000" y="5197320"/>
            <a:ext cx="16747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验货流水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3449520" y="5194440"/>
            <a:ext cx="16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小时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大包裹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6205680" y="5159520"/>
            <a:ext cx="167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最大发货量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179280" y="3649680"/>
            <a:ext cx="2664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歌莉娅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仓库升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2"/>
          <p:cNvSpPr/>
          <p:nvPr/>
        </p:nvSpPr>
        <p:spPr>
          <a:xfrm>
            <a:off x="166680" y="4732200"/>
            <a:ext cx="2800440" cy="184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>
            <a:off x="179280" y="4657680"/>
            <a:ext cx="2916360" cy="324000"/>
          </a:xfrm>
          <a:prstGeom prst="roundRect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-324000" y="4659480"/>
            <a:ext cx="3600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御泥坊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货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6"/>
          <a:stretch/>
        </p:blipFill>
        <p:spPr>
          <a:xfrm>
            <a:off x="4043520" y="0"/>
            <a:ext cx="51004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1908000" y="1574640"/>
            <a:ext cx="5488200" cy="8416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4"/>
          <p:cNvGrpSpPr/>
          <p:nvPr/>
        </p:nvGrpSpPr>
        <p:grpSpPr>
          <a:xfrm>
            <a:off x="2282760" y="1128600"/>
            <a:ext cx="5040360" cy="986040"/>
            <a:chOff x="2282760" y="1128600"/>
            <a:chExt cx="5040360" cy="986040"/>
          </a:xfrm>
        </p:grpSpPr>
        <p:sp>
          <p:nvSpPr>
            <p:cNvPr id="181" name="圆角矩形 9"/>
            <p:cNvSpPr/>
            <p:nvPr/>
          </p:nvSpPr>
          <p:spPr>
            <a:xfrm>
              <a:off x="2282760" y="1128600"/>
              <a:ext cx="5040360" cy="9860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5"/>
            <p:cNvSpPr/>
            <p:nvPr/>
          </p:nvSpPr>
          <p:spPr>
            <a:xfrm>
              <a:off x="2331720" y="1176120"/>
              <a:ext cx="4942080" cy="89100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设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5"/>
          <p:cNvSpPr/>
          <p:nvPr/>
        </p:nvSpPr>
        <p:spPr>
          <a:xfrm>
            <a:off x="1908000" y="2952720"/>
            <a:ext cx="5488200" cy="84132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"/>
          <p:cNvGrpSpPr/>
          <p:nvPr/>
        </p:nvGrpSpPr>
        <p:grpSpPr>
          <a:xfrm>
            <a:off x="2295360" y="2514600"/>
            <a:ext cx="5038920" cy="985680"/>
            <a:chOff x="2295360" y="2514600"/>
            <a:chExt cx="5038920" cy="985680"/>
          </a:xfrm>
        </p:grpSpPr>
        <p:sp>
          <p:nvSpPr>
            <p:cNvPr id="185" name="圆角矩形 7"/>
            <p:cNvSpPr/>
            <p:nvPr/>
          </p:nvSpPr>
          <p:spPr>
            <a:xfrm>
              <a:off x="2295360" y="2514600"/>
              <a:ext cx="5038920" cy="9856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8"/>
            <p:cNvSpPr/>
            <p:nvPr/>
          </p:nvSpPr>
          <p:spPr>
            <a:xfrm>
              <a:off x="2344320" y="2562120"/>
              <a:ext cx="4940640" cy="89064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11"/>
          <p:cNvSpPr/>
          <p:nvPr/>
        </p:nvSpPr>
        <p:spPr>
          <a:xfrm>
            <a:off x="1908000" y="4321080"/>
            <a:ext cx="5488200" cy="8398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2"/>
          <p:cNvGrpSpPr/>
          <p:nvPr/>
        </p:nvGrpSpPr>
        <p:grpSpPr>
          <a:xfrm>
            <a:off x="2295360" y="3882960"/>
            <a:ext cx="5038920" cy="986040"/>
            <a:chOff x="2295360" y="3882960"/>
            <a:chExt cx="5038920" cy="986040"/>
          </a:xfrm>
        </p:grpSpPr>
        <p:sp>
          <p:nvSpPr>
            <p:cNvPr id="189" name="圆角矩形 13"/>
            <p:cNvSpPr/>
            <p:nvPr/>
          </p:nvSpPr>
          <p:spPr>
            <a:xfrm>
              <a:off x="2295360" y="3882960"/>
              <a:ext cx="5038920" cy="9860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圆角矩形 8"/>
            <p:cNvSpPr/>
            <p:nvPr/>
          </p:nvSpPr>
          <p:spPr>
            <a:xfrm>
              <a:off x="2344320" y="3930480"/>
              <a:ext cx="49406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880" rIns="1198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分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340000" y="985680"/>
            <a:ext cx="4608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今年目标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微软雅黑"/>
                <a:ea typeface="微软雅黑"/>
              </a:rPr>
              <a:t>HOW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A~B</a:t>
            </a:r>
            <a:r>
              <a:rPr b="1" lang="zh-CN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6519960" y="1700280"/>
            <a:ext cx="2438280" cy="576360"/>
          </a:xfrm>
          <a:prstGeom prst="cube">
            <a:avLst>
              <a:gd name="adj" fmla="val 2433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去年双十一的业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519960" y="2395440"/>
            <a:ext cx="2438280" cy="576360"/>
          </a:xfrm>
          <a:prstGeom prst="cube">
            <a:avLst>
              <a:gd name="adj" fmla="val 2433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城类目今年的增长比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6519960" y="3103560"/>
            <a:ext cx="2438280" cy="576360"/>
          </a:xfrm>
          <a:prstGeom prst="cube">
            <a:avLst>
              <a:gd name="adj" fmla="val 2433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进一线品牌的增长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6516720" y="3794040"/>
            <a:ext cx="2438280" cy="576360"/>
          </a:xfrm>
          <a:prstGeom prst="cube">
            <a:avLst>
              <a:gd name="adj" fmla="val 2433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淘宝的期望和市场投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圆角矩形标注 7" descr=""/>
          <p:cNvPicPr/>
          <p:nvPr/>
        </p:nvPicPr>
        <p:blipFill>
          <a:blip r:embed="rId1"/>
          <a:stretch/>
        </p:blipFill>
        <p:spPr>
          <a:xfrm>
            <a:off x="1170000" y="4206960"/>
            <a:ext cx="2122560" cy="1334880"/>
          </a:xfrm>
          <a:prstGeom prst="rect">
            <a:avLst/>
          </a:prstGeom>
          <a:ln w="0">
            <a:noFill/>
          </a:ln>
        </p:spPr>
      </p:pic>
      <p:pic>
        <p:nvPicPr>
          <p:cNvPr id="198" name="圆角矩形标注 12" descr=""/>
          <p:cNvPicPr/>
          <p:nvPr/>
        </p:nvPicPr>
        <p:blipFill>
          <a:blip r:embed="rId2"/>
          <a:stretch/>
        </p:blipFill>
        <p:spPr>
          <a:xfrm>
            <a:off x="3614760" y="4206960"/>
            <a:ext cx="227340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1116000" y="865080"/>
            <a:ext cx="4896000" cy="4670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4"/>
          <a:stretch/>
        </p:blipFill>
        <p:spPr>
          <a:xfrm>
            <a:off x="8388360" y="4962600"/>
            <a:ext cx="755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6:59:42Z</dcterms:created>
  <dc:creator>xueyan</dc:creator>
  <dc:description/>
  <dc:language>en-US</dc:language>
  <cp:lastModifiedBy>Administrator</cp:lastModifiedBy>
  <dcterms:modified xsi:type="dcterms:W3CDTF">2015-10-27T03:22:06Z</dcterms:modified>
  <cp:revision>360</cp:revision>
  <dc:subject/>
  <dc:title>一淘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所有者">
    <vt:lpwstr>雪研（朱一春）</vt:lpwstr>
  </property>
</Properties>
</file>