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applause.wav" ContentType="audio/x-wav"/>
  <Override PartName="/ppt/media/image7.gif" ContentType="image/gif"/>
  <Override PartName="/ppt/media/image10.jpeg" ContentType="image/jpeg"/>
  <Override PartName="/ppt/media/image12.gif" ContentType="image/gif"/>
  <Override PartName="/ppt/media/image11.jpeg" ContentType="image/jpeg"/>
  <Override PartName="/ppt/media/chimes.wav" ContentType="audio/x-wav"/>
  <Override PartName="/ppt/media/projctor.wav" ContentType="audio/x-wav"/>
  <Override PartName="/ppt/media/image8.png" ContentType="image/png"/>
  <Override PartName="/ppt/media/image5.gif" ContentType="image/gif"/>
  <Override PartName="/ppt/media/camera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9.png" ContentType="image/png"/>
  <Override PartName="/ppt/media/image6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3B1-CAA1-45E0-A51B-A5F76CBC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BE44-D669-4B19-9DE0-71C0C560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49F4-BB8D-4DC2-B54F-1A3FB470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0746-D56B-4ECC-B6EB-C5884D74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8AE8-8F14-4453-9B81-93979FBB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3607-F5DE-47A2-B16A-8357D4D4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6BAB-048D-4535-9346-3C0E5595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3B18-E1EE-4F02-BBB1-EA075480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7B3D-CB3E-4D59-B19E-660741DD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CE88-27C6-47B2-9F51-55844E9A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705D-EE36-4921-B213-9C6A9CDF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403F-B99A-40ED-924C-7E34FE7C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DE9E-5D8F-4B21-87F3-917EA985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79DB-68A0-46B8-830F-72618985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E4E6-AF09-4756-B873-5B8BE6C6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B398-DD8A-4A44-A68C-DC5EBA8B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CF21-34F6-4E9E-A85E-14CDAD5B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07A9-E3EC-41B2-9099-F15B0001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8912-7FA5-469A-B4C8-FA65E074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4896-3E87-437B-86F8-6D6858BD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68CC-045B-4183-B770-FA3F4A98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301-71A8-41C3-B983-379D10D8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607-428A-484A-804A-5ED6A134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958-6DFF-4FE3-B0F4-ABC06CDD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2DED-7665-474B-833B-059441B7D89F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23A0-0281-4DCB-8152-854A2E26CC0F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11.xml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30005;&#35270;&#25955;&#25991;&#12298;&#32972;&#24433;&#12299;RM&#29238;&#20146;&#36807;&#38081;&#36947;&#29255;&#26029;.rm" TargetMode="Externa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3712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话  题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1219320"/>
            <a:ext cx="4800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"/>
              </a:rPr>
              <a:t>敞 开 你 的 心 扉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228600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在你的人生经历中，你的父母肯定给予了你许许多多的关爱。也许是一声轻轻的叮咛，也许是一次倾心的谈话，也许是一份特殊的礼物，也许是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······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想一想，其中的哪件事最令你感动，说出来与大家交流。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11002" t="11334" r="51004" b="22000"/>
          <a:stretch/>
        </p:blipFill>
        <p:spPr>
          <a:xfrm>
            <a:off x="6019920" y="1197000"/>
            <a:ext cx="3124080" cy="4896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50920" y="0"/>
            <a:ext cx="554328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方正琥珀简体"/>
              </a:rPr>
              <a:t>这段动词准确精当，请根据课文填空：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　　我看见他</a:t>
            </a:r>
            <a:r>
              <a:rPr b="1" lang="zh-CN" sz="3200" spc="-1" strike="noStrike" u="sng">
                <a:solidFill>
                  <a:srgbClr val="003366"/>
                </a:solidFill>
                <a:uFillTx/>
                <a:latin typeface="Times New Roman"/>
              </a:rPr>
              <a:t>  　 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着黑布小帽，</a:t>
            </a:r>
            <a:r>
              <a:rPr b="1" lang="zh-CN" sz="3200" spc="-1" strike="noStrike" u="sng">
                <a:solidFill>
                  <a:srgbClr val="003366"/>
                </a:solidFill>
                <a:uFillTx/>
                <a:latin typeface="Times New Roman"/>
              </a:rPr>
              <a:t>   　 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着黑布大马褂，深青布棉袍，蹒跚地</a:t>
            </a:r>
            <a:r>
              <a:rPr b="1" lang="zh-CN" sz="3200" spc="-1" strike="noStrike" u="sng">
                <a:solidFill>
                  <a:srgbClr val="003366"/>
                </a:solidFill>
                <a:uFillTx/>
                <a:latin typeface="Times New Roman"/>
              </a:rPr>
              <a:t>   　 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到铁道边，慢慢</a:t>
            </a:r>
            <a:r>
              <a:rPr b="1" lang="zh-CN" sz="3200" spc="-1" strike="noStrike" u="sng">
                <a:solidFill>
                  <a:srgbClr val="003366"/>
                </a:solidFill>
                <a:uFillTx/>
                <a:latin typeface="Times New Roman"/>
              </a:rPr>
              <a:t> 　  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身下去，尚不大难。可是他</a:t>
            </a:r>
            <a:r>
              <a:rPr b="1" lang="zh-CN" sz="3200" spc="-1" strike="noStrike" u="sng">
                <a:solidFill>
                  <a:srgbClr val="003366"/>
                </a:solidFill>
                <a:uFillTx/>
                <a:latin typeface="Times New Roman"/>
              </a:rPr>
              <a:t>  　 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过铁道，要 </a:t>
            </a:r>
            <a:r>
              <a:rPr b="1" lang="zh-CN" sz="3200" spc="-1" strike="noStrike" u="sng">
                <a:solidFill>
                  <a:srgbClr val="003366"/>
                </a:solidFill>
                <a:uFillTx/>
                <a:latin typeface="Times New Roman"/>
              </a:rPr>
              <a:t> 　 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上那边月台，就不容易了。他用两手</a:t>
            </a:r>
            <a:r>
              <a:rPr b="1" lang="zh-CN" sz="3200" spc="-1" strike="noStrike" u="sng">
                <a:solidFill>
                  <a:srgbClr val="003366"/>
                </a:solidFill>
                <a:uFillTx/>
                <a:latin typeface="Times New Roman"/>
              </a:rPr>
              <a:t>  　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着上面，两脚再向上</a:t>
            </a:r>
            <a:r>
              <a:rPr b="1" lang="zh-CN" sz="3200" spc="-1" strike="noStrike" u="sng">
                <a:solidFill>
                  <a:srgbClr val="003366"/>
                </a:solidFill>
                <a:uFillTx/>
                <a:latin typeface="Times New Roman"/>
              </a:rPr>
              <a:t> 　  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；他肥胖的身子向左微</a:t>
            </a:r>
            <a:r>
              <a:rPr b="1" lang="zh-CN" sz="3200" spc="-1" strike="noStrike" u="sng">
                <a:solidFill>
                  <a:srgbClr val="003366"/>
                </a:solidFill>
                <a:uFillTx/>
                <a:latin typeface="Times New Roman"/>
              </a:rPr>
              <a:t> 　   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，显出努力的样子，这时我看见他的背影，我的泪很快地</a:t>
            </a:r>
            <a:r>
              <a:rPr b="1" lang="zh-CN" sz="3200" spc="-1" strike="noStrike" u="sng">
                <a:solidFill>
                  <a:srgbClr val="003366"/>
                </a:solidFill>
                <a:uFillTx/>
                <a:latin typeface="Times New Roman"/>
              </a:rPr>
              <a:t>  　　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下来了。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11253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戴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1600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穿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2057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走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25909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探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312408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穿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3124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爬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4038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攀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572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缩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5105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倾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6019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流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>
            <a:hlinkClick r:id="rId3" action="ppaction://hlinksldjump"/>
          </p:cNvPr>
          <p:cNvSpPr/>
          <p:nvPr/>
        </p:nvSpPr>
        <p:spPr>
          <a:xfrm>
            <a:off x="7696080" y="617220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返回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5410080"/>
            <a:ext cx="77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22860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华文行楷"/>
                <a:ea typeface="华文行楷"/>
              </a:rPr>
              <a:t>   </a:t>
            </a:r>
            <a:r>
              <a:rPr b="1" lang="zh-CN" sz="4400" spc="-1" strike="noStrike">
                <a:solidFill>
                  <a:srgbClr val="ff3399"/>
                </a:solidFill>
                <a:latin typeface="华文行楷"/>
                <a:ea typeface="华文行楷"/>
              </a:rPr>
              <a:t>《背影》中作者流了几次泪？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57913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辛酸的泪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75480" y="100188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  <a:ea typeface="黑体"/>
              </a:rPr>
              <a:t>质疑探究、精心赏析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5867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黑体"/>
              </a:rPr>
              <a:t>再现背影</a:t>
            </a: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黑体"/>
              </a:rPr>
              <a:t>泪光莹莹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65760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黑体"/>
              </a:rPr>
              <a:t>见父亲</a:t>
            </a: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黑体"/>
              </a:rPr>
              <a:t>睹家境</a:t>
            </a: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黑体"/>
              </a:rPr>
              <a:t>想祖母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72120" y="3657600"/>
            <a:ext cx="206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难过的泪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84280" y="4495680"/>
            <a:ext cx="298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黑体"/>
              </a:rPr>
              <a:t>望父亲买橘</a:t>
            </a: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黑体"/>
              </a:rPr>
              <a:t>父子离别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72120" y="4572000"/>
            <a:ext cx="20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感激的泪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93720" y="51814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黑体"/>
              </a:rPr>
              <a:t>背影远去，依依惜别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56280" y="5121360"/>
            <a:ext cx="206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惜别的泪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0120" y="533520"/>
            <a:ext cx="134928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3520" y="5410080"/>
            <a:ext cx="77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23560" y="1052640"/>
            <a:ext cx="358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  <a:ea typeface="黑体"/>
              </a:rPr>
              <a:t>归纳总结   中心思想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5867280"/>
            <a:ext cx="4343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65760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2760" y="36338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560" y="44672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76920" y="509760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620120" y="533520"/>
            <a:ext cx="1349280" cy="185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26920" y="3872880"/>
            <a:ext cx="831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本文通过写车站送别，表现了父亲对儿子深挚的爱，抒发了作者对父亲深切的思念。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42920" y="2349360"/>
            <a:ext cx="70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同学们，亲情无价，是啊，父母之爱是人世间最伟大，最无私的情感。遗憾的是很多人在拥有它的时候并没有发觉，也许是这种爱并不惊天动地：它也许就是早上给你在床头上放件衣服，你放学回家给你端上热腾腾的饭菜，也许是送你你一件礼物，有时也许仅仅是一个眼神</a:t>
            </a: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作为一个爱生活、爱父母的人，你感觉到了吗 ？你有过被父母感动的经历吗？说出来，把你的幸福与大家分享。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98100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15520" y="901800"/>
            <a:ext cx="342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</a:rPr>
              <a:t>情感迁移  感受深情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05720" y="990720"/>
            <a:ext cx="342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黑体"/>
                <a:ea typeface="黑体"/>
              </a:rPr>
              <a:t>情感迁移  感受深情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71640" y="2492280"/>
            <a:ext cx="76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青春年少，我们也曾对挚爱我们的父母任性过也有误解过他们的爱心，请以  “</a:t>
            </a:r>
            <a:r>
              <a:rPr b="1" lang="zh-CN" sz="4000" spc="-1" strike="noStrike" u="sng">
                <a:solidFill>
                  <a:srgbClr val="3366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我想对您说”  为题给你的亲人写一封信。</a:t>
            </a:r>
            <a:r>
              <a:rPr b="0" lang="zh-CN" sz="4000" spc="-1" strike="noStrike" u="sng">
                <a:solidFill>
                  <a:srgbClr val="336600"/>
                </a:solidFill>
                <a:uFillTx/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7" name="beike" descr=""/>
          <p:cNvPicPr/>
          <p:nvPr/>
        </p:nvPicPr>
        <p:blipFill>
          <a:blip r:embed="rId1"/>
          <a:stretch/>
        </p:blipFill>
        <p:spPr>
          <a:xfrm>
            <a:off x="7162920" y="838080"/>
            <a:ext cx="15238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62120" y="2590920"/>
            <a:ext cx="8381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体会以下几句话的含义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&lt;1&gt;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事已至此，不必难过，好在天无绝人之路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&lt;2&gt;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不要紧，他们去不好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&lt;3&gt;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我买几个橘子去。你就在此地，不要走动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&lt;4&gt;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我走了，到那边来信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&lt;5&gt;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进去吧，里边没人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75480" y="100188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  <a:ea typeface="黑体"/>
              </a:rPr>
              <a:t>质疑探究、精心赏析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en-US" sz="3700" spc="-1" strike="noStrike">
                <a:solidFill>
                  <a:srgbClr val="ffff00"/>
                </a:solidFill>
                <a:latin typeface="Verdana"/>
              </a:rPr>
              <a:t>1 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黑体"/>
              </a:rPr>
              <a:t>这五句话都很简短，意思也很平常。这样简短平常的话是否缺乏感情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62120" y="2971800"/>
            <a:ext cx="773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cc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260000"/>
                </a:solidFill>
                <a:latin typeface="楷体_GB2312"/>
                <a:ea typeface="楷体_GB2312"/>
              </a:rPr>
              <a:t>不是，朴素的言语中往往含有深挚的爱；平淡的话语里往往有不平静的心情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75480" y="100188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  <a:ea typeface="黑体"/>
              </a:rPr>
              <a:t>质疑探究、精心赏析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724280"/>
            <a:ext cx="8076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en-US" sz="37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en-US" sz="3700" spc="-1" strike="noStrike">
                <a:solidFill>
                  <a:srgbClr val="006666"/>
                </a:solidFill>
                <a:latin typeface="黑体"/>
                <a:ea typeface="黑体"/>
              </a:rPr>
              <a:t> </a:t>
            </a:r>
            <a:r>
              <a:rPr b="1" lang="zh-CN" sz="3700" spc="-1" strike="noStrike">
                <a:solidFill>
                  <a:srgbClr val="006666"/>
                </a:solidFill>
                <a:latin typeface="黑体"/>
                <a:ea typeface="黑体"/>
              </a:rPr>
              <a:t>这</a:t>
            </a:r>
            <a:r>
              <a:rPr b="1" lang="en-US" sz="3700" spc="-1" strike="noStrike">
                <a:solidFill>
                  <a:srgbClr val="006666"/>
                </a:solidFill>
                <a:latin typeface="黑体"/>
                <a:ea typeface="黑体"/>
              </a:rPr>
              <a:t>5</a:t>
            </a:r>
            <a:r>
              <a:rPr b="1" lang="zh-CN" sz="3700" spc="-1" strike="noStrike">
                <a:solidFill>
                  <a:srgbClr val="006666"/>
                </a:solidFill>
                <a:latin typeface="黑体"/>
                <a:ea typeface="黑体"/>
              </a:rPr>
              <a:t>句朴实而简洁的话包含着父亲怎样的深情？请具体说明。</a:t>
            </a:r>
            <a:endParaRPr b="0" lang="en-US" sz="37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Arial"/>
                <a:ea typeface="黑体"/>
              </a:rPr>
              <a:t>质疑探究、精心赏析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6666"/>
                </a:solidFill>
                <a:latin typeface="黑体"/>
                <a:ea typeface="黑体"/>
              </a:rPr>
              <a:t>事已如此，不必难过，好在天无绝人之路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0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担心家庭变故影响儿子学业，为了宽慰儿子，父亲把悲痛压在心底，不让儿子看到，多么深沉、多么伟大的父爱呀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3300"/>
                </a:solidFill>
                <a:latin typeface="Arial"/>
              </a:rPr>
              <a:t>                   </a:t>
            </a: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54200" y="2492280"/>
            <a:ext cx="806580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6666"/>
                </a:solidFill>
                <a:latin typeface="黑体"/>
                <a:ea typeface="黑体"/>
              </a:rPr>
              <a:t>不要紧，他们去不好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父亲当时急于谋事，在生存的巨大压力之下，忧心如焚，但是儿子在他心目中高于一切，惟恐儿子路上有什么闪失，所以最后决定还是由自己亲自送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75480" y="100188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  <a:ea typeface="黑体"/>
              </a:rPr>
              <a:t>质疑探究、精心赏析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22096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66"/>
                </a:solidFill>
                <a:latin typeface="宋体"/>
                <a:ea typeface="黑体"/>
              </a:rPr>
              <a:t>3.</a:t>
            </a:r>
            <a:r>
              <a:rPr b="1" lang="zh-CN" sz="3700" spc="-1" strike="noStrike">
                <a:solidFill>
                  <a:srgbClr val="006666"/>
                </a:solidFill>
                <a:latin typeface="宋体"/>
                <a:ea typeface="黑体"/>
              </a:rPr>
              <a:t>我买几个橘子去。你就在此地，不要走动。</a:t>
            </a:r>
            <a:endParaRPr b="0" lang="en-US" sz="3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276720"/>
            <a:ext cx="8381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cc"/>
                </a:solidFill>
                <a:latin typeface="楷体_GB2312"/>
                <a:ea typeface="黑体"/>
              </a:rPr>
              <a:t>—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—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父亲已经把儿子送上车，已经关照得无微不至，儿子也劝父亲可以走了，而父亲还觉得没有尽够心意，看见站上有卖橘子的，便要去给儿子买橘子。过铁道不容易，自己受点累，能让儿子受用，他是心甘情愿的。他还生怕儿子跟着出来，忘了行李。父亲的关怀真是无微不至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75480" y="100188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  <a:ea typeface="黑体"/>
              </a:rPr>
              <a:t>质疑探究、精心赏析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0"/>
          <a:ext cx="9144000" cy="68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45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3366"/>
                    </a:outerShdw>
                  </a:effectLst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284000" y="549360"/>
            <a:ext cx="4507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背影</a:t>
            </a:r>
            <a:endParaRPr b="0" lang="en-US" sz="1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8240" y="2438280"/>
            <a:ext cx="2618280" cy="34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朱自清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62120" y="2362320"/>
            <a:ext cx="617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黑体"/>
                <a:ea typeface="黑体"/>
              </a:rPr>
              <a:t>4.</a:t>
            </a:r>
            <a:r>
              <a:rPr b="1" lang="zh-CN" sz="4000" spc="-1" strike="noStrike">
                <a:solidFill>
                  <a:srgbClr val="006666"/>
                </a:solidFill>
                <a:latin typeface="黑体"/>
                <a:ea typeface="黑体"/>
              </a:rPr>
              <a:t>我走了，到那边来信</a:t>
            </a:r>
            <a:r>
              <a:rPr b="1" lang="zh-CN" sz="4000" spc="-1" strike="noStrike">
                <a:solidFill>
                  <a:srgbClr val="006666"/>
                </a:solidFill>
                <a:latin typeface="黑体"/>
                <a:ea typeface="黑体"/>
              </a:rPr>
              <a:t>!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31240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663300"/>
                </a:solidFill>
                <a:latin typeface="黑体"/>
                <a:ea typeface="黑体"/>
              </a:rPr>
              <a:t>惦念路途平安，要等到儿子回到北京来信报平安，才能放心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434340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66"/>
                </a:solidFill>
                <a:latin typeface="宋体"/>
                <a:ea typeface="黑体"/>
              </a:rPr>
              <a:t>5.</a:t>
            </a:r>
            <a:r>
              <a:rPr b="1" lang="zh-CN" sz="3700" spc="-1" strike="noStrike">
                <a:solidFill>
                  <a:srgbClr val="006666"/>
                </a:solidFill>
                <a:latin typeface="宋体"/>
                <a:ea typeface="黑体"/>
              </a:rPr>
              <a:t>进去吧，里边没人。</a:t>
            </a:r>
            <a:endParaRPr b="0" lang="en-US" sz="3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5029200"/>
            <a:ext cx="7543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663300"/>
                </a:solidFill>
                <a:latin typeface="楷体_GB2312"/>
                <a:ea typeface="黑体"/>
              </a:rPr>
              <a:t>走了几步就回头，可见心里还是惦记着儿子，依依不舍。又想到儿子所带的行李，叫儿子小心，什么都为儿子着想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75480" y="100188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  <a:ea typeface="黑体"/>
              </a:rPr>
              <a:t>质疑探究、精心赏析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7696080" y="182880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返回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66680" y="9144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结束语：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2209680"/>
            <a:ext cx="815328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华文中宋"/>
              </a:rPr>
              <a:t>一个不懂得享受爱的人，他的良知是苍白的；一个不懂得回报爱的人，他的情感是自私的。         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华文中宋"/>
              </a:rPr>
              <a:t>父母的爱很平常，也很实在：也许只是一个眼神，也许只是一句叮咛，也许只是早餐时装在你书包里的一盒牛奶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华文中宋"/>
              </a:rPr>
              <a:t>······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华文中宋"/>
              </a:rPr>
              <a:t>但父母的爱也很伟大，值得我们去感恩。大家不妨试着在父母疲倦时端上一杯热茶，在餐桌上给他们夹一次菜，在他们工作之余给他们捶捶背、揉揉肩……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79320" y="6172200"/>
            <a:ext cx="1553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6699"/>
                </a:solidFill>
                <a:uFillTx/>
                <a:latin typeface="Times New Roman"/>
                <a:ea typeface="华文中宋"/>
                <a:hlinkClick r:id="rId1" action="ppaction://hlinksldjump"/>
              </a:rPr>
              <a:t>（音乐欣赏 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260440" y="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懂    你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533520"/>
            <a:ext cx="40388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你静静的离去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一步一步孤独的背影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多想伴着你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告诉你我其实多么的爱你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花静静的绽放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在我忽然想你的夜里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多想告诉你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其实你一直都是我的奇迹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一年一年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风霜遮盖了笑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你寂寞的心有谁还能够体会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是不是春花秋月无情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春去秋来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你的爱已无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把爱全给了我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把世界给了我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从此不知你心中苦与乐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多想靠近你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告诉你我其实一直都懂你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把爱全给了我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把世界给了我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从此不知你心中苦与乐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多想靠近你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198640" y="52956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歌曲欣赏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98400" y="457200"/>
            <a:ext cx="21952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依偎在你温暖寂寞的怀里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花静静的绽放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在我忽然想你的夜里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多想靠近你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告诉你其实我一直都懂你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一年一年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风霜遮盖了笑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你寂寞的心有谁还能够体会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是不是春花秋月无情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春去秋来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你的爱已无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把爱全给了我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把世界给了我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从此不知你心中苦与乐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多想靠近你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告诉你其实我一直都懂你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把爱全给了我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把世界给了我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从此不知你心中苦与乐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多想靠近你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依偎在你温暖寂寞的怀里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多想告诉你</a:t>
            </a: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Times New Roman"/>
              </a:rPr>
              <a:t>你的寂寞我的心痛在一起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305920" y="15228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8534520" y="312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297080"/>
            <a:ext cx="33526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 者 简 介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036600" cy="3733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495680" y="2378160"/>
            <a:ext cx="4343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c3302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4c3302"/>
                </a:solidFill>
                <a:latin typeface="黑体"/>
                <a:ea typeface="黑体"/>
              </a:rPr>
              <a:t>朱自清</a:t>
            </a:r>
            <a:r>
              <a:rPr b="1" lang="zh-CN" sz="3200" spc="-1" strike="noStrike">
                <a:solidFill>
                  <a:srgbClr val="4c3302"/>
                </a:solidFill>
                <a:latin typeface="黑体"/>
                <a:ea typeface="黑体"/>
              </a:rPr>
              <a:t>(1898</a:t>
            </a:r>
            <a:r>
              <a:rPr b="1" lang="zh-CN" sz="3200" spc="-1" strike="noStrike">
                <a:solidFill>
                  <a:srgbClr val="4c3302"/>
                </a:solidFill>
                <a:latin typeface="黑体"/>
                <a:ea typeface="黑体"/>
              </a:rPr>
              <a:t>－</a:t>
            </a:r>
            <a:r>
              <a:rPr b="1" lang="zh-CN" sz="3200" spc="-1" strike="noStrike">
                <a:solidFill>
                  <a:srgbClr val="4c3302"/>
                </a:solidFill>
                <a:latin typeface="黑体"/>
                <a:ea typeface="黑体"/>
              </a:rPr>
              <a:t>1948),</a:t>
            </a:r>
            <a:r>
              <a:rPr b="1" lang="zh-CN" sz="3200" spc="-1" strike="noStrike">
                <a:solidFill>
                  <a:srgbClr val="4c3302"/>
                </a:solidFill>
                <a:latin typeface="黑体"/>
                <a:ea typeface="黑体"/>
              </a:rPr>
              <a:t>字佩弦，江苏省扬州市人</a:t>
            </a:r>
            <a:r>
              <a:rPr b="1" lang="zh-CN" sz="3200" spc="-1" strike="noStrike">
                <a:solidFill>
                  <a:srgbClr val="4c3302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cc99ff"/>
                </a:solidFill>
                <a:latin typeface="黑体"/>
                <a:ea typeface="黑体"/>
              </a:rPr>
              <a:t>散文家、诗人、学者、民主战士。</a:t>
            </a:r>
            <a:r>
              <a:rPr b="1" lang="zh-CN" sz="3200" spc="-1" strike="noStrike">
                <a:solidFill>
                  <a:srgbClr val="4c3302"/>
                </a:solidFill>
                <a:latin typeface="黑体"/>
                <a:ea typeface="黑体"/>
              </a:rPr>
              <a:t>有诗文集</a:t>
            </a:r>
            <a:r>
              <a:rPr b="1" lang="zh-CN" sz="3200" spc="-1" strike="noStrike">
                <a:solidFill>
                  <a:srgbClr val="4c3302"/>
                </a:solidFill>
                <a:latin typeface="Times New Roman"/>
                <a:ea typeface="黑体"/>
              </a:rPr>
              <a:t>《踪迹》、《欧旅杂记》</a:t>
            </a:r>
            <a:r>
              <a:rPr b="1" lang="zh-CN" sz="3200" spc="-1" strike="noStrike">
                <a:solidFill>
                  <a:srgbClr val="4c3302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4c3302"/>
                </a:solidFill>
                <a:latin typeface="Times New Roman"/>
                <a:ea typeface="黑体"/>
              </a:rPr>
              <a:t>以及一些文艺论著，收在《</a:t>
            </a:r>
            <a:r>
              <a:rPr b="1" lang="zh-CN" sz="3200" spc="-1" strike="noStrike">
                <a:solidFill>
                  <a:srgbClr val="4c3302"/>
                </a:solidFill>
                <a:latin typeface="黑体"/>
                <a:ea typeface="黑体"/>
              </a:rPr>
              <a:t>朱自清文集</a:t>
            </a:r>
            <a:r>
              <a:rPr b="1" lang="zh-CN" sz="3200" spc="-1" strike="noStrike">
                <a:solidFill>
                  <a:srgbClr val="4c3302"/>
                </a:solidFill>
                <a:latin typeface="Times New Roman"/>
                <a:ea typeface="黑体"/>
              </a:rPr>
              <a:t>》里 </a:t>
            </a:r>
            <a:r>
              <a:rPr b="1" lang="zh-CN" sz="3200" spc="-1" strike="noStrike">
                <a:solidFill>
                  <a:srgbClr val="4c3302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35053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楷体_GB2312"/>
              </a:rPr>
              <a:t>写作背景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2666880"/>
            <a:ext cx="7620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《背影》写于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1925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月，当时作者在清华大学任教。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1917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</a:rPr>
              <a:t>年冬，作者祖母去世，父亲朱鸿钧原任徐州烟酒公卖局局长，被解职。文中的“祸不单行”正是指这两件事。作者当时在北大哲学系读书，得知祖母去世，从北京赶到徐州与父亲一道回扬州奔丧。丧事完毕，父亲到南京找工作，作者回北京念书，父子在浦口车站惜别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6" name="beike" descr=""/>
          <p:cNvPicPr/>
          <p:nvPr/>
        </p:nvPicPr>
        <p:blipFill>
          <a:blip r:embed="rId1"/>
          <a:stretch/>
        </p:blipFill>
        <p:spPr>
          <a:xfrm>
            <a:off x="4038480" y="762120"/>
            <a:ext cx="1524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42120" y="1041480"/>
            <a:ext cx="21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学 习 目 标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95680" y="914400"/>
            <a:ext cx="1200240" cy="993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690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445520" y="0"/>
            <a:ext cx="1698480" cy="1638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84360" y="1916280"/>
            <a:ext cx="830556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知识目标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有感情地朗读课文，理解关键词语在表达感情方面所起的作用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能力目标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6600"/>
                </a:solidFill>
                <a:latin typeface="宋体"/>
              </a:rPr>
              <a:t>学习本文抓住人物形象的一个特征－－“背影”，在特定的环境下进行细致描写的特点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情感目标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336600"/>
                </a:solidFill>
                <a:latin typeface="宋体"/>
              </a:rPr>
              <a:t>．感受父子情深，继承和发扬中华民族的传统美德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336600"/>
                </a:solidFill>
                <a:latin typeface="宋体"/>
              </a:rPr>
              <a:t>．体会自己父爱的深沉与伟大，珍爱亲情，增进与父母的沟通与交流，学会关爱他人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66680" y="2590920"/>
            <a:ext cx="709308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　</a:t>
            </a:r>
            <a:r>
              <a:rPr b="0" lang="zh-CN" sz="4800" spc="-1" strike="noStrike">
                <a:solidFill>
                  <a:srgbClr val="33cc33"/>
                </a:solidFill>
                <a:latin typeface="Arial"/>
              </a:rPr>
              <a:t>　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这篇文章记叙的主要事件是什么？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4572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华文行楷"/>
                <a:ea typeface="华文行楷"/>
              </a:rPr>
              <a:t>    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两年前作者奔丧完毕，父子在浦口依依惜别的情景．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52040" y="1001880"/>
            <a:ext cx="358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66"/>
                </a:solidFill>
                <a:latin typeface="黑体"/>
                <a:ea typeface="黑体"/>
              </a:rPr>
              <a:t>整体感知   理清文脉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38098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这篇文章以什么为线索？ 主要写谁？  反映的主题是什么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39280" y="990720"/>
            <a:ext cx="358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66"/>
                </a:solidFill>
                <a:latin typeface="黑体"/>
                <a:ea typeface="黑体"/>
              </a:rPr>
              <a:t>整体感知   理清文脉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172200" y="2743200"/>
            <a:ext cx="1828800" cy="914400"/>
            <a:chOff x="6172200" y="2743200"/>
            <a:chExt cx="1828800" cy="914400"/>
          </a:xfrm>
        </p:grpSpPr>
        <p:sp>
          <p:nvSpPr>
            <p:cNvPr id="118" name=""/>
            <p:cNvSpPr/>
            <p:nvPr/>
          </p:nvSpPr>
          <p:spPr>
            <a:xfrm>
              <a:off x="6172200" y="2743200"/>
              <a:ext cx="1828800" cy="9144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819520"/>
              <a:ext cx="1218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华文行楷"/>
                  <a:ea typeface="华文行楷"/>
                </a:rPr>
                <a:t>背影</a:t>
              </a:r>
              <a:endParaRPr b="0" lang="en-US" sz="4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600200" y="5257800"/>
            <a:ext cx="2819520" cy="1066680"/>
            <a:chOff x="1600200" y="5257800"/>
            <a:chExt cx="2819520" cy="1066680"/>
          </a:xfrm>
        </p:grpSpPr>
        <p:sp>
          <p:nvSpPr>
            <p:cNvPr id="121" name=""/>
            <p:cNvSpPr/>
            <p:nvPr/>
          </p:nvSpPr>
          <p:spPr>
            <a:xfrm>
              <a:off x="1600200" y="5257800"/>
              <a:ext cx="2819520" cy="1066680"/>
            </a:xfrm>
            <a:prstGeom prst="wedgeRoundRectCallout">
              <a:avLst>
                <a:gd name="adj1" fmla="val -47805"/>
                <a:gd name="adj2" fmla="val -76486"/>
                <a:gd name="adj3" fmla="val 16667"/>
              </a:avLst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28800" y="5410080"/>
              <a:ext cx="244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华文行楷"/>
                  <a:ea typeface="华文行楷"/>
                </a:rPr>
                <a:t>我的父亲</a:t>
              </a:r>
              <a:endParaRPr b="0" lang="en-US" sz="4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38680" y="5181480"/>
            <a:ext cx="2971800" cy="1295640"/>
            <a:chOff x="5638680" y="5181480"/>
            <a:chExt cx="2971800" cy="1295640"/>
          </a:xfrm>
        </p:grpSpPr>
        <p:sp>
          <p:nvSpPr>
            <p:cNvPr id="124" name=""/>
            <p:cNvSpPr/>
            <p:nvPr/>
          </p:nvSpPr>
          <p:spPr>
            <a:xfrm>
              <a:off x="5638680" y="5181480"/>
              <a:ext cx="2971800" cy="1295640"/>
            </a:xfrm>
            <a:prstGeom prst="cloudCallout">
              <a:avLst>
                <a:gd name="adj1" fmla="val -79805"/>
                <a:gd name="adj2" fmla="val -63726"/>
              </a:avLst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24480" y="548640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华文行楷"/>
                  <a:ea typeface="华文行楷"/>
                </a:rPr>
                <a:t>父爱</a:t>
              </a:r>
              <a:endParaRPr b="0" lang="en-US" sz="4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5410080"/>
            <a:ext cx="77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22096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华文行楷"/>
                <a:ea typeface="华文行楷"/>
              </a:rPr>
              <a:t>    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背影在文章中共出现了几次？请从课文中圈画出来．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75480" y="100188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  <a:ea typeface="黑体"/>
              </a:rPr>
              <a:t>质疑探究、精心赏析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16880" y="441468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黑体"/>
              </a:rPr>
              <a:t>&lt;2&gt;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  <a:ea typeface="黑体"/>
              </a:rPr>
              <a:t>刻画背影</a:t>
            </a:r>
            <a:r>
              <a:rPr b="1" lang="zh-CN" sz="4000" spc="-1" strike="noStrike">
                <a:solidFill>
                  <a:srgbClr val="336600"/>
                </a:solidFill>
                <a:latin typeface="黑体"/>
                <a:ea typeface="黑体"/>
              </a:rPr>
              <a:t>（望父买橘）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16880" y="517356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黑体"/>
              </a:rPr>
              <a:t>&lt;3&gt;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  <a:ea typeface="黑体"/>
              </a:rPr>
              <a:t>惜别背影</a:t>
            </a:r>
            <a:r>
              <a:rPr b="1" lang="zh-CN" sz="4000" spc="-1" strike="noStrike">
                <a:solidFill>
                  <a:srgbClr val="336600"/>
                </a:solidFill>
                <a:latin typeface="黑体"/>
                <a:ea typeface="黑体"/>
              </a:rPr>
              <a:t>（父子分手）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16880" y="593244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黑体"/>
              </a:rPr>
              <a:t>&lt;4&gt;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  <a:ea typeface="黑体"/>
              </a:rPr>
              <a:t>再现背影</a:t>
            </a:r>
            <a:r>
              <a:rPr b="1" lang="zh-CN" sz="4000" spc="-1" strike="noStrike">
                <a:solidFill>
                  <a:srgbClr val="336600"/>
                </a:solidFill>
                <a:latin typeface="黑体"/>
                <a:ea typeface="黑体"/>
              </a:rPr>
              <a:t>（别后怀念）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16880" y="365760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黑体"/>
              </a:rPr>
              <a:t>&lt;1&gt;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  <a:ea typeface="黑体"/>
              </a:rPr>
              <a:t>惦记背影</a:t>
            </a:r>
            <a:r>
              <a:rPr b="1" lang="zh-CN" sz="4000" spc="-1" strike="noStrike">
                <a:solidFill>
                  <a:srgbClr val="336600"/>
                </a:solidFill>
                <a:latin typeface="黑体"/>
                <a:ea typeface="黑体"/>
              </a:rPr>
              <a:t>（思念父亲）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2362320"/>
            <a:ext cx="77709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华文行楷"/>
                <a:ea typeface="华文行楷"/>
              </a:rPr>
              <a:t>　　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你认为哪个背影最感人，最能体现父亲对儿子真挚的爱？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75480" y="100188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  <a:ea typeface="黑体"/>
              </a:rPr>
              <a:t>质疑探究、精心赏析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54360" y="61722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6699"/>
                </a:solidFill>
                <a:uFillTx/>
                <a:latin typeface="Times New Roman"/>
                <a:ea typeface="黑体"/>
                <a:hlinkClick r:id="rId1"/>
              </a:rPr>
              <a:t>欣赏《背影》片段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7772400" y="182880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返回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2-10-23T06:38:14Z</dcterms:modified>
  <cp:revision>81</cp:revision>
  <dc:subject/>
  <dc:title>PowerPoint Presentation</dc:title>
</cp:coreProperties>
</file>