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6.wav" ContentType="audio/x-wav"/>
  <Override PartName="/ppt/media/hammer.wav" ContentType="audio/x-wav"/>
  <Override PartName="/ppt/media/type.wav" ContentType="audio/x-wav"/>
  <Override PartName="/ppt/media/camera.wav" ContentType="audio/x-wav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22E7-4F4E-4AF7-8F84-550B1AD5F8A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者介绍和写作背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者介绍和写作背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归纳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导学达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80359-0DF5-4AAF-871D-B8C09344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53A0C-27D3-4C72-B0BD-0F6E2A9C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6EE3-7A9A-442E-896A-39E6FEAD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A606D-C732-4168-8DAE-D3AD7580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76AB-44B9-4010-B191-9C73D936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4DD2-7947-4A69-B483-BBCFB77E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91F3-EB8A-41D8-A60F-2BC49209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E3D9-B71C-40DD-8752-982AD99E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1E7B-F07C-40D9-8AF9-6BDF42B8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E1C1-9019-4934-BC44-40F554E9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A4F7-5009-4305-8DFC-6B1FABE2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BC39F-D0D7-4F98-A0D0-FD7C0110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20F5-F44C-43B9-91F6-188BBF90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D9C8-F5F1-4967-8835-07C6F5AC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B2B6-AC74-4A0F-843D-13A76C7F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E2B3-3944-4E2B-ACBC-0AFC8475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08D8-C18B-482B-ABC9-604DFE5C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AB6D7-C8E8-4206-82A8-F23A8EB0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B3FD6-79EC-466E-A7C8-4754B145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4349-8F26-4F1D-ABBB-3BA670BD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C7EA8-24D5-4070-8A62-6B8146C0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3AEDB-6857-42C8-8F6E-E6D00ADA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4570C-9747-4049-8287-3163438B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EA1F-F64A-4AD2-91B7-1451E37D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D327-B80D-4023-AC5F-81D987954B1D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CB7F-7C4E-4500-9AB3-AFF46405BF9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6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83240" y="0"/>
            <a:ext cx="234396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背影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640" y="3068640"/>
            <a:ext cx="2618280" cy="34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朱自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60360" y="2708280"/>
            <a:ext cx="7596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自已的语言概括一下本文的主要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章中最感人的是哪一镜头？用自己的语言表述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章以“背影”为题，请问“背影”在文中起到了什么作用？请作具体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360" y="260280"/>
            <a:ext cx="6119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整体感知：理清情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08320" y="2932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背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03280" y="1341360"/>
            <a:ext cx="216000" cy="388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95040" y="966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点背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14120" y="2205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画背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29200" y="350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别背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14120" y="4732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想背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64120" y="977760"/>
            <a:ext cx="244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开篇点题，引起下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2421000"/>
            <a:ext cx="142920" cy="1512720"/>
          </a:xfrm>
          <a:custGeom>
            <a:avLst/>
            <a:gdLst>
              <a:gd name="textAreaLeft" fmla="*/ 0 w 142920"/>
              <a:gd name="textAreaRight" fmla="*/ 51480 w 14292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87840" y="285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8200" y="2747880"/>
            <a:ext cx="276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回忆往事，抒写深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—6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64120" y="4794120"/>
            <a:ext cx="244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首尾呼应，收束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451640" y="1197000"/>
            <a:ext cx="144720" cy="3960720"/>
          </a:xfrm>
          <a:custGeom>
            <a:avLst/>
            <a:gdLst>
              <a:gd name="textAreaLeft" fmla="*/ 0 w 144720"/>
              <a:gd name="textAreaRight" fmla="*/ 52200 w 14472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871400" y="220572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父子深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8960" y="382752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文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线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77800" y="24210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回忆往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抒写深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73360" y="1365120"/>
            <a:ext cx="26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家中变故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00640" y="2732040"/>
            <a:ext cx="26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打点出行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85920" y="4076640"/>
            <a:ext cx="28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买橘送行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79640" y="1700280"/>
            <a:ext cx="288720" cy="2520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79840" y="3579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画背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79840" y="4365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别背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61080" y="3860640"/>
            <a:ext cx="215640" cy="936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187280" y="76500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探究交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6" name=""/>
          <p:cNvSpPr/>
          <p:nvPr/>
        </p:nvSpPr>
        <p:spPr>
          <a:xfrm>
            <a:off x="519120" y="2433600"/>
            <a:ext cx="862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读全文，结合文本具体的字词句，体会蕴含在字里行间的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父亲对儿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650880" y="1455840"/>
            <a:ext cx="3100320" cy="1084680"/>
            <a:chOff x="650880" y="1455840"/>
            <a:chExt cx="3100320" cy="1084680"/>
          </a:xfrm>
        </p:grpSpPr>
        <p:sp>
          <p:nvSpPr>
            <p:cNvPr id="218" name=""/>
            <p:cNvSpPr/>
            <p:nvPr/>
          </p:nvSpPr>
          <p:spPr>
            <a:xfrm>
              <a:off x="650880" y="16747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家中变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95240" y="14558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祖母过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5240" y="19591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父亲失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68360" y="1746360"/>
              <a:ext cx="71640" cy="57636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31880" y="3789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父亲的话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64360" y="1195560"/>
            <a:ext cx="358920" cy="3025440"/>
          </a:xfrm>
          <a:custGeom>
            <a:avLst/>
            <a:gdLst>
              <a:gd name="textAreaLeft" fmla="*/ 0 w 358920"/>
              <a:gd name="textAreaRight" fmla="*/ 129600 w 358920"/>
              <a:gd name="textAreaTop" fmla="*/ 78840 h 3025440"/>
              <a:gd name="textAreaBottom" fmla="*/ 2946600 h 30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40360" y="102708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渲染悲凉惨淡的气氛；突显父亲饱经风霜，心情郁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2880" y="3786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慰儿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24720" y="19162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反衬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父亲对儿子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3488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打点出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34880" y="285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讨价还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06520" y="1193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嘱咐茶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34880" y="234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照看行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34880" y="1770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决定亲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34880" y="342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拣定座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34880" y="400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嘱我警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4880" y="458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再托茶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80000" y="1339920"/>
            <a:ext cx="71280" cy="3744720"/>
          </a:xfrm>
          <a:custGeom>
            <a:avLst/>
            <a:gdLst>
              <a:gd name="textAreaLeft" fmla="*/ 0 w 71280"/>
              <a:gd name="textAreaRight" fmla="*/ 25560 w 7128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11640" y="2649600"/>
            <a:ext cx="21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亲力亲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了很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心不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23120" y="2743200"/>
            <a:ext cx="254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后文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背影铺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79280" y="290988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买橘送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50880" y="966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执意买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22520" y="1685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穿过月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50880" y="2478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跳下爬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50880" y="3198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跳下爬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50880" y="3917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送上橘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50880" y="4567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混入人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95640" y="1195560"/>
            <a:ext cx="71640" cy="3889080"/>
          </a:xfrm>
          <a:custGeom>
            <a:avLst/>
            <a:gdLst>
              <a:gd name="textAreaLeft" fmla="*/ 0 w 71640"/>
              <a:gd name="textAreaRight" fmla="*/ 25920 w 71640"/>
              <a:gd name="textAreaTop" fmla="*/ 101160 h 3889080"/>
              <a:gd name="textAreaBottom" fmla="*/ 3787920 h 38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75240" y="245124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克服困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亲力亲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疼爱有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93520" y="822240"/>
            <a:ext cx="91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穿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爬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攀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微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散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爬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再抱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7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08720" y="3098880"/>
            <a:ext cx="1224000" cy="2872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24000" y="993600"/>
            <a:ext cx="8370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琥珀简体"/>
              </a:rPr>
              <a:t>这段动词准确精当，请根据课文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我看见他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黑布小帽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黑布大马褂，深青布棉袍，蹒跚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铁道边，慢慢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　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身下去，尚不大难。可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铁道，要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那边月台，就不容易了。他用两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上面，两脚再向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　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他肥胖的身子向左微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　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显出努力的样子，这时我看见他的背影，我的泪很快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来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09960" y="15638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94320" y="15638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6000" y="21398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24000" y="257184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80360" y="256536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49560" y="3075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78000" y="357336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10240" y="35733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6000" y="4011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962680" y="4581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148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明确：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探”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攀”、“缩”、“倾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作描写，“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，体胖动作不灵便，下铁道小心翼翼；“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，既写出月台的高度，又可以想象父亲爬月台的吃力；“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，两脚无处可蹬，把怎样爬写得更细致；“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，爬上月台虽然十分艰难，但又十分努力的样子。——这是一个艰难的背影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17320" y="16286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哪几个动词最传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06160" y="321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语言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050920" y="1835280"/>
            <a:ext cx="4392720" cy="3111840"/>
            <a:chOff x="2050920" y="1835280"/>
            <a:chExt cx="4392720" cy="3111840"/>
          </a:xfrm>
        </p:grpSpPr>
        <p:sp>
          <p:nvSpPr>
            <p:cNvPr id="265" name=""/>
            <p:cNvSpPr/>
            <p:nvPr/>
          </p:nvSpPr>
          <p:spPr>
            <a:xfrm>
              <a:off x="2942280" y="1835280"/>
              <a:ext cx="312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A.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不要紧，他们去不好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24000" y="2492280"/>
              <a:ext cx="431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我买几个橘子去。你就在此地，不要走动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15280" y="3641760"/>
              <a:ext cx="312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C.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我走了，到那边来信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78280" y="4365720"/>
              <a:ext cx="88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D.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进去吧，里边没人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2205000"/>
              <a:ext cx="73080" cy="251928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65520 h 2519280"/>
                <a:gd name="textAreaBottom" fmla="*/ 2453760 h 25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183440" y="1739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放心不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6720" y="5300640"/>
            <a:ext cx="835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语言朴实无华，但却字字句句流露父亲当时的心声：对儿子的怜惜、体贴、关爱、不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3088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怜惜体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130880" y="357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依依不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03960" y="429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儿着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00200" y="19051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60280"/>
            <a:ext cx="477504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4c3302"/>
                </a:solidFill>
                <a:latin typeface="黑体"/>
                <a:ea typeface="新宋体"/>
              </a:rPr>
              <a:t>朱自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c3302"/>
                </a:solidFill>
                <a:latin typeface="黑体"/>
                <a:ea typeface="新宋体"/>
              </a:rPr>
              <a:t>(1898</a:t>
            </a:r>
            <a:r>
              <a:rPr b="1" lang="zh-CN" sz="3600" spc="-1" strike="noStrike">
                <a:solidFill>
                  <a:srgbClr val="4c3302"/>
                </a:solidFill>
                <a:latin typeface="黑体"/>
                <a:ea typeface="新宋体"/>
              </a:rPr>
              <a:t>－</a:t>
            </a:r>
            <a:r>
              <a:rPr b="1" lang="zh-CN" sz="3600" spc="-1" strike="noStrike">
                <a:solidFill>
                  <a:srgbClr val="4c3302"/>
                </a:solidFill>
                <a:latin typeface="黑体"/>
                <a:ea typeface="新宋体"/>
              </a:rPr>
              <a:t>1948),</a:t>
            </a:r>
            <a:r>
              <a:rPr b="1" lang="zh-CN" sz="3600" spc="-1" strike="noStrike">
                <a:solidFill>
                  <a:srgbClr val="4c3302"/>
                </a:solidFill>
                <a:latin typeface="黑体"/>
                <a:ea typeface="新宋体"/>
              </a:rPr>
              <a:t>字佩弦，江苏扬州市人</a:t>
            </a:r>
            <a:r>
              <a:rPr b="1" lang="zh-CN" sz="3600" spc="-1" strike="noStrike">
                <a:solidFill>
                  <a:srgbClr val="4c3302"/>
                </a:solidFill>
                <a:latin typeface="黑体"/>
                <a:ea typeface="新宋体"/>
              </a:rPr>
              <a:t>,</a:t>
            </a:r>
            <a:r>
              <a:rPr b="1" lang="zh-CN" sz="3600" spc="-1" strike="noStrike">
                <a:solidFill>
                  <a:srgbClr val="666699"/>
                </a:solidFill>
                <a:latin typeface="黑体"/>
                <a:ea typeface="新宋体"/>
              </a:rPr>
              <a:t>散文家、诗人、学者、民主战士</a:t>
            </a:r>
            <a:r>
              <a:rPr b="1" lang="zh-CN" sz="3600" spc="-1" strike="noStrike">
                <a:solidFill>
                  <a:srgbClr val="4c3302"/>
                </a:solidFill>
                <a:latin typeface="黑体"/>
                <a:ea typeface="新宋体"/>
              </a:rPr>
              <a:t>。有诗文集</a:t>
            </a:r>
            <a:r>
              <a:rPr b="1" lang="zh-CN" sz="3600" spc="-1" strike="noStrike">
                <a:solidFill>
                  <a:srgbClr val="4c3302"/>
                </a:solidFill>
                <a:latin typeface="Times New Roman"/>
                <a:ea typeface="新宋体"/>
              </a:rPr>
              <a:t>《踪迹》，散文集《欧游杂记》</a:t>
            </a:r>
            <a:r>
              <a:rPr b="1" lang="zh-CN" sz="3600" spc="-1" strike="noStrike">
                <a:solidFill>
                  <a:srgbClr val="4c3302"/>
                </a:solidFill>
                <a:latin typeface="黑体"/>
                <a:ea typeface="新宋体"/>
              </a:rPr>
              <a:t>。</a:t>
            </a:r>
            <a:r>
              <a:rPr b="1" lang="zh-CN" sz="3600" spc="-1" strike="noStrike">
                <a:solidFill>
                  <a:srgbClr val="666699"/>
                </a:solidFill>
                <a:latin typeface="黑体"/>
                <a:ea typeface="新宋体"/>
              </a:rPr>
              <a:t>散文代表作是《背影》、《河塘月色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2222" descr=""/>
          <p:cNvPicPr/>
          <p:nvPr/>
        </p:nvPicPr>
        <p:blipFill>
          <a:blip r:embed="rId1"/>
          <a:stretch/>
        </p:blipFill>
        <p:spPr>
          <a:xfrm>
            <a:off x="5111640" y="907920"/>
            <a:ext cx="4032360" cy="5516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84720" y="260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300a"/>
                </a:solidFill>
                <a:latin typeface="Tahoma"/>
                <a:ea typeface="隶书"/>
              </a:rPr>
              <a:t>朱自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83120" y="7415280"/>
            <a:ext cx="60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0320" y="753840"/>
            <a:ext cx="77724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句朴实而简洁的话包含着父亲怎样的深情？请具体说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3840" y="2491920"/>
            <a:ext cx="8065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要紧，他们去不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父亲当时急于谋事，在生存的巨大压力之下，忧心如焚，但是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儿子在他心目中高于一切，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惟恐儿子路上有什么闪失，所以最后决定还是由自己亲自送，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表现出父亲深挚的关爱 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5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我买几个橘子去。你就在此地，不要走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0560" y="2420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父亲已经把儿子送上车，已经关照得无微不至，儿子也劝父亲可以走了，而父亲还觉得没有尽够心意，看见站上有卖橘子的，便要去给儿子买橘子。过铁道不容易，自己受点累，能让儿子受用，他是心甘情愿的。他还生怕儿子跟着出来，忘了行李。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父亲的关怀真是无微不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06400" y="1633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我走了，到那边来信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2963880"/>
            <a:ext cx="8062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惦念路途平安，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要等到儿子回到北京来信报平安，才能放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依依不舍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19120" y="108108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进去吧，里边没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07732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走了几步就回头，可见心里还是惦记着儿子，依依不舍。又想到儿子所带的行李，叫儿子小心，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什么都为儿子着想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6e73"/>
                </a:solidFill>
                <a:latin typeface="方正琥珀简体"/>
                <a:ea typeface="方正琥珀简体"/>
              </a:rPr>
              <a:t>老师提示：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写作，要善于用朴素的语言写出深挚的感情；选材，也要善于选择那些平常而又饱含深情的素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77800" y="798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神态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95640" y="3141720"/>
            <a:ext cx="388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三嘱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甚是仔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终于放心不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颇踌躇了一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踌躇了一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终于决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走了几步，后头看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0880" y="4365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他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03480" y="404640"/>
            <a:ext cx="477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扑扑衣上的泥土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里很轻松似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7800" y="191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外貌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03520" y="1484280"/>
            <a:ext cx="140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黑布小帽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黑布大马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深青布棉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53240" y="162864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儿子想得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自己想得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35440" y="4428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责任尽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心情愉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87840" y="4226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78080" y="39718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放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于是扑扑衣上的泥土，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心里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很轻松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似的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亲真的“很轻松”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81342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其实不仅不轻松，还很吃力。只是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因为爱儿子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吃苦也心甘情愿，所以心里感到“很轻松”。“……似的”表示“看似……，其实不是”。也许是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故意装出轻松的样子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以免儿子心里难受。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这也表现了父亲深挚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978520" y="1557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侧面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4000" y="1125360"/>
            <a:ext cx="505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实我那年已二十岁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心里暗笑他的迂，……难道还不能料理自己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65680" y="335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反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亲对儿子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971640" y="76500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探究交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9" name=""/>
          <p:cNvSpPr/>
          <p:nvPr/>
        </p:nvSpPr>
        <p:spPr>
          <a:xfrm>
            <a:off x="519120" y="2433600"/>
            <a:ext cx="830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读全文，结合文本具体的字词句，体会蕴含在字里行间的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儿子对父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0288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我与父亲不相见已二年余了，我最不能忘记的是他的背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9120" y="2966760"/>
            <a:ext cx="822960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理解文中的两个“聪明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父亲忙着和脚夫讨价还价时，“我”总觉得他说话不大漂亮，……对此作者自称“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我那是真是聪明过分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-181080" y="1844640"/>
            <a:ext cx="932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实哪是父亲说话难听呢，实在是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家境惨淡，囊中羞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34936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父亲嘱托茶房好好照应儿子，“我”暗笑父亲的迂，……“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我现在想想，那时真是太聪明了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357720"/>
            <a:ext cx="91440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非父亲真迂，只是想尽可能多为儿子做点事，才能更放心些。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“聪明”均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褒词贬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反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都是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幼稚无知，自以为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之意。流露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的忏悔，自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反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儿子越来越真切、深入地感受和理解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父爱的博大、含蓄和深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895480" y="609480"/>
            <a:ext cx="2210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9999cc"/>
                  </a:outerShdw>
                </a:effectLst>
                <a:latin typeface="华文行楷"/>
              </a:rPr>
              <a:t>背   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9999cc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19051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700280"/>
            <a:ext cx="66978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是一篇回忆性的写实散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曾说：“我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《背影》，就因为文中所引的父亲的来信那句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当时读了父亲的信，真是泪如泉涌。我父亲待我的许多好处，特别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《背影》里所叙述的那一回，想起来跟 眼前一般无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我这篇文只是写实，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2222" descr=""/>
          <p:cNvPicPr/>
          <p:nvPr/>
        </p:nvPicPr>
        <p:blipFill>
          <a:blip r:embed="rId3"/>
          <a:stretch/>
        </p:blipFill>
        <p:spPr>
          <a:xfrm>
            <a:off x="6837480" y="1628640"/>
            <a:ext cx="2306520" cy="3402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945880" y="61657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09cc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409cc"/>
                </a:solidFill>
                <a:latin typeface="黑体"/>
                <a:ea typeface="黑体"/>
              </a:rPr>
              <a:t>背得美文三百篇     不愁笔下无佳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95440" y="81612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  <a:ea typeface="华文彩云"/>
              </a:rPr>
              <a:t>检测你的情商如何</a:t>
            </a:r>
            <a:br>
              <a:rPr sz="3200"/>
            </a:br>
            <a:r>
              <a:rPr b="0" lang="zh-CN" sz="3200" spc="-1" strike="noStrike">
                <a:solidFill>
                  <a:srgbClr val="003399"/>
                </a:solidFill>
                <a:latin typeface="Arial"/>
                <a:ea typeface="华文彩云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在长辈面前，也有过这种自作聪明的情况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出来与同学们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4360" y="259200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一般规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　　一个人小时候，觉得父亲的形象很高大；到了一定年龄段，血气方刚，即懂事又不懂事，会觉得父亲并不可敬，还以为自己比父亲强。真正成熟了，即使真比父亲强得多，也会觉得父亲可亲可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14400" y="1447920"/>
            <a:ext cx="7467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写了“我”几次流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227664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见父亲，睹家境，想祖母，簌簌下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望父买橘，背影难忘，流下眼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父子离别 ，背影远逝，眼泪再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读父来信，再现背影，泪光莹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269720" y="2633760"/>
            <a:ext cx="40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望父买橘，背影难忘，流下眼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84760" y="2633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感激之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361520" y="1409760"/>
            <a:ext cx="45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见父亲，睹家境，想祖母，簌簌下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481880" y="141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悲哀之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33520" y="870120"/>
            <a:ext cx="81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3613320"/>
            <a:ext cx="5790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怕父亲见了伤心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5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怕别人见了难为情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0160" y="1134720"/>
            <a:ext cx="7989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cc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“我赶紧拭干了泪。</a:t>
            </a:r>
            <a:br>
              <a:rPr sz="4000"/>
            </a:br>
            <a:r>
              <a:rPr b="1" lang="zh-CN" sz="4000" spc="-1" strike="noStrike">
                <a:solidFill>
                  <a:srgbClr val="9999c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怕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他看见，也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怕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别人看见”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两个“怕”，各怕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3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8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69720" y="2421000"/>
            <a:ext cx="40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望父买橘，背影难忘，流下眼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2351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感动之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74040" y="3500280"/>
            <a:ext cx="413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父子离别 ，背影远逝，眼泪再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72160" y="3068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舍之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心酸之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69720" y="4581360"/>
            <a:ext cx="40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读父来信，再现背影，泪光莹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81880" y="407664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伤心之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思念之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悔恨之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61520" y="1197000"/>
            <a:ext cx="45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见父亲，睹家境，想祖母，簌簌下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481880" y="1200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悲哀之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1840" y="5627520"/>
            <a:ext cx="866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泪中充满了自责、愧疚，充满了对父亲的理解、同情，充满了对父亲的深爱和思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3394080"/>
            <a:ext cx="601992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a51189"/>
                </a:solidFill>
                <a:latin typeface="Times New Roman"/>
                <a:ea typeface="黑体"/>
              </a:rPr>
              <a:t>悲哀之泪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见父亲 睹家境 想祖母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a51189"/>
                </a:solidFill>
                <a:latin typeface="Times New Roman"/>
                <a:ea typeface="黑体"/>
              </a:rPr>
              <a:t>感动之泪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望父亲买橘 父子离别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a51189"/>
                </a:solidFill>
                <a:latin typeface="Times New Roman"/>
                <a:ea typeface="黑体"/>
              </a:rPr>
              <a:t>感伤之泪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背影远去依依惜别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a51189"/>
                </a:solidFill>
                <a:latin typeface="Times New Roman"/>
                <a:ea typeface="黑体"/>
              </a:rPr>
              <a:t>伤心之泪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再现背影 泪光莹莹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330" name="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331" name="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334" name="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归纳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4360" y="4079880"/>
            <a:ext cx="1295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四次流泪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4360" y="1773360"/>
            <a:ext cx="12952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四个背影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664400" y="54421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2268360" y="1341360"/>
            <a:ext cx="4572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6699"/>
                </a:solidFill>
                <a:latin typeface="Arial"/>
              </a:rPr>
              <a:t>惦记背影</a:t>
            </a:r>
            <a:r>
              <a:rPr b="1" lang="zh-CN" sz="3000" spc="-1" strike="noStrike">
                <a:solidFill>
                  <a:srgbClr val="008000"/>
                </a:solidFill>
                <a:latin typeface="Arial"/>
              </a:rPr>
              <a:t>（思念父亲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6699"/>
                </a:solidFill>
                <a:latin typeface="Arial"/>
              </a:rPr>
              <a:t>刻画背影</a:t>
            </a:r>
            <a:r>
              <a:rPr b="1" lang="zh-CN" sz="3000" spc="-1" strike="noStrike">
                <a:solidFill>
                  <a:srgbClr val="008000"/>
                </a:solidFill>
                <a:latin typeface="Arial"/>
              </a:rPr>
              <a:t>（望父买橘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6699"/>
                </a:solidFill>
                <a:latin typeface="Arial"/>
              </a:rPr>
              <a:t>惜别背影</a:t>
            </a:r>
            <a:r>
              <a:rPr b="1" lang="zh-CN" sz="3000" spc="-1" strike="noStrike">
                <a:solidFill>
                  <a:srgbClr val="008000"/>
                </a:solidFill>
                <a:latin typeface="Arial"/>
              </a:rPr>
              <a:t>（父子分手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6699"/>
                </a:solidFill>
                <a:latin typeface="Arial"/>
              </a:rPr>
              <a:t>再现背影</a:t>
            </a:r>
            <a:r>
              <a:rPr b="1" lang="zh-CN" sz="3000" spc="-1" strike="noStrike">
                <a:solidFill>
                  <a:srgbClr val="008000"/>
                </a:solidFill>
                <a:latin typeface="Arial"/>
              </a:rPr>
              <a:t>（别后怀念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45" name=""/>
            <p:cNvGrpSpPr/>
            <p:nvPr/>
          </p:nvGrpSpPr>
          <p:grpSpPr>
            <a:xfrm>
              <a:off x="290520" y="869760"/>
              <a:ext cx="711360" cy="474480"/>
              <a:chOff x="290520" y="869760"/>
              <a:chExt cx="711360" cy="474480"/>
            </a:xfrm>
          </p:grpSpPr>
          <p:sp>
            <p:nvSpPr>
              <p:cNvPr id="346" name=""/>
              <p:cNvSpPr/>
              <p:nvPr/>
            </p:nvSpPr>
            <p:spPr>
              <a:xfrm>
                <a:off x="290520" y="869760"/>
                <a:ext cx="437400" cy="474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3560" y="869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414360" y="1292040"/>
              <a:ext cx="737640" cy="474480"/>
              <a:chOff x="414360" y="1292040"/>
              <a:chExt cx="737640" cy="474480"/>
            </a:xfrm>
          </p:grpSpPr>
          <p:sp>
            <p:nvSpPr>
              <p:cNvPr id="349" name=""/>
              <p:cNvSpPr/>
              <p:nvPr/>
            </p:nvSpPr>
            <p:spPr>
              <a:xfrm>
                <a:off x="414360" y="1292040"/>
                <a:ext cx="421560" cy="474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83000" y="1292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16080" y="1583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84360" y="1628640"/>
            <a:ext cx="7632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请简要概括课文的中心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285264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课文通过对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的描写，于叙事中表现了父亲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_</a:t>
            </a: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，儿子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_       ___</a:t>
            </a: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，父子情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313160" y="2849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父亲背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02360" y="3570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疼爱儿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74400" y="41878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怜爱、思念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684360" y="836640"/>
            <a:ext cx="2800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析技巧，助写作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0" name=""/>
          <p:cNvSpPr/>
          <p:nvPr/>
        </p:nvSpPr>
        <p:spPr>
          <a:xfrm>
            <a:off x="806400" y="193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99"/>
                </a:solidFill>
                <a:latin typeface="Arial"/>
                <a:ea typeface="隶书"/>
              </a:rPr>
              <a:t>一、结构精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点</a:t>
            </a:r>
            <a:r>
              <a:rPr b="1" lang="zh-CN" sz="3200" spc="-1" strike="noStrike">
                <a:solidFill>
                  <a:srgbClr val="666699"/>
                </a:solidFill>
                <a:latin typeface="宋体"/>
              </a:rPr>
              <a:t>背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—— 开篇点题，引出下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</a:t>
            </a:r>
            <a:r>
              <a:rPr b="1" lang="zh-CN" sz="3200" spc="-1" strike="noStrike">
                <a:solidFill>
                  <a:srgbClr val="666699"/>
                </a:solidFill>
                <a:latin typeface="宋体"/>
              </a:rPr>
              <a:t>背影（两次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—— 表现深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忆</a:t>
            </a:r>
            <a:r>
              <a:rPr b="1" lang="zh-CN" sz="3200" spc="-1" strike="noStrike">
                <a:solidFill>
                  <a:srgbClr val="666699"/>
                </a:solidFill>
                <a:latin typeface="宋体"/>
              </a:rPr>
              <a:t>背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—— 照应开头，深化主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尤其还有文章为主要内容前安排了两层内容：渲染、铺垫，为写背影充分蓄势，以致把情节、情感推向高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0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24000" y="984240"/>
            <a:ext cx="855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选材精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从平凡的日常生活入手，选取表达感情的聚焦点，获得了以少的材料表达丰富感情的效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“人人心中所有，人人笔下所无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亲的所作所为、言语，都很平凡，但却具有代表性和普遍性，很容易调动读者的相同生活体验，引起共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在众多的素材中，定聚焦点为“背影”。这张“背影”就凝聚着“深深的父爱！”可谓是别出心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79280" y="1238400"/>
            <a:ext cx="874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语言朴实而简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描叙述事实，不作任何渲染、雕饰，起到真切实在的作用，一样能打动读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抒情自然而深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融感情于被写人物的言行举止、形象等中：“背影”——看、望、找、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接表露自己的感情：“流泪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自责、悔恨来反衬对父亲的思念和感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  <a:ea typeface="华文新魏"/>
              </a:rPr>
              <a:t>写作背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《背影》写于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1925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月，当时作者在清华大学任教。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1917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年冬，作者祖母去世，父亲朱鸿钧原任徐州烟酒公卖局局长，被解职。文中的“祸不单行”正是指这两件事。作者当时在北大哲学系读书，得知祖母去世，从北京赶到徐州与父亲一道回扬州奔丧。丧事完毕，父亲到南京找工作，作者回北京念书，父子在浦口车站惜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763640" y="1125360"/>
            <a:ext cx="144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练笔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4" name=""/>
          <p:cNvSpPr/>
          <p:nvPr/>
        </p:nvSpPr>
        <p:spPr>
          <a:xfrm>
            <a:off x="592200" y="2387520"/>
            <a:ext cx="7940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目自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抒写父爱或母爱及自己对父爱或母爱的感受认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模仿《背影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言朴实，情感真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上渲染和铺垫的技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87280" y="803160"/>
            <a:ext cx="6264360" cy="4354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53733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清华大学自清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6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掌握下列字词的读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964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狼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簌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游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妥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踌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奔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（       ）  琐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惦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迂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蹒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    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栅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搀    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1628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x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95640" y="1557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j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40360" y="1989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tu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1440" y="1484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213372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gu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48360" y="2565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x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32720" y="206064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chóuch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96000" y="3141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pánsh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872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tu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3068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y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3141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di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2565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sā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36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75200" y="365112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zhàl</a:t>
            </a:r>
            <a:r>
              <a:rPr b="1" lang="zh-CN" sz="3600" spc="-1" strike="noStrike">
                <a:solidFill>
                  <a:srgbClr val="cc0066"/>
                </a:solidFill>
                <a:latin typeface="宋体"/>
                <a:ea typeface="Arial"/>
              </a:rPr>
              <a:t>á</a:t>
            </a: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15440" y="4221000"/>
            <a:ext cx="7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j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97600" y="43956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预习测评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"/>
          <p:cNvSpPr/>
          <p:nvPr/>
        </p:nvSpPr>
        <p:spPr>
          <a:xfrm>
            <a:off x="4030200" y="429264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ch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00000" y="1341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华文楷体"/>
              </a:rPr>
              <a:t>差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1411200"/>
            <a:ext cx="287280" cy="27385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1280 h 2738520"/>
              <a:gd name="textAreaBottom" fmla="*/ 2667240 h 273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349360"/>
            <a:ext cx="6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Verdana"/>
              </a:rPr>
              <a:t>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需掌握的多音多义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21398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华文楷体"/>
              </a:rPr>
              <a:t>差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292428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华文楷体"/>
              </a:rPr>
              <a:t>差不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3573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华文楷体"/>
              </a:rPr>
              <a:t>参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56000" y="1268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chā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84360" y="2060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ch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2852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ch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3500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c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5800" y="11984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华文楷体"/>
              </a:rPr>
              <a:t>奔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141300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1700280"/>
            <a:ext cx="6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Verdana"/>
              </a:rPr>
              <a:t>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5800" y="1996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华文楷体"/>
              </a:rPr>
              <a:t>丧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21440" y="1125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sā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50160" y="1917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s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81800" y="38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华文楷体"/>
              </a:rPr>
              <a:t>藉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407520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4362480"/>
            <a:ext cx="6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Verdana"/>
              </a:rPr>
              <a:t>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1800" y="4659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华文楷体"/>
              </a:rPr>
              <a:t>狼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37440" y="3787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j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5800" y="4579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j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hammer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9841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辨析形近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4948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华文楷体"/>
              </a:rPr>
              <a:t>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92360" y="516240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7466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华文楷体"/>
              </a:rPr>
              <a:t>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4948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j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3280" y="58118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j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4360" y="58118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狼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51280" y="50198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籍贯、书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4080" y="22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21404"/>
                </a:solidFill>
                <a:latin typeface="Arial"/>
              </a:rPr>
              <a:t>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2070000"/>
            <a:ext cx="312840" cy="1143000"/>
          </a:xfrm>
          <a:custGeom>
            <a:avLst/>
            <a:gdLst>
              <a:gd name="textAreaLeft" fmla="*/ 199800 w 312840"/>
              <a:gd name="textAreaRight" fmla="*/ 313200 w 3128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53400" y="1692360"/>
            <a:ext cx="22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bēn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奔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35840" y="2843280"/>
            <a:ext cx="22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bèn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投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54800" y="223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1844640"/>
            <a:ext cx="215640" cy="136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106920 h 1368360"/>
              <a:gd name="textAreaBottom" fmla="*/ 1261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85760" y="1557360"/>
            <a:ext cx="19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tiē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妥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96920" y="2133720"/>
            <a:ext cx="19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ti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字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85760" y="2781360"/>
            <a:ext cx="19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tiě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请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2920" y="1422360"/>
            <a:ext cx="8893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Tahoma"/>
              </a:rPr>
              <a:t>踌躇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：犹豫。或得意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Tahoma"/>
              </a:rPr>
              <a:t>蹒跚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：腿脚不灵便，走路缓慢、摇摆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触目伤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ahoma"/>
              </a:rPr>
              <a:t>怀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：看到（家庭败落的情况）心里感到悲伤。 怀：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不能自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ahoma"/>
              </a:rPr>
              <a:t>已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：（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yǐ)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不能控制自己。 已：控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07:28:47Z</dcterms:created>
  <dc:creator>Billgates</dc:creator>
  <dc:description/>
  <dc:language>en-US</dc:language>
  <cp:lastModifiedBy>User</cp:lastModifiedBy>
  <dcterms:modified xsi:type="dcterms:W3CDTF">2014-05-07T00:28:00Z</dcterms:modified>
  <cp:revision>63</cp:revision>
  <dc:subject/>
  <dc:title>幻灯片 1</dc:title>
</cp:coreProperties>
</file>