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7.gif" ContentType="image/gif"/>
  <Override PartName="/ppt/media/image10.jpeg" ContentType="image/jpeg"/>
  <Override PartName="/ppt/media/image6.gif" ContentType="image/gif"/>
  <Override PartName="/ppt/media/image9.png" ContentType="image/png"/>
  <Override PartName="/ppt/media/projctor.wav" ContentType="audio/x-wav"/>
  <Override PartName="/ppt/media/applause.wav" ContentType="audio/x-wav"/>
  <Override PartName="/ppt/media/image13.jpeg" ContentType="image/jpeg"/>
  <Override PartName="/ppt/media/image4.png" ContentType="image/png"/>
  <Override PartName="/ppt/media/camera.wav" ContentType="audio/x-wav"/>
  <Override PartName="/ppt/media/image11.png" ContentType="image/png"/>
  <Override PartName="/ppt/media/image12.gif" ContentType="image/gif"/>
  <Override PartName="/ppt/media/image15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6.png" ContentType="image/png"/>
  <Override PartName="/ppt/media/chimes.wav" ContentType="audio/x-wav"/>
  <Override PartName="/ppt/media/image5.gif" ContentType="image/gif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8B3A-B601-4618-9CDA-0D2724C5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D36-FC39-40DA-9C27-818CA254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A05-85FF-401B-8C10-BBFAC015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46F6-55BF-4CF9-9430-6132F5DE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51A3-8DA5-4FEC-A9F6-15D265F4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94A8-855D-4D5F-A907-42F61B43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A7CA-5D40-49E3-8080-27C06D9E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0ABF-C6F8-47D1-A47A-D7720BA9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9E3A-545E-49E0-975E-2E1BC08E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54F0-B0D1-4688-976B-E0D709EC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3928-AC55-4575-B417-18509ED8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E2D-7C39-42A6-9D85-C627AD69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E29F-AA62-4586-8A95-6CD75D86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D503-3ADF-4A5B-80F4-EB0512C6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6A15-E46B-4B78-8B6E-FF38185F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24BD-CFE1-46F3-9373-6DD12FD3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C2C6-1483-46C7-A17E-34FD5130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E339-C785-4673-A7DF-1EAD8A26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296E-E360-45CD-9B8E-8F674E44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C933-78E0-4D15-90E7-50AB5422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A30-FCBF-4415-9DFC-22CF3473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A46-264E-4FDC-905F-DC3AE626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95C-59BA-4008-8764-82EAA9F1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851-2878-4A51-8086-D591D698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F7A8-8F88-4579-BBD9-F2B88A350B0B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A5C8-C9CF-4A77-AEE3-57F5E1166A2B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8.xml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2.gi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6391;&#35835;.mp3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0"/>
          <a:ext cx="9144000" cy="684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45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284000" y="549360"/>
            <a:ext cx="4507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背影</a:t>
            </a:r>
            <a:endParaRPr b="0" lang="en-US" sz="14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8240" y="2438280"/>
            <a:ext cx="2618280" cy="34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朱自清</a:t>
            </a:r>
            <a:endParaRPr b="0" lang="en-US" sz="8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276720" y="522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85069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052280"/>
            <a:ext cx="85406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背影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是一篇叙事散文，更像一首饱含深情的诗歌，想一想，这首诗歌所要表达的主题是什么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66680" y="91440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有一句话，值得大家铭记一生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2514600"/>
            <a:ext cx="659448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世界上最大的是海洋，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比海洋更大的是天空，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比天空更大的，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是父母对儿女的恩情！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056320" y="9907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拓展延伸，我成长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205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？ 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正值青春年少、豆蔻年华的同学们，你是否也曾对挚爱我们的父母任性过，也有误解过他们的爱心，请以  “</a:t>
            </a:r>
            <a:r>
              <a:rPr b="1" lang="zh-CN" sz="4000" spc="-1" strike="noStrike" u="sng">
                <a:solidFill>
                  <a:srgbClr val="3366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，我想对您说”  为开头给你的挚爱亲人写一张字条，说说自己现在最想对他或他们说的话。</a:t>
            </a:r>
            <a:r>
              <a:rPr b="0" lang="zh-CN" sz="4000" spc="-1" strike="noStrike" u="sng">
                <a:solidFill>
                  <a:srgbClr val="336600"/>
                </a:solidFill>
                <a:uFillTx/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18" name="beike" descr=""/>
          <p:cNvPicPr/>
          <p:nvPr/>
        </p:nvPicPr>
        <p:blipFill>
          <a:blip r:embed="rId2"/>
          <a:stretch/>
        </p:blipFill>
        <p:spPr>
          <a:xfrm>
            <a:off x="7162920" y="838080"/>
            <a:ext cx="152388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404640"/>
            <a:ext cx="393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教师寄语：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413000"/>
            <a:ext cx="85914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华文中宋"/>
              </a:rPr>
              <a:t>一个不懂得享受爱的人，他的良知是苍白的；一个不懂得回报爱的人，他的情感是自私的。          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华文中宋"/>
              </a:rPr>
              <a:t>父母的爱很平常，也很实在：也许只是一个眼神，也许只是一句叮咛，也许只是早餐时装在你书包里的一盒牛奶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华文中宋"/>
              </a:rPr>
              <a:t>······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华文中宋"/>
              </a:rPr>
              <a:t>但父母的爱也很伟大，值得我们去感恩。大家不妨试着在父母疲倦时端上一杯热茶，在餐桌上给他们夹一次菜，在他们工作之余给他们捶捶背、揉揉肩……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87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321172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</a:rPr>
              <a:t>课堂小结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5680" y="2588760"/>
            <a:ext cx="624528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我的收获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课堂观察员总结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2060640"/>
            <a:ext cx="8540640" cy="38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达标检测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475920"/>
            <a:ext cx="8540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课下积累诗一首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836640"/>
            <a:ext cx="85406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写给父亲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都说风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能让石头吹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都说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能将钢铁锈蚀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都说岁月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能把你的脊梁压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惟有你的意志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百折不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千磨不变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挑起全家老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一生的重量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057400" y="1143000"/>
            <a:ext cx="38862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再见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5486400" y="228600"/>
            <a:ext cx="17334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2362320"/>
            <a:ext cx="7467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　</a:t>
            </a:r>
            <a:r>
              <a:rPr b="0" lang="zh-CN" sz="3600" spc="-1" strike="noStrike">
                <a:solidFill>
                  <a:srgbClr val="3399ff"/>
                </a:solidFill>
                <a:latin typeface="Arial"/>
                <a:ea typeface="华文新魏"/>
              </a:rPr>
              <a:t>　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我与父亲是在怎样的背景下见面的？请从文中找出写见面背景的句子．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　　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4648320"/>
            <a:ext cx="59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楷体_GB2312"/>
              </a:rPr>
              <a:t>祖母去世　父亲失业　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楷体_GB2312"/>
              </a:rPr>
              <a:t>　　家境惨淡　父子离别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52040" y="1001880"/>
            <a:ext cx="358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整体感知   理清文脉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5410080"/>
            <a:ext cx="77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2096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华文行楷"/>
                <a:ea typeface="华文行楷"/>
              </a:rPr>
              <a:t>    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背影在文章中共出现了几次？请从课文中圈画出来．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5480" y="10018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黑体"/>
              </a:rPr>
              <a:t>质疑探究、精心赏析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16880" y="441468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黑体"/>
              </a:rPr>
              <a:t>&lt;2&gt;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黑体"/>
              </a:rPr>
              <a:t>刻画背影</a:t>
            </a:r>
            <a:r>
              <a:rPr b="1" lang="zh-CN" sz="4000" spc="-1" strike="noStrike">
                <a:solidFill>
                  <a:srgbClr val="336600"/>
                </a:solidFill>
                <a:latin typeface="黑体"/>
                <a:ea typeface="黑体"/>
              </a:rPr>
              <a:t>（望父买橘）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16880" y="51735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黑体"/>
              </a:rPr>
              <a:t>&lt;3&gt;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黑体"/>
              </a:rPr>
              <a:t>惜别背影</a:t>
            </a:r>
            <a:r>
              <a:rPr b="1" lang="zh-CN" sz="4000" spc="-1" strike="noStrike">
                <a:solidFill>
                  <a:srgbClr val="336600"/>
                </a:solidFill>
                <a:latin typeface="黑体"/>
                <a:ea typeface="黑体"/>
              </a:rPr>
              <a:t>（父子分手）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16880" y="593244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黑体"/>
              </a:rPr>
              <a:t>&lt;4&gt;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黑体"/>
              </a:rPr>
              <a:t>再现背影</a:t>
            </a:r>
            <a:r>
              <a:rPr b="1" lang="zh-CN" sz="4000" spc="-1" strike="noStrike">
                <a:solidFill>
                  <a:srgbClr val="336600"/>
                </a:solidFill>
                <a:latin typeface="黑体"/>
                <a:ea typeface="黑体"/>
              </a:rPr>
              <a:t>（别后怀念）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16880" y="365760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黑体"/>
              </a:rPr>
              <a:t>&lt;1&gt;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黑体"/>
              </a:rPr>
              <a:t>惦记背影</a:t>
            </a:r>
            <a:r>
              <a:rPr b="1" lang="zh-CN" sz="4000" spc="-1" strike="noStrike">
                <a:solidFill>
                  <a:srgbClr val="336600"/>
                </a:solidFill>
                <a:latin typeface="黑体"/>
                <a:ea typeface="黑体"/>
              </a:rPr>
              <a:t>（思念父亲）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842120" y="1041480"/>
            <a:ext cx="21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00"/>
                </a:solidFill>
                <a:latin typeface="Times New Roman"/>
                <a:ea typeface="黑体"/>
              </a:rPr>
              <a:t>学 习 目 标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495680" y="914400"/>
            <a:ext cx="1200240" cy="993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52480" cy="1690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445520" y="0"/>
            <a:ext cx="1698480" cy="1638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2492280"/>
            <a:ext cx="859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朗读课文，识记字词及文学常识，整体感知课文内容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学习本文抓住人物形象的一个特征－－“背影”，在特定的环境下进行细致描写的特点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感受父子情深，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体会父爱的深沉与伟大，珍爱亲情，学会关爱他人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2971800"/>
            <a:ext cx="77389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260000"/>
                </a:solidFill>
                <a:latin typeface="楷体_GB2312"/>
                <a:ea typeface="楷体_GB2312"/>
              </a:rPr>
              <a:t>不是，朴素的言语中往往含有深挚的爱；平淡的话语里往往有不平静的心情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6e73"/>
                </a:solidFill>
                <a:latin typeface="方正琥珀简体"/>
                <a:ea typeface="黑体"/>
              </a:rPr>
              <a:t>送你一句名言：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黑体"/>
              </a:rPr>
              <a:t>真理是朴素的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5480" y="10018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黑体"/>
              </a:rPr>
              <a:t>质疑探究、精心赏析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4724280"/>
            <a:ext cx="8076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572"/>
                </a:solidFill>
                <a:latin typeface="黑体"/>
                <a:ea typeface="黑体"/>
              </a:rPr>
              <a:t>    </a:t>
            </a:r>
            <a:r>
              <a:rPr b="1" lang="zh-CN" sz="3700" spc="-1" strike="noStrike">
                <a:solidFill>
                  <a:srgbClr val="007572"/>
                </a:solidFill>
                <a:latin typeface="黑体"/>
                <a:ea typeface="黑体"/>
              </a:rPr>
              <a:t>这</a:t>
            </a:r>
            <a:r>
              <a:rPr b="1" lang="zh-CN" sz="3700" spc="-1" strike="noStrike">
                <a:solidFill>
                  <a:srgbClr val="007572"/>
                </a:solidFill>
                <a:latin typeface="黑体"/>
                <a:ea typeface="黑体"/>
              </a:rPr>
              <a:t>4</a:t>
            </a:r>
            <a:r>
              <a:rPr b="1" lang="zh-CN" sz="3700" spc="-1" strike="noStrike">
                <a:solidFill>
                  <a:srgbClr val="007572"/>
                </a:solidFill>
                <a:latin typeface="黑体"/>
                <a:ea typeface="黑体"/>
              </a:rPr>
              <a:t>句朴实而简洁的话包含着父亲怎样的深情？请具体说明。</a:t>
            </a:r>
            <a:endParaRPr b="0" lang="en-US" sz="37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4200" y="2492280"/>
            <a:ext cx="806580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7572"/>
                </a:solidFill>
                <a:latin typeface="黑体"/>
                <a:ea typeface="黑体"/>
              </a:rPr>
              <a:t>不要紧，他们去不好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父亲当时急于谋事，在生存的巨大压力之下，忧心如焚，但是儿子在他心目中高于一切，惟恐儿子路上有什么闪失，所以最后决定还是由自己亲自送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75480" y="10018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黑体"/>
              </a:rPr>
              <a:t>质疑探究、精心赏析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22096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572"/>
                </a:solidFill>
                <a:latin typeface="宋体"/>
                <a:ea typeface="黑体"/>
              </a:rPr>
              <a:t>②</a:t>
            </a:r>
            <a:r>
              <a:rPr b="1" lang="zh-CN" sz="3700" spc="-1" strike="noStrike">
                <a:solidFill>
                  <a:srgbClr val="007572"/>
                </a:solidFill>
                <a:latin typeface="宋体"/>
                <a:ea typeface="黑体"/>
              </a:rPr>
              <a:t>我买几个橘子去。你就在此地，不要走动。</a:t>
            </a:r>
            <a:endParaRPr b="0" lang="en-US" sz="37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276720"/>
            <a:ext cx="8381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黑体"/>
              </a:rPr>
              <a:t>—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—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父亲已经把儿子送上车，已经关照得无微不至，儿子也劝父亲可以走了，而父亲还觉得没有尽够心意，看见站上有卖橘子的，便要去给儿子买橘子。过铁道不容易，自己受点累，能让儿子受用，他是心甘情愿的。他还生怕儿子跟着出来，忘了行李。父亲的关怀真是无微不至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75480" y="10018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黑体"/>
              </a:rPr>
              <a:t>质疑探究、精心赏析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62120" y="236232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③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我走了，到那边来信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!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31240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663300"/>
                </a:solidFill>
                <a:latin typeface="黑体"/>
                <a:ea typeface="黑体"/>
              </a:rPr>
              <a:t>惦念路途平安，要等到儿子回到北京来信报平安，才能放心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434340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572"/>
                </a:solidFill>
                <a:latin typeface="宋体"/>
                <a:ea typeface="黑体"/>
              </a:rPr>
              <a:t>④</a:t>
            </a:r>
            <a:r>
              <a:rPr b="1" lang="zh-CN" sz="3700" spc="-1" strike="noStrike">
                <a:solidFill>
                  <a:srgbClr val="007572"/>
                </a:solidFill>
                <a:latin typeface="宋体"/>
                <a:ea typeface="黑体"/>
              </a:rPr>
              <a:t>进去吧，里边没人。</a:t>
            </a:r>
            <a:endParaRPr b="0" lang="en-US" sz="37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5029200"/>
            <a:ext cx="7543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走了几步就回头，可见心里还是惦记着儿子，依依不舍。又想到儿子所带的行李，叫儿子小心，什么都为儿子着想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75480" y="10018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黑体"/>
              </a:rPr>
              <a:t>质疑探究、精心赏析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96080" y="182880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返回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5410080"/>
            <a:ext cx="77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22860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华文行楷"/>
                <a:ea typeface="华文行楷"/>
              </a:rPr>
              <a:t>   </a:t>
            </a:r>
            <a:r>
              <a:rPr b="1" lang="zh-CN" sz="4400" spc="-1" strike="noStrike">
                <a:solidFill>
                  <a:srgbClr val="ff3399"/>
                </a:solidFill>
                <a:latin typeface="华文行楷"/>
                <a:ea typeface="华文行楷"/>
              </a:rPr>
              <a:t>《背影》中作者流了几次泪？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57913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辛酸的泪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75480" y="10018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黑体"/>
              </a:rPr>
              <a:t>质疑探究、精心赏析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5867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  <a:ea typeface="黑体"/>
              </a:rPr>
              <a:t>再现背影</a:t>
            </a:r>
            <a:r>
              <a:rPr b="1" lang="zh-CN" sz="3600" spc="-1" strike="noStrike">
                <a:solidFill>
                  <a:srgbClr val="007572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7572"/>
                </a:solidFill>
                <a:latin typeface="Times New Roman"/>
                <a:ea typeface="黑体"/>
              </a:rPr>
              <a:t>泪光莹莹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65760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  <a:ea typeface="黑体"/>
              </a:rPr>
              <a:t>见父亲</a:t>
            </a:r>
            <a:r>
              <a:rPr b="1" lang="zh-CN" sz="3600" spc="-1" strike="noStrike">
                <a:solidFill>
                  <a:srgbClr val="007572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7572"/>
                </a:solidFill>
                <a:latin typeface="Times New Roman"/>
                <a:ea typeface="黑体"/>
              </a:rPr>
              <a:t>睹家境</a:t>
            </a:r>
            <a:r>
              <a:rPr b="1" lang="zh-CN" sz="3600" spc="-1" strike="noStrike">
                <a:solidFill>
                  <a:srgbClr val="007572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7572"/>
                </a:solidFill>
                <a:latin typeface="Times New Roman"/>
                <a:ea typeface="黑体"/>
              </a:rPr>
              <a:t>想祖母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72120" y="3657600"/>
            <a:ext cx="206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难过的泪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84280" y="4495680"/>
            <a:ext cx="298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  <a:ea typeface="黑体"/>
              </a:rPr>
              <a:t>望父亲买橘</a:t>
            </a:r>
            <a:r>
              <a:rPr b="1" lang="zh-CN" sz="3600" spc="-1" strike="noStrike">
                <a:solidFill>
                  <a:srgbClr val="007572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7572"/>
                </a:solidFill>
                <a:latin typeface="Times New Roman"/>
                <a:ea typeface="黑体"/>
              </a:rPr>
              <a:t>父子离别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72120" y="4572000"/>
            <a:ext cx="20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感激的泪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93720" y="51814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  <a:ea typeface="黑体"/>
              </a:rPr>
              <a:t>背影远去，依依惜别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56280" y="5121360"/>
            <a:ext cx="206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惜别的泪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620120" y="533520"/>
            <a:ext cx="1349280" cy="185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6680" y="91440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有一句话，值得你铭记一生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514600"/>
            <a:ext cx="659448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世界上最大的是海洋，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比海洋更大的是天空，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比天空更大的，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是父母对儿女的恩情！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05720" y="990720"/>
            <a:ext cx="342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情感迁移  感受深情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249228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青春年少，我们也曾对挚爱我们的父母任性过也有误解过他们的爱心，请以  “</a:t>
            </a:r>
            <a:r>
              <a:rPr b="1" lang="zh-CN" sz="4000" spc="-1" strike="noStrike" u="sng">
                <a:solidFill>
                  <a:srgbClr val="3366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我想对您说”  为开头给你的亲人写一张字条。</a:t>
            </a:r>
            <a:r>
              <a:rPr b="0" lang="zh-CN" sz="4000" spc="-1" strike="noStrike" u="sng">
                <a:solidFill>
                  <a:srgbClr val="336600"/>
                </a:solidFill>
                <a:uFillTx/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70" name="beike" descr=""/>
          <p:cNvPicPr/>
          <p:nvPr/>
        </p:nvPicPr>
        <p:blipFill>
          <a:blip r:embed="rId2"/>
          <a:stretch/>
        </p:blipFill>
        <p:spPr>
          <a:xfrm>
            <a:off x="7162920" y="838080"/>
            <a:ext cx="152388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66680" y="9144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结束语：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209680"/>
            <a:ext cx="81532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华文中宋"/>
              </a:rPr>
              <a:t>一个不懂得享受爱的人，他的良知是苍白的；一个不懂得回报爱的人，他的情感是自私的。          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华文中宋"/>
              </a:rPr>
              <a:t>父母的爱很平常，也很实在：也许只是一个眼神，也许只是一句叮咛，也许只是早餐时装在你书包里的一盒牛奶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华文中宋"/>
              </a:rPr>
              <a:t>······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华文中宋"/>
              </a:rPr>
              <a:t>但父母的爱也很伟大，值得我们去感恩。大家不妨试着在父母疲倦时端上一杯热茶，在餐桌上给他们夹一次菜，在他们工作之余给他们捶捶背、揉揉肩……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79320" y="6172200"/>
            <a:ext cx="1553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66"/>
                </a:solidFill>
                <a:uFillTx/>
                <a:latin typeface="Times New Roman"/>
                <a:ea typeface="华文中宋"/>
                <a:hlinkClick r:id="rId2" action="ppaction://hlinksldjump"/>
              </a:rPr>
              <a:t>（音乐欣赏 ）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987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321172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60440" y="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懂    你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533520"/>
            <a:ext cx="40388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你静静的离去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一步一步孤独的背影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多想伴着你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告诉你我其实多么的爱你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花静静的绽放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在我忽然想你的夜里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多想告诉你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其实你一直都是我的奇迹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一年一年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风霜遮盖了笑脸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你寂寞的心有谁还能够体会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是不是春花秋月无情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春去秋来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你的爱已无声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把爱全给了我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把世界给了我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从此不知你心中苦与乐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多想靠近你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告诉你我其实一直都懂你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把爱全给了我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把世界给了我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从此不知你心中苦与乐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多想靠近你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98640" y="5295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歌曲欣赏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98400" y="457200"/>
            <a:ext cx="21952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依偎在你温暖寂寞的怀里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花静静的绽放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在我忽然想你的夜里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多想靠近你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告诉你其实我一直都懂你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一年一年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风霜遮盖了笑脸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你寂寞的心有谁还能够体会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是不是春花秋月无情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春去秋来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你的爱已无声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把爱全给了我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把世界给了我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从此不知你心中苦与乐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多想靠近你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告诉你其实我一直都懂你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把爱全给了我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把世界给了我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从此不知你心中苦与乐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多想靠近你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依偎在你温暖寂寞的怀里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多想告诉你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你的寂寞我的心痛在一起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8305920" y="15228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8534520" y="312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2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13712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c0c0"/>
                </a:solidFill>
                <a:latin typeface="Arial"/>
              </a:rPr>
              <a:t>话  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219320"/>
            <a:ext cx="4800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"/>
              </a:rPr>
              <a:t>敞 开 你 的 心 扉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2860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在你的人生经历中，你的父母肯定给予了你许许多多的关爱。也许是一声轻轻的叮咛，也许是一次倾心的谈话，也许是一份特殊的礼物，也许是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······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想一想，其中的哪件事最令你感动，说出来与大家交流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cc0000"/>
                </a:solidFill>
                <a:latin typeface="Arial"/>
              </a:rPr>
              <a:t>预习展示：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2265120"/>
            <a:ext cx="8540640" cy="36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我所了解的作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我所知道的相关背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我所积累的字词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1297080"/>
            <a:ext cx="33526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 者 简 介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82680" y="1981080"/>
            <a:ext cx="3246480" cy="3886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495680" y="2378160"/>
            <a:ext cx="434340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c3302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4c3302"/>
                </a:solidFill>
                <a:latin typeface="黑体"/>
                <a:ea typeface="黑体"/>
              </a:rPr>
              <a:t>朱自清</a:t>
            </a:r>
            <a:r>
              <a:rPr b="1" lang="zh-CN" sz="2000" spc="-1" strike="noStrike">
                <a:solidFill>
                  <a:srgbClr val="4c3302"/>
                </a:solidFill>
                <a:latin typeface="黑体"/>
                <a:ea typeface="黑体"/>
              </a:rPr>
              <a:t>(1898</a:t>
            </a:r>
            <a:r>
              <a:rPr b="1" lang="zh-CN" sz="2000" spc="-1" strike="noStrike">
                <a:solidFill>
                  <a:srgbClr val="4c3302"/>
                </a:solidFill>
                <a:latin typeface="黑体"/>
                <a:ea typeface="黑体"/>
              </a:rPr>
              <a:t>－</a:t>
            </a:r>
            <a:r>
              <a:rPr b="1" lang="zh-CN" sz="2000" spc="-1" strike="noStrike">
                <a:solidFill>
                  <a:srgbClr val="4c3302"/>
                </a:solidFill>
                <a:latin typeface="黑体"/>
                <a:ea typeface="黑体"/>
              </a:rPr>
              <a:t>1948),</a:t>
            </a:r>
            <a:r>
              <a:rPr b="1" lang="zh-CN" sz="2000" spc="-1" strike="noStrike">
                <a:solidFill>
                  <a:srgbClr val="4c3302"/>
                </a:solidFill>
                <a:latin typeface="黑体"/>
                <a:ea typeface="黑体"/>
              </a:rPr>
              <a:t>字佩弦，江苏省扬州市人</a:t>
            </a:r>
            <a:r>
              <a:rPr b="1" lang="zh-CN" sz="2000" spc="-1" strike="noStrike">
                <a:solidFill>
                  <a:srgbClr val="4c3302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7d7da9"/>
                </a:solidFill>
                <a:latin typeface="黑体"/>
                <a:ea typeface="黑体"/>
              </a:rPr>
              <a:t>散文家、诗人、学者、民主战士。</a:t>
            </a:r>
            <a:r>
              <a:rPr b="1" lang="zh-CN" sz="2000" spc="-1" strike="noStrike">
                <a:solidFill>
                  <a:srgbClr val="4c3302"/>
                </a:solidFill>
                <a:latin typeface="黑体"/>
                <a:ea typeface="黑体"/>
              </a:rPr>
              <a:t>有诗文集</a:t>
            </a:r>
            <a:r>
              <a:rPr b="1" lang="zh-CN" sz="2000" spc="-1" strike="noStrike">
                <a:solidFill>
                  <a:srgbClr val="4c3302"/>
                </a:solidFill>
                <a:latin typeface="Times New Roman"/>
                <a:ea typeface="黑体"/>
              </a:rPr>
              <a:t>《踪迹》、《欧旅杂记》</a:t>
            </a:r>
            <a:r>
              <a:rPr b="1" lang="zh-CN" sz="2000" spc="-1" strike="noStrike">
                <a:solidFill>
                  <a:srgbClr val="4c3302"/>
                </a:solidFill>
                <a:latin typeface="Times New Roman"/>
                <a:ea typeface="黑体"/>
              </a:rPr>
              <a:t>,</a:t>
            </a:r>
            <a:r>
              <a:rPr b="1" lang="zh-CN" sz="2000" spc="-1" strike="noStrike">
                <a:solidFill>
                  <a:srgbClr val="4c3302"/>
                </a:solidFill>
                <a:latin typeface="Times New Roman"/>
                <a:ea typeface="黑体"/>
              </a:rPr>
              <a:t>以及一些文艺论著，收在《</a:t>
            </a:r>
            <a:r>
              <a:rPr b="1" lang="zh-CN" sz="2000" spc="-1" strike="noStrike">
                <a:solidFill>
                  <a:srgbClr val="4c3302"/>
                </a:solidFill>
                <a:latin typeface="黑体"/>
                <a:ea typeface="黑体"/>
              </a:rPr>
              <a:t>朱自清文集</a:t>
            </a:r>
            <a:r>
              <a:rPr b="1" lang="zh-CN" sz="2000" spc="-1" strike="noStrike">
                <a:solidFill>
                  <a:srgbClr val="4c3302"/>
                </a:solidFill>
                <a:latin typeface="Times New Roman"/>
                <a:ea typeface="黑体"/>
              </a:rPr>
              <a:t>》里 </a:t>
            </a:r>
            <a:r>
              <a:rPr b="1" lang="zh-CN" sz="2000" spc="-1" strike="noStrike">
                <a:solidFill>
                  <a:srgbClr val="4c3302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7572"/>
                </a:solidFill>
                <a:latin typeface="Times New Roman"/>
                <a:ea typeface="黑体"/>
              </a:rPr>
              <a:t>《背影》是</a:t>
            </a:r>
            <a:r>
              <a:rPr b="1" lang="zh-CN" sz="2000" spc="-1" strike="noStrike">
                <a:solidFill>
                  <a:srgbClr val="7d7da9"/>
                </a:solidFill>
                <a:latin typeface="Times New Roman"/>
                <a:ea typeface="黑体"/>
              </a:rPr>
              <a:t>记实</a:t>
            </a:r>
            <a:r>
              <a:rPr b="1" lang="zh-CN" sz="2000" spc="-1" strike="noStrike">
                <a:solidFill>
                  <a:srgbClr val="007572"/>
                </a:solidFill>
                <a:latin typeface="Times New Roman"/>
                <a:ea typeface="黑体"/>
              </a:rPr>
              <a:t>散文，写于</a:t>
            </a:r>
            <a:r>
              <a:rPr b="1" lang="zh-CN" sz="2000" spc="-1" strike="noStrike">
                <a:solidFill>
                  <a:srgbClr val="007572"/>
                </a:solidFill>
                <a:latin typeface="Times New Roman"/>
                <a:ea typeface="黑体"/>
              </a:rPr>
              <a:t>1925</a:t>
            </a:r>
            <a:r>
              <a:rPr b="1" lang="zh-CN" sz="2000" spc="-1" strike="noStrike">
                <a:solidFill>
                  <a:srgbClr val="007572"/>
                </a:solidFill>
                <a:latin typeface="Times New Roman"/>
                <a:ea typeface="黑体"/>
              </a:rPr>
              <a:t>年</a:t>
            </a:r>
            <a:r>
              <a:rPr b="1" lang="zh-CN" sz="2000" spc="-1" strike="noStrike">
                <a:solidFill>
                  <a:srgbClr val="007572"/>
                </a:solidFill>
                <a:latin typeface="黑体"/>
                <a:ea typeface="黑体"/>
              </a:rPr>
              <a:t>。作者曾说：“我写</a:t>
            </a:r>
            <a:r>
              <a:rPr b="1" lang="zh-CN" sz="2000" spc="-1" strike="noStrike">
                <a:solidFill>
                  <a:srgbClr val="007572"/>
                </a:solidFill>
                <a:latin typeface="Times New Roman"/>
                <a:ea typeface="黑体"/>
              </a:rPr>
              <a:t>《背影》，就因为文中所引的父亲的来信那句话</a:t>
            </a:r>
            <a:r>
              <a:rPr b="1" lang="zh-CN" sz="2000" spc="-1" strike="noStrike">
                <a:solidFill>
                  <a:srgbClr val="007572"/>
                </a:solidFill>
                <a:latin typeface="黑体"/>
                <a:ea typeface="黑体"/>
              </a:rPr>
              <a:t>。当时读了父亲的信，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572"/>
                </a:solidFill>
                <a:latin typeface="黑体"/>
                <a:ea typeface="黑体"/>
              </a:rPr>
              <a:t>真是泪如泉涌。我父亲待我的许多好处，特别是</a:t>
            </a:r>
            <a:r>
              <a:rPr b="1" lang="zh-CN" sz="2000" spc="-1" strike="noStrike">
                <a:solidFill>
                  <a:srgbClr val="007572"/>
                </a:solidFill>
                <a:latin typeface="Times New Roman"/>
                <a:ea typeface="黑体"/>
              </a:rPr>
              <a:t>《背影》里所叙述的那一回，想起来跟眼前一般无二</a:t>
            </a:r>
            <a:r>
              <a:rPr b="1" lang="zh-CN" sz="2000" spc="-1" strike="noStrike">
                <a:solidFill>
                  <a:srgbClr val="007572"/>
                </a:solidFill>
                <a:latin typeface="黑体"/>
                <a:ea typeface="黑体"/>
              </a:rPr>
              <a:t>。我这篇文只是写实，……”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43000" y="685800"/>
            <a:ext cx="35053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楷体_GB2312"/>
              </a:rPr>
              <a:t>写作背景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2666880"/>
            <a:ext cx="7620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d7da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《背影》写于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月，当时作者在清华大学任教。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917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年冬，作者祖母去世，父亲朱鸿钧原任徐州烟酒公卖局局长，被解职。文中的“祸不单行”正是指这两件事。作者当时在北大哲学系读书，得知祖母去世，从北京赶到徐州与父亲一道回扬州奔丧。丧事完毕，父亲到南京找工作，作者回北京念书，父子在浦口车站惜别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91" name="beike" descr=""/>
          <p:cNvPicPr/>
          <p:nvPr/>
        </p:nvPicPr>
        <p:blipFill>
          <a:blip r:embed="rId2"/>
          <a:stretch/>
        </p:blipFill>
        <p:spPr>
          <a:xfrm>
            <a:off x="4038480" y="762120"/>
            <a:ext cx="152424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47200" y="2535120"/>
            <a:ext cx="813780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隶书"/>
                <a:ea typeface="隶书"/>
              </a:rPr>
              <a:t>１、听课文录音 。</a:t>
            </a:r>
            <a:r>
              <a:rPr b="0" lang="zh-CN" sz="4400" spc="-1" strike="noStrike" u="sng">
                <a:solidFill>
                  <a:srgbClr val="cc0066"/>
                </a:solidFill>
                <a:uFillTx/>
                <a:latin typeface="隶书"/>
                <a:ea typeface="隶书"/>
                <a:hlinkClick r:id="rId2"/>
              </a:rPr>
              <a:t>《背影》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隶书"/>
                <a:ea typeface="隶书"/>
              </a:rPr>
              <a:t> </a:t>
            </a:r>
            <a:r>
              <a:rPr b="1" lang="zh-CN" sz="4400" spc="-1" strike="noStrike">
                <a:solidFill>
                  <a:srgbClr val="0066ff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66ff"/>
                </a:solidFill>
                <a:latin typeface="隶书"/>
                <a:ea typeface="隶书"/>
              </a:rPr>
              <a:t>、用自己喜欢的方式有感情地朗读课文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2040" y="1001880"/>
            <a:ext cx="358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整体感知   理清文脉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66680" y="2590920"/>
            <a:ext cx="709308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　</a:t>
            </a:r>
            <a:r>
              <a:rPr b="0" lang="zh-CN" sz="4800" spc="-1" strike="noStrike">
                <a:solidFill>
                  <a:srgbClr val="33cc33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这篇文章记叙的主要事件是什么？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4572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华文行楷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两年前作者奔丧完毕，父子在浦口依依惜别的情景．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52040" y="1001880"/>
            <a:ext cx="358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整体感知   理清文脉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38080" y="3809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这篇文章以什么为线索？ 主要写谁？  反映的主题是什么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39280" y="990720"/>
            <a:ext cx="358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整体感知   理清文脉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172200" y="2743200"/>
            <a:ext cx="1828800" cy="914400"/>
            <a:chOff x="6172200" y="2743200"/>
            <a:chExt cx="1828800" cy="914400"/>
          </a:xfrm>
        </p:grpSpPr>
        <p:sp>
          <p:nvSpPr>
            <p:cNvPr id="200" name=""/>
            <p:cNvSpPr/>
            <p:nvPr/>
          </p:nvSpPr>
          <p:spPr>
            <a:xfrm>
              <a:off x="6172200" y="2743200"/>
              <a:ext cx="1828800" cy="9144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77120" y="2819520"/>
              <a:ext cx="121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背影</a:t>
              </a:r>
              <a:endParaRPr b="0" lang="en-US" sz="4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00200" y="5257800"/>
            <a:ext cx="2819520" cy="1066680"/>
            <a:chOff x="1600200" y="5257800"/>
            <a:chExt cx="2819520" cy="1066680"/>
          </a:xfrm>
        </p:grpSpPr>
        <p:sp>
          <p:nvSpPr>
            <p:cNvPr id="203" name=""/>
            <p:cNvSpPr/>
            <p:nvPr/>
          </p:nvSpPr>
          <p:spPr>
            <a:xfrm>
              <a:off x="1600200" y="5257800"/>
              <a:ext cx="2819520" cy="1066680"/>
            </a:xfrm>
            <a:prstGeom prst="wedgeRoundRectCallout">
              <a:avLst>
                <a:gd name="adj1" fmla="val -47805"/>
                <a:gd name="adj2" fmla="val -76486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28800" y="5410080"/>
              <a:ext cx="244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我的父亲</a:t>
              </a:r>
              <a:endParaRPr b="0" lang="en-US" sz="4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638680" y="5181480"/>
            <a:ext cx="2971800" cy="1295640"/>
            <a:chOff x="5638680" y="5181480"/>
            <a:chExt cx="2971800" cy="1295640"/>
          </a:xfrm>
        </p:grpSpPr>
        <p:sp>
          <p:nvSpPr>
            <p:cNvPr id="206" name=""/>
            <p:cNvSpPr/>
            <p:nvPr/>
          </p:nvSpPr>
          <p:spPr>
            <a:xfrm>
              <a:off x="5638680" y="5181480"/>
              <a:ext cx="2971800" cy="1295640"/>
            </a:xfrm>
            <a:prstGeom prst="cloudCallout">
              <a:avLst>
                <a:gd name="adj1" fmla="val -79805"/>
                <a:gd name="adj2" fmla="val -63726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24480" y="548640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父爱</a:t>
              </a:r>
              <a:endParaRPr b="0" lang="en-US" sz="4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38080" y="2362320"/>
            <a:ext cx="77709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华文行楷"/>
                <a:ea typeface="华文行楷"/>
              </a:rPr>
              <a:t>　　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你认为哪个背影最感人，最能体现父亲对儿子真挚的爱？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75480" y="10018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黑体"/>
              </a:rPr>
              <a:t>质疑探究、精心赏析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00"/>
                </a:solidFill>
                <a:latin typeface="Arial"/>
              </a:rPr>
              <a:t>整体感知，我把握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用自己喜欢的方式有感情地朗读课文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提示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不动笔墨不读书，边读边做批注，把握记叙的要素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这篇文章主要记叙的事件是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（备注：可以用一句完整条理的话表述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、读完本文，我最初的感受是什么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（小提示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可结合文中具体语句、段，说一说。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</a:rPr>
              <a:t>研读揣摩，阳光展示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？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我与父亲是在怎样的背景下见面的？请从文中找出写见面背景的句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背影这一形象在文章中共出现了几次？请从课文中圈画出来，与大家交流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1052640"/>
            <a:ext cx="85406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33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你认为哪个背影最为感人，最能体现父亲对儿子真挚的爱？运用哪些表现手法体现的？找出相关语句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cc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（温馨提示：可以用“我认为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-------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句，用了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-----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的描写方法，表现父亲的。”的句式。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993600"/>
            <a:ext cx="8370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方正琥珀简体"/>
              </a:rPr>
              <a:t>这段动词运用的准确精当，请根据课文填空：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　　我看见他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　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着黑布小帽，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　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着黑布大马褂，深青布棉袍，蹒跚地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　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到铁道边，慢慢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　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身下去，尚不大难。可是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　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过铁道，要 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　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上那边月台，就不容易了。他用两手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　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着上面，两脚再向上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　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；他肥胖的身子向左微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　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显出努力的样子，这时我看见他的背影，我的泪很快地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　　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下来了。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09960" y="15638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戴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94320" y="15638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穿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21398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走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257184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探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80360" y="256536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穿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49560" y="3075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爬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78000" y="357336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攀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10240" y="35733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缩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56000" y="4011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倾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62680" y="4581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流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981000"/>
            <a:ext cx="8351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 请找出父亲送儿子上车的过程说的四句话，并体会它所含的意思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黑体"/>
                <a:ea typeface="黑体"/>
              </a:rPr>
              <a:t>&lt;1&gt;</a:t>
            </a:r>
            <a:r>
              <a:rPr b="1" lang="zh-CN" sz="2800" spc="-1" strike="noStrike">
                <a:solidFill>
                  <a:srgbClr val="336600"/>
                </a:solidFill>
                <a:latin typeface="Tahoma"/>
                <a:ea typeface="黑体"/>
              </a:rPr>
              <a:t>不要紧，他们去不好！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黑体"/>
                <a:ea typeface="黑体"/>
              </a:rPr>
              <a:t>&lt;2&gt;</a:t>
            </a:r>
            <a:r>
              <a:rPr b="1" lang="zh-CN" sz="2800" spc="-1" strike="noStrike">
                <a:solidFill>
                  <a:srgbClr val="336600"/>
                </a:solidFill>
                <a:latin typeface="Tahoma"/>
                <a:ea typeface="黑体"/>
              </a:rPr>
              <a:t>我买几个橘子去。你就在此地，不要走动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黑体"/>
                <a:ea typeface="黑体"/>
              </a:rPr>
              <a:t>&lt;3&gt;</a:t>
            </a:r>
            <a:r>
              <a:rPr b="1" lang="zh-CN" sz="2800" spc="-1" strike="noStrike">
                <a:solidFill>
                  <a:srgbClr val="336600"/>
                </a:solidFill>
                <a:latin typeface="Tahoma"/>
                <a:ea typeface="黑体"/>
              </a:rPr>
              <a:t>我走了，到那边来信！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黑体"/>
                <a:ea typeface="黑体"/>
              </a:rPr>
              <a:t>&lt;4&gt;</a:t>
            </a:r>
            <a:r>
              <a:rPr b="1" lang="zh-CN" sz="2800" spc="-1" strike="noStrike">
                <a:solidFill>
                  <a:srgbClr val="336600"/>
                </a:solidFill>
                <a:latin typeface="Tahoma"/>
                <a:ea typeface="黑体"/>
              </a:rPr>
              <a:t>进去吧，里边没人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076640"/>
            <a:ext cx="8229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7572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黑体"/>
              </a:rPr>
              <a:t>这四句话都很简短，意思也很平常。这样简短平常的话是否缺乏感情？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9-14T08:21:04Z</dcterms:modified>
  <cp:revision>85</cp:revision>
  <dc:subject/>
  <dc:title>PowerPoint Presentation</dc:title>
</cp:coreProperties>
</file>