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5621-0785-4523-9123-372A3B5F7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1EF8-3992-4C46-928A-5EB97B6F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F45A-D3EF-4539-953F-FDDFFACBD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BCCB-B8B6-4393-83EF-7577B5EEC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D131-C9C6-4873-B202-98CF6A787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2966-E851-48F9-917E-8EFE0EDB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2153-BD37-4AAE-9EC5-BCC5E894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4DD9-7F4D-4F45-B4F7-FFD2EC10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5344-BEF1-4B01-8DDA-EF9C8E30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4B462-5C95-4A4D-B2FC-554EA5A9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35D4-BECF-42D4-9650-C70CDE30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3776-7527-43B4-B094-C7D3336E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345E-B86E-410B-8D27-68498200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57B0-FF42-4BFE-A32A-0B31E1F7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436D-3A35-4649-A9EE-EB701DE7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1FA7-D9D5-4D4E-BD9E-46371DCB1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5187-45F5-4006-B159-EA1D38EBA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51CE-D480-4472-B56F-3DE5D5EF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B506-EBEE-48ED-BE86-22AAE79E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96DB-BE02-44B7-A06F-26228C72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C3BD-F81B-4725-BDB2-807EBD70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111C-289C-4419-86A3-877D022E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E89A-1AF9-40B8-A966-39AF7143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DED9-B5F3-4478-B6D9-21D132C7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31EF-20F9-4E0D-AEBD-18D54F67242C}" type="slidenum">
              <a:rPr b="0" lang="zh-TW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04A7-5E37-46CF-9AC2-9896659F851D}" type="slidenum">
              <a:rPr b="0" lang="zh-TW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&#38321;&#35712;&#31574;&#30053;&#25945;&#23416;.doc" TargetMode="External"/><Relationship Id="rId2" Type="http://schemas.openxmlformats.org/officeDocument/2006/relationships/hyperlink" Target="http://www.stteresa.edu.hk/" TargetMode="External"/><Relationship Id="rId3" Type="http://schemas.openxmlformats.org/officeDocument/2006/relationships/hyperlink" Target="file:///&#20013;&#22235;&#32026;&#35498;&#26126;&#21934;&#20803;.doc" TargetMode="External"/><Relationship Id="rId4" Type="http://schemas.openxmlformats.org/officeDocument/2006/relationships/hyperlink" Target="file:///&#20013;&#22283;&#35486;&#25991;&#20013;&#22235;&#32026;&#25945;&#26696;(183).doc" TargetMode="Externa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333399"/>
                </a:solidFill>
                <a:latin typeface="Tahoma"/>
                <a:ea typeface="標楷體"/>
              </a:rPr>
              <a:t>辯論思維訓練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ahoma"/>
                <a:ea typeface="標楷體"/>
              </a:rPr>
              <a:t>德蘭中學</a:t>
            </a:r>
            <a:r>
              <a:rPr b="0" lang="zh-TW" sz="4800" spc="-1" strike="noStrike">
                <a:solidFill>
                  <a:srgbClr val="000000"/>
                </a:solidFill>
                <a:latin typeface="Tahoma"/>
                <a:ea typeface="標楷體"/>
              </a:rPr>
              <a:t>---</a:t>
            </a:r>
            <a:r>
              <a:rPr b="0" lang="zh-TW" sz="4800" spc="-1" strike="noStrike">
                <a:solidFill>
                  <a:srgbClr val="000000"/>
                </a:solidFill>
                <a:latin typeface="Tahoma"/>
                <a:ea typeface="標楷體"/>
              </a:rPr>
              <a:t>黃少玲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imes New Roman"/>
                <a:ea typeface="華康楷書體W5(P)"/>
              </a:rPr>
              <a:t>建構知識和探究學習的重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華康楷書體W5(P)"/>
              </a:rPr>
              <a:t>Bruner(1996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華康楷書體W5(P)"/>
              </a:rPr>
              <a:t>認為，很多客觀的知識都始於主觀領悟和問題解決：</a:t>
            </a:r>
            <a:br>
              <a:rPr sz="2800"/>
            </a:b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華康楷書體W5(P)"/>
              </a:rPr>
              <a:t>「科學創造的過程是敘事性的，它由對自然提出假設、驗証假設、糾正假設和確定假設組成。值得驗証的假設的提出，得自於思想與思想的交流與碰撞。在這一過程中，我們盡量突破常規，大膽假設，發現並使用那些簡潔得今人吃驚的結構。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如何發展創意思維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68184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重視</a:t>
            </a:r>
            <a:r>
              <a:rPr b="0" lang="zh-TW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閱讀策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中二級推行</a:t>
            </a:r>
            <a:r>
              <a:rPr b="0" lang="zh-TW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戲劇融入語文課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舉行班際辯論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教學法的多元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---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如中四級</a:t>
            </a:r>
            <a:r>
              <a:rPr b="0" lang="zh-TW" sz="28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創作食譜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說明單元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---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中一級中文與通識的合作： 創作海報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正音正讀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---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中四、五多角度</a:t>
            </a:r>
            <a:r>
              <a:rPr b="0" lang="zh-TW" sz="28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思維小組討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老師的角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課堂的主導者？課堂的引導者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建構知識：帶引由學生從他們的過往經驗上去建構出新的知識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製造空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時間：速效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何謂成功？獎項？學習過程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429000" y="2403360"/>
            <a:ext cx="3591000" cy="205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標楷體"/>
              </a:rPr>
              <a:t>謝謝！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標楷體"/>
              <a:ea typeface="標楷體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本校辯論隊的介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由中二至中四及中六同學組成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招收成員時進行面試，面試內容有個人介紹、小組討論及與面試老師的交談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校友擔任訓練工作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各級每星期有常規訓練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隊員必須參加朗誦節、演講等比賽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" dur="1" fill="hold"/>
                                  <p:tgtEl>
                                    <p:spTgt spid="1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萬事從基本功入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從資料蒐集開始，讓隊員有較豐富的時事常識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學習閱報、進行網上搜尋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學習分類、撮要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把相關資料進行整理，例如分方正反雙方資料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錄像播映，協助分析主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透過多場比賽錄影帶，讓學生找出雙方的立場及主線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錄像資料可包括不同的比賽，例如聯中、基本法、星島賽事等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進行模擬比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目的：讓各隊員有實戰的經驗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透過模擬比賽，讓隊員學習如何組織資料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學習論辯技巧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錄影比賽，賽後進行分析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評判評語有助改進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籌備比賽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隊員合力蒐集資料，進行分類、撮寫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利用資料進行主線的分析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定立主線後再安排論點的安排及各辯員的工作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影子隊協助進行模擬比賽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修正主線、定稿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如何定立主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界題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腦震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找出可行的主線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若學生質素較好，所定的主線可以有詭辯的出現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如「政府應減薪俸稅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政府應進一步減薪俸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資料顯示是減輕中產的負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同學找到的進一步減薪俸稅是可包含提高子女免稅額、提高進修資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得出的結論是：減薪俸稅有助鼓勵香港人生育及個人增值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進行思維訓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42788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讓學生進行多角度分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重視學生的直覺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TW" sz="3200" spc="-1" strike="noStrike">
                <a:solidFill>
                  <a:srgbClr val="990099"/>
                </a:solidFill>
                <a:latin typeface="Verdana"/>
              </a:rPr>
              <a:t>Jerome Brun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Verdana"/>
              </a:rPr>
              <a:t>直覺可帶動創意</a:t>
            </a:r>
            <a:r>
              <a:rPr b="1" lang="zh-TW" sz="3200" spc="-1" strike="noStrike">
                <a:solidFill>
                  <a:srgbClr val="9900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Verdana"/>
              </a:rPr>
              <a:t>讓學生自我探究，建構自己的觀點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02:29:47Z</dcterms:created>
  <dc:creator>adali</dc:creator>
  <dc:description/>
  <dc:language>en-US</dc:language>
  <cp:lastModifiedBy>slwong</cp:lastModifiedBy>
  <dcterms:modified xsi:type="dcterms:W3CDTF">2007-02-06T03:07:55Z</dcterms:modified>
  <cp:revision>9</cp:revision>
  <dc:subject/>
  <dc:title>辯論思維訓練</dc:title>
</cp:coreProperties>
</file>