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393-4E02-4E5D-9FDF-FECC5BA7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600-D6DC-4C78-A10B-EEC5804E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48B-302E-4408-A4BD-8FC2A5D3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518-25A1-43E7-A3A0-EB4E26DF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A1E-8514-44DB-9556-078819DE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1CA-0A6D-421C-9B05-FA37A04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3CC-BD39-46F5-B768-A16DB985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750-CEA5-4561-BC1E-651196F1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C7B-5AF7-495D-85DA-028C43C1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097-955E-43C1-9F1A-A31D0CA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79C-2C8B-4F33-8D21-383B4113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763-B460-410C-9175-27C4F604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A8B0-65E4-4004-9408-8BEBAF43A2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3429000"/>
            <a:ext cx="7345440" cy="1728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华文中宋"/>
              </a:rPr>
              <a:t>表扬批评艺术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1341360"/>
            <a:ext cx="4465800" cy="1366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中宋"/>
              </a:rPr>
              <a:t>班主任工作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班主任发怒的艺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装发怒，让学生体会班主任的良苦用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暴风骤雨式的发怒，关键是瞅准时机，把握分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而不发－－发怒者的无声胜有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3716280"/>
            <a:ext cx="41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5050"/>
                </a:solidFill>
                <a:latin typeface="Arial"/>
              </a:rPr>
              <a:t>再见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一、表扬学生的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扬是班主任开展工作的一种常用的正效方法，是一种积极的强化手段。恰当的表扬不但可以激励进取、提高自信，而且具有导向作用。但不恰当的表扬却适得其反，因此，表扬必须注意艺术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一）实事求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既不能夸大，也不能缩小，必须分寸适度，真实可信。具体做法是：①不能用夸张的语言，虚伪的表情来表扬学生。②避免成见，做到一视同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二）掌握时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适当时机的表扬会有事半功倍的效果。过早则会使学生骄傲自满。过迟则时过境迁，学生的积极性已经消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三）注意分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扬的语言既不能夸大事实，又不能谨小慎微。说少了，学生容易产生不平感；说多了，过分夸大，学生又容易产生虚伪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（四）大小并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的、小的方面进步都要表扬。小的对学生来说可能已经尽全力了，尽最大努力了，假如我们看不到或不注意，将挫伤学生积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二、批评学生的艺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（一）批评的情感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批评成功的前提是“爱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爱的情感基础是尊重学生的自尊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生自尊心的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动力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敏感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情绪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脆弱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复燃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（二）批评的操作艺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批评的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事求是、客观公正、持之有据、因人而异、治病救人、恩威并施、抑扬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批评的方式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发问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性格内向、勤于思考和悟性较好的学生可采用。提出问题，列举事实，促进感悟，助其检讨反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暗示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自觉性、自制力较强和较为成熟的学生可采用。点拨、暗示、手势、眼神都能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提醒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性情机敏，多有疑心的学生可采用。揭示诱导、抛砖引玉、触发联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即席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不肯接受批评，态度蛮横，极不虚心的学生可采用。发现问题，随时指出，当场批评，避免狡辩抵赖，揭示危害，讲透道理，促其动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参照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阅历较浅，自觉性差而易于感化的学生可采用。借助他人他事的经验，运用类比的方法，使其在借鉴感悟中吸取教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扬抑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自尊心和荣誉感较强的学生可采用。先正面鼓励，肯定成绩，然后指出缺点，摆现象，论危害，寻根源，启迪输导，递进深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⑦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商讨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反应快、个性强，易于冲动的学生可采用。心平气和，出语柔和，以商量探讨的口吻平等公正的交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⑧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触动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惰性大、依赖心理较重的学生可采用。态度严肃，措辞尖锐揭示危害，预示后果，狠击一掌，促其觉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⑨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启迪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性格沉静，为人老实，不太机敏的学生可采用。娓娓讲理，细细分析，和风细雨，动之以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⑩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揭露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对刁钻古怪，不愿承认错误的学生可采用。在揭露事实、摆出证据的前提下，动怒容，震其心，使其认错服理，既批错误事实，又批不良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批评的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弄清问题真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清批评的界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合适的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分不同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替犯错误的学生承担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持良好的心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可以权压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可全盘否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不可当别人面批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可背后批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可算总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可一味批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表扬后批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批评时要请学生坐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批评要有说服力、感染力和吸引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批评要做好善后工作。减少痕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批评的“五一”艺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一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缓一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一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一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激一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班主任的四大“气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主任要能受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主任要会消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主任要会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主任要会运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惩戒的几条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惩戒可以对犯错误的学生起到规范控制的作用，也可以给其他学生以警示告诫作用，但惩戒不是整人，应该遵循以下原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及时原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适度原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封闭原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公正原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情感原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ff"/>
                </a:solidFill>
                <a:latin typeface="Arial"/>
              </a:rPr>
              <a:t>7</a:t>
            </a:r>
            <a:r>
              <a:rPr b="1" lang="zh-CN" sz="2500" spc="-1" strike="noStrike">
                <a:solidFill>
                  <a:srgbClr val="3333ff"/>
                </a:solidFill>
                <a:latin typeface="Arial"/>
              </a:rPr>
              <a:t>、批评的方式</a:t>
            </a:r>
            <a:r>
              <a:rPr b="1" lang="zh-CN" sz="25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期望式批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商讨式批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激将式批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提醒式批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调侃式批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告诫式批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沉默式批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谴责式批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23:50:04Z</dcterms:created>
  <dc:creator>su</dc:creator>
  <dc:description/>
  <dc:language>en-US</dc:language>
  <cp:lastModifiedBy>无忧</cp:lastModifiedBy>
  <dcterms:modified xsi:type="dcterms:W3CDTF">2007-07-25T23:17:58Z</dcterms:modified>
  <cp:revision>5</cp:revision>
  <dc:subject/>
  <dc:title>幻灯片 1</dc:title>
</cp:coreProperties>
</file>