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A44-A03E-452C-B6C2-00B0CE2F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67E-8FF2-4561-9852-17A271E0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C4D17-D8E5-485C-B492-ABE24AA1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7D36B-431F-4297-AFC0-E53748B6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6B800-664A-4EB4-B399-54671D24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26CFA-1B1B-4A17-B70F-DDB95F60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033D6-00C6-4AD4-89D9-FE601096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696A8-8C99-4933-BB68-144FE39D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D3B5D-033A-4416-8844-5640BEE5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0640C-88B5-4C84-B632-83B64BDB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7ACEF-91CB-4A77-8306-CC095E60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D437E-9938-4437-8930-50D7A766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648-473C-4725-BBD6-AF52EC05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2E9D2-1EC2-4111-8074-4243C710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775D3-2402-4467-9323-8CBB8316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34B1A-6EBC-4635-954F-F722BF9E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F56B5-0668-4393-931C-70C54666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76CF8-2272-46D4-B71E-2391FB2A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D06B3-0260-4953-84F1-83C19FBA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0A88A-0777-47EE-8904-031F91AC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110D8-2623-47FD-86B7-69DF217E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0B6A7-B892-43DE-B82E-245D9EC0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9AC78-6B9D-4B4A-B130-91814AC8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7C0-A6DD-49B5-A7F5-DABB9BAF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C78D1-CDCB-4BDA-9EC5-0168DFA2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48A7A-1ED5-423B-A6E2-DAEF1D74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AB28D-DDE7-4AA0-A622-999F3B79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C4FEC-94ED-4671-9525-2C6602A4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BA8C8-5950-4FC9-A9A2-A6D0062E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35527-57E8-42DF-9DB1-5497D590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6355F-F44F-4C2F-A67A-DCF9173F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5BC59-DF61-4BD1-8FA7-6C2CB5EB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5282C-5DF2-4069-8414-108985F9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81387-311A-45DD-BC06-16851974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D322-E02C-4944-A049-D605E0D5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3884C-83ED-4AD5-961D-2C724982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0A940-48C6-4057-B5D3-731C7690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DA590-49D9-4201-BE2A-5EF4968B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42BF7-2A93-425F-B3C5-B8064074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68393-F889-4F66-BC99-D63F1ACF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0F26C-0263-44E9-AE46-CBBC5409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C2B3E-0A35-4A7A-BA95-AC5375B1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D6E97-D723-4998-8A13-7C354356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C4ADC-72E9-4CA5-9216-7F7A6853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43962-E1B4-4065-9206-4D5F2E9D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EB3B-4185-46F7-8087-415AC992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374F4-AA09-411F-8A48-15F2A903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DB22F-FDB9-43B7-9229-196CCD98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AA7DB-562D-4A34-B271-36880AC8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D3619-C914-4786-BA2A-0D46416E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93097-E1CB-488B-A463-B7327BA1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6C51E-883D-4DB6-A0F4-D12CC79B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9B2BB-3CF9-4174-9390-AB517896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6D035-8F0D-46D2-8736-8215559F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AE456-8F57-4C70-8C09-4BD230FE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575D6-09EC-48A8-9B3A-AD80B869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662B-F9FF-402A-AA28-3AE49272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F8059-7F2D-4514-BC43-3E96952B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D8FE0-1834-4B2C-82C5-0BB6AC6A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BB934-629E-4533-95EF-BCA544C5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40F71B-2AEC-4A60-AD95-7F1B8647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B859AE-2D32-414A-B68F-655850C4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68D5D-8177-4EDE-9410-2ADF9B9F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DC5109-389E-41D3-80B5-3BC50C34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0960-F08D-43D6-BA6B-027A1E38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9245-D9A8-419F-AF88-FC483390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48B6-710B-4788-874D-E3F86B3A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8A7B-468B-4247-AA56-746D1A51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FAE-C4BE-40FA-9A79-B18C0021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F799-CD28-48C3-B281-81D61D77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C5D6-C3CF-4147-BB76-86061F13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AD1A-2A3E-4CD1-979C-1C28C92C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182A-E8F6-4877-AD4A-2177D516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C366-FA7D-418C-B4AE-CF09DE19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683D9-9E63-42FA-9600-A93683EF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80D80-307A-4AF6-BFA6-A0C45CB6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3AD2E-2C61-4532-B950-D1281252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74A0-163E-4ED0-AE68-D6880B3C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46D57-EAD9-4B15-AAEF-4BF6CD7F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285-1B62-42AE-ADB9-01191E15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58C56-5C82-4C2B-8203-7E5C2923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B6FEB-2C92-4714-9272-85C51A10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C6885-E6FB-4E8A-90EE-9B5AB3BA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A4DDC-E6E0-4403-8508-99EAD2F8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2C69D-6E58-49F4-AAFD-EBE998CC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A29A2-713E-4C4C-8974-D49BBD91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1D7F4-FD0E-44E5-8F1E-867E90B4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D3374-C5A1-4E63-93F1-7A99D9C6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EE5E4-B7A2-4B29-AB50-3673A788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D717C-61D3-4F18-886D-B7BED13E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59A-6B85-46B0-8D03-A0DBA416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19019-1783-4336-A211-7A79FBD1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F3774-6BAF-440A-9B56-65C5763D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86F0F-AB6C-4E41-B848-0DBB6C67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B29C2-13C5-4267-B708-7E49AEFF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10291-F3F5-4939-BDFF-547CBA74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543DC-786F-4EB3-B670-CD42A68B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8025B-0D37-49A6-90C1-ED9EDFF3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728CB-CD75-4E3D-9CD8-9CA6D2A1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61167-ADFA-40A9-88A1-E15FD3DE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B3777-4217-4D66-91F9-226819F9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16F1-5369-4793-8EB9-5D582E76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F23EA-5DAB-43C3-8C26-14743DE4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7E6FD-CF44-4FEC-8CBF-7A24A5A6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C8F7A-20EB-445E-9E73-A5CEAEA5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29D0D-7456-43DF-A38C-B7055F75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DAD16-A01A-4501-B3DD-47323377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08462-7803-4151-B15B-238D33C2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5EA7D-9C92-441C-A786-4E931799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73081-6422-4FFC-A8CF-BA0A64F5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65567-60B0-4B5A-98D0-3BA1C76A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9C802-D8FF-4246-A23B-DC0186A2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D62-BC74-4FDE-B633-49A0BA4F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DD1D1-14E4-497C-8659-40D52081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D2345-BF5B-4DFE-B80C-83298897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E143D-5840-4362-B86C-EAE61125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8EF24-8F9E-4F61-90A9-08BE0343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9C1BD-71B4-4588-BF4F-83C3FE40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905F3-BCE1-4015-AE1F-48B2B818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9458E-5F14-4C00-B5B3-F7CC1D91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B6ABE-85C7-432B-9031-12817C5E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284F4-A5A5-4DDC-A280-C66F1E9D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526CC-D2E1-4C37-A60A-4D4C827C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395-2FD3-4EBC-88D9-66189299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F058E-8F15-47D5-A534-85A9DE8C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B8D0F-5443-4550-BDAB-1BE53B3B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2E711-3CAD-40CA-B6A9-A923A928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61D1C-3E9D-4228-B6BA-C48D047A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6BCF8-C47B-4F94-8F37-1A9F4FB2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5D2CD-1B62-49C7-9A4F-144E9442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7AA03-C110-4F74-96CD-C5EAFF1B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574EC-53F9-4962-9EDD-F2B86F90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64864-84DB-41C3-A291-263FD3CB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C52AF-D852-46BA-AF9F-50F35C3F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4D46-4863-40A1-887C-DB968A27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29AC6-7DE0-4646-AA6E-767248FB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F6169-8A64-4B5C-ADF7-D41780EE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D7928-72CF-4333-9D13-47B15409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7020C-B363-4C64-A29A-6B182CB4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C2DE9-EB77-41F1-8FB3-D7103487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7A80E-F422-46A1-BE2D-E06C82BC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47CB3-3AAC-4CC4-B99B-D1D8E65D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EFA34-F5E0-4145-BA40-C5E72775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F264E-34D1-4012-837A-F2D8AE2B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B9AB8-FE3E-46F3-98A8-43809503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D51-DC0A-46D4-B0FD-0260E43F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50311-5476-4929-AA85-367C21ED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50859-3662-48D7-886A-7EA0A327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A509B-1F56-4BB5-B78A-D0B3F58F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AF449-A68D-4E52-B8AA-FE7221E4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FF15C-34E1-4608-AEB1-0A04DB7B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D8D0D-CBF0-4CFF-883E-35A053C5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15618-8AAB-4729-B877-BE7243A8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3FDD6-ED11-4F8D-A54F-CDF8B23E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6E208-00C5-48CD-BA5B-F7A03C7F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C09B2-06A9-4053-99A4-C2FDD756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027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1028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29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7CD0-F25F-4310-8CAF-D5171BA4DDB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7F77-083E-48CB-B040-51377D9CF24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3AD2-0EB4-41FB-B39C-5CDE7E2F9BF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414D-12DD-4B7F-B808-C47062D4A36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DFF5-9FB4-41EF-9BD0-65B185E1623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FD0A-26A8-47E3-A0F8-7C416502302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6766-B5CF-48AE-BFF7-E32A6743568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44CB-75BB-46F6-A623-5EFD69C48B7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AB08-1019-462B-B460-C69AD6F77F2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5625-7BFE-4CB8-AAFD-A7CD6179A3F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7BD8-5938-4147-A695-9EF5A415283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7881-AF02-4B9B-BE6C-70100E3D833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E1E4-2C48-4D4C-9917-01D55B06B23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4" descr="C:\Documents and Settings\cynthia\My Documents\2010.07  書\625  蓋茲爸\PPT\billgates01.jpg"/>
          <p:cNvPicPr/>
          <p:nvPr/>
        </p:nvPicPr>
        <p:blipFill>
          <a:blip r:embed="rId1"/>
          <a:stretch/>
        </p:blipFill>
        <p:spPr>
          <a:xfrm>
            <a:off x="468360" y="11592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47720" y="42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990000"/>
                </a:solidFill>
                <a:latin typeface="Times New Roman"/>
              </a:rPr>
              <a:t>找到工作的意義，然後努力工作</a:t>
            </a:r>
            <a:r>
              <a:rPr b="1" lang="zh-TW" sz="40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066680" y="1755720"/>
            <a:ext cx="75931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成就生命中真正有意義的事，都需要努力工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論從事何種行業，我們都可以透過參與貢獻所能，將自己選擇奉獻的職場變得更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4" descr="C:\Documents and Settings\cynthia\My Documents\2010.07  書\625  蓋茲爸\內頁圖\183 _ GatesChildren2  200.JPG"/>
          <p:cNvPicPr/>
          <p:nvPr/>
        </p:nvPicPr>
        <p:blipFill>
          <a:blip r:embed="rId1"/>
          <a:stretch/>
        </p:blipFill>
        <p:spPr>
          <a:xfrm>
            <a:off x="5305320" y="4321080"/>
            <a:ext cx="3048120" cy="202716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5"/>
          <p:cNvSpPr/>
          <p:nvPr/>
        </p:nvSpPr>
        <p:spPr>
          <a:xfrm>
            <a:off x="1336680" y="568008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PMingLiU"/>
              </a:rPr>
              <a:t>如果你想觸動成年人的心，並提醒他們為什麼人該去做有意義的大事，最好的辦法就是讓他們抱一抱自己協助拯救的孩子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5800" y="696600"/>
            <a:ext cx="7620120" cy="88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200" spc="-1" strike="noStrike">
                <a:solidFill>
                  <a:srgbClr val="990000"/>
                </a:solidFill>
                <a:latin typeface="Times New Roman"/>
              </a:rPr>
              <a:t>永遠不要害怕更大的期待</a:t>
            </a:r>
            <a:endParaRPr b="0" lang="en-US" sz="5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066320" y="1905120"/>
            <a:ext cx="377028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</a:rPr>
              <a:t>生命送出各種機會與挑戰，而面對機會與挑戰時反應的結果則造就了未來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</a:rPr>
              <a:t>有時機會和挑戰會無預警地到來，就像個難伺候的老闆，但是</a:t>
            </a:r>
            <a:r>
              <a:rPr b="1" lang="zh-TW" sz="2700" spc="-1" strike="noStrike">
                <a:solidFill>
                  <a:srgbClr val="990000"/>
                </a:solidFill>
                <a:latin typeface="Times New Roman"/>
              </a:rPr>
              <a:t>不要劃地自限，要對自己抱持更高的期待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4" descr="C:\Documents and Settings\cynthia\My Documents\2010.07  書\625  蓋茲爸\內頁圖\150 _ GatesCarterMandela2   小.JPG"/>
          <p:cNvPicPr/>
          <p:nvPr/>
        </p:nvPicPr>
        <p:blipFill>
          <a:blip r:embed="rId1"/>
          <a:stretch/>
        </p:blipFill>
        <p:spPr>
          <a:xfrm>
            <a:off x="5072040" y="2124000"/>
            <a:ext cx="3538440" cy="259560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6"/>
          <p:cNvSpPr/>
          <p:nvPr/>
        </p:nvSpPr>
        <p:spPr>
          <a:xfrm>
            <a:off x="5006880" y="4846680"/>
            <a:ext cx="37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PMingLiU"/>
              </a:rPr>
              <a:t>成為知名基金會代表的好處之一就是，能夠認識很多很棒的人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PMingLiU"/>
              </a:rPr>
              <a:t>老比爾</a:t>
            </a:r>
            <a:r>
              <a:rPr b="1" lang="zh-TW" sz="14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1" lang="zh-TW" sz="1400" spc="-1" strike="noStrike">
                <a:solidFill>
                  <a:srgbClr val="000000"/>
                </a:solidFill>
                <a:latin typeface="PMingLiU"/>
              </a:rPr>
              <a:t>蓋茲（左）、南非前總統曼德拉，和美國前總統卡特，攝於南非</a:t>
            </a:r>
            <a:r>
              <a:rPr b="1" lang="zh-TW" sz="1400" spc="-1" strike="noStrike">
                <a:solidFill>
                  <a:srgbClr val="000000"/>
                </a:solidFill>
                <a:latin typeface="PMingLiU"/>
              </a:rPr>
              <a:t>索韋托</a:t>
            </a:r>
            <a:r>
              <a:rPr b="1" lang="zh-TW" sz="1400" spc="-1" strike="noStrike">
                <a:solidFill>
                  <a:srgbClr val="000000"/>
                </a:solidFill>
                <a:latin typeface="PMingLiU"/>
              </a:rPr>
              <a:t>的左拉診所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8120" y="290160"/>
            <a:ext cx="78469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0000"/>
                </a:solidFill>
                <a:latin typeface="Times New Roman"/>
              </a:rPr>
              <a:t>永遠不要忘記問：這是正確的嗎？記得要做對的事！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69920" y="1752480"/>
            <a:ext cx="748368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3200" spc="-1" strike="noStrike">
                <a:solidFill>
                  <a:srgbClr val="000000"/>
                </a:solidFill>
                <a:latin typeface="PMingLiU"/>
              </a:rPr>
              <a:t>在我們一生中會有很多機會進行無人旁觀的事，也有很多十字路口考驗我們人格的完整，誘惑更經常出現在生活與事業裡。</a:t>
            </a:r>
            <a:r>
              <a:rPr b="1" lang="zh-TW" sz="3200" spc="-1" strike="noStrike">
                <a:solidFill>
                  <a:srgbClr val="000000"/>
                </a:solidFill>
                <a:latin typeface="MingLiU"/>
                <a:ea typeface="MingLiU"/>
              </a:rPr>
              <a:t>在這種情況下，我們能培養並表現自己的人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MingLi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生命的挑戰在於做正確的事情，不論代價是什麼。因為，生命中沒有事物值得你賠上對自己的看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990000"/>
                </a:solidFill>
                <a:latin typeface="Times New Roman"/>
              </a:rPr>
              <a:t>學會開闊的心胸與眼界，</a:t>
            </a:r>
            <a:br>
              <a:rPr sz="4200"/>
            </a:br>
            <a:r>
              <a:rPr b="1" lang="zh-TW" sz="4200" spc="-1" strike="noStrike">
                <a:solidFill>
                  <a:srgbClr val="990000"/>
                </a:solidFill>
                <a:latin typeface="Times New Roman"/>
              </a:rPr>
              <a:t>重視承諾</a:t>
            </a:r>
            <a:endParaRPr b="0" lang="en-US" sz="4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66680" y="1755720"/>
            <a:ext cx="75931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2700" spc="-1" strike="noStrike">
                <a:solidFill>
                  <a:srgbClr val="000000"/>
                </a:solidFill>
                <a:latin typeface="PMingLiU"/>
              </a:rPr>
              <a:t>學會替自己思考，在我一生中，我想不起來有什麼比這個學習更有價值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PMingLi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2700" spc="-1" strike="noStrike">
                <a:solidFill>
                  <a:srgbClr val="000000"/>
                </a:solidFill>
                <a:latin typeface="PMingLiU"/>
              </a:rPr>
              <a:t>我們可以自由思考不同人的不同觀點、</a:t>
            </a:r>
            <a:r>
              <a:rPr b="1" lang="zh-TW" sz="2700" spc="-1" strike="noStrike">
                <a:solidFill>
                  <a:srgbClr val="000000"/>
                </a:solidFill>
                <a:latin typeface="MingLiU"/>
                <a:ea typeface="MingLiU"/>
              </a:rPr>
              <a:t>學習把自己的意見放到一邊，</a:t>
            </a:r>
            <a:r>
              <a:rPr b="1" lang="zh-TW" sz="2700" spc="-1" strike="noStrike">
                <a:solidFill>
                  <a:srgbClr val="000000"/>
                </a:solidFill>
                <a:latin typeface="PMingLiU"/>
              </a:rPr>
              <a:t>不必接受人家告訴你的話，也能</a:t>
            </a:r>
            <a:r>
              <a:rPr b="1" lang="zh-TW" sz="2700" spc="-1" strike="noStrike">
                <a:solidFill>
                  <a:srgbClr val="000000"/>
                </a:solidFill>
                <a:latin typeface="MingLiU"/>
                <a:ea typeface="MingLiU"/>
              </a:rPr>
              <a:t>從對方的觀點來看事情</a:t>
            </a:r>
            <a:r>
              <a:rPr b="1" lang="zh-TW" sz="2700" spc="-1" strike="noStrike">
                <a:solidFill>
                  <a:srgbClr val="000000"/>
                </a:solidFill>
                <a:latin typeface="PMingLiU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PMingLi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2700" spc="-1" strike="noStrike">
                <a:solidFill>
                  <a:srgbClr val="000000"/>
                </a:solidFill>
                <a:latin typeface="MingLiU"/>
                <a:ea typeface="MingLiU"/>
              </a:rPr>
              <a:t>假如你並不想</a:t>
            </a:r>
            <a:r>
              <a:rPr b="1" lang="zh-TW" sz="2700" spc="-1" strike="noStrike">
                <a:solidFill>
                  <a:srgbClr val="000000"/>
                </a:solidFill>
                <a:latin typeface="PMingLiU"/>
              </a:rPr>
              <a:t>保密</a:t>
            </a:r>
            <a:r>
              <a:rPr b="1" lang="zh-TW" sz="2700" spc="-1" strike="noStrike">
                <a:solidFill>
                  <a:srgbClr val="000000"/>
                </a:solidFill>
                <a:latin typeface="MingLiU"/>
                <a:ea typeface="MingLiU"/>
              </a:rPr>
              <a:t>，或不想出席，請不要說你會。</a:t>
            </a:r>
            <a:r>
              <a:rPr b="1" lang="zh-TW" sz="2700" spc="-1" strike="noStrike">
                <a:solidFill>
                  <a:srgbClr val="000000"/>
                </a:solidFill>
                <a:latin typeface="PMingLiU"/>
              </a:rPr>
              <a:t>即使是社交上的承諾也要遵守，做一個可以被信任的人是很重要的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93320" y="623880"/>
            <a:ext cx="762012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200" spc="-1" strike="noStrike">
                <a:solidFill>
                  <a:srgbClr val="990000"/>
                </a:solidFill>
                <a:latin typeface="Times New Roman"/>
              </a:rPr>
              <a:t>表達感恩</a:t>
            </a:r>
            <a:endParaRPr b="0" lang="en-US" sz="5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1295280" y="1752480"/>
            <a:ext cx="73152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PMingLiU"/>
              </a:rPr>
              <a:t>當我第一次受邀去微軟員工的年會演講時，現場聽眾都是二十上下的年輕小伙子，他們八成覺得我很老，而且跟自己沒什麼關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PMingLiU"/>
              </a:rPr>
              <a:t>我用下面這句話開場：「</a:t>
            </a:r>
            <a:r>
              <a:rPr b="1" lang="zh-TW" sz="3200" spc="-1" strike="noStrike">
                <a:solidFill>
                  <a:srgbClr val="990000"/>
                </a:solidFill>
                <a:latin typeface="Times New Roman"/>
              </a:rPr>
              <a:t>沒有我，你們今天都不會在這裡！</a:t>
            </a:r>
            <a:r>
              <a:rPr b="1" lang="zh-TW" sz="3200" spc="-1" strike="noStrike">
                <a:solidFill>
                  <a:srgbClr val="000000"/>
                </a:solidFill>
                <a:latin typeface="PMingLiU"/>
              </a:rPr>
              <a:t>」底下哄堂大笑，甚至有人露出感恩的神情。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3"/>
          <p:cNvSpPr/>
          <p:nvPr/>
        </p:nvSpPr>
        <p:spPr>
          <a:xfrm>
            <a:off x="1143000" y="1695600"/>
            <a:ext cx="76960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PMingLiU"/>
              </a:rPr>
              <a:t>在幫聯合勸募協會募款時，有個挑戰是：必須讓人們知道他們幫助了很多人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PMingLiU"/>
              </a:rPr>
              <a:t>有次我們邀請志工領袖進行巴士之旅。因為要造訪的地點非常不起眼，讓我非常擔心是否會影響募款成效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PMingLiU"/>
              </a:rPr>
              <a:t>一位衣著非常整潔的年輕小姐來接待我們。我以為她是職員，但她其實是住在這裡的前精神病患者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PMingLiU"/>
              </a:rPr>
              <a:t>現在她開始重建生活，找到工作、也找到了很多年前就失去的「對未來的信心」。而她的故事讓我們募到最高紀錄的捐款。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矩形 2"/>
          <p:cNvSpPr/>
          <p:nvPr/>
        </p:nvSpPr>
        <p:spPr>
          <a:xfrm>
            <a:off x="4664880" y="84132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0000"/>
                </a:solidFill>
                <a:latin typeface="Times New Roman"/>
              </a:rPr>
              <a:t>幫人們找回「對未來的信心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320" y="437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990000"/>
                </a:solidFill>
                <a:latin typeface="Times New Roman"/>
              </a:rPr>
              <a:t>世界是所有人共有的，</a:t>
            </a:r>
            <a:br>
              <a:rPr sz="4200"/>
            </a:br>
            <a:r>
              <a:rPr b="1" lang="zh-TW" sz="4200" spc="-1" strike="noStrike">
                <a:solidFill>
                  <a:srgbClr val="990000"/>
                </a:solidFill>
                <a:latin typeface="Times New Roman"/>
              </a:rPr>
              <a:t>記得和別人分享自己的天賦</a:t>
            </a:r>
            <a:endParaRPr b="0" lang="en-US" sz="4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66680" y="1755720"/>
            <a:ext cx="75931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2700" spc="-1" strike="noStrike">
                <a:solidFill>
                  <a:srgbClr val="000000"/>
                </a:solidFill>
                <a:latin typeface="PMingLiU"/>
              </a:rPr>
              <a:t>記得常常自問：「我能為這世界做些什麼？」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PMingLi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2700" spc="-1" strike="noStrike">
                <a:solidFill>
                  <a:srgbClr val="000000"/>
                </a:solidFill>
                <a:latin typeface="PMingLiU"/>
              </a:rPr>
              <a:t>沒有別人的貢獻，我們不可能成功。我們今天能夠快樂且富裕地生活，一部分原因是因為：我們站在那些投資公共利益的祖先的肩膀上。他們不只投資他們的當下，連我們的未來也跟著受益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PMingLi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2700" spc="-1" strike="noStrike">
                <a:solidFill>
                  <a:srgbClr val="000000"/>
                </a:solidFill>
                <a:latin typeface="PMingLiU"/>
              </a:rPr>
              <a:t>世界是人們共有的，與人為善、就是與自己為善。不論對方住在隔壁街上，還是隔著一個地球，他的福祉也該是我們關心的對象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PMingLi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200" spc="-1" strike="noStrike">
                <a:solidFill>
                  <a:srgbClr val="990000"/>
                </a:solidFill>
                <a:latin typeface="Times New Roman"/>
              </a:rPr>
              <a:t>全世界都是一家人</a:t>
            </a:r>
            <a:endParaRPr b="0" lang="en-US" sz="5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66680" y="1828800"/>
            <a:ext cx="75931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驅使我或比爾去幫助別人的動力，跟驅使任何人捐獻時間金錢給自己社區的原因都是一樣的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合作協力、守望相助並不是不尋常的精神，我們要改變的，是對「鄰里情誼」（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eighborhood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）的定義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在今日的世界，我們的鄰居不再侷限於同一條街道或區域，我們的兄弟姊妹也不再限於同一條血脈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200" spc="-1" strike="noStrike">
                <a:solidFill>
                  <a:srgbClr val="990000"/>
                </a:solidFill>
                <a:latin typeface="Times New Roman"/>
              </a:rPr>
              <a:t>用團結推動世界的改變</a:t>
            </a:r>
            <a:endParaRPr b="0" lang="en-US" sz="5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66680" y="1755360"/>
            <a:ext cx="75931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在場、出席、參與，是一切的開始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把眼光聚焦在世界應該成為的樣子，而不是現在的樣子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一個人只要有無窮的熱情，有個好想法，就可以改變世界，使生活過得更好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每個人都有責任和義務把你所相信的事情大聲說出來、為我們所相信的事情發聲。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96640" y="337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0000"/>
                </a:solidFill>
                <a:latin typeface="Times New Roman"/>
              </a:rPr>
              <a:t>我們是需要彼此的「命運共同體」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066680" y="1755720"/>
            <a:ext cx="75931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我已經八十多歲了，這輩子遇過不少有意思的事，還有許多其他值得分享與記錄的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我知道自己其實很幸運，在這生中有很多機會見到許多了不起的人，他們的故事激勵很多人，也確實幫助很多人，當然也包括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這麼多年來，作為一個父親、律師、社會運動者、公民，我學到最重要的一課就是：</a:t>
            </a:r>
            <a:r>
              <a:rPr b="1" lang="zh-TW" sz="2400" spc="-1" strike="noStrike">
                <a:solidFill>
                  <a:srgbClr val="990000"/>
                </a:solidFill>
                <a:latin typeface="Times New Roman"/>
              </a:rPr>
              <a:t>我們是命運共同體，而我們需要彼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我認為，在這世界上，人人都應各盡義務、重視基本價值觀，或許我可以用不同方式引起更多人深思，因此我寫了這本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1060560" y="708120"/>
            <a:ext cx="87627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000000"/>
                </a:solidFill>
                <a:latin typeface="PMingLiU"/>
              </a:rPr>
              <a:t>世界首富比爾</a:t>
            </a:r>
            <a:r>
              <a:rPr b="1" lang="zh-TW" sz="4600" spc="-1" strike="noStrike">
                <a:solidFill>
                  <a:srgbClr val="000000"/>
                </a:solidFill>
                <a:latin typeface="Georgia"/>
              </a:rPr>
              <a:t>‧</a:t>
            </a:r>
            <a:r>
              <a:rPr b="1" lang="zh-TW" sz="4600" spc="-1" strike="noStrike">
                <a:solidFill>
                  <a:srgbClr val="000000"/>
                </a:solidFill>
                <a:latin typeface="PMingLiU"/>
              </a:rPr>
              <a:t>蓋茲的父親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000000"/>
                </a:solidFill>
                <a:latin typeface="PMingLiU"/>
              </a:rPr>
              <a:t>首度分享</a:t>
            </a:r>
            <a:r>
              <a:rPr b="1" lang="zh-TW" sz="4200" spc="-1" strike="noStrike">
                <a:solidFill>
                  <a:srgbClr val="950c01"/>
                </a:solidFill>
                <a:latin typeface="Times New Roman"/>
              </a:rPr>
              <a:t>教養秘訣</a:t>
            </a:r>
            <a:r>
              <a:rPr b="1" lang="zh-TW" sz="4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TW" sz="4200" spc="-1" strike="noStrike">
                <a:solidFill>
                  <a:srgbClr val="950c01"/>
                </a:solidFill>
                <a:latin typeface="Times New Roman"/>
              </a:rPr>
              <a:t>傳家智慧</a:t>
            </a:r>
            <a:r>
              <a:rPr b="1" lang="zh-TW" sz="42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3" descr="C:\Documents and Settings\cynthia\My Documents\2010.07  書\625  蓋茲爸\PPT\02.png"/>
          <p:cNvPicPr/>
          <p:nvPr/>
        </p:nvPicPr>
        <p:blipFill>
          <a:blip r:embed="rId1"/>
          <a:srcRect l="0" t="0" r="24604" b="0"/>
          <a:stretch/>
        </p:blipFill>
        <p:spPr>
          <a:xfrm>
            <a:off x="2438280" y="2209680"/>
            <a:ext cx="49420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97920" y="812880"/>
            <a:ext cx="8602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66"/>
                </a:solidFill>
                <a:latin typeface="Times New Roman"/>
              </a:rPr>
              <a:t>爸爸，下次有人問你，你是不是真的比爾‧蓋茲時，我希望你回答：「是。」我希望你告訴他們，你是另一個比爾‧蓋茲一直努力想成為的人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【微軟創辦人‧蟬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世界首富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比爾‧蓋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66"/>
                </a:solidFill>
                <a:latin typeface="Times New Roman"/>
              </a:rPr>
              <a:t>老蓋茲的智慧一如他兒子的才華。我從他們兩人身上學到很多，也相信每個人都能從老蓋茲在本書分享的洞察中獲益良多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【股神】巴菲特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91880" y="458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200" spc="-1" strike="noStrike">
                <a:solidFill>
                  <a:srgbClr val="950c01"/>
                </a:solidFill>
                <a:latin typeface="Times New Roman"/>
              </a:rPr>
              <a:t>做一個身體力行的父母</a:t>
            </a:r>
            <a:endParaRPr b="0" lang="en-US" sz="5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66680" y="1755720"/>
            <a:ext cx="75931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</a:t>
            </a:r>
            <a:r>
              <a:rPr b="1" lang="zh-CN" sz="1800" spc="-1" strike="noStrike">
                <a:solidFill>
                  <a:srgbClr val="354804"/>
                </a:solidFill>
                <a:latin typeface="Times New Roman"/>
              </a:rPr>
              <a:t>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我的父母從來不談出席或參與，他們只是身體力行。學習從出生就開始，透過觀察，能在孩子心裡種下「任何事都有可能成功」的信念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74740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</a:t>
            </a:r>
            <a:r>
              <a:rPr b="1" lang="zh-CN" sz="1000" spc="-1" strike="noStrike">
                <a:solidFill>
                  <a:srgbClr val="354804"/>
                </a:solidFill>
                <a:latin typeface="Times New Roman"/>
              </a:rPr>
              <a:t>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每個家庭都需要一個堅固的傳統，那是你的孩子永遠的依靠、也是重要的記號，但是生命就像流水，不停往前流去。當新的傳統、新的參與人出現，會替家庭生活帶來新的能量與刺激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58400" y="42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200" spc="-1" strike="noStrike">
                <a:solidFill>
                  <a:srgbClr val="990000"/>
                </a:solidFill>
                <a:latin typeface="Times New Roman"/>
              </a:rPr>
              <a:t>尊重孩子的天賦與選擇</a:t>
            </a:r>
            <a:endParaRPr b="0" lang="en-US" sz="5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66680" y="1755720"/>
            <a:ext cx="75931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</a:rPr>
              <a:t>給你的孩子根和翅膀，在孩子還小時，父母把他們的價值觀種到孩子身上，當時機成熟，父母就該放孩子自由飛翔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</a:rPr>
              <a:t>孩子需要自由來回應生命的種種需求，千萬不要限制孩子的夢想！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06000"/>
                </a:solidFill>
                <a:latin typeface="Times New Roman"/>
              </a:rPr>
              <a:t>●   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</a:rPr>
              <a:t>教導孩子創造出自己希望看到的改變，絕對不要貶低你的孩子，因為每個孩子都有無限的可能，而我們也無法預測當夢想實現時，會有多快樂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31400" y="444240"/>
            <a:ext cx="788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zh-CN" sz="5200" spc="-1" strike="noStrike">
                <a:solidFill>
                  <a:srgbClr val="990000"/>
                </a:solidFill>
                <a:latin typeface="Times New Roman"/>
              </a:rPr>
              <a:t>學習必須建立在興趣之上</a:t>
            </a:r>
            <a:endParaRPr b="0" lang="en-US" sz="5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295280" y="1828800"/>
            <a:ext cx="73659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PMingLiU"/>
              </a:rPr>
              <a:t>比爾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</a:rPr>
              <a:t>‧</a:t>
            </a:r>
            <a:r>
              <a:rPr b="1" lang="zh-TW" sz="2700" spc="-1" strike="noStrike">
                <a:solidFill>
                  <a:srgbClr val="000000"/>
                </a:solidFill>
                <a:latin typeface="PMingLiU"/>
              </a:rPr>
              <a:t>蓋茲進入哈佛大學就讀前，我們父子倆曾為選擇科系發生嚴重的爭執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PMingLiU"/>
              </a:rPr>
              <a:t>我希望兒子能夠繼承衣缽，選讀法律系，但是特瑞（比爾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</a:rPr>
              <a:t>‧</a:t>
            </a:r>
            <a:r>
              <a:rPr b="1" lang="zh-TW" sz="2700" spc="-1" strike="noStrike">
                <a:solidFill>
                  <a:srgbClr val="000000"/>
                </a:solidFill>
                <a:latin typeface="PMingLiU"/>
              </a:rPr>
              <a:t>蓋茲的小名）卻說：「法津系的確很有前途，可惜它不適合我，沒有興趣讀起來一定很痛苦，爸爸一定不忍心讓我過著痛苦的大學生活吧！」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PMingLiU"/>
              </a:rPr>
              <a:t>當然，那時瑪莉和我聽到特瑞不念哈佛都很傷心。不過，他答應以後會回哈佛把學位念完。</a:t>
            </a:r>
            <a:r>
              <a:rPr b="1" lang="zh-TW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200" spc="-1" strike="noStrike">
                <a:solidFill>
                  <a:srgbClr val="990000"/>
                </a:solidFill>
                <a:latin typeface="Times New Roman"/>
              </a:rPr>
              <a:t>三十二年後才實現的諾言</a:t>
            </a:r>
            <a:endParaRPr b="0" lang="en-US" sz="5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216080" y="1778040"/>
            <a:ext cx="76359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PMingLiU"/>
              </a:rPr>
              <a:t>這個「以後」終於在三十二年後、二○○七年六月七日出現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PMingLiU"/>
              </a:rPr>
              <a:t>哈佛大學決定頒給特瑞榮譽法學博士的學位，我飛到劍橋跟他及他的妻子瑪琳達會面，一起看他受獎、對畢業生演講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PMingLiU"/>
              </a:rPr>
              <a:t>在謝過所有人後，特瑞告訴聽眾，「我等這個已經等了三十多年了，才有機會說」，他看著台下的我，大聲說：「</a:t>
            </a:r>
            <a:r>
              <a:rPr b="1" lang="zh-TW" sz="2700" spc="-1" strike="noStrike">
                <a:solidFill>
                  <a:srgbClr val="990000"/>
                </a:solidFill>
                <a:latin typeface="Times New Roman"/>
              </a:rPr>
              <a:t>爸，我一直都告訴你，我會回來拿我的學位的。</a:t>
            </a:r>
            <a:r>
              <a:rPr b="1" lang="zh-TW" sz="2700" spc="-1" strike="noStrike">
                <a:solidFill>
                  <a:srgbClr val="000000"/>
                </a:solidFill>
                <a:latin typeface="PMingLiU"/>
              </a:rPr>
              <a:t>」</a:t>
            </a:r>
            <a:r>
              <a:rPr b="1" lang="zh-TW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9560" y="444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200" spc="-1" strike="noStrike">
                <a:solidFill>
                  <a:srgbClr val="990000"/>
                </a:solidFill>
                <a:latin typeface="Times New Roman"/>
              </a:rPr>
              <a:t>從小鍛鍊孩子的競爭力</a:t>
            </a:r>
            <a:endParaRPr b="0" lang="en-US" sz="5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066680" y="1755720"/>
            <a:ext cx="44928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</a:rPr>
              <a:t>不要小看各種運動或遊戲，它可以培養孩子冒險進取的精神、學習如何追求成功，及面對失敗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2700" spc="-1" strike="noStrike">
                <a:solidFill>
                  <a:srgbClr val="000000"/>
                </a:solidFill>
                <a:latin typeface="Times New Roman"/>
              </a:rPr>
              <a:t>要努力培養孩子的好奇心，並給予同樣的自由，那麼充滿好奇心的孩子便會自然地回應生命的需求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4" descr="C:\Documents and Settings\cynthia\My Documents\2010.07  書\625  蓋茲爸\內頁圖\036 _ GatesSalmon  1  小.JPG"/>
          <p:cNvPicPr/>
          <p:nvPr/>
        </p:nvPicPr>
        <p:blipFill>
          <a:blip r:embed="rId1"/>
          <a:stretch/>
        </p:blipFill>
        <p:spPr>
          <a:xfrm>
            <a:off x="5791320" y="1676520"/>
            <a:ext cx="2403360" cy="41162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5"/>
          <p:cNvSpPr/>
          <p:nvPr/>
        </p:nvSpPr>
        <p:spPr>
          <a:xfrm>
            <a:off x="4097160" y="594360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（老比爾‧蓋茲）我在七歲時釣到我人生的第一條魚，也釣到了一個一輩子的回憶。</a:t>
            </a:r>
            <a:r>
              <a:rPr b="1" lang="zh-TW" sz="1200" spc="-1" strike="noStrike">
                <a:solidFill>
                  <a:srgbClr val="000000"/>
                </a:solidFill>
                <a:latin typeface="Times New Roman"/>
              </a:rPr>
              <a:t>攝於一九三二年夏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76400" y="4582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990000"/>
                </a:solidFill>
                <a:latin typeface="Times New Roman"/>
              </a:rPr>
              <a:t>閱讀很好，</a:t>
            </a:r>
            <a:br>
              <a:rPr sz="4200"/>
            </a:br>
            <a:r>
              <a:rPr b="1" lang="zh-CN" sz="4200" spc="-1" strike="noStrike">
                <a:solidFill>
                  <a:srgbClr val="990000"/>
                </a:solidFill>
                <a:latin typeface="Times New Roman"/>
              </a:rPr>
              <a:t>但人與人之間的交流更重要！</a:t>
            </a:r>
            <a:endParaRPr b="0" lang="en-US" sz="4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066680" y="1755720"/>
            <a:ext cx="75931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特瑞從小就是個好奇寶寶，當他還小的時候，就已經養成大量閲讀的習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但因為他太入迷，連吃飯時都在看書，所以我不得不禁止他在吃飯時讀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希望他知道，餐桌的迷人之處，在於可以彼此間進行生動的交流，而並非一個人孤僻的閲讀。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80720" y="448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200" spc="-1" strike="noStrike">
                <a:solidFill>
                  <a:srgbClr val="990000"/>
                </a:solidFill>
                <a:latin typeface="Times New Roman"/>
              </a:rPr>
              <a:t>培養珍貴的友誼非常重要</a:t>
            </a:r>
            <a:endParaRPr b="0" lang="en-US" sz="5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071360" y="1714320"/>
            <a:ext cx="759276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友誼是生命中最重要的事情之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你能和老友舒服地相處，許多事也盡在不言中。朋友的關心和溫情能讓人走出生命的低潮，填補痛苦的空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06000"/>
                </a:solidFill>
                <a:latin typeface="Times New Roman"/>
              </a:rPr>
              <a:t>●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保持友誼需要努力。關心要付出的代價很小，換到的友誼卻很深刻，足以持續終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7-14T07:56:46Z</dcterms:modified>
  <cp:revision>1</cp:revision>
  <dc:subject/>
  <dc:title>幻灯片 1</dc:title>
</cp:coreProperties>
</file>