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2B82E-997C-47BF-8629-D2F797EBC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E116B-C036-41E0-9598-0A98B69F0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1E7E8-70EA-498D-9343-8D3AEC0EF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3B18F-CB1D-49A9-A3C8-039567735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C2AD5-C6F2-40B9-B9EF-B3AD30814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82DA6-87AA-41D4-91AA-4A65B521C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A4F2A-4149-4180-8EEB-5DB631C86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42950-D924-49A5-8AF7-E942F20CB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117A7-AC2A-4737-B125-0DF53979C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1C34F-AD2C-42AD-8576-E83015D89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70702-B7EC-4503-9E15-1950F0072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5C1ED-9408-4677-97BF-2982A7FA4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A7768-9176-4B9D-BE70-D54F69F45FD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1357200" y="1714680"/>
            <a:ext cx="5286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POWEPOI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4"/>
          <p:cNvSpPr/>
          <p:nvPr/>
        </p:nvSpPr>
        <p:spPr>
          <a:xfrm>
            <a:off x="1428840" y="2549520"/>
            <a:ext cx="414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简约抽象及相关类别演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Administrator</cp:lastModifiedBy>
  <dcterms:modified xsi:type="dcterms:W3CDTF">2014-11-13T09:34:32Z</dcterms:modified>
  <cp:revision>74</cp:revision>
  <dc:subject/>
  <dc:title>幻灯片 1</dc:title>
</cp:coreProperties>
</file>