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5A6-7E86-4EEC-A0B1-40589CAA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EF1-ED5A-40B8-8D7D-0695C1EF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4EF-C6A8-4AC3-B25F-9AE2912E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22D-3116-4D40-B396-5AF5EE90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162-50AA-4F28-9ECD-6392DEEC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6AE-8353-4FC8-9B74-79BFFF95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907-3073-4281-96E5-D4D32972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ADE-6EB9-4E09-95D1-96166AEE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9A6-FF4A-4615-B12A-6F64F88A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122-97C0-478B-AAF6-FC71449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29E-15AE-4FAC-A605-5447702E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5E8-CFC6-41B8-ACE9-534469A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5A9A-69A8-46F9-8452-998C58B2C5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83F0-CE8D-4C0B-A0AA-4641AC1C7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71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ef7a8e"/>
                </a:solidFill>
                <a:latin typeface="Calibri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708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f7a8e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25520" y="27288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.downho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ef7a8e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f7a8e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f7a8e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ef7a8e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7a8e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f7a8e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ef7a8e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f7a8e"/>
              </a:buClr>
              <a:buSzPct val="25000"/>
              <a:buFont typeface="Arial"/>
              <a:buChar char="•"/>
            </a:pPr>
            <a:r>
              <a:rPr b="0" lang="zh-CN" sz="28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f7a8e"/>
              </a:buClr>
              <a:buSzPct val="25000"/>
              <a:buFont typeface="Arial"/>
              <a:buChar char="•"/>
            </a:pPr>
            <a:r>
              <a:rPr b="0" lang="zh-CN" sz="28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f7a8e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ef7a8e"/>
                </a:solidFill>
                <a:latin typeface="Calibri"/>
              </a:rPr>
              <a:t>ppt.downhot.com </a:t>
            </a:r>
            <a:r>
              <a:rPr b="0" lang="zh-CN" sz="2800" spc="-1" strike="noStrike">
                <a:solidFill>
                  <a:srgbClr val="ef7a8e"/>
                </a:solidFill>
                <a:latin typeface="Calibri"/>
              </a:rPr>
              <a:t>搜集整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04:57:00Z</dcterms:created>
  <dc:creator>SUNNY-PC</dc:creator>
  <dc:description/>
  <dc:language>en-US</dc:language>
  <cp:lastModifiedBy>SUNNY-PC</cp:lastModifiedBy>
  <dcterms:modified xsi:type="dcterms:W3CDTF">2013-03-11T07:14:07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