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031-6EF2-438A-8D99-EED16916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E28-C4DE-4112-8B82-3D31A966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64E-D2C9-44F3-A433-D36A6E2C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BE4-1F58-4228-8ED7-D5D8E2F7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68F-9102-4D67-9640-0C9A3773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47DF-CDAC-4F0F-B3C3-14AA5C48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3E6B-11F2-4111-80DF-23352A6A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4D3B-4BC5-44ED-B0AE-8B46BC0D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33AC-C3ED-46FE-B5A7-EC430BB2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027B-9ED3-4B39-8F8F-9FBE384F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B86-D2AE-4B12-9D9F-D7C744C2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D714-219E-48DE-B391-DE0A6C52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AAFA-C433-4186-A26D-E3EAF71F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C124-F2C4-4F56-8E7A-0A7A758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56DD-6118-4489-9BAD-8F31D5EC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86DF-5DE4-4A78-A738-7ABFF5C3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7798-AD46-49C2-B41A-A04AB4B1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2C08-5DFD-4FB5-B155-A4DE77A2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6429-EFBC-4DE7-B07F-A28C341D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920E-08AA-4361-879B-A69E6F5E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81CD-CCA9-4B41-B40C-48C7D2CE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455-7D04-429C-A72B-8CB760CD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199DB-EFC3-4CA1-9917-0F5E6EA2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CA27-54A6-4578-8AC4-C33F8AB5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EEE29-FA8E-4AF0-AD39-D04C35FD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3135-F7A2-4E99-B2A4-4B396441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3CDF-FB5F-49DB-A788-64747787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954F-89DF-4325-9597-1883EFD5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39BBB-CE24-446A-ADDB-33B20329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73C6C-A469-434E-9CFD-9CD8E1A6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0C04-95A5-40A8-8ACD-F52AC9B3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E4F-5D13-4842-BB20-96C894AB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107-A585-44D4-B4CC-3A194650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197-AEB3-4A1F-B83A-2513DBFA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C43-8535-41A2-970A-EB8FCB08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762-C57F-4F95-81C2-4A9D6F2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0"/>
            <a:ext cx="9144000" cy="1417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A44D-9AE7-4BD0-8532-EF81E481A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33480" y="0"/>
            <a:ext cx="9177480" cy="388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14972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50720"/>
            <a:ext cx="646200" cy="6098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85160" y="685800"/>
            <a:ext cx="5112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54880" y="6922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61400" y="3016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39040" y="333360"/>
            <a:ext cx="5130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-23760"/>
            <a:ext cx="9144000" cy="43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0AC5-574E-4CA7-8070-F9C49B65D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55DC-C312-4106-B20B-E82C4C599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0240" y="174456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毕业答辩通用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演讲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4520" y="4780080"/>
            <a:ext cx="14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00600" y="520704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801880" y="934920"/>
            <a:ext cx="28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4640" y="21430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79840" y="2711520"/>
            <a:ext cx="2303280" cy="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4640" y="2846520"/>
            <a:ext cx="576360" cy="5760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79840" y="3414600"/>
            <a:ext cx="2303280" cy="180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36720" y="3533760"/>
            <a:ext cx="57636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95680" y="4094280"/>
            <a:ext cx="2303640" cy="144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3840" y="4222800"/>
            <a:ext cx="576000" cy="5778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8680" y="4791240"/>
            <a:ext cx="2303640" cy="144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1 /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文内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1960" y="83808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2640" y="88272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二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719280" y="692280"/>
            <a:ext cx="1604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  <a:ea typeface="微软雅黑"/>
              </a:rPr>
              <a:t>数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Rectangle 3"/>
          <p:cNvGraphicFramePr/>
          <p:nvPr/>
        </p:nvGraphicFramePr>
        <p:xfrm>
          <a:off x="1403280" y="1701720"/>
          <a:ext cx="6203880" cy="34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1720"/>
                    <a:ext cx="6203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370240" y="277344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154240" y="3870360"/>
            <a:ext cx="49132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27680" y="1849320"/>
            <a:ext cx="1239840" cy="2053800"/>
            <a:chOff x="5827680" y="1849320"/>
            <a:chExt cx="1239840" cy="2053800"/>
          </a:xfrm>
        </p:grpSpPr>
        <p:grpSp>
          <p:nvGrpSpPr>
            <p:cNvPr id="204" name=""/>
            <p:cNvGrpSpPr/>
            <p:nvPr/>
          </p:nvGrpSpPr>
          <p:grpSpPr>
            <a:xfrm>
              <a:off x="5827680" y="1849320"/>
              <a:ext cx="1239840" cy="2053800"/>
              <a:chOff x="5827680" y="1849320"/>
              <a:chExt cx="1239840" cy="2053800"/>
            </a:xfrm>
          </p:grpSpPr>
          <p:sp>
            <p:nvSpPr>
              <p:cNvPr id="205" name=""/>
              <p:cNvSpPr/>
              <p:nvPr/>
            </p:nvSpPr>
            <p:spPr>
              <a:xfrm>
                <a:off x="6126480" y="1849320"/>
                <a:ext cx="644760" cy="6458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43120" y="2378160"/>
                <a:ext cx="410040" cy="11160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891840" y="25340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曲线 235"/>
              <p:cNvSpPr/>
              <p:nvPr/>
            </p:nvSpPr>
            <p:spPr>
              <a:xfrm rot="20520000">
                <a:off x="6515280" y="2658240"/>
                <a:ext cx="464040" cy="38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cubicBezTo>
                      <a:pt x="1394" y="18084"/>
                      <a:pt x="3963" y="7704"/>
                      <a:pt x="8286" y="3852"/>
                    </a:cubicBezTo>
                    <a:cubicBezTo>
                      <a:pt x="12609" y="0"/>
                      <a:pt x="18975" y="1530"/>
                      <a:pt x="21600" y="2321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曲线 238"/>
              <p:cNvSpPr/>
              <p:nvPr/>
            </p:nvSpPr>
            <p:spPr>
              <a:xfrm rot="660000">
                <a:off x="5915520" y="2459520"/>
                <a:ext cx="498240" cy="3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4212" y="3699"/>
                      <a:pt x="16289" y="11134"/>
                      <a:pt x="21600" y="2160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27680" y="23054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302160" y="3480840"/>
                <a:ext cx="11160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01600" y="3467520"/>
                <a:ext cx="13536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540000">
                <a:off x="6193080" y="366444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4020000">
                <a:off x="6584040" y="365796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rot="6300000">
              <a:off x="6369480" y="2294640"/>
              <a:ext cx="96840" cy="9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3360" y="2069640"/>
              <a:ext cx="7596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46600" y="2118960"/>
              <a:ext cx="75960" cy="7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LHCan</cp:lastModifiedBy>
  <dcterms:modified xsi:type="dcterms:W3CDTF">2015-07-15T09:07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