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DF15-E11F-4F80-8C77-0E192B66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9998-E433-4324-8549-20A37854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D0E71-E9D8-4835-B8E8-E2FFD6CD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6BB67-B807-4AF8-8763-3E0C305B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8E3DC-05F8-4A0C-81EE-9DEE03E7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86A73-165A-4C7E-B8AF-F4CF109A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2694A-4A34-4686-AC3A-69279424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CD102-C404-49FB-B8E1-AF3E5B90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87FF0-E220-4B6E-9EE8-0CB2FC4C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293AA-2567-4235-B4CD-24680B37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6870D-CB85-4BDC-83C9-2F9FF9A9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DE015-07FD-4BFD-90EF-400B51E9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DAD6-542D-47A0-9039-33928263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8E442-8EB4-4A6A-8964-047C6AA9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5CAC4-414F-4581-973A-017600F3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E0CCD-E04B-4820-8AA8-D4C3CD82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3085B-1256-4DAD-A4A9-1AD0147E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CFEB5-6351-461D-A98D-B10323B3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4EA27-17C6-4FCB-9A2A-D809365D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80E5C-E9C5-459A-BD66-691EAA3A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8126C-F921-4C39-B166-9785783A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89BA1-F1F6-486A-85D2-8F2CDF19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BA85C-A6E9-493F-BDF2-613DC6AF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BFC-A34F-4149-8AF8-3256D4D7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C50E8-7C72-4AC9-BB92-5B4A36B4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31E6D-A32F-43C2-9554-F29F28F4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34BF7-7771-4857-A175-7E764F66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599DF-0873-4771-94BB-725BD968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15DA5-0BC2-4444-BC0B-8E578234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D6066-C5F6-4E0F-9757-5BFAB285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12096-BC95-420F-9EE8-9C000117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F3C7B-F6F1-4F80-B951-FB9C7998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95A49-9DD6-43BD-89B2-28F2868A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C1CCC-29CD-4B73-BB17-25CADA5D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2E0B-4806-4DE7-BB5A-C7AA9FA9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68A64-6C63-4E9D-95B8-30A8CC97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D8C3F-F49D-419E-B104-5DDCC117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BE400-1637-4F94-B238-7D4BE840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0A87E-3D89-48AB-9C5A-0C7A2FC1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18946-7CBF-4F83-B64C-AEAB3A81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C087A-CCFD-453B-956C-0EB32EE9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2AAA1-0A76-448D-B63A-2098A3FD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01D4E-CF6D-4FA6-8FE0-C33D3B17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AC1D0-A6E8-4B13-9F0C-42D9E54F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A51AF-C054-4F65-BEF4-8825E5BC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ECF0-4F84-4701-8DCE-242A72D6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BE5E9-9BA6-4B56-998E-FFBE1382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07E6B-DEF7-440D-8444-20AC8E6A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CFF2E-74E7-49DA-ADC6-BD62FDB3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EC263-EB89-401E-BE8B-BB393DAD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A5E64-49ED-4EF1-8910-0E91A643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0EF3-CEB7-4A6F-A96B-97F658D3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601F-BFCD-44B2-9FFB-330D4892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84C2-CFF5-4921-9307-EB6349B6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1807-CC20-4F7B-A1BE-BE0AA10B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3D8D-7047-44D9-B640-E63B7923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C23-0AD3-41CC-80F1-1588781C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FA45-5B95-4448-A6F9-DC3EDAD9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CBB0-CF0B-44BD-B2A0-1880F517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CBFF-76A6-4009-9B85-3C6212C8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4FBE-690C-4D11-9F7F-815BD670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D7B8-83CF-43C6-9E04-A0038276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80917-3EFB-49AA-A67D-5E4704BD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1AE78-0E5B-4B8B-A7AD-C41BE892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66025-3587-4605-A92B-44623A13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ACC83-25F5-488B-A7CD-13A0C391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00769-D64F-475A-A7A3-4A57C358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9E6-134B-4882-8F73-C16F666A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5B6A3-AC7D-4BC2-AAFD-1EB5F08A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35497-3A11-44BE-BF2F-7B3421B1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47528-0FA1-4253-8250-92B8DD72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0570D-8E5B-44D2-90BF-0033C89A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5FD3A-C900-421A-A999-651258DD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2450B-CDD3-4D2A-8A1E-12F3D551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09194-B08C-4C69-8EFD-E318468F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D8577-B023-42EC-81F0-B39CC5E4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249C5-58D9-45F8-B0C5-A339FE40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A1C09-F3F1-4A45-861E-0D726F4E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5D26-7E99-44B3-8326-AE618841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27675-E9DD-45ED-91E8-5BC596CE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514E5-A688-487B-8414-C55B64BE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14F3A-5C88-4577-BDD8-E443A769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97894-63F3-4F36-8FF9-8A5EFAE5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B7C62-9682-4116-986B-D6AF2AFC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7B027-CACC-48CA-9831-20D2D94A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1DE7E-037B-49B2-883F-DE4DA36A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BA3C4-F6E7-45C4-AEF4-5852100E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6A678-E370-4F1F-BCFA-C201F8C7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147CA-0799-4A89-948A-67D20E16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E19-B181-4295-B835-07067F22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28770-4A1F-42FB-BB80-AE4A9728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71A56-F594-4AE6-B53E-73A8E924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71E0C-3CA0-4310-823A-F6300464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DF7FC-ABF7-43EC-BDB9-9B92C238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42B83-8C73-4486-A3ED-501D9114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A4CFB-C7D1-44B7-93CC-597935C8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39E43-09AB-4539-894B-E839519C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7BFD9-FABF-481C-AE61-4C7BE4F0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09B83-3448-46D7-A5BB-CBBF7286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B298D-B504-4C3E-B542-16DB253C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FFF-479B-412A-8B06-C2D55053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95E4D-9B6E-42C4-A78A-1A0D7819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1A3FB-36DE-4F6F-967C-1727AEE4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3F844-3559-4DF6-972A-EECE4EEE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DB65F-175F-48FA-8C55-DFD967FA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3D44A-AF2D-43C2-B3CB-807AD26E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F061F-B115-4B1A-857E-85588059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0B36B-1CC1-471F-B115-9C0D5BB1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2C0FA-C5FD-49BB-ABA1-A96DFBCF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B6C7D-A8A3-4347-A844-FAE9A1A4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DD0F5-6D41-4F46-B357-FC713F29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B69-DA6A-4E62-AF47-8C7479D5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8347D-2DDA-41C6-A84F-9FFAF1D2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90085-AD3D-4E6E-9A50-2F602E88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6A96A-9FAC-4F40-BA23-FC4F85EA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E39A5-51B7-4DBB-9DBD-FFAB7395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A91B0-5E26-4D0C-A662-578FA4A1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1B1E5-3214-414B-AE70-554D60DF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4357F-492C-4BB3-B6B7-F3E5D51D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207F7-430F-4744-B243-E5D4B802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64C40-B8D8-4DB8-A04D-B8C86C33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24E6D-B8A4-436E-AA42-EBB90066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41BF-3044-46F4-BDA8-8A513B9D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8668C-3792-45EB-8F4D-A5EFEDD2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C0A2E-A98D-46A2-86C5-6DF2F272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6A96D-FA19-4A17-85E9-44DB659D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06F01-3ECB-4B95-B6D0-254B11AB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55A75-A8B5-4B20-BE08-E5C2D362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68543-B574-46FB-8A5C-929D0619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4DB91-5B39-4264-B594-8DDD485D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C0FBB-9AE3-4488-92AC-84644D25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C9361-BBDF-4847-B75B-00082484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246EE-38F9-4828-B551-78113267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ED5E-DDD0-4C35-82DD-77176CEB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882CC-30B7-4820-84BE-25DBF56C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B45E0-8C6C-4E46-B312-9DBDC47C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7B239-D1C6-4D98-BA9C-CC5C259D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B68C5-0F14-45B7-8618-162C7DBD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F619E-6C7E-4B64-B382-EF347326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08965-FA82-4484-9E5E-52C4EA95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A264C-2A7C-41D5-A7E7-2AD7A1B9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F2E11-43F0-4E63-AB25-E137C398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CA1C6-AC48-40C5-B94F-98ADB4B0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BAE6E-88A5-4261-B68D-2959672C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B254-6EAC-4C58-B584-6C29F3812AF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7516-57F0-4C0D-9CEF-37A7469E8E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5B49-956B-4E94-BB1E-C5D97D37C86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5B67-6261-4974-96FD-1DB24329C4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A4D9-7707-4CB5-935E-A41B87A7351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626B-6FDF-4ABA-8F21-FF5B003813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2DAE-B3F7-477D-B4E2-EEEEC152F77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7044-92B3-4738-B126-C078A5211C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0A43-D630-4F85-8330-8242241ACE1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B21C-4FD6-4816-932B-5E9875F393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4A63-5B9F-4A1B-9625-CE9E2C2CADB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9FC6-41EA-4CE6-A859-C9538B7525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79BA-CD69-4709-AD2E-8CEFD66A847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44CC-FFBD-4CEE-8C46-45756345B4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D406-1F09-406F-9E26-9A13C045400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62F3-05DA-481F-AA5B-8A7589A9F0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0F80-9E13-4113-BA59-2A7ABE4B30A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4238-0571-4A9C-8B38-D9E063DF4B7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9E68-CA38-49E5-AD84-47386A6FD5A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603B-26A2-4337-8C09-EE36736B53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2564-A032-432E-B773-5BE494491F5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D1F5-FB97-4A44-8BD7-84AF66467E8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FF2C-2DDF-4554-9220-60672791E53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B96B-84D1-458C-8771-0FEB44C51A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4"/>
          <p:cNvSpPr/>
          <p:nvPr/>
        </p:nvSpPr>
        <p:spPr>
          <a:xfrm>
            <a:off x="1835280" y="347184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fanwen/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图片 1" descr=""/>
          <p:cNvPicPr/>
          <p:nvPr/>
        </p:nvPicPr>
        <p:blipFill>
          <a:blip r:embed="rId6"/>
          <a:stretch/>
        </p:blipFill>
        <p:spPr>
          <a:xfrm>
            <a:off x="1025640" y="412920"/>
            <a:ext cx="7197480" cy="4352760"/>
          </a:xfrm>
          <a:prstGeom prst="rect">
            <a:avLst/>
          </a:prstGeom>
          <a:ln w="0">
            <a:noFill/>
          </a:ln>
        </p:spPr>
      </p:pic>
      <p:sp>
        <p:nvSpPr>
          <p:cNvPr id="494" name="TextBox 2"/>
          <p:cNvSpPr/>
          <p:nvPr/>
        </p:nvSpPr>
        <p:spPr>
          <a:xfrm>
            <a:off x="5083200" y="1222200"/>
            <a:ext cx="252108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名字</a:t>
            </a:r>
            <a:r>
              <a:rPr b="1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</a:t>
            </a:r>
            <a:r>
              <a:rPr b="0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Shane Steven Filan 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生日</a:t>
            </a:r>
            <a:r>
              <a:rPr b="1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</a:t>
            </a:r>
            <a:r>
              <a:rPr b="0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1979.7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月</a:t>
            </a:r>
            <a:r>
              <a:rPr b="0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5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星座</a:t>
            </a:r>
            <a:r>
              <a:rPr b="1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巨蟹座 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身高</a:t>
            </a:r>
            <a:r>
              <a:rPr b="1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</a:t>
            </a:r>
            <a:r>
              <a:rPr b="0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175cm 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　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爱好</a:t>
            </a:r>
            <a:r>
              <a:rPr b="1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音乐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职业</a:t>
            </a:r>
            <a:r>
              <a:rPr b="1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音乐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联系地址</a:t>
            </a:r>
            <a:r>
              <a:rPr b="1" lang="en-US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:</a:t>
            </a:r>
            <a:r>
              <a:rPr b="0" lang="zh-CN" sz="1600" spc="-1" strike="noStrike">
                <a:solidFill>
                  <a:srgbClr val="3f3f3f"/>
                </a:solidFill>
                <a:latin typeface="方正舒体"/>
                <a:ea typeface="方正舒体"/>
              </a:rPr>
              <a:t>爱尔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4" descr=""/>
          <p:cNvPicPr/>
          <p:nvPr/>
        </p:nvPicPr>
        <p:blipFill>
          <a:blip r:embed="rId7"/>
          <a:stretch/>
        </p:blipFill>
        <p:spPr>
          <a:xfrm rot="20852400">
            <a:off x="1785600" y="1222200"/>
            <a:ext cx="2376360" cy="13366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图片 1" descr=""/>
          <p:cNvPicPr/>
          <p:nvPr/>
        </p:nvPicPr>
        <p:blipFill>
          <a:blip r:embed="rId1"/>
          <a:stretch/>
        </p:blipFill>
        <p:spPr>
          <a:xfrm>
            <a:off x="1025640" y="412920"/>
            <a:ext cx="7197480" cy="435276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3" descr=""/>
          <p:cNvPicPr/>
          <p:nvPr/>
        </p:nvPicPr>
        <p:blipFill>
          <a:blip r:embed="rId2"/>
          <a:stretch/>
        </p:blipFill>
        <p:spPr>
          <a:xfrm>
            <a:off x="1692360" y="1254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98" name="矩形 5"/>
          <p:cNvSpPr/>
          <p:nvPr/>
        </p:nvSpPr>
        <p:spPr>
          <a:xfrm>
            <a:off x="2989440" y="1131840"/>
            <a:ext cx="162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积分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547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金币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092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推广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2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好友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3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主题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日志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相册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分享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6"/>
          <p:cNvSpPr/>
          <p:nvPr/>
        </p:nvSpPr>
        <p:spPr>
          <a:xfrm>
            <a:off x="1793160" y="2419200"/>
            <a:ext cx="104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Wost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f3f3f"/>
                </a:solidFill>
                <a:latin typeface="方正舒体"/>
                <a:ea typeface="方正舒体"/>
              </a:rPr>
              <a:t>水大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7"/>
          <p:cNvSpPr/>
          <p:nvPr/>
        </p:nvSpPr>
        <p:spPr>
          <a:xfrm>
            <a:off x="6281640" y="1133640"/>
            <a:ext cx="16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积分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902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金币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817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推广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4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好友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3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主题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2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日志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相册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分享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图片 8" descr=""/>
          <p:cNvPicPr/>
          <p:nvPr/>
        </p:nvPicPr>
        <p:blipFill>
          <a:blip r:embed="rId3"/>
          <a:stretch/>
        </p:blipFill>
        <p:spPr>
          <a:xfrm>
            <a:off x="5230800" y="1222200"/>
            <a:ext cx="1009800" cy="1143000"/>
          </a:xfrm>
          <a:prstGeom prst="rect">
            <a:avLst/>
          </a:prstGeom>
          <a:ln w="0">
            <a:noFill/>
          </a:ln>
        </p:spPr>
      </p:pic>
      <p:sp>
        <p:nvSpPr>
          <p:cNvPr id="502" name="矩形 9"/>
          <p:cNvSpPr/>
          <p:nvPr/>
        </p:nvSpPr>
        <p:spPr>
          <a:xfrm>
            <a:off x="5275440" y="233856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sun_zh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图片 1" descr=""/>
          <p:cNvPicPr/>
          <p:nvPr/>
        </p:nvPicPr>
        <p:blipFill>
          <a:blip r:embed="rId1"/>
          <a:stretch/>
        </p:blipFill>
        <p:spPr>
          <a:xfrm>
            <a:off x="1025640" y="412920"/>
            <a:ext cx="7197480" cy="435276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3" descr=""/>
          <p:cNvPicPr/>
          <p:nvPr/>
        </p:nvPicPr>
        <p:blipFill>
          <a:blip r:embed="rId2"/>
          <a:stretch/>
        </p:blipFill>
        <p:spPr>
          <a:xfrm>
            <a:off x="1746360" y="1251000"/>
            <a:ext cx="1143000" cy="1114200"/>
          </a:xfrm>
          <a:prstGeom prst="rect">
            <a:avLst/>
          </a:prstGeom>
          <a:ln w="0">
            <a:noFill/>
          </a:ln>
        </p:spPr>
      </p:pic>
      <p:sp>
        <p:nvSpPr>
          <p:cNvPr id="505" name="矩形 6"/>
          <p:cNvSpPr/>
          <p:nvPr/>
        </p:nvSpPr>
        <p:spPr>
          <a:xfrm>
            <a:off x="1817640" y="24192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本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图片 8" descr=""/>
          <p:cNvPicPr/>
          <p:nvPr/>
        </p:nvPicPr>
        <p:blipFill>
          <a:blip r:embed="rId3"/>
          <a:stretch/>
        </p:blipFill>
        <p:spPr>
          <a:xfrm>
            <a:off x="5230800" y="1289160"/>
            <a:ext cx="1009800" cy="1009440"/>
          </a:xfrm>
          <a:prstGeom prst="rect">
            <a:avLst/>
          </a:prstGeom>
          <a:ln w="0">
            <a:noFill/>
          </a:ln>
        </p:spPr>
      </p:pic>
      <p:sp>
        <p:nvSpPr>
          <p:cNvPr id="507" name="矩形 9"/>
          <p:cNvSpPr/>
          <p:nvPr/>
        </p:nvSpPr>
        <p:spPr>
          <a:xfrm>
            <a:off x="5021280" y="233856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yonneyc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2"/>
          <p:cNvSpPr/>
          <p:nvPr/>
        </p:nvSpPr>
        <p:spPr>
          <a:xfrm>
            <a:off x="2941560" y="1131840"/>
            <a:ext cx="168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积分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885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金币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4827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推广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639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好友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2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主题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日志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相册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分享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4"/>
          <p:cNvSpPr/>
          <p:nvPr/>
        </p:nvSpPr>
        <p:spPr>
          <a:xfrm>
            <a:off x="6281640" y="1131840"/>
            <a:ext cx="18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积分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752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金币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64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推广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483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好友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45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主题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日志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相册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分享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1" descr=""/>
          <p:cNvPicPr/>
          <p:nvPr/>
        </p:nvPicPr>
        <p:blipFill>
          <a:blip r:embed="rId1"/>
          <a:stretch/>
        </p:blipFill>
        <p:spPr>
          <a:xfrm>
            <a:off x="1025640" y="412920"/>
            <a:ext cx="7197480" cy="4352760"/>
          </a:xfrm>
          <a:prstGeom prst="rect">
            <a:avLst/>
          </a:prstGeom>
          <a:ln w="0">
            <a:noFill/>
          </a:ln>
        </p:spPr>
      </p:pic>
      <p:pic>
        <p:nvPicPr>
          <p:cNvPr id="511" name="图片 3" descr=""/>
          <p:cNvPicPr/>
          <p:nvPr/>
        </p:nvPicPr>
        <p:blipFill>
          <a:blip r:embed="rId2"/>
          <a:stretch/>
        </p:blipFill>
        <p:spPr>
          <a:xfrm>
            <a:off x="1746360" y="1266840"/>
            <a:ext cx="1143000" cy="1008000"/>
          </a:xfrm>
          <a:prstGeom prst="rect">
            <a:avLst/>
          </a:prstGeom>
          <a:ln w="0">
            <a:noFill/>
          </a:ln>
        </p:spPr>
      </p:pic>
      <p:sp>
        <p:nvSpPr>
          <p:cNvPr id="512" name="矩形 6"/>
          <p:cNvSpPr/>
          <p:nvPr/>
        </p:nvSpPr>
        <p:spPr>
          <a:xfrm>
            <a:off x="1817640" y="2292480"/>
            <a:ext cx="1071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Yzg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f3f3f"/>
                </a:solidFill>
                <a:latin typeface="方正舒体"/>
                <a:ea typeface="方正舒体"/>
              </a:rPr>
              <a:t>灰师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图片 8" descr=""/>
          <p:cNvPicPr/>
          <p:nvPr/>
        </p:nvPicPr>
        <p:blipFill>
          <a:blip r:embed="rId3"/>
          <a:stretch/>
        </p:blipFill>
        <p:spPr>
          <a:xfrm>
            <a:off x="5230800" y="1266840"/>
            <a:ext cx="1009800" cy="930240"/>
          </a:xfrm>
          <a:prstGeom prst="rect">
            <a:avLst/>
          </a:prstGeom>
          <a:ln w="0">
            <a:noFill/>
          </a:ln>
        </p:spPr>
      </p:pic>
      <p:sp>
        <p:nvSpPr>
          <p:cNvPr id="514" name="矩形 9"/>
          <p:cNvSpPr/>
          <p:nvPr/>
        </p:nvSpPr>
        <p:spPr>
          <a:xfrm>
            <a:off x="5021280" y="220032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debug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5"/>
          <p:cNvSpPr/>
          <p:nvPr/>
        </p:nvSpPr>
        <p:spPr>
          <a:xfrm>
            <a:off x="2889360" y="1131840"/>
            <a:ext cx="168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积分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690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金币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5668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推广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3915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好友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3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主题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日志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相册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分享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7"/>
          <p:cNvSpPr/>
          <p:nvPr/>
        </p:nvSpPr>
        <p:spPr>
          <a:xfrm>
            <a:off x="6240600" y="1147680"/>
            <a:ext cx="169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积分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689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金币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788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推广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好友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3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主题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1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日志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相册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分享</a:t>
            </a:r>
            <a:r>
              <a:rPr b="0" lang="en-US" sz="1800" spc="-1" strike="noStrike">
                <a:solidFill>
                  <a:srgbClr val="3f3f3f"/>
                </a:solidFill>
                <a:latin typeface="方正舒体"/>
                <a:ea typeface="方正舒体"/>
              </a:rPr>
              <a:t>: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0:02:00Z</dcterms:created>
  <dc:creator>微软中国</dc:creator>
  <dc:description/>
  <cp:keywords/>
  <dc:language>en-US</dc:language>
  <cp:lastModifiedBy>Sky123.Org</cp:lastModifiedBy>
  <dcterms:modified xsi:type="dcterms:W3CDTF">2015-10-09T02:07:02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