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652-CC3F-4D3F-B660-8B071412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FD4-D13E-44DA-A823-4B83C855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D30-B7B5-4845-AA0E-CBF65975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344-62BC-47D0-867D-F9C7CD2B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0835-E729-4B2F-ADE4-346BCF9C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5256-6963-420D-8B0A-071FB870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2747-6A77-4221-A665-B32F02C8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FB1-4E81-4D4A-8FD0-97E3282F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C62D-1180-4BA6-A639-B8FB87BE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E005-F36D-4A7C-AB69-8027246C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0659-7A02-47F3-B90F-A770BD5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EFA-789B-496F-8123-ED974B7B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CFE5-1511-4E0F-8D78-8830667C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9CC7-4944-4FDA-ACD6-73853BFA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7D10-D0C7-404B-BDDB-41AEF073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071B-A6F2-4C9A-AB5B-BC564CD7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2DC0-E91A-4D6E-ABE4-9230C762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35D-1448-4ACF-915B-8D9C5C7E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E7D-C3A6-47DC-8837-1E94978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5D4-9894-4A47-8BED-AD86F027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D01-D9E1-4B72-B1FD-C25320D8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080-1D00-4F21-AA6A-ED66B7D1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3EB-3CE7-4B27-B77B-3AC0294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98E-FA8D-4AB8-B8EA-E0813111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0B34-EB0C-4897-820C-9B432527C15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85B-6BE8-4261-9F11-50B07FA9CA9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2984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ffcc00"/>
                </a:solidFill>
                <a:latin typeface="Arial Black"/>
                <a:ea typeface="黑体"/>
              </a:rPr>
              <a:t> </a:t>
            </a:r>
            <a:r>
              <a:rPr b="1" lang="zh-CN" sz="9600" spc="-1" strike="noStrike">
                <a:solidFill>
                  <a:srgbClr val="ffcc00"/>
                </a:solidFill>
                <a:latin typeface="Arial Black"/>
                <a:ea typeface="黑体"/>
              </a:rPr>
              <a:t>播音主持专业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停连 重音 语速 句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  <a:ea typeface="黑体"/>
              </a:rPr>
              <a:t>  </a:t>
            </a:r>
            <a:r>
              <a:rPr b="0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停连指语句或词语之间声音上的间歇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  <a:ea typeface="黑体"/>
              </a:rPr>
              <a:t>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停连一方面是由于朗诵者在朗诵时生理上的需要；另一方面是句子结构上的需要；再一方面是为了充分表达思想感情的需要；同时，也可给听者一个领略和思考、理解和接受的余地，帮助听者理解文章含义，加深印象。停顿包括生理停顿、语法停顿、非语法停顿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重音是指朗诵、说话时句子里某些词语念得比较重的现象。一般用增加声音的强度来体现。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-324000" y="1989000"/>
            <a:ext cx="89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我今天晚上和朋友交流朗诵知识。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（问答“谁和大家交流朗诵知识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?”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8526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我今天晚上和朋友交流朗诵知识。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（问答“我和大家交流什么知识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?”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）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076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我今天晚上和朋友交流朗诵知识。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（问答“我什么时候和大家交流朗诵知识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?”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）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229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我今天晚上和朋友交流朗诵知识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问答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我和谁交流朗诵知识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?")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79185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语速是指说话或朗诵时每个音节的长短及音节之间连接的紧松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 Black"/>
                <a:ea typeface="黑体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说话的速度是由说话人的感情决定的，朗诵的速度则与文章的思想内容相联系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  <a:ea typeface="黑体"/>
              </a:rPr>
              <a:t>热烈，欢快、兴奋、紧张的内容速度快一些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  <a:ea typeface="黑体"/>
              </a:rPr>
              <a:t>平静、庄重、悲伤、沉重、追忆的内容速度慢一些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Black"/>
                <a:ea typeface="黑体"/>
              </a:rPr>
              <a:t>一般的叙述、说明、议论则用中速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字调为声调，是指音节的高低升降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句调我们则称为语调，是指语句的高低升降。句调是贯穿整个句干的，只是在句未音节上表现得特别明显。句调根据表示的语气和感情态度的不同，可分为四种：升调、降调、平调、曲调。</a:t>
            </a:r>
            <a:br>
              <a:rPr sz="2800"/>
            </a:br>
            <a:br>
              <a:rPr sz="2200"/>
            </a:b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．升调（↑），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前低后高，语势上升。一般用来表示疑问、反问、惊异等语气。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如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: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这个毛头小子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,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给我们谈朗诵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,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他谈的明白吗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?)</a:t>
            </a:r>
            <a:br>
              <a:rPr sz="2200"/>
            </a:br>
            <a:br>
              <a:rPr sz="2200"/>
            </a:b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．降调（↓），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前高后低，语势渐降。一般用于陈述句、感叹句、祈使句，表示肯定、坚决、赞美、祝福等感情。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如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;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你别说啊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?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还真有那么点意思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.)</a:t>
            </a:r>
            <a:br>
              <a:rPr sz="2200"/>
            </a:b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   </a:t>
            </a: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．平调。（一），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这种调子，语势平稳舒缓，没有明显的升降变化，用于不带特殊感情的陈述和说明，还可表示庄严、悲痛、冷淡等感情。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如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: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我和大家在这里交流朗诵知识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)</a:t>
            </a:r>
            <a:br>
              <a:rPr sz="2200"/>
            </a:br>
            <a:br>
              <a:rPr sz="2200"/>
            </a:b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4</a:t>
            </a: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．曲调。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全句语调弯曲，或先升后降，或先降后升，往往把句中需要突出的词语拖长着念，这种句调常用来表示讽刺、厌恶、反语、意在言外等语气。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( 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这个毛头小子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,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给我们谈朗诵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,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他谈的明白吗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?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你别说啊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?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还真有那么点意思</a:t>
            </a:r>
            <a:r>
              <a:rPr b="1" lang="zh-CN" sz="2200" spc="-1" strike="noStrike">
                <a:solidFill>
                  <a:srgbClr val="ffcc00"/>
                </a:solidFill>
                <a:latin typeface="黑体"/>
                <a:ea typeface="黑体"/>
              </a:rPr>
              <a:t>.)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声音变化练习：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结合不同情境，声音随之发生变化，试着发出不同的声音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 Black"/>
              </a:rPr>
              <a:t>情境</a:t>
            </a:r>
            <a:r>
              <a:rPr b="1" lang="zh-CN" sz="3200" spc="-1" strike="noStrike">
                <a:solidFill>
                  <a:srgbClr val="ff0066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 Black"/>
              </a:rPr>
              <a:t>：阿毛是你五岁的小表弟，虎头虎脑的，很可爱，他就站在距你几步远的门口，你亲切地招呼了他一声：“来，阿毛。”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用声提示：较小的音量，声音明朗而柔和，气息适中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情境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：阿毛走了过来，边走边喊着：“我要出去玩，我要出去玩！”由于奶奶在隔壁房间午休，你担心阿毛的喊声惊醒了奶奶，忙竖起手指放在嘴唇上，说：“嘘，小声点，阿毛。”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用声提示：小音量，低弱声，声音虚而弱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79898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情境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：你连忙带他下楼，他和小朋友们玩皮球。几个小伙伴一起争抢着一个皮球，阿毛也挤在里面，你略带呵斥地说：“阿毛，回来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!”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用声提示：较大音量，中等强度的声音，声音较响亮，清晰度较高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情境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：阿毛不听话，好像就没听见你的话，依然夺抢着皮球，你高声喊：“阿毛！”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用声提示：大音量，高强度的声音，声音靠前，气息下沉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1258920" y="1989000"/>
            <a:ext cx="6248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楷体_GB2312"/>
              </a:rPr>
              <a:t>狐狸和乌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5003640" cy="359892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1042920" y="966960"/>
            <a:ext cx="7772400" cy="3849120"/>
            <a:chOff x="1042920" y="966960"/>
            <a:chExt cx="7772400" cy="3849120"/>
          </a:xfrm>
        </p:grpSpPr>
        <p:sp>
          <p:nvSpPr>
            <p:cNvPr id="379" name=""/>
            <p:cNvSpPr/>
            <p:nvPr/>
          </p:nvSpPr>
          <p:spPr>
            <a:xfrm>
              <a:off x="5302440" y="966960"/>
              <a:ext cx="18396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2920" y="4194000"/>
              <a:ext cx="777240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  <a:ea typeface="黑体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在历届各高校播音主持专业考试中，对考生的要求有哪些？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第一，普通话语音标准规范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第二，发音器官健康正常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第三，嗓音圆润口齿清晰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第四，形象大方，气质良好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第五，思维反应迅速敏锐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第六，文化综合素质较强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剧中人物：狐狸、乌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（乌鸦上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乌鸦：今天真冷，我饿极了，我的宝宝也饿了 ，我得找点东西吃。那地上是块什么东西？啊，是一块肉，我多幸运！我要带它回去喂我的宝宝。（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把肉叼在嘴里，站在房顶上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（狐狸上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：我好饿呀。每年的这个时候很难找到食物。嗯，我闻到什么东西的味道，好像是肉哇，乌鸦嘴里叼着一块肉呢，我馋得直流口水，我一定要得到那块肉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：乌鸦太太，你好吗？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（乌鸦看了狐狸不说话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（对观众）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我一定要得到那块肉，我一定要使她开口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（笑嘻嘻）亲爱的乌鸦。您的孩子还好吗？他们长得好可爱呢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（乌鸦点点头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：嗨，美丽的乌鸦，您的羽毛长得多好看，你的嘴又可爱，我一直认为你是世界上最美丽的鸟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（乌鸦骄傲的点点头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 ：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对观众）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这蠢乌鸦感到自豪和骄傲了，但她还是不开口说话，我必须想办法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：我听说你的声音很美，如果是真的话你一定是鸟中王后，你能为我唱支歌吗？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（乌鸦骄傲地笑了笑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：你是森林里最出色的歌手。人人都这么说，请唱首歌给我听，好吗？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乌鸦：哇……哇……哇……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（肉掉到地上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（捡起肉）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乌鸦太太，你的羽毛好丑，你的声音是够大，可你的智慧还不够。哈哈！非常谢谢你，我跟我的孩子吃肉去咯，再见！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乌鸦：把肉还给我！把肉还跟我！我多蠢哪！哇！哇！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333360"/>
            <a:ext cx="8893080" cy="33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编故事：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老乌鸦把自己上当受骗的故事，告诉了小乌鸦，并用这句名言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闪光的东西并非都是金子，动听的语言并不都是好话。——莎士比亚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教育小乌鸦，希望小乌鸦能吸取教训。小乌鸦长大了，有一天，小乌鸦也找到了一块肉叼了回来，小狐狸看见了，又想骗下这块肉，他能得逞吗？课后请同学们编一个童话故事。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280" y="901800"/>
            <a:ext cx="883944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《乌鸦和狐狸》续篇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老乌鸦怀着十分沉重的心情向她的女儿——小乌鸦叙述着当年它被老狐狸骗去一片肉的经过，要小乌鸦永远记住这件事。小乌鸦听了连连点头，心里暗暗地想：妈妈可真傻，老狐狸耍了这么一点点小伎俩就上当受骗了，我才不会呢！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真是无巧不成书。一天，小乌鸦衔着一片肉，得意洋洋地站在树枝上。这时老狐狸的女儿——小狐狸正好路过树下。它抬头一看，只见小乌鸦口中衔着一片肉，馋得口水都快流出来了，心想：我何不用当年妈妈骗老乌鸦的一套办法来骗小乌鸦呢？于是，它又耍起当年老狐狸骗老乌鸦的那一套，可是，小乌鸦连理也不理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95280" y="1268280"/>
            <a:ext cx="799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小狐狸心想：看来用妈妈当年那一套，对付小乌鸦是不行了，得另想办法。只见它眼珠一转，便破口大骂：“小乌鸦，你们是世界上最坏的东西，谁碰到你们谁就倒霉，谁听到你们的叫声谁就遭殃！”小乌鸦一听，勃然大怒，开口还击：“你们才是……”哪知道就在这一刹那，小乌鸦嘴里的肉掉了下来。小狐狸叼起那块肉，得意洋洋地走了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小乌鸦呀小乌鸦，当年你的妈妈经不起夸，今天你为什么经不起骂呢？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1342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《谦虚过度》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水牛爷爷是森林世界公认的谦虚人，很受大家尊重。小白兔夸它：“水牛爷爷劲最大了！”水牛爷爷就说：“唉，过奖了，犀牛、野牛劲儿都比我大”；小山羊就夸它：“咩，水牛爷爷贡献最多了！”水牛爷爷就说：“哎，不能这样讲了，这奶牛吃下的是草，挤出来的是奶，它的贡献比我多。”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79185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狐狸艾克很羡慕水牛爷爷谦虚的美名。它想：“我也来学习一下谦虚吧，这谦虚太好学了。水牛爷爷的谦虚不就是这两点吗？一是把自己的什么都说小点；一是把自己的什么都说少点。嗯，对！就是这样。”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一天，艾克遇到一只小老鼠。小老鼠看到艾克有一条火红蓬松的大尾巴，不禁发出了由衷的赞美：“哎呀，艾克大叔，您这尾巴真大呀！”艾克学着水牛爷爷的口气，歪歪嘴：“哎，过奖了，你们老鼠的尾巴比我大多了。”“啊，什么？”小老鼠大吃一惊：“你长那么长的四条腿，却拖根比我还小的尾巴？”艾克谦虚地说：“哎，不能这么讲了，我哪有四条腿，三条了，三条了。”小老鼠以为艾克得了精神病吓跑了。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846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  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艾克的谦虚没有换来美名，倒换来一大堆谣言。大家说：“唉，森林世界出了一条妖怪狐狸，只有三条腿，还拖着一根比老鼠还小的尾巴…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..”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播音主持考试内容：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一、初试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1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、自我介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、自备稿件朗诵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3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、指定稿件朗读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  <a:ea typeface="黑体"/>
              </a:rPr>
              <a:t>二、复试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1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、自备稿件朗诵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、即兴评述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3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、模拟主持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、回答考官提问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5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、才艺展示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10920" y="836280"/>
            <a:ext cx="78469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Arial Black"/>
                <a:ea typeface="隶书"/>
              </a:rPr>
              <a:t> </a:t>
            </a:r>
            <a:r>
              <a:rPr b="1" lang="zh-CN" sz="8800" spc="-1" strike="noStrike">
                <a:solidFill>
                  <a:srgbClr val="ffcc00"/>
                </a:solidFill>
                <a:latin typeface="Arial Black"/>
                <a:ea typeface="隶书"/>
              </a:rPr>
              <a:t>——</a:t>
            </a:r>
            <a:r>
              <a:rPr b="1" lang="zh-CN" sz="8800" spc="-1" strike="noStrike">
                <a:solidFill>
                  <a:srgbClr val="ffcc00"/>
                </a:solidFill>
                <a:latin typeface="Arial Black"/>
                <a:ea typeface="隶书"/>
              </a:rPr>
              <a:t>感谢各位同学！再见！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zh-CN" sz="8000" spc="-1" strike="noStrike">
                <a:solidFill>
                  <a:srgbClr val="ffcc00"/>
                </a:solidFill>
                <a:latin typeface="Arial Black"/>
                <a:ea typeface="隶书"/>
              </a:rPr>
              <a:t>朗诵技巧和方法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什么是朗诵？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630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朗，即声音的清晰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响亮；诵，即背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朗诵，就是用清晰、响亮的声音，结合各种语言手段来完善地表达作品思想感情的一种语言艺术。这是朗诵的概念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朗诵主要考察哪些方面？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第一：语音面貌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第二：语言文字的感受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第三：有声语言的表现力。</a:t>
            </a:r>
            <a:br>
              <a:rPr sz="4000"/>
            </a:b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四方异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某县推广普通话，大会上——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）县长讲完以后，主持人说：“咸菜请香肠酱瓜！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  ——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主持人说：“现在请乡长讲话！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）乡长说：“兔子们，虾米们，猪尾巴！不要酱瓜，咸菜太贵啦！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  ——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</a:rPr>
              <a:t>乡长说：“同志们，乡民们，注意吧！不要讲话，现在开会啦！”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75996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）乡长说：“不要酱瓜，我捡个狗屎给你们舔舔……”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 Black"/>
              </a:rPr>
              <a:t>  ——</a:t>
            </a:r>
            <a:r>
              <a:rPr b="1" lang="zh-CN" sz="4000" spc="-1" strike="noStrike">
                <a:solidFill>
                  <a:srgbClr val="ff0066"/>
                </a:solidFill>
                <a:latin typeface="Arial Black"/>
              </a:rPr>
              <a:t>乡长说：“不要讲话，我讲个故事给你们听听……”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）乡长说：“兔子们，今天的饭狗吃了，大家都是大王八！”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 Black"/>
              </a:rPr>
              <a:t>  ——</a:t>
            </a:r>
            <a:r>
              <a:rPr b="1" lang="zh-CN" sz="4000" spc="-1" strike="noStrike">
                <a:solidFill>
                  <a:srgbClr val="ff0066"/>
                </a:solidFill>
                <a:latin typeface="Arial Black"/>
              </a:rPr>
              <a:t>乡长说：“同志们，今天的饭够吃了，大家都使大碗吧！”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如何选择文学作品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第一，选择自己喜欢的，能够发生共鸣，并且能深深打动自己的作品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第二，选择适合自己声音、年龄、身份等特点的作品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第三，不要选择深奥难懂的作品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第四，尽量避免选择名家名篇，或历届考生常用的作品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第五，选择有故事情节的作品，有矛盾冲突的作品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第六，选择的作品一定要符合真、善、美的标准，思想内容积极向上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2:50:13Z</dcterms:created>
  <dc:creator>未知用户</dc:creator>
  <dc:description/>
  <dc:language>en-US</dc:language>
  <cp:lastModifiedBy>微软中国</cp:lastModifiedBy>
  <dcterms:modified xsi:type="dcterms:W3CDTF">2012-03-03T17:03:50Z</dcterms:modified>
  <cp:revision>40</cp:revision>
  <dc:subject/>
  <dc:title>朗诵技巧和方法</dc:title>
</cp:coreProperties>
</file>