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9A2-0F35-4296-81B3-2A86BA0A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391-E64D-48FE-9C30-933C838F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8C0-80CB-4144-85DF-45219D36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009-6C55-4A1C-8833-D244737A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279-F2A6-4F3C-94C2-FDE9DAEE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6A5-EC77-4AAC-903A-25E223FE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F5B-AFEF-454E-8B7A-61A3C0CF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29E-015E-44E2-A1EA-83439FD2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CE0-60A6-448F-9246-B49CE43D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FCE-AFC7-4D37-94C2-C9D134E7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B36-D9C3-4EAE-92D0-681D543B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CB7-D9A3-4965-BE71-E9E10C8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B761-3DB6-4E37-957E-20030BAE83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《不能承受的生命之轻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名《生命中不能承受之轻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米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昆德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3657600" cy="5121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8360" y="1052640"/>
            <a:ext cx="4392720" cy="43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谢谢观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^ω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360" y="260280"/>
            <a:ext cx="5459400" cy="37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404640"/>
            <a:ext cx="2879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昆德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捷克小说家，生于捷克布尔诺市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他的第一部长篇小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玩笑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捷克出版，获得巨大成功。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次获得国际文学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次被提名为诺贝尔文学奖的候选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主要作品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小说的艺术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不能承受的生命之轻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2200" y="4097160"/>
            <a:ext cx="81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移居法国，并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加入法国国籍。父亲为钢琴家、音乐艺术学院的教授。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生长于一个小国在他看来实在是一种优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因为身处小国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要么做一个可怜的、眼光狭窄的人，要么成为一个广闻博识的世界性的人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昆德拉发表《生命中不能承受之轻》，这是他一生中最具影响力的作品。小说以编年史的风格描述捷克人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布拉格之春“改革运动期间及被苏军占领时期适应生活和人际关系的种种困境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2602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昆德拉善于以反讽手法，用幽默的语调描绘人类境况。他的作品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表面轻松，实质沉重；表面随意，实质精致；表面通俗，实质深邃而又机智，充满了人生智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404640"/>
            <a:ext cx="513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男主人公托马斯是一个外科医生，因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婚姻失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既渴望女人又畏惧女人，因此发展出一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守则来应付他众多的情妇。有一天他爱上一个餐厅的女侍－特丽莎，他对她的爱违反了他制定的原则，甚至娶她为妻，但是托马斯灵肉分离的想法丝毫没有改变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依然游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情妇之间，对全心爱他的特丽莎是一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伤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特丽莎经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极度不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梦靥中醒来，经常猜忌与怀有恐怖想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此时捷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政治动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安，在苏黎世一位权威医生希望托马斯去那里发展的呼唤下，两人于是决定去那里生活。但是面对陌生环境的不安与丈夫仍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情妇私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特丽莎决定离开，回到祖国。但是命运与抉择让托马斯回去找她，此后两人没有再分离。他们意识到在一起是快乐的，是折磨与悲凉里的快乐，彼此是生命中甜美的负担。后来他们死于一场车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2992320" cy="45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836640"/>
            <a:ext cx="47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萨宾娜是一个画家，曾经是托马斯的情妇之一，也是特丽莎妒忌的对象。萨宾娜一生不断选择背叛，选择让自己的人生没有责任而轻盈的生活。她讨厌忠诚与任何讨好大众的媚俗行为，但是这样的背叛让她感到自己人生存在于虚无当中。弗兰兹是被萨宾娜背叛的情夫之一，他因为她而放弃自己坚持的婚姻与忠诚，但是由于萨宾娜的背弃，让弗兰兹发现自己过去对于婚姻的执着是可笑的，纯属多余的假想，他的妻子只是自己对于母亲理想的投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86900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离婚后，自由自立的单身生活为他生命带来新的契机，并且了解萨宾娜只是他对革命与冒险生活的追随。后来他与他的学生相恋，在实际参与一场虚伪游行活动后，意识到自己真正的幸福是留在他的学生旁边。一场突然抢劫中，弗兰兹因为想展现自己的勇气而蛮力抵抗，却遭到重击，在妻子的陪伴下，无言的死于病榻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55640" y="1341360"/>
            <a:ext cx="808056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命中有太多事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看似轻如鸿毛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却让人难以承受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692280"/>
            <a:ext cx="48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负担越重，我们的生命越贴近大地，它就越真实。当负担完全缺失，人就变得比空气还轻，就会飘起来，远离大地，变成一个半真的存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54936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常常痛感生活的艰辛与沉重，无数次目睹了生命在各种重压下的扭曲与变形，“平凡”一时间成了人们最真切的渴望。但是，我们却在不经意间遗漏了另外一种恐惧——没有期待、无需付出的平静，其实是在消耗生命的活力与精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404640"/>
            <a:ext cx="758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命属于我们只有一次，时间不会为我们的欢笑或泪水停留。在这样一个瞬时性组构的世界里，一切选择都失去了充足的理由，一切结果都变得十分的合理。幸福何堪？苦难何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许生活早已注定了无所谓幸与不幸。我们只是被各自的宿命局限着，茫然地生活，苦乐自知。就象每一个繁花似锦的地方，总会有一些伤感的蝴蝶从那里飞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08200" y="69840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真的英雄，其实不问出处。从现在起，我开始谨慎地选择我的生活，我不再轻易让自己迷失在各种诱惑里。我心中已经听到来自远方的呼唤，再不需要回过头去关心身后的种种是非与议论。我已无暇顾及过去，我要向前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2:16:31Z</dcterms:created>
  <dc:creator>微软中国</dc:creator>
  <dc:description/>
  <dc:language>en-US</dc:language>
  <cp:lastModifiedBy>微软中国</cp:lastModifiedBy>
  <dcterms:modified xsi:type="dcterms:W3CDTF">2012-03-21T15:13:14Z</dcterms:modified>
  <cp:revision>3</cp:revision>
  <dc:subject/>
  <dc:title>不能承受的生命之轻 </dc:title>
</cp:coreProperties>
</file>