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%E5%8D%97%E4%BA%AC%E5%8D%97%E4%BA%AC%E7%94%B5%E5%BD%B1%E5%8E%9F%E5%A3%B0%E9%9F%B3%E4%B9%90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2F8-D247-4F10-80A1-5EE6EEFD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8A0-FA37-4E69-9857-C20A0207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0D2-E2D9-4463-8515-AA8092FB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0D9-D73E-4801-B857-882FD44B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90E-EC49-43CB-881E-ACE2F949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048-60B4-478B-9F08-FA47F5E4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E7B-DCDA-4EAB-92B5-BFB6B044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C59-E1D1-4144-A9E9-F44407CB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81A-BFB4-4F69-AA6F-39B105D9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57E-64E5-4691-B036-EA069CEA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9C2-DC7D-4300-81C3-AFAF81D9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23D-3029-421E-B9EC-0E5B9AA9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CE54-A725-4638-B47A-570C411C7C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E665-FFEE-41B3-802B-F5CA905FAB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1335;&#20140;&#21335;&#20140;&#30005;&#24433;&#21407;&#22768;&#38899;&#20048;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4680" y="-6219720"/>
            <a:ext cx="9872640" cy="1396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3276720" y="126828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但是你没有</a:t>
            </a:r>
            <a:r>
              <a:rPr b="0" lang="en-US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的作者是一位普通的美国妇女，她的丈夫在女儿</a:t>
            </a:r>
            <a:r>
              <a:rPr b="0" lang="en-US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岁时应征入伍去了越南战场，从此她便和女儿相依为命。后来，她的丈夫、孩子的爸爸不幸阵亡。她终身守寡，直至年老病逝。她的女儿在整理遗物时发现了母亲当年写给父亲的这首诗，题目就是</a:t>
            </a:r>
            <a:r>
              <a:rPr b="0" lang="en-US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但是你没有</a:t>
            </a:r>
            <a:r>
              <a:rPr b="0" lang="en-US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4123080" y="2142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但是你没有</a:t>
            </a:r>
            <a:r>
              <a:rPr b="0" lang="en-US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" descr=""/>
          <p:cNvPicPr/>
          <p:nvPr/>
        </p:nvPicPr>
        <p:blipFill>
          <a:blip r:embed="rId1"/>
          <a:stretch/>
        </p:blipFill>
        <p:spPr>
          <a:xfrm>
            <a:off x="0" y="-5788080"/>
            <a:ext cx="10771200" cy="15239880"/>
          </a:xfrm>
          <a:prstGeom prst="rect">
            <a:avLst/>
          </a:prstGeom>
          <a:ln w="0">
            <a:noFill/>
          </a:ln>
        </p:spPr>
      </p:pic>
      <p:sp>
        <p:nvSpPr>
          <p:cNvPr id="45" name="矩形 1"/>
          <p:cNvSpPr/>
          <p:nvPr/>
        </p:nvSpPr>
        <p:spPr>
          <a:xfrm>
            <a:off x="1098720" y="303120"/>
            <a:ext cx="889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Remember the day I borrowed your br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new car and dented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I thought you'd kill me, but you didn't</a:t>
            </a: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3635280" y="3098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得那天，我借用你的新车，我撞凹了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我以为你一定会杀了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但是你没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6" descr=""/>
          <p:cNvPicPr/>
          <p:nvPr/>
        </p:nvPicPr>
        <p:blipFill>
          <a:blip r:embed="rId1"/>
          <a:stretch/>
        </p:blipFill>
        <p:spPr>
          <a:xfrm>
            <a:off x="0" y="-5788080"/>
            <a:ext cx="10771200" cy="15239880"/>
          </a:xfrm>
          <a:prstGeom prst="rect">
            <a:avLst/>
          </a:prstGeom>
          <a:ln w="0">
            <a:noFill/>
          </a:ln>
        </p:spPr>
      </p:pic>
      <p:sp>
        <p:nvSpPr>
          <p:cNvPr id="48" name="矩形 4"/>
          <p:cNvSpPr/>
          <p:nvPr/>
        </p:nvSpPr>
        <p:spPr>
          <a:xfrm>
            <a:off x="1093680" y="3747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Do you remember the time I spilled strawberry 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all over your car ru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I thought you'd hit me, but you didn't</a:t>
            </a: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73400" y="3103560"/>
            <a:ext cx="66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得那天，我在你的新地毯上吐了满地的草莓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我以为你一定会厌恶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但是你没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"/>
          <p:cNvPicPr/>
          <p:nvPr/>
        </p:nvPicPr>
        <p:blipFill>
          <a:blip r:embed="rId1"/>
          <a:stretch/>
        </p:blipFill>
        <p:spPr>
          <a:xfrm>
            <a:off x="0" y="-5788080"/>
            <a:ext cx="10771200" cy="1523988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1093680" y="36504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Do you remember the time I flirted with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the guys to make you jealous, and you w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I thought you'd leave, but you didn't</a:t>
            </a: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3419640" y="31399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得那天，我和所有的男人调情好让你嫉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而你真的嫉妒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我以为你一定会离开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但是你没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4" descr=""/>
          <p:cNvPicPr/>
          <p:nvPr/>
        </p:nvPicPr>
        <p:blipFill>
          <a:blip r:embed="rId1"/>
          <a:stretch/>
        </p:blipFill>
        <p:spPr>
          <a:xfrm>
            <a:off x="0" y="-5788080"/>
            <a:ext cx="10771200" cy="1523988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1095480" y="3459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And remember the time I forgot to tell you the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was formal and you showed up in jea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I thought you'd drop me, but you didn't</a:t>
            </a: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3633840" y="2762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得那天，我忘了告诉你那个舞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是要穿礼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而你却穿了牛仔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我以为你一定要抛弃我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但是你没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tretch/>
        </p:blipFill>
        <p:spPr>
          <a:xfrm>
            <a:off x="0" y="-5788080"/>
            <a:ext cx="10771200" cy="15239880"/>
          </a:xfrm>
          <a:prstGeom prst="rect">
            <a:avLst/>
          </a:prstGeom>
          <a:ln w="0">
            <a:noFill/>
          </a:ln>
        </p:spPr>
      </p:pic>
      <p:sp>
        <p:nvSpPr>
          <p:cNvPr id="57" name="矩形 1"/>
          <p:cNvSpPr/>
          <p:nvPr/>
        </p:nvSpPr>
        <p:spPr>
          <a:xfrm>
            <a:off x="1187280" y="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Yes, there were lots of things you didn't do</a:t>
            </a: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But you put up with me, and loved me</a:t>
            </a: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and protected me</a:t>
            </a: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There were lots of things I wanted to make up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when you returned from Vietnam</a:t>
            </a: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But you didn't</a:t>
            </a:r>
            <a:r>
              <a:rPr b="0" lang="zh-CN" sz="2000" spc="-1" strike="noStrike">
                <a:solidFill>
                  <a:srgbClr val="000000"/>
                </a:solidFill>
                <a:latin typeface="Lucida Handwriting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3598920" y="3313080"/>
            <a:ext cx="611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是的，有许多的事你都没有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而你容忍我钟爱我保护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有许多许多的事情我要回报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等你从越南回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但是你没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35:00Z</dcterms:created>
  <dc:creator>virtualliu</dc:creator>
  <dc:description/>
  <dc:language>en-US</dc:language>
  <cp:lastModifiedBy>virtualliu</cp:lastModifiedBy>
  <dcterms:modified xsi:type="dcterms:W3CDTF">2015-08-07T02:16:52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