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479-8F58-4C10-BA4F-A28F2133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999-CFDF-48F1-9439-12488A8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139-4445-4B9F-B7DA-72473C7E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940-FD65-43B6-86A0-0DB54B1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C07C-FD9D-4569-B571-44CA523D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31D-DC31-4312-96BB-2C3B92B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82C-3DDE-429F-A897-EB7AC79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E5B-77E1-457B-ABF8-D8F7C28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708-50CA-4E1E-8231-01D5B280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5C4-8EB1-4040-9358-A6284FA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EF2-8F2C-4AE5-AF80-50453C2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D1F-F08F-4B99-86B3-B8CB752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855-1995-4239-A4A4-5D316C1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5BC5-9111-4465-9D50-C0956A7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6FDD-FC0D-40C7-995B-F4931CA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182-B27B-478F-93E9-1600C3B2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2BD-DB42-4CA0-ACE9-B2924F3E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F70-B6E8-4CE5-BFCF-4BD5A41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E93-1F13-4B73-970B-865E4CC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5F2-B768-418C-958E-F4FEEA6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E6F-49EE-4AC3-BFBB-8C9DB40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5F6-940A-46F1-825B-F4E9830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92F-0AF4-4B41-94B8-C4791FC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46B-6DF1-4189-BCDE-95EF6C9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52BF-4606-4CCF-84E8-494DEA935C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4F0-B5C7-4B17-9568-F2A5DB5D7A5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采购绩效评估与控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采购绩效评估概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采购绩效评估框架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采购绩效评估指标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供应商绩效评价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采购绩效评估结果的报告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采购人员的绩效评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采购供应过程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站在供应链的角度来定义采购供应过程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绩效评价所包含的过程要视具体的情况而定，取决于评价所关注的内容和供应链中不同企业间的合作程度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一个企业内的采购过程包括：需求和计划管理、分析供应市场、开发供应策略、供应商评估、谈判、合同管理、物流管理、仓库管理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项目：以下是一个制造企业的采购项目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原材料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装材料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零部件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维修备件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源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办公用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工厂建筑及实施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服务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同采购项目有不同的优先级，取决于它的采购价值、对企业的重要性和供应风险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2600" y="1066680"/>
            <a:ext cx="77724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绩效领域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666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企业级的成果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层管理者的满意度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生产给予持续性的供应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生产灵活性及市场变化快速反应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公司差异化生产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缩短新产品开发和投入周期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部门对产品创新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公司生产或外购决策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公司联盟、合作、合资及合并等工作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公司战略的支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供应对公司成本降低计划的贡献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职能层成果</a:t>
            </a:r>
            <a:br>
              <a:rPr sz="4400"/>
            </a:b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顾客满意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使用者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间顾客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的可获得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范围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数量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的灵活性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的可持续性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交付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周期缩短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周期的灵活性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购的可靠性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质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需求的满足程度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质量可靠性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顾客服务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向顾客提供信息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开发顾客的知识和技能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顾客技术支持和问题解决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成本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降低成本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避免涨价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676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与内部因素有关的绩效</a:t>
            </a:r>
            <a:br>
              <a:rPr sz="3200"/>
            </a:b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• 对与内部因素相关的绩效评估包括以下四个方面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2600" y="2320920"/>
            <a:ext cx="71992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基础结构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否明确了恰当的采购供应目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否有合适的采购供应职能结构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持系统情况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采购供应政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商管理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数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商关系管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交易和沟通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采购绩效评估概述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什么要进行采购绩效评估 – 不断改进的需要。将实际绩效与标准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目标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比，以便采取改进措施，提高采购绩效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绩效考评、实施奖惩的需要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最高管理层了解采购进展提供信息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绩效评估系统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供应流程管理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确定需求及供应计划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析供应市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制定供应策略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评估和选择供应商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谈判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准备合同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管理合同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管理物流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管理存货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员管理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工及职责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团队组建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力及培训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员工激励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效率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成本效率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员工生产率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效率度量的例子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份采购订单的平均成本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采购交易成本占采购费用的百分比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个员工的采购订单数量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定的供应目标数量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均培训学时数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向供应商询价、报价的数量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之发展伙伴合作关系的供应商数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♦…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与外部因素有关的绩效</a:t>
            </a:r>
            <a:br>
              <a:rPr sz="4400"/>
            </a:b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供应环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供应市场情况：重点关注采购供应预测和分析未来市场情况的能力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供应能力及激励：重点关注提高供应商能力和对供应商进行激励的措施方面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国内环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基础设施、法律、设备及服务等：关注这些方面对采购绩效的影响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环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目标和战略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结构：关注采购供应部门在企业中的地位、与其它职能部门的关系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工作技术：重点关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采购供应中的应用程度和效果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投入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资金：人员工资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投入、运行费用（专业信息服务的获得）等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力资源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其它职能的过程投入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2600" y="990720"/>
            <a:ext cx="7772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绩效评估指标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要对采购绩效进行评估，就是要用一些可度量的指标，将采购成果反映出来，并与目标进行比较，以对采购活动进行控制，从而达到改善采购工作的目的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99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强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采购主管认为衡量采购绩效最重要的几条标准是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供双方共同努力降低的材料成本（按材料和供应商分类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要供应商按时送货的百分比（按材料分类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部顾客满意度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集中采购带来的成本节约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材料次品率（按材料和供应商分类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有文件证明的战略供应伙伴关系的改善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供应商的平均提前期（按材料分类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要供应商认同采购方标准的百分比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恰当的长期合同数量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关于绩效指标的度量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什么要度量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定目标的需要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行控制的需要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未来环境进行预测的需要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三种度量方法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选一（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yes”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 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o”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连续度量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项选择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792920" cy="2300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首先要确定已经取得了哪些结果，这些结果是否真的满足顾客需求，并对组织的目标做出贡献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然后从两个方面寻找产生这些结果的原因：采购供应的内部运转系统及其员工；另一方面为外部环境因素的影响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绩效评价是从结果开始，然后要了解为什么会取得这些结果。目的是实现持续改进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2600" y="1143000"/>
            <a:ext cx="7772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好的度量方法应当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反映要评估的绩效领域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清楚而明确的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易于计算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定性与定量相结合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）与绩效领域相关的绩效指标举例</a:t>
            </a:r>
            <a:br>
              <a:rPr sz="3600"/>
            </a:b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• 与公司级成果相关的绩效指标：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97068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82600" y="914400"/>
            <a:ext cx="77724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采购绩效评估方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确定采购绩效领域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确定采购绩效度量指标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明确绩效指标的度量方法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设定绩效目标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收集实际数据，计算绩效度量指标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反馈、控制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2600" y="1066680"/>
            <a:ext cx="77724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•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设定目标的基础：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采购供应目标相联系—与公司目标相联系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过去的经验与现在的情况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行业标准：由第三方研究机构来制订和完善行业采购绩效标准，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AP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enter for Advanced Purchasing Studie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,199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就制定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行业的采购绩效标准，其依据是每个行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-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家大公司得到的公司经营数据，其提供的标准是平均数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杆对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Benchmark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良好目标的特征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公司总目标相关联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挑战但可实现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体而明确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时间限制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可测量性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供应商绩效评价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供应商绩效评估的目的是监控供应商的供应绩效，以发现是否需要对某个供应商的不良绩效采取立即的更正行为，如更换供应商或帮助提高供应商的能力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评估的主要内容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质量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成本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交付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服务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一方面要设定一系列的评估指标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用的评估方法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法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加权评分法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成本比率法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•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什么是好的绩效评估系统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支持公司目标的实现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有助于明确顾客需求和预期的满意度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有广泛的参与基础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覆盖了采购供应的相关领域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了及时有效的反馈过程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考虑了内、外部环境因素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适应不断变化的条件和要求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简单易行，用尽可能少的指标对采购供应执行情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况予以准确反映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定量评估和定性评估相结合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…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分类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建立一个评价指标（因素）列表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根据所定的指标，由采购供应及与供应商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接触的用户部门共同对供应商绩效进行评级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评级结果为：通过、未通过或待定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种方法很简单、主观性强。所以适用于低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价值、低风险的采购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加权评分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制定评估指标的分值及评分标准：一般可采用百分制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2600" y="762120"/>
            <a:ext cx="6589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2756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成本比率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过计算与某一特定供应商相关的采购成本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占其采购总价值的百分比，来评估供应商的绩效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于成本比率的计算，可以按质量保证、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付保证、服务保证等方面分别计算，然后计算汇总成本比率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个例子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2600" y="838080"/>
            <a:ext cx="77724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种方法要求有一个精确的成本会计系统，可以将成本分解到单独的供应商交易上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采购绩效评估框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绩效评估过程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定义绩效评估的相关要素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关于评估周期与评估结果的应用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评估周期的长短要根据产品制造周期、供应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商的供货周期与频率等因素而定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常用的评估周期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年一次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月一次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季一次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半年一次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评估结果的应用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否保留供应商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增减订购量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未来合作开发新产品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发、提高供应商能力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付款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终奖励的依据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…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采购绩效评估结果的报告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要明确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报告的对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报告的责任和渠道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长时间报告一次（周报、月报、季报、年报）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报告的主要内容；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报告的方式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报告的对象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层管理者：为企业高层领导提供决策所需的信息，也让高层管理者了解采购业务的状况和绩效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企业内部用户部门相关部门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主要供应商和服务提供者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报告的形式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印发书面报告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向上汇报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公司网页等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没有任何绩效评价系统能做到一成变，因为顾客需求、采购供应方式、环境和投入都在改变，所以，应对评价系统进行定期检查，以适应不断变化的需求和条件，建立起适合企业自身特点与环境的绩效评估系统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题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分析评价采购绩效的关键标准？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样获得信息来评估这些标准？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绩效评估过程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689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采购供应目标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供应目标是绩效评估的驱动源，因为它是确定具体的绩效标准和目标的基础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目标必须与公司的目标和战略保持一致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）评估涉及的范围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绩效评估涉及的范围包括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顾客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供应过程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采购项目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顾客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用者：所购商品和服务的直接使用者，可以是内部顾客，也可以是外部顾客。如生产、研发、计划、维修和客户服务部门等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间商：在从事商业活动的过程中，采购供应必须与之合作的顾客，包括：供应商、服务提供者（如供应市场信息提供者、货物运送者、运输公司、银行、鉴定和检验机构、海关通行证代理机构等。）、公司其它部门（如计划、预算、设计、财务、质量控制等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层管理者：当采购供应对于公司具有战略性意义，绩效评价就会与高层管理者更加紧密相关 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29T12:11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