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C89C-27EA-4458-B107-B2CD1167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B1484-09D9-460A-9F2D-456E54DB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5DE47-AFF4-4D97-8462-04F62551D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5C1F-9952-49B6-A9C4-321F9731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B259-80ED-4EFD-9620-A921D75A8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AB61-5C2A-4C16-9F27-56354CD08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BC654-C2CC-47FA-B314-2BA4638D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DF60-EE48-40C1-8788-ED2CCBBC2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128B2-0F69-4E2D-8E9E-EFA38ACB6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CE28A-9D7C-4F93-BD1C-CD048AD6B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5FE3E-5913-45FD-9723-F8B63F7C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DFD6-704B-4924-B218-0CD8E1FE8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1B11-C34E-4D88-BE28-F1FAD66E0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4501-0672-446F-8026-45B25556C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C689-C566-4115-AA4C-3677F250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39533-F57F-4FC9-A6A4-08C660952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5E720-2EF8-4FE6-A332-172CCB349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FCA9A7-A595-42F7-AB5A-7B055AB14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C7A7B-C95A-4910-82D3-0EC7A7F3A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5E8CE-F063-4AEE-8E82-CD81AAE95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EFE35-522C-4665-A474-78E116AA1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2FB27-BBA9-47C8-9FD4-AC70531C8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11EF-325E-4A32-BE03-ACA852E0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DEC57-0CEB-447D-B05C-3F4933821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52059-442A-4ED4-ACD6-BB5D143F7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02DAF1-5D6A-4B0C-9EE2-FC738CBB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2F3F0F-7A55-4732-9E83-84867AF3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C1D354-AF13-410F-B8C4-2E48E547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04E75-52E5-40D9-B7A7-9A688C1BB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660C9-ABDF-49A1-B911-B8E6477D6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8A64D1-2025-4A73-AA56-43D5755ED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8FD890-8AFF-4E95-8BEB-EFCB508A5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4A76D0-60AD-48BF-B879-08C2A7B4E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842D-413D-4304-B248-996D64C9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FC3D43-7F60-446C-B152-3B6BC762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396BB-074F-49B0-9AA8-796362BD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1ADDA-CA7F-46D4-A256-2C795D5E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78B092-FBE1-4EA8-B752-07A9F5CD5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4A150C-5CED-4359-9F30-3F4DE07D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84DD38-6FE2-441B-A6C4-975B168E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E5A0F-A05E-467E-BA4B-70AD90D60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00ED1-D04B-4957-B3BF-4D80DD05A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E112A-8C0E-4163-99B7-0215E6004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9722A-CE2A-4784-8334-A68C2BFC1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9E03-A497-4046-BE9A-5DC613EAA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ECD5C-BCEB-4AE3-AB52-D0B6EE9F5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E7D1D-E025-480A-A930-23A2752B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1B7135-13B8-44BE-BDDF-8E60C794A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A4D44-B084-4417-9F4E-7877CB867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EFA698-44C5-43C3-BAED-41206277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CFBE6B-91E6-4949-B1C1-4FEF12A6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07E0F9-4F21-41B1-97AD-CC9D40F3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0EE4C-130C-4F25-BD41-D348BF6F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5ABF5-141E-4278-A617-35E552575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BC9F4-B644-45EA-B49D-A81DE02CA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3423D-8674-4B17-92BE-1D69AD459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ED55DA-751D-4435-B752-0AAEC9767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377-4ECD-4FA7-94E2-DFDD00F4D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3945-5B02-4B15-BE83-6899BB8C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B780-FCFD-4AD7-9A6B-03327F7E7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95A08-CF43-4243-8E37-94B8E860A0BC}" type="datetime">
              <a: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290E5-BFBE-4FF0-AB66-E2401A685999}" type="slidenum">
              <a: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4221000"/>
            <a:ext cx="8352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244920"/>
            <a:ext cx="229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4920"/>
            <a:ext cx="3111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9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A79A-6AFC-4360-A517-8BC7B4584BF1}" type="slidenum"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9900"/>
                </a:solidFill>
                <a:latin typeface="Calibri"/>
              </a:rPr>
              <a:t>Click to edit the outline text format</a:t>
            </a:r>
            <a:endParaRPr b="1" lang="en-US" sz="1600" spc="-1" strike="noStrike">
              <a:solidFill>
                <a:srgbClr val="cc9900"/>
              </a:solidFill>
              <a:latin typeface="Calibri"/>
            </a:endParaRPr>
          </a:p>
          <a:p>
            <a:pPr lvl="1" marL="457200" indent="457200">
              <a:spcBef>
                <a:spcPts val="499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333333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3333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333333"/>
              </a:solidFill>
              <a:latin typeface="Calibri"/>
            </a:endParaRPr>
          </a:p>
          <a:p>
            <a:pPr lvl="3" marL="1371600" indent="-457200">
              <a:spcBef>
                <a:spcPts val="400"/>
              </a:spcBef>
              <a:buClr>
                <a:srgbClr val="333333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333333"/>
              </a:solidFill>
              <a:latin typeface="Calibri"/>
            </a:endParaRPr>
          </a:p>
          <a:p>
            <a:pPr lvl="4" marL="1828800" indent="-914400">
              <a:spcBef>
                <a:spcPts val="400"/>
              </a:spcBef>
              <a:buClr>
                <a:srgbClr val="333333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Calibri"/>
            </a:endParaRPr>
          </a:p>
          <a:p>
            <a:pPr lvl="5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Calibri"/>
            </a:endParaRPr>
          </a:p>
          <a:p>
            <a:pPr lvl="6" marL="1828800" indent="-9144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BBBD8-28EC-48AC-810C-5A32877B81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1" marL="457200" indent="4572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3" marL="1371600" indent="-4572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4" marL="1828800" indent="-9144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D639-F304-415F-98CB-298990A3A571}" type="datetime">
              <a: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2A283-BE98-4D99-A7BA-C397F267EBB7}" type="slidenum">
              <a:rPr b="0" lang="zh-CN" sz="900" spc="-1" strike="noStrike">
                <a:solidFill>
                  <a:srgbClr val="898989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920" y="4221000"/>
            <a:ext cx="83520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504d"/>
                </a:solidFill>
                <a:latin typeface="Calibri"/>
              </a:rPr>
              <a:t>Click to edit the title text format</a:t>
            </a:r>
            <a:endParaRPr b="1" lang="en-US" sz="3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457200" y="6244920"/>
            <a:ext cx="229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3720" y="6244920"/>
            <a:ext cx="3111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2292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A72E-5261-4E3C-A917-70A634E37ED6}" type="slidenum"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3840" y="3428640"/>
            <a:ext cx="8351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504d"/>
                </a:solidFill>
                <a:latin typeface="Calibri"/>
              </a:rPr>
              <a:t>材料学院文艺部招新简介  </a:t>
            </a:r>
            <a:endParaRPr b="1" lang="en-US" sz="32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2266560" y="5733720"/>
            <a:ext cx="68785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cc99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609480" y="2637000"/>
            <a:ext cx="726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你以为只有具备文艺才能的人才能加入文艺部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050920" y="3718080"/>
            <a:ext cx="555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那你就大错特错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340000" y="4581360"/>
            <a:ext cx="572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我们也需要你，对，没错，就是你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74920" y="5807160"/>
            <a:ext cx="78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只要你有热情，有想法，都可以来，文艺部就是你的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4941720"/>
            <a:ext cx="1440000" cy="1928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7165800" y="4005360"/>
            <a:ext cx="1905120" cy="285732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6560" y="1484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本学期工作任务</a:t>
            </a: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35" name=""/>
          <p:cNvSpPr/>
          <p:nvPr/>
        </p:nvSpPr>
        <p:spPr>
          <a:xfrm>
            <a:off x="825480" y="2637000"/>
            <a:ext cx="2378160" cy="792000"/>
          </a:xfrm>
          <a:prstGeom prst="bracketPair">
            <a:avLst>
              <a:gd name="adj" fmla="val 16666"/>
            </a:avLst>
          </a:prstGeom>
          <a:solidFill>
            <a:srgbClr val="ffc3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25480" y="4005360"/>
            <a:ext cx="2378160" cy="792000"/>
          </a:xfrm>
          <a:prstGeom prst="bracketPair">
            <a:avLst>
              <a:gd name="adj" fmla="val 16666"/>
            </a:avLst>
          </a:prstGeom>
          <a:solidFill>
            <a:srgbClr val="ffc3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25480" y="5373720"/>
            <a:ext cx="2378160" cy="792000"/>
          </a:xfrm>
          <a:prstGeom prst="bracketPair">
            <a:avLst>
              <a:gd name="adj" fmla="val 16666"/>
            </a:avLst>
          </a:prstGeom>
          <a:solidFill>
            <a:srgbClr val="ffc38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187280" y="2781360"/>
            <a:ext cx="18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迎新晚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187280" y="4149720"/>
            <a:ext cx="170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联欢晚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114560" y="5518080"/>
            <a:ext cx="18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其他活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635280" y="2781360"/>
            <a:ext cx="480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计划时间安排在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份之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80000" y="4149720"/>
            <a:ext cx="51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计划时间安排在圣诞与元旦之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22840" y="5464080"/>
            <a:ext cx="48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视情况而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665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我们希望给你带来的</a:t>
            </a: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8200" y="2637000"/>
            <a:ext cx="771696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              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46" name=""/>
          <p:cNvSpPr/>
          <p:nvPr/>
        </p:nvSpPr>
        <p:spPr>
          <a:xfrm>
            <a:off x="2700360" y="2205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真挚友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56360" y="3141720"/>
            <a:ext cx="14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统筹能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580000" y="5373720"/>
            <a:ext cx="143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谨慎细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6920" y="4078440"/>
            <a:ext cx="149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美好回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492360" y="3862440"/>
            <a:ext cx="25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文艺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4078440"/>
            <a:ext cx="9144000" cy="2781000"/>
          </a:xfrm>
          <a:prstGeom prst="rect">
            <a:avLst/>
          </a:prstGeom>
          <a:solidFill>
            <a:srgbClr val="ffcc99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6720" y="1413000"/>
            <a:ext cx="5762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ffcc99"/>
                </a:solidFill>
                <a:latin typeface="Arial"/>
                <a:ea typeface="微软雅黑"/>
              </a:rPr>
              <a:t>谢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"/>
          <p:cNvSpPr/>
          <p:nvPr/>
        </p:nvSpPr>
        <p:spPr>
          <a:xfrm>
            <a:off x="324000" y="4437000"/>
            <a:ext cx="345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>
            <a:off x="396720" y="5302080"/>
            <a:ext cx="30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0"/>
          <p:cNvSpPr/>
          <p:nvPr/>
        </p:nvSpPr>
        <p:spPr>
          <a:xfrm>
            <a:off x="7524720" y="5950080"/>
            <a:ext cx="1584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4365720"/>
            <a:ext cx="741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文艺部是一个充满活力与热情的地方，在这里你得到的不止友谊，还有突破自己的喜悦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我们渴望能有更多有想法，有热情，有“文艺范儿”的同学加入我们，我们一起高歌，一起舞蹈，一起诉说青春的故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1200" y="6167520"/>
            <a:ext cx="273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材料学院文艺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93840" y="1413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现成员介绍</a:t>
            </a: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66560" y="2781360"/>
            <a:ext cx="8229600" cy="40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部     长：赵文悦（</a:t>
            </a: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04011203</a:t>
            </a: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）  电话 </a:t>
            </a: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:  18710716535 </a:t>
            </a: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；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                                                                  </a:t>
            </a: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QQ :  1007737982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副部长：袁      琳（</a:t>
            </a: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04021204</a:t>
            </a: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） 电话：</a:t>
            </a: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18309277207 </a:t>
            </a: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；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                                                                  </a:t>
            </a: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QQ</a:t>
            </a: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：</a:t>
            </a: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470582489 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                       </a:t>
            </a: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李      琦（</a:t>
            </a: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04011203</a:t>
            </a: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） 电话：</a:t>
            </a: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18709263996</a:t>
            </a: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；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                                                                   </a:t>
            </a: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QQ</a:t>
            </a: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：</a:t>
            </a:r>
            <a:r>
              <a:rPr b="0" lang="zh-CN" sz="2400" spc="-1" strike="noStrike">
                <a:solidFill>
                  <a:srgbClr val="333333"/>
                </a:solidFill>
                <a:latin typeface="Calibri"/>
              </a:rPr>
              <a:t>619317224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 rot="20340000">
            <a:off x="4427640" y="5086440"/>
            <a:ext cx="36734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eeece1"/>
                </a:solidFill>
                <a:latin typeface="宋体"/>
              </a:rPr>
              <a:t>期待你的加入</a:t>
            </a:r>
            <a:endParaRPr b="0" lang="en-US" sz="1800" spc="-1" strike="noStrike">
              <a:ln w="9360">
                <a:solidFill>
                  <a:srgbClr val="ff6600"/>
                </a:solidFill>
                <a:miter/>
              </a:ln>
              <a:solidFill>
                <a:srgbClr val="eeece1"/>
              </a:solidFill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1185840" y="1413000"/>
            <a:ext cx="6858000" cy="45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969840" y="1628640"/>
            <a:ext cx="738036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1619280" y="1413000"/>
            <a:ext cx="6134040" cy="49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971640" y="1773360"/>
            <a:ext cx="7057800" cy="4708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66560" y="1123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349360"/>
            <a:ext cx="8229600" cy="377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547640" y="1555920"/>
            <a:ext cx="6240600" cy="46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6560" y="1628280"/>
            <a:ext cx="8229600" cy="10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文艺部职能</a:t>
            </a: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3" name=""/>
          <p:cNvSpPr/>
          <p:nvPr/>
        </p:nvSpPr>
        <p:spPr>
          <a:xfrm>
            <a:off x="898560" y="2997360"/>
            <a:ext cx="7851600" cy="2520720"/>
          </a:xfrm>
          <a:prstGeom prst="flowChartAlternateProcess">
            <a:avLst/>
          </a:prstGeom>
          <a:solidFill>
            <a:srgbClr val="ffc387"/>
          </a:solidFill>
          <a:ln w="9360">
            <a:solidFill>
              <a:srgbClr val="e9be5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03280" y="3284640"/>
            <a:ext cx="663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主要负责院内的文化娱乐活动，主办诸如慰问演出、迎新晚会、联欢晚会等在内的文艺晚会，同时培养有兴趣的同学文艺表演的才能。是以服务同学为宗旨，以文艺演出的形式活跃学院气氛的青春活泼热情的部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6560" y="1413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0504d"/>
                </a:solidFill>
                <a:latin typeface="Calibri"/>
              </a:rPr>
              <a:t>我们需要你</a:t>
            </a:r>
            <a:endParaRPr b="1" lang="en-US" sz="3600" spc="-1" strike="noStrike">
              <a:solidFill>
                <a:srgbClr val="c0504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2276640"/>
            <a:ext cx="8229600" cy="34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微软雅黑"/>
              </a:rPr>
              <a:t>热情与责任心 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</a:rPr>
              <a:t>                                  </a:t>
            </a:r>
            <a:r>
              <a:rPr b="0" lang="zh-CN" sz="2800" spc="-1" strike="noStrike">
                <a:solidFill>
                  <a:srgbClr val="333333"/>
                </a:solidFill>
                <a:latin typeface="微软雅黑"/>
              </a:rPr>
              <a:t>善于创新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</a:rPr>
              <a:t>    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</a:rPr>
              <a:t>               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</a:rPr>
              <a:t>                    </a:t>
            </a:r>
            <a:r>
              <a:rPr b="0" lang="zh-CN" sz="4000" spc="-1" strike="noStrike">
                <a:solidFill>
                  <a:srgbClr val="333333"/>
                </a:solidFill>
                <a:latin typeface="微软雅黑"/>
              </a:rPr>
              <a:t>文艺演出才能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</a:rPr>
              <a:t>     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</a:rPr>
              <a:t>                                                           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</a:rPr>
              <a:t>逻辑思维能力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微软雅黑"/>
              </a:rPr>
              <a:t>         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微软雅黑"/>
              </a:rPr>
              <a:t>          </a:t>
            </a:r>
            <a:r>
              <a:rPr b="0" lang="zh-CN" sz="2800" spc="-1" strike="noStrike">
                <a:solidFill>
                  <a:srgbClr val="333333"/>
                </a:solidFill>
                <a:latin typeface="微软雅黑"/>
              </a:rPr>
              <a:t>青春活泼 </a:t>
            </a:r>
            <a:r>
              <a:rPr b="0" lang="zh-CN" sz="2400" spc="-1" strike="noStrike">
                <a:solidFill>
                  <a:srgbClr val="333333"/>
                </a:solidFill>
                <a:latin typeface="微软雅黑"/>
              </a:rPr>
              <a:t>                                         </a:t>
            </a:r>
            <a:endParaRPr b="0" lang="en-US" sz="2400" spc="-1" strike="noStrike">
              <a:solidFill>
                <a:srgbClr val="333333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724360" y="5950080"/>
            <a:ext cx="331488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6600"/>
                  </a:solidFill>
                  <a:miter/>
                </a:ln>
                <a:solidFill>
                  <a:srgbClr val="ffffff">
                    <a:alpha val="50000"/>
                  </a:srgbClr>
                </a:solidFill>
                <a:effectLst>
                  <a:outerShdw dist="38160" dir="0" blurRad="0" rotWithShape="0">
                    <a:srgbClr val="9999ff"/>
                  </a:outerShdw>
                </a:effectLst>
                <a:latin typeface="宋体"/>
              </a:rPr>
              <a:t>来试试吧</a:t>
            </a:r>
            <a:endParaRPr b="0" lang="en-US" sz="1800" spc="1" strike="noStrike">
              <a:ln w="12600">
                <a:solidFill>
                  <a:srgbClr val="ff6600"/>
                </a:solidFill>
                <a:miter/>
              </a:ln>
              <a:solidFill>
                <a:srgbClr val="ffffff">
                  <a:alpha val="50000"/>
                </a:srgbClr>
              </a:solidFill>
              <a:effectLst>
                <a:outerShdw dist="38160" dir="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fade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8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3T07:42:00Z</dcterms:created>
  <dc:creator>USER</dc:creator>
  <dc:description/>
  <dc:language>en-US</dc:language>
  <cp:lastModifiedBy>USER</cp:lastModifiedBy>
  <cp:lastPrinted>1899-12-30T00:00:00Z</cp:lastPrinted>
  <dcterms:modified xsi:type="dcterms:W3CDTF">2013-09-16T04:43:15Z</dcterms:modified>
  <cp:revision>2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180</vt:lpwstr>
  </property>
</Properties>
</file>