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4.jpeg" ContentType="image/jpeg"/>
  <Override PartName="/ppt/media/image1.gif" ContentType="image/gif"/>
  <Override PartName="/ppt/media/image2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3.gif" ContentType="image/gif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86A3B-F317-44C2-9531-14DE5C3D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DFB0C-2DA3-4111-AAB8-972131C3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91651-C35D-4D70-BBB6-E8CC75C5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4C638-BEE1-4BD9-8096-848788BA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B2F0-72CF-4554-A342-8D45F0C3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1C90-BA12-47B7-A425-BFB09306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0C0B-F1FD-4A3E-BF2E-C35B0738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4704-A502-43CD-A992-2FE211D0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253B-A902-4398-8EAE-670D15F8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E6AB-3AF5-4C2E-BC12-64803A18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F19B-E141-4E69-B699-F6D31654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97218-8AB3-4D5E-9106-F202E6CC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1846-C963-4843-8A28-D64AB729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5ECA-D1C2-4310-8638-AA1E5714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993F-E805-45DE-8C4B-5909BD75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60D3-F768-4719-9FB8-F4DEC902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9377-59E1-4E46-B319-53250FEE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817F8-16B5-4773-A798-B7544027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3FED5-37D8-4A78-A0CF-D6D932AC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70266-42D2-404A-887C-B37528BC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ECB6E-9C52-4530-9034-76E001CC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8690-DE71-4CDB-9429-CDEDF842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EFC4D-8B0D-4551-8F66-1E555D71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30BCB-5DBD-4338-B2FD-241575C7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8EE5-A9B2-4E06-B7D7-53030C92746D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1BF3-8219-45A1-893A-351B3CB9791F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905120" y="2666880"/>
            <a:ext cx="5029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7 </a:t>
            </a:r>
            <a:r>
              <a:rPr b="1" lang="zh-CN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彩色的翅膀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19520" y="14475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海岛“尝瓜会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2895480"/>
            <a:ext cx="815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战士们都笑着，用两个指头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仿宋_GB2312"/>
              </a:rPr>
              <a:t>捏起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一小片来，细细地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仿宋_GB2312"/>
              </a:rPr>
              <a:t>端详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着，轻轻地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仿宋_GB2312"/>
              </a:rPr>
              <a:t>闻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着，慢慢地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仿宋_GB2312"/>
              </a:rPr>
              <a:t>咬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着，不住发出啧啧的赞叹声。好像有一股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仿宋_GB2312"/>
              </a:rPr>
              <a:t>甘泉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，流进了每个战士的心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1981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3429000"/>
            <a:ext cx="83818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这里写出了战士们收获西瓜后喜悦、激动、自豪的心情，表现了他们对自己劳动成果的珍爱。战士的感情用“捏起”“端详”“闻”“咬”等一连串动词表现了出来。当中好像有一股甘泉，流进了他们的心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14400" y="1752480"/>
            <a:ext cx="7086600" cy="1219320"/>
            <a:chOff x="914400" y="1752480"/>
            <a:chExt cx="7086600" cy="1219320"/>
          </a:xfrm>
        </p:grpSpPr>
        <p:sp>
          <p:nvSpPr>
            <p:cNvPr id="148" name=""/>
            <p:cNvSpPr/>
            <p:nvPr/>
          </p:nvSpPr>
          <p:spPr>
            <a:xfrm>
              <a:off x="2209680" y="1752480"/>
              <a:ext cx="57913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9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Arial"/>
                </a:rPr>
                <a:t>作者为什么把战士们吃瓜的情景写得那么详细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14400" y="1828800"/>
              <a:ext cx="1143000" cy="103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510552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课文为什么要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“彩色的翅膀”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为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课题有两层含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一是以彩色的翅膀借代蝴蝶等小昆虫，强调了这些小昆虫在改造海岛环境、丰富战士生活方面所起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二是以彩色的翅膀象征战士丰富多彩、富于革命理想的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086600" y="1371600"/>
            <a:ext cx="1676520" cy="3505320"/>
            <a:chOff x="7086600" y="1371600"/>
            <a:chExt cx="1676520" cy="350532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7086600" y="1371600"/>
              <a:ext cx="16765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7086600" y="320040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762120" y="1676520"/>
            <a:ext cx="3276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请你欣赏</a:t>
            </a: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: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30481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《军港之夜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48320" y="320040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65599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43040" y="1371600"/>
            <a:ext cx="3352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布置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86200" y="3026880"/>
            <a:ext cx="4648320" cy="28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．摘录精彩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．给宝石岛的战士写一封信，可以刊登在黑板报上，也可以投稿给编辑部，有条件的可以把信发布在网站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12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2819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碧空如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矮墩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水落石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精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19520" y="1447920"/>
            <a:ext cx="2971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词语积累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23623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青蓝色的天空像洗过一样明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289548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仿宋"/>
              </a:rPr>
              <a:t>形容矮而粗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3429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水落下去，石头就露出来。比喻真相大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4648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仿宋"/>
              </a:rPr>
              <a:t>机警聪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2590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286000" y="1219320"/>
            <a:ext cx="457200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自读课文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,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理解大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438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、故事发生在什么地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、课文主要讲述了哪几件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9907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514600" cy="2590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2120" y="3657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故事发生在去宝石岛的路上和宝石岛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47920" y="1905120"/>
            <a:ext cx="30477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故事地点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029200" y="2361960"/>
            <a:ext cx="990720" cy="14475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648320"/>
            <a:ext cx="914400" cy="914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361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971800" y="121932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主要事件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85800" y="2743200"/>
            <a:ext cx="3657600" cy="3429000"/>
            <a:chOff x="685800" y="2743200"/>
            <a:chExt cx="3657600" cy="3429000"/>
          </a:xfrm>
        </p:grpSpPr>
        <p:sp>
          <p:nvSpPr>
            <p:cNvPr id="125" name=""/>
            <p:cNvSpPr/>
            <p:nvPr/>
          </p:nvSpPr>
          <p:spPr>
            <a:xfrm>
              <a:off x="685800" y="27432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（一）战士小高探亲回来带小昆虫上岛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838080" y="3886200"/>
              <a:ext cx="327672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4800600" y="2743200"/>
            <a:ext cx="3505320" cy="3457440"/>
            <a:chOff x="4800600" y="2743200"/>
            <a:chExt cx="3505320" cy="3457440"/>
          </a:xfrm>
        </p:grpSpPr>
        <p:sp>
          <p:nvSpPr>
            <p:cNvPr id="128" name=""/>
            <p:cNvSpPr/>
            <p:nvPr/>
          </p:nvSpPr>
          <p:spPr>
            <a:xfrm>
              <a:off x="4800600" y="27432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（二）岛上战士开尝瓜会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5029200" y="3886200"/>
              <a:ext cx="3276720" cy="231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两件事的联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海岛远离大陆，没有昆虫，西瓜的花没有授粉，结不了瓜。后来通过人工授粉，才结了第一个瓜。小高想让小昆虫为海岛的瓜果蔬菜传播花粉。所以，把昆虫带往宝石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哪些段落是写岛上结出第一个西瓜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一片欢笑声中，我了解到这个西瓜不平常的来历——这个岛上成熟了第一个西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是一种特殊的叙述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插叙——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交代了西瓜的不平常的来历，既能使故事更加生动，又说明了（       ）的作用。没有这段插叙，就很难理解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12193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结识战士“小高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2505240"/>
            <a:ext cx="7239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他把他的大提包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扔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在一边，怀里紧紧地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抱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着一只纸箱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3429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海面上波涛起伏，船身前后晃荡，小高担心纸箱被损坏，纸箱里装着的小昆虫不能上岛，心中着急，所以把纸箱抱在怀里。这句话有力地说明了小昆虫在小高心中的重要地位，也为下文揭开小高的秘密作了铺垫。句中“扔”与“抱”形成了鲜明的对比，突出了小高的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13716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他笑嘻嘻地说：“我就不相信，这些小精灵会不爱我们祖国的海岛，会不愿在这里安居乐业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99840" y="2896920"/>
            <a:ext cx="7086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仿宋_GB2312"/>
              </a:rPr>
              <a:t>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仿宋_GB2312"/>
              </a:rPr>
              <a:t>小高相信，经过战士们的努力，岛上环境条件差、生活艰苦的面貌一定会改变；他也相信，小昆虫一定会在海岛上安居乐业。这句话表面上是赞扬小昆虫，实际上是小高内心的表白：自己热爱祖国海岛，决心用自己的双手把海岛建设成美丽的家园。这句话点明了文章的中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57200" y="2895480"/>
            <a:ext cx="1295280" cy="3048120"/>
            <a:chOff x="457200" y="2895480"/>
            <a:chExt cx="1295280" cy="304812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457200" y="2895480"/>
              <a:ext cx="12952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57200" y="4419720"/>
              <a:ext cx="129528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为您服务教育网 http://www.wsbedu.com/</dc:creator>
  <dc:description/>
  <dc:language>en-US</dc:language>
  <cp:lastModifiedBy>微软用户</cp:lastModifiedBy>
  <dcterms:modified xsi:type="dcterms:W3CDTF">2011-09-20T01:35:21Z</dcterms:modified>
  <cp:revision>2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