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6.png" ContentType="image/png"/>
  <Override PartName="/ppt/media/image9.jpeg" ContentType="image/jpeg"/>
  <Override PartName="/ppt/media/image11.jpeg" ContentType="image/jpeg"/>
  <Override PartName="/ppt/media/image15.jpeg" ContentType="image/jpeg"/>
  <Override PartName="/ppt/media/image14.gif" ContentType="image/gif"/>
  <Override PartName="/ppt/media/image17.png" ContentType="image/png"/>
  <Override PartName="/ppt/media/image12.jpeg" ContentType="image/jpeg"/>
  <Override PartName="/ppt/media/image3.jpeg" ContentType="image/jpeg"/>
  <Override PartName="/ppt/media/image6.jpeg" ContentType="image/jpeg"/>
  <Override PartName="/ppt/media/image5.jpeg" ContentType="image/jpeg"/>
  <Override PartName="/ppt/media/image4.gif" ContentType="image/gif"/>
  <Override PartName="/ppt/media/image1.jpeg" ContentType="image/jpeg"/>
  <Override PartName="/ppt/media/image7.png" ContentType="image/png"/>
  <Override PartName="/ppt/media/image2.gif" ContentType="image/gif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c2d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905120" y="2666880"/>
            <a:ext cx="5029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7 </a:t>
            </a:r>
            <a:r>
              <a:rPr b="1" lang="zh-CN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彩色的翅膀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360" y="5105520"/>
            <a:ext cx="784836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Arial"/>
              </a:rPr>
              <a:t>课文为什么要以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“彩色的翅膀”</a:t>
            </a:r>
            <a:r>
              <a:rPr b="1" lang="zh-CN" sz="3200" spc="-1" strike="noStrike">
                <a:solidFill>
                  <a:srgbClr val="336600"/>
                </a:solidFill>
                <a:latin typeface="Arial"/>
              </a:rPr>
              <a:t>为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华文仿宋"/>
              </a:rPr>
              <a:t>课题有两层含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仿宋"/>
              </a:rPr>
              <a:t>一是以彩色的翅膀借代蝴蝶等小昆虫，强调了这些小昆虫在改造海岛环境、丰富战士生活方面所起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仿宋"/>
              </a:rPr>
              <a:t>二是以彩色的翅膀象征战士丰富多彩、富于革命理想的生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086600" y="1371600"/>
            <a:ext cx="1676520" cy="3505320"/>
            <a:chOff x="7086600" y="1371600"/>
            <a:chExt cx="1676520" cy="3505320"/>
          </a:xfrm>
        </p:grpSpPr>
        <p:pic>
          <p:nvPicPr>
            <p:cNvPr id="85" name="" descr=""/>
            <p:cNvPicPr/>
            <p:nvPr/>
          </p:nvPicPr>
          <p:blipFill>
            <a:blip r:embed="rId2"/>
            <a:stretch/>
          </p:blipFill>
          <p:spPr>
            <a:xfrm>
              <a:off x="7086600" y="1371600"/>
              <a:ext cx="1676520" cy="17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3"/>
            <a:stretch/>
          </p:blipFill>
          <p:spPr>
            <a:xfrm>
              <a:off x="7086600" y="3200400"/>
              <a:ext cx="1676520" cy="1676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9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5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762120" y="1676520"/>
            <a:ext cx="32763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黑体"/>
              </a:rPr>
              <a:t>请你欣赏</a:t>
            </a: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黑体"/>
              </a:rPr>
              <a:t>: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9" name=""/>
          <p:cNvSpPr/>
          <p:nvPr/>
        </p:nvSpPr>
        <p:spPr>
          <a:xfrm>
            <a:off x="1600200" y="304812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中宋"/>
              </a:rPr>
              <a:t>《军港之夜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648320" y="320040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1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332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5" dur="165599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343040" y="1371600"/>
            <a:ext cx="335268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布置作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86200" y="2819160"/>
            <a:ext cx="464832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华文仿宋"/>
                <a:ea typeface="华文仿宋"/>
              </a:rPr>
              <a:t>1</a:t>
            </a:r>
            <a:r>
              <a:rPr b="1" lang="zh-CN" sz="3200" spc="-1" strike="noStrike">
                <a:solidFill>
                  <a:srgbClr val="008000"/>
                </a:solidFill>
                <a:latin typeface="华文仿宋"/>
                <a:ea typeface="华文仿宋"/>
              </a:rPr>
              <a:t>．摘录精彩语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华文仿宋"/>
                <a:ea typeface="华文仿宋"/>
              </a:rPr>
              <a:t>2</a:t>
            </a:r>
            <a:r>
              <a:rPr b="1" lang="zh-CN" sz="3200" spc="-1" strike="noStrike">
                <a:solidFill>
                  <a:srgbClr val="008000"/>
                </a:solidFill>
                <a:latin typeface="华文仿宋"/>
                <a:ea typeface="华文仿宋"/>
              </a:rPr>
              <a:t>．给宝石岛的战士写一封信，可以刊登在黑板报上，也可以投稿给编辑部，有条件的可以把信发布在网站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33520" y="1295280"/>
            <a:ext cx="31240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2743200" y="3048120"/>
            <a:ext cx="32767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再见</a:t>
            </a:r>
            <a:endParaRPr b="1" i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28600" y="2285640"/>
            <a:ext cx="28195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碧空如洗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矮墩墩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水落石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精灵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819520" y="1447920"/>
            <a:ext cx="29718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词语积累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236232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仿宋"/>
              </a:rPr>
              <a:t>青蓝色的天空像洗过一样明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289548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仿宋"/>
              </a:rPr>
              <a:t>形容矮而粗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66880" y="3429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水落下去，石头就露出来。比喻真相大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66880" y="46483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仿宋"/>
              </a:rPr>
              <a:t>机警聪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172200" y="4495680"/>
            <a:ext cx="25909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362320" y="2666880"/>
            <a:ext cx="457200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自读课文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,</a:t>
            </a: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理解大意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4038480"/>
            <a:ext cx="6781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故事发生在什么地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课文主要讲述了哪几件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143000" y="2666880"/>
            <a:ext cx="9907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172200" y="1143000"/>
            <a:ext cx="2514600" cy="2590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62120" y="36576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黑体"/>
              </a:rPr>
              <a:t>故事发生在去宝石岛的路上和宝石岛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447920" y="1905120"/>
            <a:ext cx="304776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故事地点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029200" y="2361960"/>
            <a:ext cx="990720" cy="144756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800600" y="4648320"/>
            <a:ext cx="914400" cy="9144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5791320" y="3809880"/>
            <a:ext cx="23619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2971800" y="1219320"/>
            <a:ext cx="2895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主要事件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85800" y="2743200"/>
            <a:ext cx="3657600" cy="3429000"/>
            <a:chOff x="685800" y="2743200"/>
            <a:chExt cx="3657600" cy="3429000"/>
          </a:xfrm>
        </p:grpSpPr>
        <p:sp>
          <p:nvSpPr>
            <p:cNvPr id="61" name=""/>
            <p:cNvSpPr/>
            <p:nvPr/>
          </p:nvSpPr>
          <p:spPr>
            <a:xfrm>
              <a:off x="685800" y="2743200"/>
              <a:ext cx="36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Arial"/>
                </a:rPr>
                <a:t>（一）战士小高探亲回来带小昆虫上岛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" descr=""/>
            <p:cNvPicPr/>
            <p:nvPr/>
          </p:nvPicPr>
          <p:blipFill>
            <a:blip r:embed="rId4"/>
            <a:stretch/>
          </p:blipFill>
          <p:spPr>
            <a:xfrm>
              <a:off x="838080" y="3886200"/>
              <a:ext cx="3276720" cy="228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" name=""/>
          <p:cNvGrpSpPr/>
          <p:nvPr/>
        </p:nvGrpSpPr>
        <p:grpSpPr>
          <a:xfrm>
            <a:off x="4800600" y="2743200"/>
            <a:ext cx="3505320" cy="3457440"/>
            <a:chOff x="4800600" y="2743200"/>
            <a:chExt cx="3505320" cy="3457440"/>
          </a:xfrm>
        </p:grpSpPr>
        <p:sp>
          <p:nvSpPr>
            <p:cNvPr id="64" name=""/>
            <p:cNvSpPr/>
            <p:nvPr/>
          </p:nvSpPr>
          <p:spPr>
            <a:xfrm>
              <a:off x="4800600" y="2743200"/>
              <a:ext cx="342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Arial"/>
                </a:rPr>
                <a:t>（二）岛上战士开尝瓜会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" descr=""/>
            <p:cNvPicPr/>
            <p:nvPr/>
          </p:nvPicPr>
          <p:blipFill>
            <a:blip r:embed="rId5"/>
            <a:stretch/>
          </p:blipFill>
          <p:spPr>
            <a:xfrm>
              <a:off x="5029200" y="3886200"/>
              <a:ext cx="3276720" cy="2314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9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9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8280" y="1219320"/>
            <a:ext cx="41148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黑体"/>
              </a:rPr>
              <a:t>结识战士“小高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2209680"/>
            <a:ext cx="72392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他把他的大提包</a:t>
            </a:r>
            <a:r>
              <a:rPr b="1" lang="zh-CN" sz="3200" spc="-1" strike="noStrike">
                <a:solidFill>
                  <a:srgbClr val="336600"/>
                </a:solidFill>
                <a:latin typeface="Arial"/>
              </a:rPr>
              <a:t>扔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在一边，怀里紧紧地</a:t>
            </a:r>
            <a:r>
              <a:rPr b="1" lang="zh-CN" sz="3200" spc="-1" strike="noStrike">
                <a:solidFill>
                  <a:srgbClr val="336600"/>
                </a:solidFill>
                <a:latin typeface="Arial"/>
              </a:rPr>
              <a:t>抱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着一只纸箱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90720" y="34290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华文仿宋"/>
              </a:rPr>
              <a:t>海面上波涛起伏，船身前后晃荡，小高担心纸箱被损坏，纸箱里装着的小昆虫不能上岛，心中着急，所以把纸箱抱在怀里。这句话有力地说明了小昆虫在小高心中的重要地位，也为下文揭开小高的秘密作了铺垫。句中“扔”与“抱”形成了鲜明的对比，突出了小高的品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137160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1447560"/>
            <a:ext cx="76964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他笑嘻嘻地说：“我就不相信，这些小精灵会不爱我们祖国的海岛，会不愿在这里安居乐业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99840" y="2971800"/>
            <a:ext cx="7086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  <a:ea typeface="仿宋_GB2312"/>
              </a:rPr>
              <a:t>          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  <a:ea typeface="仿宋_GB2312"/>
              </a:rPr>
              <a:t>小高相信，经过战士们的努力，岛上环境条件差、生活艰苦的面貌一定会改变；他也相信，小昆虫一定会在海岛上安居乐业。这句话表面上是赞扬小昆虫，实际上是小高内心的表白：自己热爱祖国海岛，决心用自己的双手把海岛建设成美丽的家园。这句话点明了文章的中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457200" y="2895480"/>
            <a:ext cx="1295280" cy="3048120"/>
            <a:chOff x="457200" y="2895480"/>
            <a:chExt cx="1295280" cy="3048120"/>
          </a:xfrm>
        </p:grpSpPr>
        <p:pic>
          <p:nvPicPr>
            <p:cNvPr id="73" name="" descr=""/>
            <p:cNvPicPr/>
            <p:nvPr/>
          </p:nvPicPr>
          <p:blipFill>
            <a:blip r:embed="rId2"/>
            <a:stretch/>
          </p:blipFill>
          <p:spPr>
            <a:xfrm>
              <a:off x="457200" y="2895480"/>
              <a:ext cx="129528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3"/>
            <a:stretch/>
          </p:blipFill>
          <p:spPr>
            <a:xfrm>
              <a:off x="457200" y="4419720"/>
              <a:ext cx="1295280" cy="1523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19520" y="1447560"/>
            <a:ext cx="441936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  <a:ea typeface="黑体"/>
              </a:rPr>
              <a:t>海岛“尝瓜会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33720" y="2895480"/>
            <a:ext cx="563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仿宋_GB2312"/>
              </a:rPr>
              <a:t>战士们都笑着，用两个指头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仿宋_GB2312"/>
              </a:rPr>
              <a:t>捏起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仿宋_GB2312"/>
              </a:rPr>
              <a:t>一小片来，细细地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仿宋_GB2312"/>
              </a:rPr>
              <a:t>端详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仿宋_GB2312"/>
              </a:rPr>
              <a:t>着，轻轻地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仿宋_GB2312"/>
              </a:rPr>
              <a:t>闻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仿宋_GB2312"/>
              </a:rPr>
              <a:t>着，慢慢地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仿宋_GB2312"/>
              </a:rPr>
              <a:t>咬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仿宋_GB2312"/>
              </a:rPr>
              <a:t>着，不住发出啧啧的赞叹声。好像有一股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仿宋_GB2312"/>
              </a:rPr>
              <a:t>甘泉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仿宋_GB2312"/>
              </a:rPr>
              <a:t>，流进了每个战士的心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57200" y="1219320"/>
            <a:ext cx="198108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371600" y="3429000"/>
            <a:ext cx="678168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仿宋"/>
              </a:rPr>
              <a:t>这里写出了战士们收获西瓜后喜悦、激动、自豪的心情，表现了他们对自己劳动成果的珍爱。战士的感情用“捏起”“端详”“闻”“咬”等一连串动词表现了出来。当中好像有一股甘泉，流进了他们的心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914400" y="1752480"/>
            <a:ext cx="7086600" cy="1219320"/>
            <a:chOff x="914400" y="1752480"/>
            <a:chExt cx="7086600" cy="1219320"/>
          </a:xfrm>
        </p:grpSpPr>
        <p:sp>
          <p:nvSpPr>
            <p:cNvPr id="80" name=""/>
            <p:cNvSpPr/>
            <p:nvPr/>
          </p:nvSpPr>
          <p:spPr>
            <a:xfrm>
              <a:off x="2209680" y="1752480"/>
              <a:ext cx="57913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901"/>
                </a:spcBef>
                <a:buClr>
                  <a:srgbClr val="3333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ff"/>
                  </a:solidFill>
                  <a:latin typeface="Arial"/>
                </a:rPr>
                <a:t>作者为什么把战士们吃瓜的情景写得那么详细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" name="" descr=""/>
            <p:cNvPicPr/>
            <p:nvPr/>
          </p:nvPicPr>
          <p:blipFill>
            <a:blip r:embed="rId2"/>
            <a:stretch/>
          </p:blipFill>
          <p:spPr>
            <a:xfrm>
              <a:off x="914400" y="1828800"/>
              <a:ext cx="1143000" cy="1035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2-22T05:26:23Z</dcterms:modified>
  <cp:revision>2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