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581-EA41-43BC-96BB-417F642C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5AF-EBD9-4E31-8A2C-67983AA0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644-E7DF-4B85-9372-A43E002E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A7C-0269-4779-BA8F-11726117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CC6-2919-417D-A598-B249AF7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BCD-2CB0-40C4-AB01-E0CAD0F9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DF0-3BC2-467D-9AA3-9EDE4D15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D91-C7C9-4213-A3E0-9A3DEEF5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365-3F01-4D6A-86F6-721B6011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AF6-2A52-4775-A2A1-7E9B6F0B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76C-25DC-4166-ABE8-DC862DEF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BB6-8CED-4637-828C-4C32132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2AF0-7A0B-44CB-8AC9-AD3CF79819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5A6B-D91E-4643-BA72-00789BEDEF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ac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58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4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00:42:00Z</dcterms:created>
  <dc:creator>杜鹏亮</dc:creator>
  <dc:description/>
  <cp:keywords/>
  <dc:language>en-US</dc:language>
  <cp:lastModifiedBy>Sky123.Org</cp:lastModifiedBy>
  <dcterms:modified xsi:type="dcterms:W3CDTF">2015-07-24T03:21:0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