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F0C-B612-4BF6-9C59-4AAB4D9E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608-D640-4783-B576-811710D5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12DEC-C151-4B40-A96E-67459A4A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8C676-407E-450F-887E-91FB7997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6178C-3280-438C-9463-AB6B63E3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36651-B0B5-49CC-AD92-86415092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403DD-DD6A-48C2-970F-1480492B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7C7E3-4AAC-49B8-BE1E-595ADED7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44609-6DE0-4167-984D-4F184948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A4DA0-B614-4700-B09C-B91D36BD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CBDD4-11A2-47C2-8E6B-85B72A98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CADC8-9CAF-459D-8EDB-92EAF347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0B0-E482-4CA5-A7F9-9CFC2221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9698C-0335-44CE-9907-EB67EDEC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64368-4490-40C3-8F8E-1E333921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BD7F4-4E0D-4B6E-A56A-35D542D9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19610-B10C-4E7A-877C-1097B2A1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A7B24-5A94-4918-845B-F84FEDB0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50071-A263-431A-A2D0-B8D0B0F2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903ED-B08D-4FB7-9F13-029B35EE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9906E-028F-4920-BE24-65D3C292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3EE88-3082-4A66-BEBB-09732CFA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1132F-AA40-4053-9480-6F2774FB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07DB-E58E-4E5D-BA26-A9859FE1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596F7-76B8-4C70-8FFF-90245D7D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9095C-9320-45D8-8892-3D7922E1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B55BE-989E-483C-BC48-8942BFA9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9EE04-38AE-4AA8-A225-4533A170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EAA69-8814-4E75-9CCB-96257C75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1677C-2249-40DD-A019-AF521C4B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17DD8-D7E6-464E-9004-C7EFBFD9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D1520-E9BB-4BFB-AC4F-6536889A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60E6E-9731-49FC-9ABE-9BFF83DC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34027-B2E8-47BB-B0D8-BA4B3191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99AA-A8CD-497C-A829-3C46C57F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4138A-E48D-4E11-8B20-7DC07630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EDADD-8015-463D-A742-B6AA76C2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6AE3B-8F64-4606-995E-4C332D0D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2FBB4-AC77-43BC-8CED-9A15BDBC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F82BC-6B05-4CFA-AD9A-C612BECF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6F4C2-21FB-4D98-A1F2-35C1CBA1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4A0CE-8797-4C36-8740-621E60A9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61D06-1ADF-4082-994D-E95B951E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BB8EF-8A8D-4D42-B5ED-A16C7A99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28641-06A0-493C-B76C-30E23629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E41E-468C-4EDA-A67B-A79D152D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10AF5-0997-4E27-8638-FE111B7B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4C600-CFC9-4369-8A29-944069AC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26FE7-3FDF-4269-A346-85B6FB4D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49142-038A-490B-977B-E9B4F077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542BB-CD2C-4AFA-8989-A213BF19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B65D7-516C-4843-82AB-4F55768A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EF4E5-C754-4756-A54C-880BA23A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05F5D1-F121-4207-9070-9E0BCDB5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767702-6352-4111-8BC6-910266FD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5A7EE6-DA87-4FEE-900A-C574F21A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D115-55B1-4841-AE92-BA7586BF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A0A811-FB39-4A8E-9308-FB979486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1C003E-7793-4F68-9315-94CBC7A4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FC650-6336-46CB-8FA8-CB501284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D67ACF-8A59-4D01-A385-BBBD418F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0AAB45-6665-4249-8A0F-96746C7E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421709-7A62-479F-ADF2-014F4D43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AC560-9090-4C49-A56B-7D5D4429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59A883-8AE6-44C5-955E-9E8D67E1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62AC9-6DF0-4517-9F50-F4BB3DF4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E05337-8279-486A-B374-CD438CDC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0CC3-2A26-46EC-B812-EC358C30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3F1393-7CA0-4835-9531-389563CD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BBC496-10D4-490F-BCE4-124DA607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B9243F-8FA7-4D4E-9F46-9DECEAF0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CAD97D-D636-4E18-AB2A-B7EAA992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CE34B5-C088-400A-B3B7-B4CF35C7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D48610-C3AF-45DC-9B95-65A51445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BE8AF-21E0-41E6-9823-B54B9AF7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0ED1C5-9003-463D-96A2-A77B9311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1EA89C-B53B-4BE9-8221-4FC2A992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22A7AE-5857-4596-9E3B-8805C493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589A-9236-4747-882D-EC9BDDA3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657817-6ED5-434A-BC4E-6DE5D071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A0C27C-DFA4-4D5A-95BE-5AAA1491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39E61F-D3CE-4562-B4C0-80E78E08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BF53B5-BB31-43E8-8BA2-13FA99AB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30242C-3E5F-4255-BF8B-C31AFBE4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71BB26-3E82-42C8-9A96-5CE648C1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7A44B8-6858-4639-A509-87055F77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D72F06-8278-46A3-A69A-9B1B8E33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2B06D1-2EBC-4A10-99FD-4628EFD5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11AA31-295A-45C3-B368-3504C71B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2FA9-766E-4306-BCAE-3CC6169B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6725C3-136A-4557-A603-694E58AD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53A9-EA16-4838-B4FE-FB342B27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6045-03C1-4258-855C-F41DF30A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44AE-6E51-4DBD-9C58-E1176E58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0974-086F-4067-8B90-16052904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F6FC-033C-452F-8FCE-13D7C627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6C9D-5444-4312-8DB3-89AAF998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D461-46A5-4A32-A9D9-EE18A372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C40A6-F4CC-45DF-88E0-381E349D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840DA-EF0B-405B-97A7-75F474A4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AEF6F-42EA-4650-866F-A1C4E71C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6032A-6903-434B-8B36-E3C890F6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FF472-1B4B-496A-B6DA-598BE9A6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2699-77A8-43BE-ABD5-4216E913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BC55F-3C4F-4B4A-BB24-9C59F176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47D06-202C-4630-A30C-7697B5D7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8E62D-30E6-4B1A-965B-2B1D4D0C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B19AC-19CB-4733-9493-33CF4B96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4EEF9-8805-4EAD-877C-4BD44EB4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8346A-064C-467A-94F3-7F62A23B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7B32E-4227-4D6C-BE8D-1C1BCFEE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C2931-1C03-4351-869D-65845B66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987F4-CE71-426F-B6A2-83D6E6F0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DD737-B6D8-4A5A-A5A9-ED098678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AE10-9928-45ED-81FE-3D774BC6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48D1D-6D1D-4D65-A11A-BBD311B4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BE7B0-2068-47F4-B077-2FA12162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433C6-9DD7-4B11-BF8B-87A10C0B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9A583-12D5-4603-8E47-8FF6D5B3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EC02E-E66A-4D2F-A2E5-1FBCC5EC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5A8CE-EE8D-4958-9B3D-D13A9E38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8080C-F1FC-48FA-9908-E17DB099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7DF7A-715C-4110-983E-7A15FC13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8D12D-282F-4B3A-A78F-6D7B02F6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8CFB6-D7ED-40CD-9A0E-3BC9B409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AF2-3DD7-4A8A-8FF8-B0003255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0E383-65F3-4DCC-810C-4A4E9686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1E181-8536-40CF-A01F-576D0CDD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3AD5C-46F1-4C5F-8EBE-F4E042C5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9F817-8E00-493D-B03B-43F2646F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F3A97-3EE7-4EEE-82CF-03158461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F29D1-38D9-4A89-92BD-CA8D188F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8BE94-1D9E-4B33-AFE4-ABB7CEE8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07910-84BF-4F08-895C-B3ACEFCC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7EE0E-22B6-4837-9D59-65BDFE4A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C5971-9431-49A9-9877-5858C107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F58-EC52-448D-92EB-252588E4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744D4-78C5-4B26-92E7-6B246379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4298C-DA92-4F9C-BA43-4A410C1F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6F8C2-C1BC-400A-A2BE-7B574B78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C791F-0F6A-4B0C-AE02-E4B7F34F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B9531-3331-431C-965C-353F682B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8173C-1493-48A3-8B12-F98BF877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20831-3C1E-460B-86D3-55E4AF55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1513D-9417-4D62-9804-E8C84046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36D32-EBEF-490B-B436-FABB6AE4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09EE7-2928-48B6-B6F2-7E2FFE24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58C5-9C31-4D96-A968-BF3F09BD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49F86-6876-44EB-91E5-50F7E4F0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ADE0F-D871-4D31-9A51-3BC1B1A3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9B2F2-F0C3-4442-B685-D7F38797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2B23F-DC44-44BD-9A1B-B7BD60D4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FEDC6-6D76-4811-9894-1E279C4F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EA179-1911-4C4C-9F4C-26BA7BAA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0D825-9360-493A-9434-5CEAE93D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DE3EE-31A8-4BA4-82E8-E495299E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FC344-A9CE-4D16-B4AC-BAA5F18B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C9EAE-4CCA-417F-BB5A-63CF847E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7E0-ABF6-45F9-8F31-D3B65807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5A9DD-53C5-46EC-8BBF-6235A524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5CA47-A1E6-4DEA-8A0C-AC34216C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456A8-C2EE-475C-BBB4-AAEE6F3E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BBF7B-7200-466F-8A74-1E4E58E4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2CFEA-B7BE-4F7E-A10F-77BE0ABA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2CFA0-1B3D-46EB-AB0C-7B097652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E2358-0564-43BA-82BE-9AD44AF0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F3437-6213-4F1D-8EE3-1077427F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4BF6E-09BC-4C93-A7DA-D2AD2C58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A026C-8B5A-4FC5-A902-43C9AACF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2D75-F0ED-46AC-B82B-BBC9DDCF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94FDA-D339-4D64-BC2E-46A89B89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35A4D-2026-496F-B9E4-75B4AE08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18428-B7DC-4C5A-9168-4F9CF1A9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DA52B-4185-40B1-82C1-72BFEE7E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107B5-6E46-4DE4-9D0B-966FCA4F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EEF02-C437-4040-B4C2-49E5256D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FD1B6-1FFA-4599-AD5E-10D3841C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B35C7-4D86-4D8B-93AF-FE933FA1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AAFB8-BFF9-461C-A61B-4376AAAB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89760-9182-41D4-B972-A1BA0268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C59D-A9B9-456C-9C56-0C45E0B63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일러스트범용1-4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A60A-C85C-4922-B168-C027BF3D7BC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804F-75A7-4F61-BE73-63CFB8556B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09EB-E97A-4B72-9102-FCDCB382792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40B7-6E1D-4596-B23B-EB1BC57A6D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6112-E7BA-4DF5-AEBE-788085BFC40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7A94-6A8D-4D86-BE6A-A7C83CC375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9B13-600D-4A09-9C47-B6AEA63935F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D508-C2A4-451E-8413-F5295CDEA3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221E-0FD3-4FF8-BB4D-CD8B06C9E3E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8F9E-AB55-4687-AC15-40E4A2A533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265E-1B72-41D5-A2E3-76BE1863958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89F6-1A12-40DF-B5FB-211068A790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ACAD-0680-4A29-A1DD-24FDCE331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4" descr="일러스트범용1-1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5B8E-2DC3-47D8-A720-3AA696803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4" descr="일러스트범용1-2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65B0-FB61-4CA3-A280-E92FB022E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3" descr="일러스트범용1-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544A-3724-4354-BBD2-B677E2177D1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38E7-168D-4C50-B2BE-08796225FF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0A88-2221-409C-9E1D-B81F41E4866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2456-BDE9-4004-A4D9-E835BE1692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4361-C304-41ED-A6AB-02443D5B913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1C54-6491-445B-BA3C-DCB43C6298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9FA4-4C71-466A-AB0A-C19D74176B0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A6EF-93C1-4931-8120-EC0C1EA43B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70AF-0BD8-4C64-8FA5-D8893EBB106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D053-E24D-40B7-8BDA-71D8E7BFF3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826920" y="1390680"/>
            <a:ext cx="7410600" cy="1030320"/>
            <a:chOff x="826920" y="1390680"/>
            <a:chExt cx="7410600" cy="1030320"/>
          </a:xfrm>
        </p:grpSpPr>
        <p:sp>
          <p:nvSpPr>
            <p:cNvPr id="620" name="WordArt 29"/>
            <p:cNvSpPr txBox="1"/>
            <p:nvPr/>
          </p:nvSpPr>
          <p:spPr>
            <a:xfrm>
              <a:off x="4682880" y="1390680"/>
              <a:ext cx="346248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240">
                    <a:solidFill>
                      <a:srgbClr val="c0c0c0">
                        <a:alpha val="50000"/>
                      </a:srgbClr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굴림"/>
                </a:rPr>
                <a:t>Presentation SOLUTION</a:t>
              </a:r>
              <a:endParaRPr b="1" lang="en-US" sz="1800" spc="1" strike="noStrike">
                <a:ln w="3240">
                  <a:solidFill>
                    <a:srgbClr val="c0c0c0">
                      <a:alpha val="50000"/>
                    </a:srgbClr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굴림"/>
                <a:ea typeface="굴림"/>
              </a:endParaRPr>
            </a:p>
          </p:txBody>
        </p:sp>
        <p:sp>
          <p:nvSpPr>
            <p:cNvPr id="621" name="WordArt 30"/>
            <p:cNvSpPr txBox="1"/>
            <p:nvPr/>
          </p:nvSpPr>
          <p:spPr>
            <a:xfrm>
              <a:off x="826920" y="1811520"/>
              <a:ext cx="74106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5840">
                    <a:solidFill>
                      <a:srgbClr val="000000">
                        <a:alpha val="50000"/>
                      </a:srgbClr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78000"/>
                      </a:srgbClr>
                    </a:outerShdw>
                  </a:effectLst>
                  <a:latin typeface="굴림"/>
                </a:rPr>
                <a:t>BIZPPT TEMPLATES</a:t>
              </a:r>
              <a:endParaRPr b="1" i="1" lang="en-US" sz="1800" spc="1" strike="noStrike">
                <a:ln w="15840">
                  <a:solidFill>
                    <a:srgbClr val="000000">
                      <a:alpha val="50000"/>
                    </a:srgbClr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굴림"/>
                <a:ea typeface="굴림"/>
              </a:endParaRPr>
            </a:p>
          </p:txBody>
        </p:sp>
      </p:grpSp>
      <p:pic>
        <p:nvPicPr>
          <p:cNvPr id="622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623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2"/>
          <p:cNvGrpSpPr/>
          <p:nvPr/>
        </p:nvGrpSpPr>
        <p:grpSpPr>
          <a:xfrm>
            <a:off x="4443480" y="1557360"/>
            <a:ext cx="4305240" cy="4422600"/>
            <a:chOff x="4443480" y="1557360"/>
            <a:chExt cx="4305240" cy="4422600"/>
          </a:xfrm>
        </p:grpSpPr>
        <p:pic>
          <p:nvPicPr>
            <p:cNvPr id="625" name="Picture 515" descr="보고순서 copy"/>
            <p:cNvPicPr/>
            <p:nvPr/>
          </p:nvPicPr>
          <p:blipFill>
            <a:blip r:embed="rId1"/>
            <a:srcRect l="4193" t="10686" r="6021" b="8028"/>
            <a:stretch/>
          </p:blipFill>
          <p:spPr>
            <a:xfrm>
              <a:off x="5335560" y="1557360"/>
              <a:ext cx="222912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AutoShape 516"/>
            <p:cNvSpPr/>
            <p:nvPr/>
          </p:nvSpPr>
          <p:spPr>
            <a:xfrm>
              <a:off x="4956120" y="229572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7" name="AutoShape 517"/>
            <p:cNvSpPr/>
            <p:nvPr/>
          </p:nvSpPr>
          <p:spPr>
            <a:xfrm>
              <a:off x="4956120" y="550548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8" name="AutoShape 518"/>
            <p:cNvSpPr/>
            <p:nvPr/>
          </p:nvSpPr>
          <p:spPr>
            <a:xfrm>
              <a:off x="4956120" y="293688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9" name="AutoShape 519"/>
            <p:cNvSpPr/>
            <p:nvPr/>
          </p:nvSpPr>
          <p:spPr>
            <a:xfrm>
              <a:off x="4956120" y="357840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0" name="AutoShape 520"/>
            <p:cNvSpPr/>
            <p:nvPr/>
          </p:nvSpPr>
          <p:spPr>
            <a:xfrm>
              <a:off x="4956120" y="422136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1" name="AutoShape 521"/>
            <p:cNvSpPr/>
            <p:nvPr/>
          </p:nvSpPr>
          <p:spPr>
            <a:xfrm>
              <a:off x="4956120" y="486252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632" name="Group 10"/>
            <p:cNvGrpSpPr/>
            <p:nvPr/>
          </p:nvGrpSpPr>
          <p:grpSpPr>
            <a:xfrm>
              <a:off x="4443480" y="2295720"/>
              <a:ext cx="476280" cy="474480"/>
              <a:chOff x="4443480" y="2295720"/>
              <a:chExt cx="476280" cy="474480"/>
            </a:xfrm>
          </p:grpSpPr>
          <p:grpSp>
            <p:nvGrpSpPr>
              <p:cNvPr id="633" name="Group 11"/>
              <p:cNvGrpSpPr/>
              <p:nvPr/>
            </p:nvGrpSpPr>
            <p:grpSpPr>
              <a:xfrm>
                <a:off x="4443480" y="2295720"/>
                <a:ext cx="476280" cy="474480"/>
                <a:chOff x="4443480" y="2295720"/>
                <a:chExt cx="476280" cy="474480"/>
              </a:xfrm>
            </p:grpSpPr>
            <p:sp>
              <p:nvSpPr>
                <p:cNvPr id="634" name="AutoShape 524"/>
                <p:cNvSpPr/>
                <p:nvPr/>
              </p:nvSpPr>
              <p:spPr>
                <a:xfrm>
                  <a:off x="4443480" y="229572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35" name="AutoShape 525"/>
                <p:cNvSpPr/>
                <p:nvPr/>
              </p:nvSpPr>
              <p:spPr>
                <a:xfrm>
                  <a:off x="4467240" y="232092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636" name="Picture 526" descr="바코드"/>
                <p:cNvPicPr/>
                <p:nvPr/>
              </p:nvPicPr>
              <p:blipFill>
                <a:blip r:embed="rId2"/>
                <a:srcRect l="16802" t="9783" r="20325" b="5978"/>
                <a:stretch/>
              </p:blipFill>
              <p:spPr>
                <a:xfrm>
                  <a:off x="4770360" y="234288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7" name="AutoShape 527"/>
                <p:cNvSpPr/>
                <p:nvPr/>
              </p:nvSpPr>
              <p:spPr>
                <a:xfrm>
                  <a:off x="4479840" y="233352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638" name="Text Box 528"/>
              <p:cNvSpPr/>
              <p:nvPr/>
            </p:nvSpPr>
            <p:spPr>
              <a:xfrm>
                <a:off x="4579920" y="2436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39" name="Group 17"/>
            <p:cNvGrpSpPr/>
            <p:nvPr/>
          </p:nvGrpSpPr>
          <p:grpSpPr>
            <a:xfrm>
              <a:off x="4443480" y="2936880"/>
              <a:ext cx="476280" cy="474840"/>
              <a:chOff x="4443480" y="2936880"/>
              <a:chExt cx="476280" cy="474840"/>
            </a:xfrm>
          </p:grpSpPr>
          <p:grpSp>
            <p:nvGrpSpPr>
              <p:cNvPr id="640" name="Group 18"/>
              <p:cNvGrpSpPr/>
              <p:nvPr/>
            </p:nvGrpSpPr>
            <p:grpSpPr>
              <a:xfrm>
                <a:off x="4443480" y="2936880"/>
                <a:ext cx="476280" cy="474840"/>
                <a:chOff x="4443480" y="2936880"/>
                <a:chExt cx="476280" cy="474840"/>
              </a:xfrm>
            </p:grpSpPr>
            <p:sp>
              <p:nvSpPr>
                <p:cNvPr id="641" name="AutoShape 531"/>
                <p:cNvSpPr/>
                <p:nvPr/>
              </p:nvSpPr>
              <p:spPr>
                <a:xfrm>
                  <a:off x="4443480" y="293688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42" name="AutoShape 532"/>
                <p:cNvSpPr/>
                <p:nvPr/>
              </p:nvSpPr>
              <p:spPr>
                <a:xfrm>
                  <a:off x="4467240" y="296244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643" name="Picture 533" descr="바코드"/>
                <p:cNvPicPr/>
                <p:nvPr/>
              </p:nvPicPr>
              <p:blipFill>
                <a:blip r:embed="rId3"/>
                <a:srcRect l="16802" t="9783" r="20325" b="5978"/>
                <a:stretch/>
              </p:blipFill>
              <p:spPr>
                <a:xfrm>
                  <a:off x="4770360" y="298620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4" name="AutoShape 534"/>
                <p:cNvSpPr/>
                <p:nvPr/>
              </p:nvSpPr>
              <p:spPr>
                <a:xfrm>
                  <a:off x="4479840" y="297504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645" name="Text Box 535"/>
              <p:cNvSpPr/>
              <p:nvPr/>
            </p:nvSpPr>
            <p:spPr>
              <a:xfrm>
                <a:off x="4579920" y="307656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46" name="Group 24"/>
            <p:cNvGrpSpPr/>
            <p:nvPr/>
          </p:nvGrpSpPr>
          <p:grpSpPr>
            <a:xfrm>
              <a:off x="4443480" y="3578400"/>
              <a:ext cx="476280" cy="474480"/>
              <a:chOff x="4443480" y="3578400"/>
              <a:chExt cx="476280" cy="474480"/>
            </a:xfrm>
          </p:grpSpPr>
          <p:grpSp>
            <p:nvGrpSpPr>
              <p:cNvPr id="647" name="Group 25"/>
              <p:cNvGrpSpPr/>
              <p:nvPr/>
            </p:nvGrpSpPr>
            <p:grpSpPr>
              <a:xfrm>
                <a:off x="4443480" y="3578400"/>
                <a:ext cx="476280" cy="474480"/>
                <a:chOff x="4443480" y="3578400"/>
                <a:chExt cx="476280" cy="474480"/>
              </a:xfrm>
            </p:grpSpPr>
            <p:sp>
              <p:nvSpPr>
                <p:cNvPr id="648" name="AutoShape 538"/>
                <p:cNvSpPr/>
                <p:nvPr/>
              </p:nvSpPr>
              <p:spPr>
                <a:xfrm>
                  <a:off x="4443480" y="357840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49" name="AutoShape 539"/>
                <p:cNvSpPr/>
                <p:nvPr/>
              </p:nvSpPr>
              <p:spPr>
                <a:xfrm>
                  <a:off x="4467240" y="360360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650" name="Picture 540" descr="바코드"/>
                <p:cNvPicPr/>
                <p:nvPr/>
              </p:nvPicPr>
              <p:blipFill>
                <a:blip r:embed="rId4"/>
                <a:srcRect l="16802" t="9783" r="20325" b="5978"/>
                <a:stretch/>
              </p:blipFill>
              <p:spPr>
                <a:xfrm>
                  <a:off x="4770360" y="362736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1" name="AutoShape 541"/>
                <p:cNvSpPr/>
                <p:nvPr/>
              </p:nvSpPr>
              <p:spPr>
                <a:xfrm>
                  <a:off x="4479840" y="361620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652" name="Text Box 542"/>
              <p:cNvSpPr/>
              <p:nvPr/>
            </p:nvSpPr>
            <p:spPr>
              <a:xfrm>
                <a:off x="4579920" y="3714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53" name="Group 31"/>
            <p:cNvGrpSpPr/>
            <p:nvPr/>
          </p:nvGrpSpPr>
          <p:grpSpPr>
            <a:xfrm>
              <a:off x="4443480" y="4221360"/>
              <a:ext cx="476280" cy="474480"/>
              <a:chOff x="4443480" y="4221360"/>
              <a:chExt cx="476280" cy="474480"/>
            </a:xfrm>
          </p:grpSpPr>
          <p:grpSp>
            <p:nvGrpSpPr>
              <p:cNvPr id="654" name="Group 32"/>
              <p:cNvGrpSpPr/>
              <p:nvPr/>
            </p:nvGrpSpPr>
            <p:grpSpPr>
              <a:xfrm>
                <a:off x="4443480" y="4221360"/>
                <a:ext cx="476280" cy="474480"/>
                <a:chOff x="4443480" y="4221360"/>
                <a:chExt cx="476280" cy="474480"/>
              </a:xfrm>
            </p:grpSpPr>
            <p:sp>
              <p:nvSpPr>
                <p:cNvPr id="655" name="AutoShape 545"/>
                <p:cNvSpPr/>
                <p:nvPr/>
              </p:nvSpPr>
              <p:spPr>
                <a:xfrm>
                  <a:off x="4443480" y="422136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56" name="AutoShape 546"/>
                <p:cNvSpPr/>
                <p:nvPr/>
              </p:nvSpPr>
              <p:spPr>
                <a:xfrm>
                  <a:off x="4467240" y="424656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657" name="Picture 547" descr="바코드"/>
                <p:cNvPicPr/>
                <p:nvPr/>
              </p:nvPicPr>
              <p:blipFill>
                <a:blip r:embed="rId5"/>
                <a:srcRect l="16802" t="9783" r="20325" b="5978"/>
                <a:stretch/>
              </p:blipFill>
              <p:spPr>
                <a:xfrm>
                  <a:off x="4770360" y="427032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8" name="AutoShape 548"/>
                <p:cNvSpPr/>
                <p:nvPr/>
              </p:nvSpPr>
              <p:spPr>
                <a:xfrm>
                  <a:off x="4479840" y="425916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659" name="Text Box 549"/>
              <p:cNvSpPr/>
              <p:nvPr/>
            </p:nvSpPr>
            <p:spPr>
              <a:xfrm>
                <a:off x="4579920" y="435420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60" name="Group 38"/>
            <p:cNvGrpSpPr/>
            <p:nvPr/>
          </p:nvGrpSpPr>
          <p:grpSpPr>
            <a:xfrm>
              <a:off x="4443480" y="4862520"/>
              <a:ext cx="476280" cy="474840"/>
              <a:chOff x="4443480" y="4862520"/>
              <a:chExt cx="476280" cy="474840"/>
            </a:xfrm>
          </p:grpSpPr>
          <p:grpSp>
            <p:nvGrpSpPr>
              <p:cNvPr id="661" name="Group 39"/>
              <p:cNvGrpSpPr/>
              <p:nvPr/>
            </p:nvGrpSpPr>
            <p:grpSpPr>
              <a:xfrm>
                <a:off x="4443480" y="4862520"/>
                <a:ext cx="476280" cy="474840"/>
                <a:chOff x="4443480" y="4862520"/>
                <a:chExt cx="476280" cy="474840"/>
              </a:xfrm>
            </p:grpSpPr>
            <p:sp>
              <p:nvSpPr>
                <p:cNvPr id="662" name="AutoShape 552"/>
                <p:cNvSpPr/>
                <p:nvPr/>
              </p:nvSpPr>
              <p:spPr>
                <a:xfrm>
                  <a:off x="4443480" y="486252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63" name="AutoShape 553"/>
                <p:cNvSpPr/>
                <p:nvPr/>
              </p:nvSpPr>
              <p:spPr>
                <a:xfrm>
                  <a:off x="4467240" y="488808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664" name="Picture 554" descr="바코드"/>
                <p:cNvPicPr/>
                <p:nvPr/>
              </p:nvPicPr>
              <p:blipFill>
                <a:blip r:embed="rId6"/>
                <a:srcRect l="16802" t="9783" r="20325" b="5978"/>
                <a:stretch/>
              </p:blipFill>
              <p:spPr>
                <a:xfrm>
                  <a:off x="4770360" y="491004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5" name="AutoShape 555"/>
                <p:cNvSpPr/>
                <p:nvPr/>
              </p:nvSpPr>
              <p:spPr>
                <a:xfrm>
                  <a:off x="4479840" y="490068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666" name="Text Box 556"/>
              <p:cNvSpPr/>
              <p:nvPr/>
            </p:nvSpPr>
            <p:spPr>
              <a:xfrm>
                <a:off x="4579920" y="50054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67" name="Group 45"/>
            <p:cNvGrpSpPr/>
            <p:nvPr/>
          </p:nvGrpSpPr>
          <p:grpSpPr>
            <a:xfrm>
              <a:off x="4443480" y="5505480"/>
              <a:ext cx="476280" cy="474480"/>
              <a:chOff x="4443480" y="5505480"/>
              <a:chExt cx="476280" cy="474480"/>
            </a:xfrm>
          </p:grpSpPr>
          <p:grpSp>
            <p:nvGrpSpPr>
              <p:cNvPr id="668" name="Group 46"/>
              <p:cNvGrpSpPr/>
              <p:nvPr/>
            </p:nvGrpSpPr>
            <p:grpSpPr>
              <a:xfrm>
                <a:off x="4443480" y="5505480"/>
                <a:ext cx="476280" cy="474480"/>
                <a:chOff x="4443480" y="5505480"/>
                <a:chExt cx="476280" cy="474480"/>
              </a:xfrm>
            </p:grpSpPr>
            <p:sp>
              <p:nvSpPr>
                <p:cNvPr id="669" name="AutoShape 559"/>
                <p:cNvSpPr/>
                <p:nvPr/>
              </p:nvSpPr>
              <p:spPr>
                <a:xfrm>
                  <a:off x="4443480" y="550548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70" name="AutoShape 560"/>
                <p:cNvSpPr/>
                <p:nvPr/>
              </p:nvSpPr>
              <p:spPr>
                <a:xfrm>
                  <a:off x="4467240" y="553068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671" name="Picture 561" descr="바코드"/>
                <p:cNvPicPr/>
                <p:nvPr/>
              </p:nvPicPr>
              <p:blipFill>
                <a:blip r:embed="rId7"/>
                <a:srcRect l="16802" t="9783" r="20325" b="5978"/>
                <a:stretch/>
              </p:blipFill>
              <p:spPr>
                <a:xfrm>
                  <a:off x="4770360" y="555264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2" name="AutoShape 562"/>
                <p:cNvSpPr/>
                <p:nvPr/>
              </p:nvSpPr>
              <p:spPr>
                <a:xfrm>
                  <a:off x="4479840" y="554328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673" name="Text Box 563"/>
              <p:cNvSpPr/>
              <p:nvPr/>
            </p:nvSpPr>
            <p:spPr>
              <a:xfrm>
                <a:off x="4579920" y="565452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674" name="TextBox 2" descr=""/>
          <p:cNvPicPr/>
          <p:nvPr/>
        </p:nvPicPr>
        <p:blipFill>
          <a:blip r:embed="rId8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675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Group 2"/>
          <p:cNvGrpSpPr/>
          <p:nvPr/>
        </p:nvGrpSpPr>
        <p:grpSpPr>
          <a:xfrm>
            <a:off x="1427040" y="2639880"/>
            <a:ext cx="6289560" cy="789120"/>
            <a:chOff x="1427040" y="2639880"/>
            <a:chExt cx="6289560" cy="789120"/>
          </a:xfrm>
        </p:grpSpPr>
        <p:sp>
          <p:nvSpPr>
            <p:cNvPr id="677" name="AutoShape 142"/>
            <p:cNvSpPr/>
            <p:nvPr/>
          </p:nvSpPr>
          <p:spPr>
            <a:xfrm>
              <a:off x="2280960" y="2639880"/>
              <a:ext cx="5435640" cy="78912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678" name="Group 4"/>
            <p:cNvGrpSpPr/>
            <p:nvPr/>
          </p:nvGrpSpPr>
          <p:grpSpPr>
            <a:xfrm>
              <a:off x="1427040" y="2639880"/>
              <a:ext cx="790560" cy="789120"/>
              <a:chOff x="1427040" y="2639880"/>
              <a:chExt cx="790560" cy="789120"/>
            </a:xfrm>
          </p:grpSpPr>
          <p:grpSp>
            <p:nvGrpSpPr>
              <p:cNvPr id="679" name="Group 5"/>
              <p:cNvGrpSpPr/>
              <p:nvPr/>
            </p:nvGrpSpPr>
            <p:grpSpPr>
              <a:xfrm>
                <a:off x="1427040" y="2639880"/>
                <a:ext cx="790560" cy="789120"/>
                <a:chOff x="1427040" y="2639880"/>
                <a:chExt cx="790560" cy="789120"/>
              </a:xfrm>
            </p:grpSpPr>
            <p:sp>
              <p:nvSpPr>
                <p:cNvPr id="680" name="AutoShape 145"/>
                <p:cNvSpPr/>
                <p:nvPr/>
              </p:nvSpPr>
              <p:spPr>
                <a:xfrm>
                  <a:off x="1427040" y="2639880"/>
                  <a:ext cx="790560" cy="78912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81" name="AutoShape 146"/>
                <p:cNvSpPr/>
                <p:nvPr/>
              </p:nvSpPr>
              <p:spPr>
                <a:xfrm>
                  <a:off x="1466640" y="2682720"/>
                  <a:ext cx="709560" cy="7095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682" name="Picture 147" descr="바코드"/>
                <p:cNvPicPr/>
                <p:nvPr/>
              </p:nvPicPr>
              <p:blipFill>
                <a:blip r:embed="rId1"/>
                <a:srcRect l="16802" t="9783" r="20325" b="5978"/>
                <a:stretch/>
              </p:blipFill>
              <p:spPr>
                <a:xfrm>
                  <a:off x="2028600" y="273816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3" name="AutoShape 148"/>
                <p:cNvSpPr/>
                <p:nvPr/>
              </p:nvSpPr>
              <p:spPr>
                <a:xfrm>
                  <a:off x="1487520" y="2703240"/>
                  <a:ext cx="668160" cy="12708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684" name="Text Box 149"/>
              <p:cNvSpPr/>
              <p:nvPr/>
            </p:nvSpPr>
            <p:spPr>
              <a:xfrm>
                <a:off x="1633320" y="2803320"/>
                <a:ext cx="339840" cy="53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685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686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4"/>
          <p:cNvSpPr/>
          <p:nvPr/>
        </p:nvSpPr>
        <p:spPr>
          <a:xfrm>
            <a:off x="250920" y="44280"/>
            <a:ext cx="643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내용을 입력하세요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688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689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2" descr="감사합니다"/>
          <p:cNvPicPr/>
          <p:nvPr/>
        </p:nvPicPr>
        <p:blipFill>
          <a:blip r:embed="rId1"/>
          <a:srcRect l="2527" t="0" r="1444" b="7105"/>
          <a:stretch/>
        </p:blipFill>
        <p:spPr>
          <a:xfrm>
            <a:off x="2050920" y="1989000"/>
            <a:ext cx="5075280" cy="998640"/>
          </a:xfrm>
          <a:prstGeom prst="rect">
            <a:avLst/>
          </a:prstGeom>
          <a:ln w="0">
            <a:noFill/>
          </a:ln>
        </p:spPr>
      </p:pic>
      <p:pic>
        <p:nvPicPr>
          <p:cNvPr id="691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692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37:11Z</dcterms:created>
  <dc:creator>霐旍瀽鞚胳勾旃挫槫</dc:creator>
  <dc:description/>
  <dc:language>en-US</dc:language>
  <cp:lastModifiedBy>Administrator</cp:lastModifiedBy>
  <dcterms:modified xsi:type="dcterms:W3CDTF">2015-08-04T02:01:53Z</dcterms:modified>
  <cp:revision>18</cp:revision>
  <dc:subject/>
  <dc:title>鞀澕鞚措摐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