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AE7E-B5AE-4A43-A775-66181708D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A916-C3DC-425F-8441-6EE0A126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DAFA-E5DC-4609-B294-0F0A04D32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A722-B263-45DA-BC62-619F0D874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12B7-D4E7-46C3-A2BD-B5772312F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9C5F-A6A5-4471-9DBC-A2988632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74AB-B9D6-43BC-A0C3-79F8B2B3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A8C6-F277-44B6-9BC4-5566D676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E2B6-A296-4713-93AD-372767EF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A121-6565-49E2-8A01-978696EF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5EE7-515B-4415-B95A-8DD2724E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93A2-8034-4DBF-8B9D-3C72010A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EA00-AD21-40FA-A625-36936C0C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284E-EE6A-4C12-B28D-DE83FA5C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A3D4-C5F0-4C03-B09A-4FB0A4C1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B21C-5460-47F7-AFF9-26362BEA0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4651-61A7-432B-AAF7-BFB5DB286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06787-C8E3-43AA-B49F-FA8808303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B768E-C36B-4984-9492-27D0FFA8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A36B3-FCBF-46F2-A92E-2E315EDA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97D6E-ECDC-40E3-B6A6-D6441BCB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B5C2E-73D0-49C3-8D5A-BB0A4E41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B15E-7F57-4B10-BCC0-F5537057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8D42F-2883-4739-B50E-B206F232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B3FFE-138B-4BD1-A787-539C8C91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B2A13-107D-495F-974A-8FE2D63B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D04ED-93DC-4B07-B70D-C4C79ADA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6DBB9-44BD-4438-BED8-D8C8AB4C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43916-E178-4A07-802C-E39577E2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85545-6454-4BA1-843D-ED61CE379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98D5-3788-4B6D-A1B8-714A5E15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697D-C1CB-4BC7-B724-C4F8AB2A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87F0-6071-43A4-81B6-EE135C87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151D-98D8-42D7-A063-32C1B7B3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D419-C41D-417D-8AE8-1EE0D922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FCD6-AE50-4A57-BDD7-2AA15ABA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Administrator\Desktop\新建文件夹 (9)\8.jpg"/>
          <p:cNvPicPr/>
          <p:nvPr/>
        </p:nvPicPr>
        <p:blipFill>
          <a:blip r:embed="rId2"/>
          <a:stretch/>
        </p:blipFill>
        <p:spPr>
          <a:xfrm>
            <a:off x="2246400" y="1676520"/>
            <a:ext cx="6897600" cy="5173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05A6-29D0-4894-8300-A0043F22C176}" type="datetime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小田 </a:t>
            </a: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@ www.ilovepp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B717-F861-4784-9AEB-1925E24542FD}" type="slidenum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Administrator\Desktop\新建文件夹 (9)\8.jpg"/>
          <p:cNvPicPr/>
          <p:nvPr/>
        </p:nvPicPr>
        <p:blipFill>
          <a:blip r:embed="rId2"/>
          <a:stretch/>
        </p:blipFill>
        <p:spPr>
          <a:xfrm>
            <a:off x="2246400" y="1676520"/>
            <a:ext cx="6897600" cy="5173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Users\Administrator\Desktop\新建文件夹 (9)\5.jpg"/>
          <p:cNvPicPr/>
          <p:nvPr/>
        </p:nvPicPr>
        <p:blipFill>
          <a:blip r:embed="rId3"/>
          <a:stretch/>
        </p:blipFill>
        <p:spPr>
          <a:xfrm>
            <a:off x="-648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1499-AE30-4542-9B1E-37C44BE95E9F}" type="datetime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小田 </a:t>
            </a: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@ www.ilovepp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EC4F-9E9C-46EE-A7E3-A6CC3605C8E3}" type="slidenum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AF3A-EEEB-45F5-B528-E6ED1C61220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BA5E-3CE6-47EE-8AFF-B74B19590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353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040"/>
                </a:solidFill>
                <a:latin typeface="Verdana"/>
              </a:rPr>
              <a:t>点击此处添加标题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93840" y="2636640"/>
            <a:ext cx="83563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Verdana"/>
              </a:rPr>
              <a:t>点击此处添加副标题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Verdana"/>
              </a:rPr>
              <a:t>点击此处添加标题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Verdana"/>
              </a:rPr>
              <a:t>点击此处添加文本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31D2-733A-47C0-B081-46567B7293A0}" type="slidenum">
              <a:rPr b="0" lang="zh-CN" sz="1200" spc="-1" strike="noStrike">
                <a:solidFill>
                  <a:srgbClr val="7f7f7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5f5f5f"/>
                </a:solidFill>
                <a:latin typeface="Verdana"/>
                <a:ea typeface="微软雅黑"/>
              </a:rPr>
              <a:t>谢谢</a:t>
            </a:r>
            <a:r>
              <a:rPr b="1" i="1" lang="zh-CN" sz="6000" spc="-1" strike="noStrike">
                <a:solidFill>
                  <a:srgbClr val="99cc00"/>
                </a:solidFill>
                <a:latin typeface="Verdana"/>
                <a:ea typeface="微软雅黑"/>
              </a:rPr>
              <a:t>观赏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324000" y="4437000"/>
            <a:ext cx="345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Box 10"/>
          <p:cNvSpPr/>
          <p:nvPr/>
        </p:nvSpPr>
        <p:spPr>
          <a:xfrm>
            <a:off x="7524720" y="5950080"/>
            <a:ext cx="15843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2:51:22Z</dcterms:created>
  <dc:creator>ilovePPT.ORG</dc:creator>
  <dc:description/>
  <cp:keywords>ppt ppt模版 ppt设计</cp:keywords>
  <dc:language>en-US</dc:language>
  <cp:lastModifiedBy>willon</cp:lastModifiedBy>
  <dcterms:modified xsi:type="dcterms:W3CDTF">2015-06-30T06:10:03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