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561-5095-4FC2-91AB-58EEF0DA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38A-95F1-4AAB-8C86-A9F950C0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6B8-646C-4385-AA6F-1704CC84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B79-48FA-4584-A875-BDE6C61A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53EB-674B-4397-B929-27A9D508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F3DE-A081-40C8-9F18-EBE49609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F9A0-DAA9-47E9-B817-5A05AE0D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821A-DF16-4253-8448-B2E46B50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B4B0-5B9E-48A7-A0A1-BB7D1146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DD3B-C7AB-4084-A40E-6542DAD5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DC1B-1410-4545-9834-FA9B535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9E2-1BDA-462E-B200-2668608D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E04C-8E1E-47C9-AC27-216F828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29A-2D00-4429-8621-1ECA8CC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7B60-E219-4F73-A6D7-07E2B1E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C9EA-9A7E-46DA-872A-1BD90352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C100-517B-4EA7-8B09-B5918663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EBB-5E9D-4556-9A3F-1E735181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522-E930-4964-B4AE-90DB20EA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9C3-2A38-43E6-A00A-09BE396A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98F-FF45-42C8-816E-555908F2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B9A-F56C-4092-B07E-68D65FE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38C-6FB7-4ECF-9F63-4406A4A7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D2D-9955-46B4-B9CB-3F8FFC67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8C76-B628-4C38-9E5D-6CA4BEF84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8F7C-E5FE-481E-8FED-F166068CC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211.67.168.45/infoshow.aspx?id=173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anyin168.com/glyy/yg/ygpx/fwpx/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192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、撒网式</a:t>
            </a:r>
            <a:br>
              <a:rPr sz="2800"/>
            </a:b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2960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696000" y="1989000"/>
            <a:ext cx="2448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、</a:t>
            </a:r>
            <a:br>
              <a:rPr sz="2800"/>
            </a:b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肩</a:t>
            </a:r>
            <a:br>
              <a:rPr sz="2800"/>
            </a:b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上</a:t>
            </a:r>
            <a:br>
              <a:rPr sz="2800"/>
            </a:b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式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539640" y="477720"/>
            <a:ext cx="671688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铺台布程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准备站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打开抓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-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推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铺台布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台布正面向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中心线对准主位，十字中心点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台布平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四边下垂部分均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三、摆台的基本要求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摆台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餐具要相对集中，整齐一致，方便客人用餐，便于服务员度间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配备齐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尊重各民族的风俗习惯和礼仪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台面造型具有美感，逼真，艺术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保持台面清洁卫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的要求：餐具距离匀称，图案对正，整齐美观，清洁卫生，使用方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中餐摆台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59785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台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铺台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餐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上转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5111640" cy="5399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95280" y="189000"/>
            <a:ext cx="8353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餐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放骨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汤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筷架、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汤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味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酒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公用餐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烟灰缸、菜单，席位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台结束，摆放花瓶，表示结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台后的检查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620640"/>
            <a:ext cx="41036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34920" y="1958760"/>
            <a:ext cx="5884920" cy="3999960"/>
            <a:chOff x="1834920" y="1958760"/>
            <a:chExt cx="5884920" cy="3999960"/>
          </a:xfrm>
        </p:grpSpPr>
        <p:sp>
          <p:nvSpPr>
            <p:cNvPr id="535" name=""/>
            <p:cNvSpPr/>
            <p:nvPr/>
          </p:nvSpPr>
          <p:spPr>
            <a:xfrm flipH="1" flipV="1">
              <a:off x="1834560" y="3383280"/>
              <a:ext cx="5884920" cy="257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0" y="6924"/>
                  </a:moveTo>
                  <a:arcTo wR="10800" hR="10800" stAng="-9537969" swAng="9537969"/>
                  <a:lnTo>
                    <a:pt x="10800" y="10800"/>
                  </a:lnTo>
                  <a:close/>
                </a:path>
                <a:path fill="none" w="21600" h="21600">
                  <a:moveTo>
                    <a:pt x="720" y="6924"/>
                  </a:moveTo>
                  <a:arcTo wR="10800" hR="10800" stAng="-9537969" swAng="953796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4135320" y="1958760"/>
              <a:ext cx="484200" cy="1820880"/>
              <a:chOff x="4135320" y="1958760"/>
              <a:chExt cx="484200" cy="1820880"/>
            </a:xfrm>
          </p:grpSpPr>
          <p:sp>
            <p:nvSpPr>
              <p:cNvPr id="537" name=""/>
              <p:cNvSpPr/>
              <p:nvPr/>
            </p:nvSpPr>
            <p:spPr>
              <a:xfrm>
                <a:off x="4377240" y="3443040"/>
                <a:ext cx="0" cy="20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4135320" y="1958760"/>
                <a:ext cx="484200" cy="1483560"/>
                <a:chOff x="4135320" y="1958760"/>
                <a:chExt cx="484200" cy="148356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4135320" y="2690280"/>
                  <a:ext cx="484200" cy="68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4135320" y="1958400"/>
                  <a:ext cx="483840" cy="148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8"/>
                      </a:moveTo>
                      <a:arcTo wR="10800" hR="10800" stAng="-10792853" swAng="107928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8"/>
                      </a:moveTo>
                      <a:arcTo wR="10800" hR="10800" stAng="-10792853" swAng="1079285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4175640" y="3611520"/>
                <a:ext cx="423720" cy="168120"/>
              </a:xfrm>
              <a:custGeom>
                <a:avLst/>
                <a:gdLst/>
                <a:ahLst/>
                <a:rect l="l" t="t" r="r" b="b"/>
                <a:pathLst>
                  <a:path w="840" h="182">
                    <a:moveTo>
                      <a:pt x="420" y="0"/>
                    </a:moveTo>
                    <a:cubicBezTo>
                      <a:pt x="300" y="0"/>
                      <a:pt x="0" y="130"/>
                      <a:pt x="60" y="156"/>
                    </a:cubicBezTo>
                    <a:cubicBezTo>
                      <a:pt x="120" y="182"/>
                      <a:pt x="720" y="182"/>
                      <a:pt x="780" y="156"/>
                    </a:cubicBezTo>
                    <a:cubicBezTo>
                      <a:pt x="840" y="130"/>
                      <a:pt x="540" y="0"/>
                      <a:pt x="4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982040" y="2956680"/>
              <a:ext cx="242280" cy="815400"/>
              <a:chOff x="4982040" y="2956680"/>
              <a:chExt cx="242280" cy="815400"/>
            </a:xfrm>
          </p:grpSpPr>
          <p:sp>
            <p:nvSpPr>
              <p:cNvPr id="543" name=""/>
              <p:cNvSpPr/>
              <p:nvPr/>
            </p:nvSpPr>
            <p:spPr>
              <a:xfrm>
                <a:off x="5103360" y="362160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4982040" y="2956680"/>
                <a:ext cx="242280" cy="664200"/>
                <a:chOff x="4982040" y="2956680"/>
                <a:chExt cx="242280" cy="6642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982400" y="3284640"/>
                  <a:ext cx="241920" cy="30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4981680" y="2956320"/>
                  <a:ext cx="241560" cy="66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8"/>
                      </a:moveTo>
                      <a:arcTo wR="10800" hR="10800" stAng="-10792853" swAng="107928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8"/>
                      </a:moveTo>
                      <a:arcTo wR="10800" hR="10800" stAng="-10792853" swAng="1079285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5002560" y="3696840"/>
                <a:ext cx="211680" cy="75240"/>
              </a:xfrm>
              <a:custGeom>
                <a:avLst/>
                <a:gdLst/>
                <a:ahLst/>
                <a:rect l="l" t="t" r="r" b="b"/>
                <a:pathLst>
                  <a:path w="840" h="182">
                    <a:moveTo>
                      <a:pt x="420" y="0"/>
                    </a:moveTo>
                    <a:cubicBezTo>
                      <a:pt x="300" y="0"/>
                      <a:pt x="0" y="130"/>
                      <a:pt x="60" y="156"/>
                    </a:cubicBezTo>
                    <a:cubicBezTo>
                      <a:pt x="120" y="182"/>
                      <a:pt x="720" y="182"/>
                      <a:pt x="780" y="156"/>
                    </a:cubicBezTo>
                    <a:cubicBezTo>
                      <a:pt x="840" y="130"/>
                      <a:pt x="540" y="0"/>
                      <a:pt x="42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2924640" y="2492280"/>
              <a:ext cx="605160" cy="1287720"/>
              <a:chOff x="2924640" y="2492280"/>
              <a:chExt cx="605160" cy="1287720"/>
            </a:xfrm>
          </p:grpSpPr>
          <p:sp>
            <p:nvSpPr>
              <p:cNvPr id="549" name=""/>
              <p:cNvSpPr/>
              <p:nvPr/>
            </p:nvSpPr>
            <p:spPr>
              <a:xfrm>
                <a:off x="2952000" y="2814120"/>
                <a:ext cx="577800" cy="96588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24640" y="2556360"/>
                <a:ext cx="288720" cy="450720"/>
              </a:xfrm>
              <a:custGeom>
                <a:avLst/>
                <a:gdLst/>
                <a:ahLst/>
                <a:rect l="l" t="t" r="r" b="b"/>
                <a:pathLst>
                  <a:path w="630" h="1092">
                    <a:moveTo>
                      <a:pt x="600" y="936"/>
                    </a:moveTo>
                    <a:cubicBezTo>
                      <a:pt x="570" y="780"/>
                      <a:pt x="120" y="0"/>
                      <a:pt x="60" y="0"/>
                    </a:cubicBezTo>
                    <a:cubicBezTo>
                      <a:pt x="0" y="0"/>
                      <a:pt x="150" y="780"/>
                      <a:pt x="240" y="936"/>
                    </a:cubicBezTo>
                    <a:cubicBezTo>
                      <a:pt x="330" y="1092"/>
                      <a:pt x="630" y="1092"/>
                      <a:pt x="600" y="9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17240" y="2492280"/>
                <a:ext cx="192600" cy="525600"/>
              </a:xfrm>
              <a:custGeom>
                <a:avLst/>
                <a:gdLst/>
                <a:ahLst/>
                <a:rect l="l" t="t" r="r" b="b"/>
                <a:pathLst>
                  <a:path w="420" h="1274">
                    <a:moveTo>
                      <a:pt x="30" y="1092"/>
                    </a:moveTo>
                    <a:cubicBezTo>
                      <a:pt x="0" y="910"/>
                      <a:pt x="150" y="0"/>
                      <a:pt x="210" y="0"/>
                    </a:cubicBezTo>
                    <a:cubicBezTo>
                      <a:pt x="270" y="0"/>
                      <a:pt x="420" y="910"/>
                      <a:pt x="390" y="1092"/>
                    </a:cubicBezTo>
                    <a:cubicBezTo>
                      <a:pt x="360" y="1274"/>
                      <a:pt x="60" y="1274"/>
                      <a:pt x="30" y="10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68440" y="2556360"/>
                <a:ext cx="192600" cy="450720"/>
              </a:xfrm>
              <a:custGeom>
                <a:avLst/>
                <a:gdLst/>
                <a:ahLst/>
                <a:rect l="l" t="t" r="r" b="b"/>
                <a:pathLst>
                  <a:path w="420" h="1092">
                    <a:moveTo>
                      <a:pt x="30" y="936"/>
                    </a:moveTo>
                    <a:cubicBezTo>
                      <a:pt x="60" y="780"/>
                      <a:pt x="360" y="0"/>
                      <a:pt x="390" y="0"/>
                    </a:cubicBezTo>
                    <a:cubicBezTo>
                      <a:pt x="420" y="0"/>
                      <a:pt x="270" y="780"/>
                      <a:pt x="210" y="936"/>
                    </a:cubicBezTo>
                    <a:cubicBezTo>
                      <a:pt x="150" y="1092"/>
                      <a:pt x="0" y="1092"/>
                      <a:pt x="30" y="9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319480" y="4176000"/>
              <a:ext cx="801360" cy="396000"/>
              <a:chOff x="2319480" y="4176000"/>
              <a:chExt cx="801360" cy="396000"/>
            </a:xfrm>
          </p:grpSpPr>
          <p:sp>
            <p:nvSpPr>
              <p:cNvPr id="554" name=""/>
              <p:cNvSpPr/>
              <p:nvPr/>
            </p:nvSpPr>
            <p:spPr>
              <a:xfrm>
                <a:off x="2489760" y="4176000"/>
                <a:ext cx="631080" cy="39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700360" y="4334400"/>
                <a:ext cx="210240" cy="7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319480" y="4218480"/>
                <a:ext cx="442440" cy="198000"/>
              </a:xfrm>
              <a:custGeom>
                <a:avLst/>
                <a:gdLst/>
                <a:ahLst/>
                <a:rect l="l" t="t" r="r" b="b"/>
                <a:pathLst>
                  <a:path w="757" h="390">
                    <a:moveTo>
                      <a:pt x="667" y="285"/>
                    </a:moveTo>
                    <a:cubicBezTo>
                      <a:pt x="579" y="267"/>
                      <a:pt x="497" y="238"/>
                      <a:pt x="412" y="210"/>
                    </a:cubicBezTo>
                    <a:cubicBezTo>
                      <a:pt x="382" y="200"/>
                      <a:pt x="352" y="190"/>
                      <a:pt x="322" y="180"/>
                    </a:cubicBezTo>
                    <a:cubicBezTo>
                      <a:pt x="307" y="175"/>
                      <a:pt x="277" y="165"/>
                      <a:pt x="277" y="165"/>
                    </a:cubicBezTo>
                    <a:cubicBezTo>
                      <a:pt x="267" y="150"/>
                      <a:pt x="261" y="131"/>
                      <a:pt x="247" y="120"/>
                    </a:cubicBezTo>
                    <a:cubicBezTo>
                      <a:pt x="235" y="110"/>
                      <a:pt x="213" y="116"/>
                      <a:pt x="202" y="105"/>
                    </a:cubicBezTo>
                    <a:cubicBezTo>
                      <a:pt x="127" y="30"/>
                      <a:pt x="262" y="83"/>
                      <a:pt x="142" y="30"/>
                    </a:cubicBezTo>
                    <a:cubicBezTo>
                      <a:pt x="113" y="17"/>
                      <a:pt x="52" y="0"/>
                      <a:pt x="52" y="0"/>
                    </a:cubicBezTo>
                    <a:cubicBezTo>
                      <a:pt x="32" y="30"/>
                      <a:pt x="0" y="53"/>
                      <a:pt x="37" y="90"/>
                    </a:cubicBezTo>
                    <a:cubicBezTo>
                      <a:pt x="95" y="148"/>
                      <a:pt x="144" y="156"/>
                      <a:pt x="217" y="180"/>
                    </a:cubicBezTo>
                    <a:cubicBezTo>
                      <a:pt x="232" y="185"/>
                      <a:pt x="249" y="186"/>
                      <a:pt x="262" y="195"/>
                    </a:cubicBezTo>
                    <a:cubicBezTo>
                      <a:pt x="310" y="227"/>
                      <a:pt x="357" y="252"/>
                      <a:pt x="412" y="270"/>
                    </a:cubicBezTo>
                    <a:cubicBezTo>
                      <a:pt x="473" y="331"/>
                      <a:pt x="482" y="321"/>
                      <a:pt x="562" y="345"/>
                    </a:cubicBezTo>
                    <a:cubicBezTo>
                      <a:pt x="641" y="369"/>
                      <a:pt x="679" y="390"/>
                      <a:pt x="757" y="390"/>
                    </a:cubicBezTo>
                    <a:lnTo>
                      <a:pt x="652" y="384"/>
                    </a:lnTo>
                    <a:lnTo>
                      <a:pt x="667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408840" y="4473360"/>
              <a:ext cx="1694520" cy="89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345640" y="4077000"/>
              <a:ext cx="484200" cy="891720"/>
              <a:chOff x="5345640" y="4077000"/>
              <a:chExt cx="484200" cy="891720"/>
            </a:xfrm>
          </p:grpSpPr>
          <p:sp>
            <p:nvSpPr>
              <p:cNvPr id="559" name=""/>
              <p:cNvSpPr/>
              <p:nvPr/>
            </p:nvSpPr>
            <p:spPr>
              <a:xfrm>
                <a:off x="5345640" y="4255200"/>
                <a:ext cx="484200" cy="178200"/>
              </a:xfrm>
              <a:custGeom>
                <a:avLst/>
                <a:gdLst/>
                <a:ahLst/>
                <a:rect l="l" t="t" r="r" b="b"/>
                <a:pathLst>
                  <a:path w="776" h="210">
                    <a:moveTo>
                      <a:pt x="0" y="0"/>
                    </a:moveTo>
                    <a:cubicBezTo>
                      <a:pt x="37" y="111"/>
                      <a:pt x="101" y="174"/>
                      <a:pt x="210" y="210"/>
                    </a:cubicBezTo>
                    <a:cubicBezTo>
                      <a:pt x="260" y="193"/>
                      <a:pt x="310" y="182"/>
                      <a:pt x="360" y="165"/>
                    </a:cubicBezTo>
                    <a:cubicBezTo>
                      <a:pt x="370" y="150"/>
                      <a:pt x="383" y="136"/>
                      <a:pt x="390" y="120"/>
                    </a:cubicBezTo>
                    <a:cubicBezTo>
                      <a:pt x="403" y="91"/>
                      <a:pt x="420" y="30"/>
                      <a:pt x="420" y="30"/>
                    </a:cubicBezTo>
                    <a:cubicBezTo>
                      <a:pt x="429" y="58"/>
                      <a:pt x="448" y="139"/>
                      <a:pt x="480" y="165"/>
                    </a:cubicBezTo>
                    <a:cubicBezTo>
                      <a:pt x="492" y="175"/>
                      <a:pt x="511" y="173"/>
                      <a:pt x="525" y="180"/>
                    </a:cubicBezTo>
                    <a:cubicBezTo>
                      <a:pt x="541" y="188"/>
                      <a:pt x="555" y="200"/>
                      <a:pt x="570" y="210"/>
                    </a:cubicBezTo>
                    <a:cubicBezTo>
                      <a:pt x="578" y="209"/>
                      <a:pt x="691" y="194"/>
                      <a:pt x="705" y="180"/>
                    </a:cubicBezTo>
                    <a:cubicBezTo>
                      <a:pt x="776" y="109"/>
                      <a:pt x="765" y="106"/>
                      <a:pt x="765" y="3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66600" y="4077000"/>
                <a:ext cx="242280" cy="89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6072120" y="3482640"/>
              <a:ext cx="60480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93080" y="3284640"/>
              <a:ext cx="363240" cy="208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1120" y="308628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5600" y="4473360"/>
              <a:ext cx="36288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77240" y="3780000"/>
              <a:ext cx="0" cy="69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9520" y="3383640"/>
              <a:ext cx="3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29840" y="4275360"/>
              <a:ext cx="36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4982040" y="4473360"/>
              <a:ext cx="48420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56280" y="536508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7920" y="4968720"/>
              <a:ext cx="0" cy="89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14040" y="536508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979640" y="260280"/>
            <a:ext cx="5041800" cy="227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29280" y="684360"/>
            <a:ext cx="571320" cy="29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主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000680" y="1046160"/>
            <a:ext cx="1143000" cy="2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筷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95640" y="2060640"/>
            <a:ext cx="114300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筷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29280" y="2313000"/>
            <a:ext cx="6858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副主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43480" y="1770120"/>
            <a:ext cx="3427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烟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29200" y="1046160"/>
            <a:ext cx="34308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烟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257800" y="1687680"/>
            <a:ext cx="343080" cy="49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调味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963720"/>
            <a:ext cx="3430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调味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7080" y="2643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75400" y="1700280"/>
            <a:ext cx="9118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餐宴会摆台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中餐宴会摆台展示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6360" cy="4032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628640"/>
            <a:ext cx="4390920" cy="408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755640" y="33336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(</a:t>
            </a: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二</a:t>
            </a: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)</a:t>
            </a:r>
            <a:r>
              <a:rPr b="0" lang="zh-CN" sz="4000" spc="-1" strike="noStrike">
                <a:solidFill>
                  <a:srgbClr val="e40000"/>
                </a:solidFill>
                <a:latin typeface="宋体"/>
              </a:rPr>
              <a:t>西餐摆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528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西餐摆台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餐盘摆在席位正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左叉右刀，叉齿朝上，刀口朝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各种餐具横竖成线，距离均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餐宴会一般使用长台，长台可以拼接的，一般摆成一字形，口字形，山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西餐宴会摆台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台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铺台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餐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餐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刀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甜点刀、叉、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面包盘、黄油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杯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8153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台：就是将各种进餐用具按照一定要求摆放在餐桌上。具体包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布置餐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铺台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准备用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放餐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化席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叠餐巾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放用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瓶，花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菜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4464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7512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050920" y="765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西餐宴会台形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摆台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选配餐具器具时，一定要选花色成套而完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所有瓷器玻璃器皿，使用前仔细检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脏污餐具，绝对禁止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破损污渍台布，不得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饭碗用托盘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前先分类检查餐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餐具要善于维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色彩务求谐调，不必摆设过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必须作一定检视，是否正确完美，摆放整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摆台前要洗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492360" y="1563840"/>
            <a:ext cx="5294520" cy="52941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一、摆台用具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354120" cy="4449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7620120" cy="537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1835280" y="2941560"/>
            <a:ext cx="5221080" cy="39164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3456000" cy="3184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二、铺台布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341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台布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台布：也称桌布，主要起保洁、装饰和方便服务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质地看：提花台布、织棉台布、工艺绣花台布、布质台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颜色看：白色、黄色、绿色和红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形状看：圆形台布、正方形和异形台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780000" cy="30337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822920" y="1844640"/>
            <a:ext cx="4321080" cy="36734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4005000" cy="3341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73440" cy="29894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1763640" y="3284640"/>
            <a:ext cx="478008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51847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铺台布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5616720" cy="4753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179280" y="1413000"/>
            <a:ext cx="226872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、平铺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e40000"/>
                </a:solidFill>
                <a:latin typeface="Arial"/>
              </a:rPr>
              <a:t>、推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4:07:53Z</dcterms:created>
  <dc:creator>user</dc:creator>
  <dc:description/>
  <dc:language>en-US</dc:language>
  <cp:lastModifiedBy>西宁易天网络科技</cp:lastModifiedBy>
  <dcterms:modified xsi:type="dcterms:W3CDTF">2012-04-08T14:55:08Z</dcterms:modified>
  <cp:revision>23</cp:revision>
  <dc:subject/>
  <dc:title>摆台的基本要求</dc:title>
</cp:coreProperties>
</file>