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2FF-6A9B-433D-BF89-82182496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10F-C917-4655-9CFF-C656FC38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E5B-7BAD-4446-8595-77139D4E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532-A7C5-4083-A191-9773BEBB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6DB-0303-4003-8C1D-6C9533F9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1F1-7563-4114-AF47-20939083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A25A-1796-477A-9575-71F16A3B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F72F-F051-46B7-8B1D-E111A160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A1D-8ACF-4A40-984C-CAF7DDB7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55A-5B6E-4324-BB0C-B89CAA66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0E7-F5A7-405D-9324-D0BC5335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CD3-CDE0-44B8-ABE7-9DC8248B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E487-B398-4D79-B17B-213FA19C6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971640" y="2924280"/>
            <a:ext cx="3776400" cy="17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2843640" y="2492280"/>
            <a:ext cx="110984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280" y="3499920"/>
            <a:ext cx="2367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8000" y="4543920"/>
            <a:ext cx="32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31840" y="2490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59000" y="4430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32440" y="4430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96880" y="4435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