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6657975" cy="503872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339-DCB5-43D6-B9E9-DC23B09F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2640" y="1179000"/>
            <a:ext cx="599148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2640" y="2705400"/>
            <a:ext cx="599148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77E-193D-4E44-B390-896E4F5A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2640" y="1179000"/>
            <a:ext cx="292356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02720" y="1179000"/>
            <a:ext cx="292356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2640" y="2705400"/>
            <a:ext cx="292356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02720" y="2705400"/>
            <a:ext cx="292356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E59-FFC3-4D4D-9637-11E4DFCC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2640" y="1179000"/>
            <a:ext cx="192888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58360" y="1179000"/>
            <a:ext cx="192888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84080" y="1179000"/>
            <a:ext cx="192888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2640" y="2705400"/>
            <a:ext cx="192888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58360" y="2705400"/>
            <a:ext cx="192888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84080" y="2705400"/>
            <a:ext cx="192888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37A-AD9B-42B0-A858-C665B5BE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2640" y="1179000"/>
            <a:ext cx="599148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67D-526E-4504-9319-E8C3D53E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2640" y="1179000"/>
            <a:ext cx="599148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B80-9ADD-429E-BB9E-3CACBE77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2640" y="1179000"/>
            <a:ext cx="292356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02720" y="1179000"/>
            <a:ext cx="292356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100-346F-4CEF-95A0-25D6D5F9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375-B278-4C1B-87A4-CE122202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2F4-A1BB-4F95-AC8E-F7070083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2640" y="1179000"/>
            <a:ext cx="292356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02720" y="1179000"/>
            <a:ext cx="292356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2640" y="2705400"/>
            <a:ext cx="292356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705-5BB4-42B9-A36E-60251865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2640" y="1179000"/>
            <a:ext cx="292356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02720" y="1179000"/>
            <a:ext cx="292356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02720" y="2705400"/>
            <a:ext cx="292356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90A-025A-44E7-8467-E07144A2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2640" y="1179000"/>
            <a:ext cx="292356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02720" y="1179000"/>
            <a:ext cx="292356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2640" y="2705400"/>
            <a:ext cx="5991480" cy="13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755-B230-42AF-B007-CC21496F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E79EDD-146F-4E6C-BAB2-27631AA739C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32640" y="1179000"/>
            <a:ext cx="599148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653920" y="812880"/>
            <a:ext cx="229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长沙到衡山一日游攻略大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1909800" y="1397160"/>
            <a:ext cx="288144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衡山，又名南岳，是我国五岳之一，位于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南省衡阳市南岳区，海拔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00.2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米。由于气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条件较其他四岳为好，处处是茂林修竹，终年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绿；奇花异草，四时飘香，自然景色十分秀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因而又有“南岳独秀”的美称。清人魏源《衡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吟》中说：“恒山如行，岱山如坐，华山如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嵩山如卧，惟有南岳独如飞。”这是对衡山的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1956600" y="812880"/>
            <a:ext cx="301860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它从绝壁上喷泻下来，宽达三太，高五十余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泻珠溅玉，仿佛一幅巨大的白布帘，在石壁当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被乱石嶙岩挡住，然后再从石缝里屈曲折射，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跃出来，满谷水花四溅，闪烁着晶莹夺目的光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水帘绝壁下的碧潭，天上的云彩和两边的苍翠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山峦，构成一幅美丽的山水画。明朝张居正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《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帘洞》一赞道：“误疑瀛海翻琼浪，莫拟银河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碧流；自是湘妃深隐处，水晶帘挂五去头”。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首诗可说是写出了水帘洞的光、声、影三绝的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5442480" y="520560"/>
            <a:ext cx="10080" cy="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9"/>
              </a:lnSpc>
            </a:pPr>
            <a:r>
              <a:rPr b="0" lang="zh-CN" sz="150" spc="-1" strike="noStrike">
                <a:solidFill>
                  <a:srgbClr val="ffffff"/>
                </a:solidFill>
                <a:latin typeface="Times New Roman"/>
              </a:rPr>
              <a:t>芳罔不知道这个年轻袅虓说这兽语的意思是什么。不知是不是痋咩</a:t>
            </a:r>
            <a:endParaRPr b="0" lang="en-US" sz="1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216800" y="812880"/>
            <a:ext cx="112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景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818360" y="1397160"/>
            <a:ext cx="306432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山下水帘洞，飞瀑如泻，帘影高悬，宋朝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田有咏水帘洞诗一首，专道其妙处：“洞门千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挂飞流，玉碎珠联冷喷秋；古今不知谁卷得，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萝为带月为钩。”可见其景致之不一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1570680" y="3187800"/>
            <a:ext cx="549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寺庙宫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3471120" y="3784680"/>
            <a:ext cx="211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山上寺庙很多，著名的有福严寺、南台寺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967400" y="812880"/>
            <a:ext cx="288144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藏经殿、方广寺。福严寺规模很大，称为“南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一古刹”，寺右有一株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00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余年的银杏树，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干粗壮，枝叶茂盛。南台寺建于六朝，到现在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有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00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多年。日本佛教曹洞宗视南台寺为祖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藏经殿因明太祖赐大藏经一部存放于此，故名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经殿。其周围层峦叠翠，古木参天，景色秀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附近有摇钱树、同根生、连理枝等奇树以及允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亭、梳妆台、钓鱼台等古迹。“藏经殿之秀”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南岳四绝之一。方广寺处于南岳峰岭间，古树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5442480" y="520560"/>
            <a:ext cx="10080" cy="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9"/>
              </a:lnSpc>
            </a:pPr>
            <a:r>
              <a:rPr b="0" lang="zh-CN" sz="150" spc="-1" strike="noStrike">
                <a:solidFill>
                  <a:srgbClr val="ffffff"/>
                </a:solidFill>
                <a:latin typeface="Times New Roman"/>
              </a:rPr>
              <a:t>芳罔不知道这个年轻袅虓说这兽语的意思是什么。不知是不是痋咩</a:t>
            </a:r>
            <a:endParaRPr b="0" lang="en-US" sz="1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2011320" y="812880"/>
            <a:ext cx="2908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苍，流水潺潺，幽雅深邃，因而有“方广寺之深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说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906200" y="1803240"/>
            <a:ext cx="306432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但是，南岳最大的寺庙是位于衡山脚下的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岳庙。它规模宏大，布局严谨，占地面积多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850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平方米，在南方一带也是数一数二的大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南岳庙始建于唐，历代进行重修、扩建，规模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断扩大。现存建筑是清代重修的。整个庙宇有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进，包括正殿、寝宫、御书楼、盘龙亭等建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909800" y="812880"/>
            <a:ext cx="288144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正殿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庄严肃穆，气势雄浑。殿内有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根石柱，象征着衡山七十二峰。正殿中央供奉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南岳司天昭圣帝”，即祝融神君。南岳庙以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体布局完整著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1570680" y="2590920"/>
            <a:ext cx="549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衡山美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1886760" y="3187800"/>
            <a:ext cx="29271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南岳衡山是佛道胜地，菜肴自然以素食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主。南岳素食始于东晋，千余年来，技艺日臻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巧，已由一般素食发展到高级斋宴，各大寺庙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5442480" y="520560"/>
            <a:ext cx="10080" cy="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9"/>
              </a:lnSpc>
            </a:pPr>
            <a:r>
              <a:rPr b="0" lang="zh-CN" sz="150" spc="-1" strike="noStrike">
                <a:solidFill>
                  <a:srgbClr val="ffffff"/>
                </a:solidFill>
                <a:latin typeface="Times New Roman"/>
              </a:rPr>
              <a:t>芳罔不知道这个年轻袅虓说这兽语的意思是什么。不知是不是痋咩</a:t>
            </a:r>
            <a:endParaRPr b="0" lang="en-US" sz="1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2072160" y="812880"/>
            <a:ext cx="301860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饭馆均擅长制作。南岳的斋席，通常有“一品香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二度梅（霉）、三鲜汤、四季青、五灯（炖）会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六子连、七层楼、八大碗、九如意、十样景之说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有全仿荤席办成十大碗的，十样景用料多样，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作精细，酸甜软脆俱备，水陆素食皆有，食此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可领略斋席的全部风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3462120" y="3390840"/>
            <a:ext cx="229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南岳斋席，还有一种具有浓厚乡土风味的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3255120" y="3784680"/>
            <a:ext cx="421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腐、香椿、辣椒、笋子、菌子等几十种菜的吃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1392120" y="81288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别饶佳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3366000" y="1397160"/>
            <a:ext cx="421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衡山美食：豆腐花、寿酒、寿茶、寿饼、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1301040" y="1803240"/>
            <a:ext cx="1098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岳云雾茶衡山交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2125440" y="2387520"/>
            <a:ext cx="3033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北京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185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次；北京西坐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18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762920" y="2793960"/>
            <a:ext cx="334152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海南乘坐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759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列车在衡山火车站（新塘）下车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然后坐衡山火车站到南岳的公交到达南岳衡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风景区，大约十分钟一趟，全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公里，票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5442480" y="520560"/>
            <a:ext cx="10080" cy="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9"/>
              </a:lnSpc>
            </a:pPr>
            <a:r>
              <a:rPr b="0" lang="zh-CN" sz="150" spc="-1" strike="noStrike">
                <a:solidFill>
                  <a:srgbClr val="ffffff"/>
                </a:solidFill>
                <a:latin typeface="Times New Roman"/>
              </a:rPr>
              <a:t>芳罔不知道这个年轻袅虓说这兽语的意思是什么。不知是不是痋咩</a:t>
            </a:r>
            <a:endParaRPr b="0" lang="en-US" sz="1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1719360" y="812880"/>
            <a:ext cx="337932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如果坐火车在京广铁路衡阳火车站下车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先坐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路公交到达衡阳中心汽车站（衡阳汽车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站），再乘坐衡阳——南岳旅游专线，全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里，汽车票价为：无空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元，有空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衡山在南岳镇，买票时要说到南岳，如果说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衡山售票员会给到衡山县的票，离南岳镇约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公里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2181960" y="3784680"/>
            <a:ext cx="2790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如果坐武广高速铁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—衡阳东站下车，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855800" y="812880"/>
            <a:ext cx="33872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坐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路公交车至衡阳中心汽车站（原汽车西站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可乘坐衡阳至南岳旅游专线，全程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公里，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车票价为：无空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元，有空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1709640" y="2197080"/>
            <a:ext cx="33408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乘坐武广高速铁路，在衡山西站下车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再乘坐衡山西站——南岳衡山风景区公交到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岳衡山牌楼车站下车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分钟左右可到，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费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381480" y="3975120"/>
            <a:ext cx="2754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长沙汽车南站有长途汽车直达南岳汽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5442480" y="520560"/>
            <a:ext cx="10080" cy="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9"/>
              </a:lnSpc>
            </a:pPr>
            <a:r>
              <a:rPr b="0" lang="zh-CN" sz="150" spc="-1" strike="noStrike">
                <a:solidFill>
                  <a:srgbClr val="ffffff"/>
                </a:solidFill>
                <a:latin typeface="Times New Roman"/>
              </a:rPr>
              <a:t>芳罔不知道这个年轻袅虓说这兽语的意思是什么。不知是不是痋咩</a:t>
            </a:r>
            <a:endParaRPr b="0" lang="en-US" sz="1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1909800" y="812880"/>
            <a:ext cx="2881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站（在南岳衡山牌楼斜对面），然后可乘免费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交到达南岳进山门票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1617480" y="1803240"/>
            <a:ext cx="34610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衡阳到南岳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公里左右，衡阳的士一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可以拼车，参考价钱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（衡阳的士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不打表，自己侃价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834200" y="3187800"/>
            <a:ext cx="32058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开车经京珠高速，从新塘出口下高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然后经衡东新塘镇，过衡山湘江大桥，直走至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国道，再往南走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分钟即到（有非常明显的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706040" y="812880"/>
            <a:ext cx="336564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美。衡山精华方案早上近集合后乘空调旅行车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7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国道赴南岳衡山景区，抵达后，参观八里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南岳大香行（约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分钟），后游南岳大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挂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4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朝拜南岳圣帝，乘金杯车上南岳衡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挂牌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102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元），直奔南天门，参观衡山最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峰——祝融峰、忠烈祠，下山后可游参观江泽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主席题字的“寿岳衡山”牌坊、吉尼斯世界纪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中华万寿大鼎（挂牌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人），参观完后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长沙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714680" y="812880"/>
            <a:ext cx="32713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路牌，请留意）；京珠高速直达南岳的衡岳高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连接线正在建设中，预计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12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可以完工，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时京珠高速可直接转衡岳高速到达南岳衡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3325680" y="2197080"/>
            <a:ext cx="386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南岳区内公交车都是免费乘坐的。衡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1019880" y="2590920"/>
            <a:ext cx="2754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门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226600" y="3187800"/>
            <a:ext cx="2469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南岳区人民对外公布的南岳衡山风景区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1394640" y="3581280"/>
            <a:ext cx="1372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新门票优惠政策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5442480" y="520560"/>
            <a:ext cx="10080" cy="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9"/>
              </a:lnSpc>
            </a:pPr>
            <a:r>
              <a:rPr b="0" lang="zh-CN" sz="150" spc="-1" strike="noStrike">
                <a:solidFill>
                  <a:srgbClr val="ffffff"/>
                </a:solidFill>
                <a:latin typeface="Times New Roman"/>
              </a:rPr>
              <a:t>芳罔不知道这个年轻袅虓说这兽语的意思是什么。不知是不是痋咩</a:t>
            </a:r>
            <a:endParaRPr b="0" lang="en-US" sz="1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787760" y="812880"/>
            <a:ext cx="311724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全日制大、中专院校学生（不含成人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校学生）和身高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3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米以上中小学生（含职中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生）进入中心景区和大庙，凭有效学生证实行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折门票优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422720" y="2590920"/>
            <a:ext cx="38556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以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含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传统香客团体（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按各地朝拜习俗统一服装或统一胸巾、包肚的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客团体），所着胸巾、包肚必须注明香会名称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进入中心景区和大庙按实际购票人数实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折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113480" y="812880"/>
            <a:ext cx="549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票优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1816920" y="1397160"/>
            <a:ext cx="311868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以上（含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）、统一着装、统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头饰、统一胸巾、统一仪仗的“四统一”传统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客团体，在享受第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条门票优惠的基础上，按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际购票人数实行中心景区和大庙每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减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的门票优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1512360" y="3581280"/>
            <a:ext cx="3731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以上（含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）的大型传统香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团体，按实际购票人数实行每满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减免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5442480" y="520560"/>
            <a:ext cx="10080" cy="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9"/>
              </a:lnSpc>
            </a:pPr>
            <a:r>
              <a:rPr b="0" lang="zh-CN" sz="150" spc="-1" strike="noStrike">
                <a:solidFill>
                  <a:srgbClr val="ffffff"/>
                </a:solidFill>
                <a:latin typeface="Times New Roman"/>
              </a:rPr>
              <a:t>芳罔不知道这个年轻袅虓说这兽语的意思是什么。不知是不是痋咩</a:t>
            </a:r>
            <a:endParaRPr b="0" lang="en-US" sz="1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1733400" y="812880"/>
            <a:ext cx="3176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香会负责人的门票优惠，同时享受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条、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条的门票优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1558080" y="1803240"/>
            <a:ext cx="36363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以上（含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）、有统一标识的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村普通香客团体（指来自农村、没有统一服装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胸巾、包肚的香客团体），进入中心景区和大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凭所在行政村开具的证明按实际购票人数实行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折门票优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2200320" y="3975120"/>
            <a:ext cx="2637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农历八月初一至初五（八月初一前一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1522080" y="812880"/>
            <a:ext cx="3496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晚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:30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至八月初五晚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:3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期间取消中心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区和大庙门票优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594800" y="1803240"/>
            <a:ext cx="139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2063160" y="1803240"/>
            <a:ext cx="2744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 香会代表证》不作认定香客团体的依据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只用于统计本香会进入中心景区和大庙香民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2276280" y="3187800"/>
            <a:ext cx="2601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本政策规定从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10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月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日起实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1441440" y="3581280"/>
            <a:ext cx="15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其他政策不变。衡山风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5442480" y="520560"/>
            <a:ext cx="10080" cy="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9"/>
              </a:lnSpc>
            </a:pPr>
            <a:r>
              <a:rPr b="0" lang="zh-CN" sz="150" spc="-1" strike="noStrike">
                <a:solidFill>
                  <a:srgbClr val="ffffff"/>
                </a:solidFill>
                <a:latin typeface="Times New Roman"/>
              </a:rPr>
              <a:t>芳罔不知道这个年轻袅虓说这兽语的意思是什么。不知是不是痋咩</a:t>
            </a:r>
            <a:endParaRPr b="0" lang="en-US" sz="1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1664280" y="812880"/>
            <a:ext cx="824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衡山冬天景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1523880" y="1397160"/>
            <a:ext cx="412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方广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570680" y="1994040"/>
            <a:ext cx="549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衡山正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1570680" y="2590920"/>
            <a:ext cx="549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万寿大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948600" y="3365640"/>
            <a:ext cx="397080" cy="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00"/>
              </a:lnSpc>
            </a:pPr>
            <a:r>
              <a:rPr b="0" lang="en-US" sz="300" spc="-1" strike="noStrike">
                <a:solidFill>
                  <a:srgbClr val="ffffff"/>
                </a:solidFill>
                <a:latin typeface="Times New Roman"/>
              </a:rPr>
              <a:t>0c10f2ca </a:t>
            </a:r>
            <a:r>
              <a:rPr b="0" lang="zh-CN" sz="300" spc="-1" strike="noStrike">
                <a:solidFill>
                  <a:srgbClr val="ffffff"/>
                </a:solidFill>
                <a:latin typeface="Times New Roman"/>
              </a:rPr>
              <a:t>凤凰平台</a:t>
            </a:r>
            <a:r>
              <a:rPr b="0" lang="en-US" sz="300" spc="-1" strike="noStrike">
                <a:solidFill>
                  <a:srgbClr val="ffffff"/>
                </a:solidFill>
                <a:latin typeface="Times New Roman"/>
              </a:rPr>
              <a:t>gvgu.ne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442480" y="520560"/>
            <a:ext cx="10080" cy="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9"/>
              </a:lnSpc>
            </a:pPr>
            <a:r>
              <a:rPr b="0" lang="zh-CN" sz="150" spc="-1" strike="noStrike">
                <a:solidFill>
                  <a:srgbClr val="ffffff"/>
                </a:solidFill>
                <a:latin typeface="Times New Roman"/>
              </a:rPr>
              <a:t>芳罔不知道这个年轻袅虓说这兽语的意思是什么。不知是不是痋咩</a:t>
            </a:r>
            <a:endParaRPr b="0" lang="en-US" sz="1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570680" y="812880"/>
            <a:ext cx="549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衡山景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2075760" y="1397160"/>
            <a:ext cx="306432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五岳独秀之南岳衡山南岳衡山又名寿岳、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山，为我国五岳名山之一，主峰坐落在湖南省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二大城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—衡阳市南岳区，七十二群峰，层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迭嶂，气势磅礴。素以“五岳独秀”、 宗教圣地”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明奥区”、“中华寿岳”著称于世。《诗经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“福如东海，寿比南山”的“南山”即衡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现为国家级重点风景名胜区、国家级自然保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825640" y="812880"/>
            <a:ext cx="1280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区、全国文明风景旅游区示范点和国家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AAA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旅游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3523680" y="1803240"/>
            <a:ext cx="106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衡山为南中国的宗教文化中心，中国南禅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933560" y="2197080"/>
            <a:ext cx="306432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天台宗、曹洞宗和禅宗南岳、青原两系之发源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南方最著名的道教圣地，有道教三十六洞天之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三洞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—朱陵洞天，道教七十二福地之青南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衡山玉坛福地、光天坛福地、洞灵源福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523880" y="3975120"/>
            <a:ext cx="412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祝融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5442480" y="520560"/>
            <a:ext cx="10080" cy="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9"/>
              </a:lnSpc>
            </a:pPr>
            <a:r>
              <a:rPr b="0" lang="zh-CN" sz="150" spc="-1" strike="noStrike">
                <a:solidFill>
                  <a:srgbClr val="ffffff"/>
                </a:solidFill>
                <a:latin typeface="Times New Roman"/>
              </a:rPr>
              <a:t>芳罔不知道这个年轻袅虓说这兽语的意思是什么。不知是不是痋咩</a:t>
            </a:r>
            <a:endParaRPr b="0" lang="en-US" sz="1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1699560" y="812880"/>
            <a:ext cx="330156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衡山山势雄伟，绵延数百公里，号称有七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二峰，其中以祝融、天柱、芙蓉、紫盖、石禀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座最有名。南岳四绝是：“祝融峰之高，方广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之深，藏经殿之秀，水帘洞之奇。”衡山景点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祝融峰山巅祝融峰，海拔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00.2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米，登衡山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登祝融。唐代文学家韩愈诗云：“祝融万丈拔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起，欲见不见轻烟里。”这两句诗既写了祝融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高峻、雄伟，又写了衡山烟云的美妙。登临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上，可见北面洞庭湖烟波渺渺，若隐若现，南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956600" y="812880"/>
            <a:ext cx="3018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群峰罗列，如障如屏，东面湘江逶迤，宛如玉带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西面雪峰山顶，银涛翻腾，万千景象，尽收眼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1909800" y="1803240"/>
            <a:ext cx="288144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传说祝融峰是祝融游息之地。祝融是神话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说中的火神，自燧人氏发明取火以后，即由祝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保存火种。峰上有祝融殿，是明代所建。祝融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西边有望月台，在无云的夜晚，到这里赏月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别有一番美景。峰上还有观日台，是看日出奇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好地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5442480" y="520560"/>
            <a:ext cx="10080" cy="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9"/>
              </a:lnSpc>
            </a:pPr>
            <a:r>
              <a:rPr b="0" lang="zh-CN" sz="150" spc="-1" strike="noStrike">
                <a:solidFill>
                  <a:srgbClr val="ffffff"/>
                </a:solidFill>
                <a:latin typeface="Times New Roman"/>
              </a:rPr>
              <a:t>芳罔不知道这个年轻袅虓说这兽语的意思是什么。不知是不是痋咩</a:t>
            </a:r>
            <a:endParaRPr b="0" lang="en-US" sz="1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1570680" y="812880"/>
            <a:ext cx="549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麻姑仙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818360" y="1397160"/>
            <a:ext cx="306432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麻姑仙境位于天柱峰下，相传为南岳魏夫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侍女麻姑给魏夫人祝寿的地方，它采取“点石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景、引水造景、修路出景、植树添景”等造景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法，使麻姑仙境成为名副其实的人间仙境。主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景点有麻姑祝寿、绛珠亭、盗桃石、卧虎石、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芝喷泉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2273400" y="3975120"/>
            <a:ext cx="26071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灵芝喷泉由灵芝涌泉和游泳池组成，人工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909800" y="812880"/>
            <a:ext cx="2881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景灵芝喷泉将山上的泉水汇集后喷涌而出，十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壮观，是日光浴、森林浴的绝好去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1909800" y="1803240"/>
            <a:ext cx="288144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由半山亭西行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公里即至麻姑仙境。麻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是传说中的仙女，为在农三月初三给西王母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寿，她每年在衡山采灵芝酿酒，然后飞天去给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祝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1617480" y="3581280"/>
            <a:ext cx="6868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南岳水帘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5442480" y="520560"/>
            <a:ext cx="10080" cy="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9"/>
              </a:lnSpc>
            </a:pPr>
            <a:r>
              <a:rPr b="0" lang="zh-CN" sz="150" spc="-1" strike="noStrike">
                <a:solidFill>
                  <a:srgbClr val="ffffff"/>
                </a:solidFill>
                <a:latin typeface="Times New Roman"/>
              </a:rPr>
              <a:t>芳罔不知道这个年轻袅虓说这兽语的意思是什么。不知是不是痋咩</a:t>
            </a:r>
            <a:endParaRPr b="0" lang="en-US" sz="1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3520800" y="812880"/>
            <a:ext cx="112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水帘洞瀑布源头，在紫盖峰的泉水。三支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2025000" y="1193760"/>
            <a:ext cx="288144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水汇集一起，流入水帘洞上方谷地。谷地阔三丈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原是梁朝的九位真人白日飞升的栖息之地，后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造九仙观。九仙观附近有太阳泉、洗心泉、洞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源、仙人池等。相传泉水深不可测。泉水从石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上飞流直泻，发出雷鸣般的声音，声传十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300760" y="3390840"/>
            <a:ext cx="25524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明朝张居正游此地后说：“瀑泉洒落，水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094200" y="3784680"/>
            <a:ext cx="7434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叠，挂于云际，垂如贯珠，霏如削玉”。确实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1484</Words>
  <Paragraphs>3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Word Home</cp:lastModifiedBy>
  <dcterms:modified xsi:type="dcterms:W3CDTF">2014-08-28T10:07:04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自定义</vt:lpwstr>
  </property>
  <property fmtid="{D5CDD505-2E9C-101B-9397-08002B2CF9AE}" pid="3" name="Slides">
    <vt:r8>25</vt:r8>
  </property>
</Properties>
</file>