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94C-B1F4-463A-8234-B126A2D2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965-0CCA-436A-BBB9-8F766272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6D8-7140-4496-8152-AB524346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054-73A2-42BB-BABF-47DC514B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C85-B314-4204-BCB9-6122F667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407-3B3E-4E8E-914B-DF75607C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8BB-A0AF-4499-B5FD-2B3044F5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4AE-5800-4041-9DB6-D8401BF3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0A9-7465-45BD-AC45-8C733651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DBE-E38A-4F71-A8A4-789A6D5F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00A-AD0A-4BF9-8032-A37D2F3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E28-21EC-42E7-8737-F8A36F03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9365-2175-407F-A239-92AC242D2B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长沙五日游行程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月一日早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半从昆明出发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47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昆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沙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:30----12:22  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月二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达长沙我已经在车站等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十月二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---22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吃完饭从火车站做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交车直达岳麓山南路湖南大学科教新村下，步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到天马山大学公寓找到住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马山大学公寓周围有小吃一条街，重点：口味虾，臭豆腐，帅哥烧饼（上过快乐大本营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马山北边就是岳麓公园：有岳麓书院（最古老书院鸟语林、爱晚亭、麓山寺、岳麓书院 ）、忠烈祠、高山缆车；南面是橘子洲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游到下午吃晚饭，后到步行街逛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休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881520" cy="432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5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十月三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起床，从渔湾市站乘坐立珊线到火车站，转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路到世界之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世界之窗：（买了门票后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多个游乐项目是免费的，他们是过山车，银河探险，双层豪华木马， 阿波罗飞船，超级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f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模拟太空舱，太空飞椅，飞天大罗盘，宇宙升降机，天马行空， 星空美人鱼，魔幻单车，云霄双塔，超级搅拌机，海盗摇摆船，星际战车，疯狂雷达，火星弹跳车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影院，桑巴汽球，五洲风情歌舞，驯兽表演，灯塔乐队演奏，新概念水上乐园等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九点半玩到下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: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出了世界之窗，旁边就是湖南电视台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做亚洲第一大摩天轮！！！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7: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乘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路在荣银桥站下（逛步行街回也可以），转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9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路到麓山南路口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世界之窗是全国中部最大游乐场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16360" y="1541520"/>
            <a:ext cx="44276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亚洲第一大摩天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496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十月四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地长沙马王堆博物馆（千年女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起床，从麓山南路口乘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路在华图教育站下，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路在省博物馆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333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6:14:18Z</dcterms:created>
  <dc:creator>dell</dc:creator>
  <dc:description/>
  <dc:language>en-US</dc:language>
  <cp:lastModifiedBy>dell</cp:lastModifiedBy>
  <dcterms:modified xsi:type="dcterms:W3CDTF">2012-09-14T08:28:25Z</dcterms:modified>
  <cp:revision>2</cp:revision>
  <dc:subject/>
  <dc:title>长沙五日游行程表</dc:title>
</cp:coreProperties>
</file>