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312B-CB42-4C96-9AA4-56CD2BE28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6810-7B84-46C4-BA9B-4FBEC449D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BDB3-5D7E-4567-82E8-4C01597F4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7AAA-720B-44C6-BF37-6AFBB0E91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E4AE-4B9B-4187-A660-D1A98C4C5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D1DC-311D-43B1-A954-E1E1B79D0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B1A7-A97F-4C1A-9AFF-9A38B3550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AE77-BB6F-494B-A402-22ECE4135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57D6-FF1B-4DF1-A598-ABE7C4062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C824-0688-4DD8-AA9C-1A8215A48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B043-AD3D-40BC-BE20-02BD5066C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B099-5354-42B9-BF67-D1C7C9BB5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9D6C8-3DF3-4FB5-89BA-D2387319867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G:\公司\茶\封面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G:\公司\茶\内页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G:\公司\茶\内页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G:\公司\茶\内页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G:\公司\茶\内页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Box 1"/>
          <p:cNvSpPr/>
          <p:nvPr/>
        </p:nvSpPr>
        <p:spPr>
          <a:xfrm>
            <a:off x="1906560" y="1328760"/>
            <a:ext cx="144576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600" spc="-1" strike="noStrike">
                <a:solidFill>
                  <a:srgbClr val="000000"/>
                </a:solidFill>
                <a:latin typeface="李旭科毛笔行书"/>
                <a:ea typeface="李旭科毛笔行书"/>
              </a:rPr>
              <a:t>茶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2"/>
          <p:cNvSpPr/>
          <p:nvPr/>
        </p:nvSpPr>
        <p:spPr>
          <a:xfrm>
            <a:off x="3244680" y="2517840"/>
            <a:ext cx="1095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000000"/>
                </a:solidFill>
                <a:latin typeface="李旭科毛笔行书"/>
                <a:ea typeface="李旭科毛笔行书"/>
              </a:rPr>
              <a:t>文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3"/>
          <p:cNvSpPr/>
          <p:nvPr/>
        </p:nvSpPr>
        <p:spPr>
          <a:xfrm>
            <a:off x="2399760" y="348156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李旭科毛笔行书"/>
                <a:ea typeface="李旭科毛笔行书"/>
              </a:rPr>
              <a:t>化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2" descr="G:\公司\茶\印章.png"/>
          <p:cNvPicPr/>
          <p:nvPr/>
        </p:nvPicPr>
        <p:blipFill>
          <a:blip r:embed="rId1"/>
          <a:stretch/>
        </p:blipFill>
        <p:spPr>
          <a:xfrm>
            <a:off x="1870200" y="3719520"/>
            <a:ext cx="503280" cy="1074600"/>
          </a:xfrm>
          <a:prstGeom prst="rect">
            <a:avLst/>
          </a:prstGeom>
          <a:ln w="0">
            <a:noFill/>
          </a:ln>
        </p:spPr>
      </p:pic>
      <p:sp>
        <p:nvSpPr>
          <p:cNvPr id="279" name="TextBox 8"/>
          <p:cNvSpPr/>
          <p:nvPr/>
        </p:nvSpPr>
        <p:spPr>
          <a:xfrm>
            <a:off x="1203120" y="1809720"/>
            <a:ext cx="667080" cy="31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隶书"/>
                <a:ea typeface="华文隶书"/>
              </a:rPr>
              <a:t>中国历史传承不可或缺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隶书"/>
                <a:ea typeface="华文隶书"/>
              </a:rPr>
              <a:t>重要组成部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矩形 2"/>
          <p:cNvSpPr/>
          <p:nvPr/>
        </p:nvSpPr>
        <p:spPr>
          <a:xfrm>
            <a:off x="7717320" y="172080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880000"/>
                </a:solidFill>
                <a:latin typeface="李旭科毛笔行书"/>
                <a:ea typeface="李旭科毛笔行书"/>
              </a:rPr>
              <a:t>茶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矩形 3"/>
          <p:cNvSpPr/>
          <p:nvPr/>
        </p:nvSpPr>
        <p:spPr>
          <a:xfrm>
            <a:off x="7274160" y="1719360"/>
            <a:ext cx="636480" cy="15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原为中国南方的嘉木，茶叶作为一种著名的保健饮品，它是古代中国南方人民对中国饮食文化的贡献，也是中国人民对世界饮食文化的贡献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直接连接符 5"/>
          <p:cNvSpPr/>
          <p:nvPr/>
        </p:nvSpPr>
        <p:spPr>
          <a:xfrm>
            <a:off x="7294680" y="1682640"/>
            <a:ext cx="0" cy="163692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直接连接符 6"/>
          <p:cNvSpPr/>
          <p:nvPr/>
        </p:nvSpPr>
        <p:spPr>
          <a:xfrm>
            <a:off x="6835680" y="1682640"/>
            <a:ext cx="0" cy="163692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直接连接符 7"/>
          <p:cNvSpPr/>
          <p:nvPr/>
        </p:nvSpPr>
        <p:spPr>
          <a:xfrm>
            <a:off x="6377040" y="1682640"/>
            <a:ext cx="0" cy="163692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直接连接符 8"/>
          <p:cNvSpPr/>
          <p:nvPr/>
        </p:nvSpPr>
        <p:spPr>
          <a:xfrm>
            <a:off x="5916600" y="1682640"/>
            <a:ext cx="0" cy="163692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直接连接符 9"/>
          <p:cNvSpPr/>
          <p:nvPr/>
        </p:nvSpPr>
        <p:spPr>
          <a:xfrm>
            <a:off x="5457960" y="1682640"/>
            <a:ext cx="0" cy="163692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直接连接符 10"/>
          <p:cNvSpPr/>
          <p:nvPr/>
        </p:nvSpPr>
        <p:spPr>
          <a:xfrm>
            <a:off x="4997520" y="1682640"/>
            <a:ext cx="0" cy="163692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2" descr="G:\公司\LOGO.png"/>
          <p:cNvPicPr/>
          <p:nvPr/>
        </p:nvPicPr>
        <p:blipFill>
          <a:blip r:embed="rId1"/>
          <a:stretch/>
        </p:blipFill>
        <p:spPr>
          <a:xfrm>
            <a:off x="7294680" y="4657680"/>
            <a:ext cx="1574640" cy="8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矩形 3"/>
          <p:cNvSpPr/>
          <p:nvPr/>
        </p:nvSpPr>
        <p:spPr>
          <a:xfrm>
            <a:off x="2190240" y="62856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880000"/>
                </a:solidFill>
                <a:latin typeface="李旭科毛笔行书"/>
                <a:ea typeface="李旭科毛笔行书"/>
              </a:rPr>
              <a:t>唐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4"/>
          <p:cNvSpPr/>
          <p:nvPr/>
        </p:nvSpPr>
        <p:spPr>
          <a:xfrm>
            <a:off x="703800" y="606600"/>
            <a:ext cx="1548720" cy="20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陆羽在</a:t>
            </a:r>
            <a:r>
              <a:rPr b="0" lang="en-US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《</a:t>
            </a: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茶经</a:t>
            </a:r>
            <a:r>
              <a:rPr b="0" lang="en-US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》</a:t>
            </a: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中指出：“茶之为饮，发乎神农氏，闻于鲁周公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1"/>
          <p:cNvSpPr/>
          <p:nvPr/>
        </p:nvSpPr>
        <p:spPr>
          <a:xfrm>
            <a:off x="2742480" y="128916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d0d0d"/>
                </a:solidFill>
                <a:latin typeface="李旭科毛笔行书"/>
                <a:ea typeface="李旭科毛笔行书"/>
              </a:rPr>
              <a:t>代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直接连接符 7"/>
          <p:cNvSpPr/>
          <p:nvPr/>
        </p:nvSpPr>
        <p:spPr>
          <a:xfrm>
            <a:off x="1631880" y="658800"/>
            <a:ext cx="0" cy="182088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直接连接符 8"/>
          <p:cNvSpPr/>
          <p:nvPr/>
        </p:nvSpPr>
        <p:spPr>
          <a:xfrm>
            <a:off x="1173240" y="658800"/>
            <a:ext cx="0" cy="182088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2" descr="G:\公司\LOGO.png"/>
          <p:cNvPicPr/>
          <p:nvPr/>
        </p:nvPicPr>
        <p:blipFill>
          <a:blip r:embed="rId1"/>
          <a:stretch/>
        </p:blipFill>
        <p:spPr>
          <a:xfrm>
            <a:off x="7294680" y="312840"/>
            <a:ext cx="1574640" cy="84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矩形 6"/>
          <p:cNvSpPr/>
          <p:nvPr/>
        </p:nvSpPr>
        <p:spPr>
          <a:xfrm>
            <a:off x="3684240" y="3903840"/>
            <a:ext cx="1092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就是品赏茶的美感之道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通过沏茶、赏茶、闻茶、饮茶、增进友谊，美心修德，学习礼法，是很有益的一种和美仪式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8"/>
          <p:cNvSpPr/>
          <p:nvPr/>
        </p:nvSpPr>
        <p:spPr>
          <a:xfrm>
            <a:off x="2635200" y="210996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880000"/>
                </a:solidFill>
                <a:latin typeface="李旭科毛笔行书"/>
                <a:ea typeface="李旭科毛笔行书"/>
              </a:rPr>
              <a:t>茶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1"/>
          <p:cNvSpPr/>
          <p:nvPr/>
        </p:nvSpPr>
        <p:spPr>
          <a:xfrm>
            <a:off x="1683000" y="2076480"/>
            <a:ext cx="61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d0d0d"/>
                </a:solidFill>
                <a:latin typeface="方正大黑简体"/>
                <a:ea typeface="方正大黑简体"/>
              </a:rPr>
              <a:t>“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4"/>
          <p:cNvSpPr/>
          <p:nvPr/>
        </p:nvSpPr>
        <p:spPr>
          <a:xfrm>
            <a:off x="4347000" y="3135240"/>
            <a:ext cx="61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d0d0d"/>
                </a:solidFill>
                <a:latin typeface="方正大黑简体"/>
                <a:ea typeface="方正大黑简体"/>
              </a:rPr>
              <a:t>”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"/>
          <p:cNvSpPr/>
          <p:nvPr/>
        </p:nvSpPr>
        <p:spPr>
          <a:xfrm>
            <a:off x="3351960" y="275760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d0d0d"/>
                </a:solidFill>
                <a:latin typeface="李旭科毛笔行书"/>
                <a:ea typeface="李旭科毛笔行书"/>
              </a:rPr>
              <a:t>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直接连接符 7"/>
          <p:cNvSpPr/>
          <p:nvPr/>
        </p:nvSpPr>
        <p:spPr>
          <a:xfrm>
            <a:off x="4157640" y="3935520"/>
            <a:ext cx="0" cy="118728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直接连接符 9"/>
          <p:cNvSpPr/>
          <p:nvPr/>
        </p:nvSpPr>
        <p:spPr>
          <a:xfrm>
            <a:off x="3699000" y="3935520"/>
            <a:ext cx="0" cy="118728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直接连接符 10"/>
          <p:cNvSpPr/>
          <p:nvPr/>
        </p:nvSpPr>
        <p:spPr>
          <a:xfrm>
            <a:off x="3241800" y="3935520"/>
            <a:ext cx="0" cy="118728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直接连接符 11"/>
          <p:cNvSpPr/>
          <p:nvPr/>
        </p:nvSpPr>
        <p:spPr>
          <a:xfrm>
            <a:off x="2782800" y="3935520"/>
            <a:ext cx="0" cy="118728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直接连接符 12"/>
          <p:cNvSpPr/>
          <p:nvPr/>
        </p:nvSpPr>
        <p:spPr>
          <a:xfrm>
            <a:off x="2324160" y="3935520"/>
            <a:ext cx="0" cy="118728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直接连接符 13"/>
          <p:cNvSpPr/>
          <p:nvPr/>
        </p:nvSpPr>
        <p:spPr>
          <a:xfrm>
            <a:off x="1865160" y="3935520"/>
            <a:ext cx="0" cy="118728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直接连接符 14"/>
          <p:cNvSpPr/>
          <p:nvPr/>
        </p:nvSpPr>
        <p:spPr>
          <a:xfrm>
            <a:off x="1406520" y="3935520"/>
            <a:ext cx="0" cy="118728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2" descr="G:\公司\LOGO.png"/>
          <p:cNvPicPr/>
          <p:nvPr/>
        </p:nvPicPr>
        <p:blipFill>
          <a:blip r:embed="rId1"/>
          <a:stretch/>
        </p:blipFill>
        <p:spPr>
          <a:xfrm>
            <a:off x="309600" y="264960"/>
            <a:ext cx="1574640" cy="8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矩形 4"/>
          <p:cNvSpPr/>
          <p:nvPr/>
        </p:nvSpPr>
        <p:spPr>
          <a:xfrm>
            <a:off x="4595040" y="96516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880000"/>
                </a:solidFill>
                <a:latin typeface="李旭科毛笔行书"/>
                <a:ea typeface="李旭科毛笔行书"/>
              </a:rPr>
              <a:t>清静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5"/>
          <p:cNvSpPr/>
          <p:nvPr/>
        </p:nvSpPr>
        <p:spPr>
          <a:xfrm>
            <a:off x="6625440" y="96516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d0d0d"/>
                </a:solidFill>
                <a:latin typeface="李旭科毛笔行书"/>
                <a:ea typeface="李旭科毛笔行书"/>
              </a:rPr>
              <a:t>恬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8"/>
          <p:cNvSpPr/>
          <p:nvPr/>
        </p:nvSpPr>
        <p:spPr>
          <a:xfrm>
            <a:off x="5110920" y="2333520"/>
            <a:ext cx="2917080" cy="10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佛道儒的“内省修行”思想。茶道精神是茶文化的核心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是茶文化的灵魂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直接连接符 6"/>
          <p:cNvSpPr/>
          <p:nvPr/>
        </p:nvSpPr>
        <p:spPr>
          <a:xfrm>
            <a:off x="7410600" y="2365200"/>
            <a:ext cx="0" cy="97344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直接连接符 7"/>
          <p:cNvSpPr/>
          <p:nvPr/>
        </p:nvSpPr>
        <p:spPr>
          <a:xfrm>
            <a:off x="6954840" y="2365200"/>
            <a:ext cx="0" cy="97344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直接连接符 9"/>
          <p:cNvSpPr/>
          <p:nvPr/>
        </p:nvSpPr>
        <p:spPr>
          <a:xfrm>
            <a:off x="6497640" y="2365200"/>
            <a:ext cx="0" cy="97344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直接连接符 10"/>
          <p:cNvSpPr/>
          <p:nvPr/>
        </p:nvSpPr>
        <p:spPr>
          <a:xfrm>
            <a:off x="6041880" y="2365200"/>
            <a:ext cx="0" cy="97344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直接连接符 11"/>
          <p:cNvSpPr/>
          <p:nvPr/>
        </p:nvSpPr>
        <p:spPr>
          <a:xfrm>
            <a:off x="5586480" y="2365200"/>
            <a:ext cx="0" cy="97344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直接连接符 12"/>
          <p:cNvSpPr/>
          <p:nvPr/>
        </p:nvSpPr>
        <p:spPr>
          <a:xfrm>
            <a:off x="5129280" y="2365200"/>
            <a:ext cx="0" cy="97344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2" descr="G:\公司\LOGO.png"/>
          <p:cNvPicPr/>
          <p:nvPr/>
        </p:nvPicPr>
        <p:blipFill>
          <a:blip r:embed="rId1"/>
          <a:stretch/>
        </p:blipFill>
        <p:spPr>
          <a:xfrm>
            <a:off x="7294680" y="4657680"/>
            <a:ext cx="1574640" cy="8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矩形 1"/>
          <p:cNvSpPr/>
          <p:nvPr/>
        </p:nvSpPr>
        <p:spPr>
          <a:xfrm>
            <a:off x="4315680" y="1344600"/>
            <a:ext cx="1548720" cy="29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沏茶、赏茶、闻茶、饮茶、品茶等习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具有鲜明中国文化特征的一种文化现象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也可以说是一种礼节现象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矩形 2"/>
          <p:cNvSpPr/>
          <p:nvPr/>
        </p:nvSpPr>
        <p:spPr>
          <a:xfrm>
            <a:off x="5967360" y="14032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880000"/>
                </a:solidFill>
                <a:latin typeface="李旭科毛笔行书"/>
                <a:ea typeface="李旭科毛笔行书"/>
              </a:rPr>
              <a:t>精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矩形 3"/>
          <p:cNvSpPr/>
          <p:nvPr/>
        </p:nvSpPr>
        <p:spPr>
          <a:xfrm>
            <a:off x="5771520" y="234648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d0d0d"/>
                </a:solidFill>
                <a:latin typeface="李旭科毛笔行书"/>
                <a:ea typeface="李旭科毛笔行书"/>
              </a:rPr>
              <a:t>神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直接连接符 4"/>
          <p:cNvSpPr/>
          <p:nvPr/>
        </p:nvSpPr>
        <p:spPr>
          <a:xfrm>
            <a:off x="5257800" y="1384200"/>
            <a:ext cx="0" cy="288792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直接连接符 5"/>
          <p:cNvSpPr/>
          <p:nvPr/>
        </p:nvSpPr>
        <p:spPr>
          <a:xfrm>
            <a:off x="4782960" y="1384200"/>
            <a:ext cx="0" cy="288792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2" descr="G:\公司\LOGO.png"/>
          <p:cNvPicPr/>
          <p:nvPr/>
        </p:nvPicPr>
        <p:blipFill>
          <a:blip r:embed="rId1"/>
          <a:stretch/>
        </p:blipFill>
        <p:spPr>
          <a:xfrm>
            <a:off x="7294680" y="303120"/>
            <a:ext cx="1574640" cy="8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kan</dc:creator>
  <dc:description/>
  <dc:language>en-US</dc:language>
  <cp:lastModifiedBy>for_yang@qq.com</cp:lastModifiedBy>
  <dcterms:modified xsi:type="dcterms:W3CDTF">2015-04-12T08:15:48Z</dcterms:modified>
  <cp:revision>1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