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7.gif" ContentType="image/gif"/>
  <Override PartName="/ppt/media/image17.png" ContentType="image/png"/>
  <Override PartName="/ppt/media/image16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36E-2B4C-4564-A9E5-CF17BEF1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735-8D01-45AA-A3C5-C1E5869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DC6-637A-490F-8CD0-DAF1686B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984-0982-4442-AD77-8D7C54A9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6FD-D49B-42DB-B97C-674494AD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67C-27C7-4578-8E6F-AE1229F3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D51-552B-4744-9368-D78254C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975-7CFB-411A-AD34-80FB1D81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D7E-DD53-456A-AB00-96A92B1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A89-779E-45B3-8706-A510936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827-974C-4FA2-BF0A-50559AD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E90-D717-4C81-B167-3BAC0B8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25A-C28E-4F15-BDA1-7099D999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.baidu.com/ir?u=http://www.finnleo.com.cn/snpj_mutong.jpg&amp;f=http://www.finnleo.com.cn/501.htm&amp;c=baidu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6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763560"/>
            <a:ext cx="79912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成功没有捷径</a:t>
            </a:r>
            <a:br>
              <a:rPr sz="6600"/>
            </a:br>
            <a:r>
              <a:rPr b="0" lang="en-US" sz="6600" spc="-1" strike="noStrike">
                <a:solidFill>
                  <a:srgbClr val="333399"/>
                </a:solidFill>
                <a:latin typeface="Arial"/>
                <a:ea typeface="隶书"/>
              </a:rPr>
              <a:t>           唯有依赖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08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功没有捷径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隶书"/>
              </a:rPr>
              <a:t>           唯有依赖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005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初一（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5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勤学如春起之苗，不见其增，日有所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学习也是如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今天，全省的几十万考生均站在同一个起跑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们要认识到今后高考竞争的残酷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全体考生均处在危险之中，我们需要临危一跃，跳出那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分左右的危险区，才能考上理想的大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560" y="490680"/>
            <a:ext cx="5410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人的潜能是无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14080"/>
            <a:ext cx="7920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潜能如一座待开发的金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蕴藏无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价值无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我们每个人都有一座潜能金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没有进行各种潜能训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个人的潜能从没得到淋漓尽致的发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一个大脑健康的人与一个伟大科学家之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没有不可逾越的鸿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们的区别只是用脑程度与方式的不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鸿沟不但可以填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甚至可以超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为人脑的潜能是无穷无尽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要知道自己就是一位潜能无比的天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49440" y="1628640"/>
            <a:ext cx="6335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人的潜能是无限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你有多大目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就会有多大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木桶理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48360" y="1052640"/>
            <a:ext cx="1224000" cy="190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3213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木桶理论认为，一只木桶能盛多少水并不取决于它最长的那块木头，相反却是取决于其最短的那块。的确这样，如果构成木桶的木头９９％都是长的，惟独有一块是短的，那么木桶里的水从短木头处流走也是十分自然的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51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单科成绩也是如此，成绩的高低决定与我们对知识的完全掌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360" y="1125360"/>
            <a:ext cx="1224000" cy="1905120"/>
            <a:chOff x="1476360" y="1125360"/>
            <a:chExt cx="1224000" cy="190512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1476360" y="1125360"/>
              <a:ext cx="1224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979640" y="1125360"/>
              <a:ext cx="144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25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馒头吃了，没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个馒头吃了，还没有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个馒头吃了，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40258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基础与发展息息相关。就想盖楼房一样，三层楼房的地基，就不能盖四层，要想盖四层，必须打下四层的地基</a:t>
            </a:r>
            <a:r>
              <a:rPr b="1" lang="en-US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什么叫痛苦？   什么叫幸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83200" y="50925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549360"/>
            <a:ext cx="7559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我们的周记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不少同学在那里大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痛苦 煎熬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带来的后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8720" y="60919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困难之时就是离成功不远之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43000" y="3613320"/>
            <a:ext cx="3124080" cy="2482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7659720" y="1217520"/>
            <a:ext cx="77760" cy="1489320"/>
          </a:xfrm>
          <a:custGeom>
            <a:avLst/>
            <a:gdLst/>
            <a:ahLst/>
            <a:rect l="l" t="t" r="r" b="b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/>
            <a:ahLst/>
            <a:rect l="l" t="t" r="r" b="b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/>
            <a:ahLst/>
            <a:rect l="l" t="t" r="r" b="b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7881840" y="1278000"/>
            <a:ext cx="222480" cy="20808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7400880" y="1374840"/>
            <a:ext cx="258840" cy="279360"/>
          </a:xfrm>
          <a:custGeom>
            <a:avLst/>
            <a:gdLst/>
            <a:ahLst/>
            <a:rect l="l" t="t" r="r" b="b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6629400" y="1197000"/>
            <a:ext cx="757080" cy="606240"/>
          </a:xfrm>
          <a:custGeom>
            <a:avLst/>
            <a:gdLst/>
            <a:ahLst/>
            <a:rect l="l" t="t" r="r" b="b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7246800" y="985680"/>
            <a:ext cx="212760" cy="322560"/>
          </a:xfrm>
          <a:custGeom>
            <a:avLst/>
            <a:gdLst/>
            <a:ahLst/>
            <a:rect l="l" t="t" r="r" b="b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6872400" y="790560"/>
            <a:ext cx="331560" cy="380880"/>
          </a:xfrm>
          <a:custGeom>
            <a:avLst/>
            <a:gdLst/>
            <a:ahLst/>
            <a:rect l="l" t="t" r="r" b="b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6634080" y="1201680"/>
            <a:ext cx="727200" cy="596880"/>
          </a:xfrm>
          <a:custGeom>
            <a:avLst/>
            <a:gdLst/>
            <a:ahLst/>
            <a:rect l="l" t="t" r="r" b="b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7143840" y="1406520"/>
            <a:ext cx="149040" cy="49320"/>
          </a:xfrm>
          <a:custGeom>
            <a:avLst/>
            <a:gdLst/>
            <a:ahLst/>
            <a:rect l="l" t="t" r="r" b="b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7283520" y="1422360"/>
            <a:ext cx="54000" cy="171360"/>
          </a:xfrm>
          <a:custGeom>
            <a:avLst/>
            <a:gdLst/>
            <a:ahLst/>
            <a:rect l="l" t="t" r="r" b="b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7184880" y="1490760"/>
            <a:ext cx="114480" cy="198360"/>
          </a:xfrm>
          <a:custGeom>
            <a:avLst/>
            <a:gdLst/>
            <a:ahLst/>
            <a:rect l="l" t="t" r="r" b="b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7078680" y="1490760"/>
            <a:ext cx="125280" cy="81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7048440" y="1590840"/>
            <a:ext cx="84240" cy="120600"/>
          </a:xfrm>
          <a:custGeom>
            <a:avLst/>
            <a:gdLst/>
            <a:ahLst/>
            <a:rect l="l" t="t" r="r" b="b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7043760" y="1695600"/>
            <a:ext cx="61920" cy="58680"/>
          </a:xfrm>
          <a:custGeom>
            <a:avLst/>
            <a:gdLst/>
            <a:ahLst/>
            <a:rect l="l" t="t" r="r" b="b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7113600" y="1601640"/>
            <a:ext cx="68400" cy="125640"/>
          </a:xfrm>
          <a:custGeom>
            <a:avLst/>
            <a:gdLst/>
            <a:ahLst/>
            <a:rect l="l" t="t" r="r" b="b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7108920" y="1351080"/>
            <a:ext cx="185760" cy="71280"/>
          </a:xfrm>
          <a:custGeom>
            <a:avLst/>
            <a:gdLst/>
            <a:ahLst/>
            <a:rect l="l" t="t" r="r" b="b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6877080" y="1351080"/>
            <a:ext cx="228600" cy="109440"/>
          </a:xfrm>
          <a:custGeom>
            <a:avLst/>
            <a:gdLst/>
            <a:ahLst/>
            <a:rect l="l" t="t" r="r" b="b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6765840" y="1368360"/>
            <a:ext cx="127080" cy="92160"/>
          </a:xfrm>
          <a:custGeom>
            <a:avLst/>
            <a:gdLst/>
            <a:ahLst/>
            <a:rect l="l" t="t" r="r" b="b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6686640" y="1368360"/>
            <a:ext cx="65160" cy="61920"/>
          </a:xfrm>
          <a:custGeom>
            <a:avLst/>
            <a:gdLst/>
            <a:ahLst/>
            <a:rect l="l" t="t" r="r" b="b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6694560" y="1319040"/>
            <a:ext cx="60120" cy="24120"/>
          </a:xfrm>
          <a:custGeom>
            <a:avLst/>
            <a:gdLst/>
            <a:ahLst/>
            <a:rect l="l" t="t" r="r" b="b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6800760" y="1270080"/>
            <a:ext cx="114480" cy="57240"/>
          </a:xfrm>
          <a:custGeom>
            <a:avLst/>
            <a:gdLst/>
            <a:ahLst/>
            <a:rect l="l" t="t" r="r" b="b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6904080" y="1231920"/>
            <a:ext cx="204840" cy="92160"/>
          </a:xfrm>
          <a:custGeom>
            <a:avLst/>
            <a:gdLst/>
            <a:ahLst/>
            <a:rect l="l" t="t" r="r" b="b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7074000" y="1227240"/>
            <a:ext cx="203040" cy="96840"/>
          </a:xfrm>
          <a:custGeom>
            <a:avLst/>
            <a:gdLst/>
            <a:ahLst/>
            <a:rect l="l" t="t" r="r" b="b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7005600" y="1038240"/>
            <a:ext cx="165240" cy="88920"/>
          </a:xfrm>
          <a:custGeom>
            <a:avLst/>
            <a:gdLst/>
            <a:ahLst/>
            <a:rect l="l" t="t" r="r" b="b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6926400" y="958680"/>
            <a:ext cx="145800" cy="41400"/>
          </a:xfrm>
          <a:custGeom>
            <a:avLst/>
            <a:gdLst/>
            <a:ahLst/>
            <a:rect l="l" t="t" r="r" b="b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6902280" y="893880"/>
            <a:ext cx="115920" cy="34920"/>
          </a:xfrm>
          <a:custGeom>
            <a:avLst/>
            <a:gdLst/>
            <a:ahLst/>
            <a:rect l="l" t="t" r="r" b="b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961320" y="814320"/>
            <a:ext cx="98280" cy="9864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7067520" y="906480"/>
            <a:ext cx="65160" cy="101520"/>
          </a:xfrm>
          <a:custGeom>
            <a:avLst/>
            <a:gdLst/>
            <a:ahLst/>
            <a:rect l="l" t="t" r="r" b="b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7143840" y="1004760"/>
            <a:ext cx="30240" cy="74880"/>
          </a:xfrm>
          <a:custGeom>
            <a:avLst/>
            <a:gdLst/>
            <a:ahLst/>
            <a:rect l="l" t="t" r="r" b="b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7283520" y="1027080"/>
            <a:ext cx="42840" cy="84240"/>
          </a:xfrm>
          <a:custGeom>
            <a:avLst/>
            <a:gdLst/>
            <a:ahLst/>
            <a:rect l="l" t="t" r="r" b="b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7280280" y="1128600"/>
            <a:ext cx="65160" cy="108000"/>
          </a:xfrm>
          <a:custGeom>
            <a:avLst/>
            <a:gdLst/>
            <a:ahLst/>
            <a:rect l="l" t="t" r="r" b="b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375680" y="1111320"/>
            <a:ext cx="60120" cy="133200"/>
          </a:xfrm>
          <a:custGeom>
            <a:avLst/>
            <a:gdLst/>
            <a:ahLst/>
            <a:rect l="l" t="t" r="r" b="b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342200" y="1042920"/>
            <a:ext cx="60480" cy="795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894360" y="820800"/>
            <a:ext cx="69840" cy="5400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7283520" y="331920"/>
            <a:ext cx="1119240" cy="760320"/>
          </a:xfrm>
          <a:custGeom>
            <a:avLst/>
            <a:gdLst/>
            <a:ahLst/>
            <a:rect l="l" t="t" r="r" b="b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7370640" y="228600"/>
            <a:ext cx="263520" cy="361800"/>
          </a:xfrm>
          <a:custGeom>
            <a:avLst/>
            <a:gdLst/>
            <a:ahLst/>
            <a:rect l="l" t="t" r="r" b="b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7951680" y="244440"/>
            <a:ext cx="266760" cy="360360"/>
          </a:xfrm>
          <a:custGeom>
            <a:avLst/>
            <a:gdLst/>
            <a:ahLst/>
            <a:rect l="l" t="t" r="r" b="b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7497720" y="955800"/>
            <a:ext cx="182520" cy="82440"/>
          </a:xfrm>
          <a:custGeom>
            <a:avLst/>
            <a:gdLst/>
            <a:ahLst/>
            <a:rect l="l" t="t" r="r" b="b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7362720" y="871560"/>
            <a:ext cx="200160" cy="10620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332840" y="741240"/>
            <a:ext cx="171360" cy="111240"/>
          </a:xfrm>
          <a:custGeom>
            <a:avLst/>
            <a:gdLst/>
            <a:ahLst/>
            <a:rect l="l" t="t" r="r" b="b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315200" y="593640"/>
            <a:ext cx="82440" cy="11448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326360" y="531720"/>
            <a:ext cx="133200" cy="187560"/>
          </a:xfrm>
          <a:custGeom>
            <a:avLst/>
            <a:gdLst/>
            <a:ahLst/>
            <a:rect l="l" t="t" r="r" b="b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7478640" y="623880"/>
            <a:ext cx="90720" cy="21600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7569360" y="760320"/>
            <a:ext cx="136440" cy="244440"/>
          </a:xfrm>
          <a:custGeom>
            <a:avLst/>
            <a:gdLst/>
            <a:ahLst/>
            <a:rect l="l" t="t" r="r" b="b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7466040" y="468360"/>
            <a:ext cx="130320" cy="79200"/>
          </a:xfrm>
          <a:custGeom>
            <a:avLst/>
            <a:gdLst/>
            <a:ahLst/>
            <a:rect l="l" t="t" r="r" b="b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7402680" y="361800"/>
            <a:ext cx="129960" cy="82800"/>
          </a:xfrm>
          <a:custGeom>
            <a:avLst/>
            <a:gdLst/>
            <a:ahLst/>
            <a:rect l="l" t="t" r="r" b="b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7405560" y="277920"/>
            <a:ext cx="57240" cy="6192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448400" y="272880"/>
            <a:ext cx="79560" cy="86040"/>
          </a:xfrm>
          <a:custGeom>
            <a:avLst/>
            <a:gdLst/>
            <a:ahLst/>
            <a:rect l="l" t="t" r="r" b="b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558200" y="351000"/>
            <a:ext cx="54000" cy="171360"/>
          </a:xfrm>
          <a:custGeom>
            <a:avLst/>
            <a:gdLst/>
            <a:ahLst/>
            <a:rect l="l" t="t" r="r" b="b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7669080" y="681120"/>
            <a:ext cx="96840" cy="236520"/>
          </a:xfrm>
          <a:custGeom>
            <a:avLst/>
            <a:gdLst/>
            <a:ahLst/>
            <a:rect l="l" t="t" r="r" b="b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7691400" y="555480"/>
            <a:ext cx="81000" cy="15264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7732800" y="403200"/>
            <a:ext cx="48960" cy="163440"/>
          </a:xfrm>
          <a:custGeom>
            <a:avLst/>
            <a:gdLst/>
            <a:ahLst/>
            <a:rect l="l" t="t" r="r" b="b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7800840" y="411120"/>
            <a:ext cx="74880" cy="198360"/>
          </a:xfrm>
          <a:custGeom>
            <a:avLst/>
            <a:gdLst/>
            <a:ahLst/>
            <a:rect l="l" t="t" r="r" b="b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7800840" y="593640"/>
            <a:ext cx="93960" cy="147600"/>
          </a:xfrm>
          <a:custGeom>
            <a:avLst/>
            <a:gdLst/>
            <a:ahLst/>
            <a:rect l="l" t="t" r="r" b="b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未知"/>
          <p:cNvSpPr/>
          <p:nvPr/>
        </p:nvSpPr>
        <p:spPr>
          <a:xfrm>
            <a:off x="7800840" y="696960"/>
            <a:ext cx="106560" cy="311040"/>
          </a:xfrm>
          <a:custGeom>
            <a:avLst/>
            <a:gdLst/>
            <a:ahLst/>
            <a:rect l="l" t="t" r="r" b="b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7981920" y="426960"/>
            <a:ext cx="28440" cy="136440"/>
          </a:xfrm>
          <a:custGeom>
            <a:avLst/>
            <a:gdLst/>
            <a:ahLst/>
            <a:rect l="l" t="t" r="r" b="b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8024760" y="331920"/>
            <a:ext cx="30240" cy="147600"/>
          </a:xfrm>
          <a:custGeom>
            <a:avLst/>
            <a:gdLst/>
            <a:ahLst/>
            <a:rect l="l" t="t" r="r" b="b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8066160" y="285840"/>
            <a:ext cx="49320" cy="109440"/>
          </a:xfrm>
          <a:custGeom>
            <a:avLst/>
            <a:gdLst/>
            <a:ahLst/>
            <a:rect l="l" t="t" r="r" b="b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8132760" y="272880"/>
            <a:ext cx="39600" cy="51120"/>
          </a:xfrm>
          <a:custGeom>
            <a:avLst/>
            <a:gdLst/>
            <a:ahLst/>
            <a:rect l="l" t="t" r="r" b="b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8016840" y="511200"/>
            <a:ext cx="73080" cy="60480"/>
          </a:xfrm>
          <a:custGeom>
            <a:avLst/>
            <a:gdLst/>
            <a:ahLst/>
            <a:rect l="l" t="t" r="r" b="b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未知"/>
          <p:cNvSpPr/>
          <p:nvPr/>
        </p:nvSpPr>
        <p:spPr>
          <a:xfrm>
            <a:off x="8062920" y="438120"/>
            <a:ext cx="79200" cy="44640"/>
          </a:xfrm>
          <a:custGeom>
            <a:avLst/>
            <a:gdLst/>
            <a:ahLst/>
            <a:rect l="l" t="t" r="r" b="b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8112240" y="372960"/>
            <a:ext cx="50760" cy="3816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8163000" y="290520"/>
            <a:ext cx="28440" cy="41400"/>
          </a:xfrm>
          <a:custGeom>
            <a:avLst/>
            <a:gdLst/>
            <a:ahLst/>
            <a:rect l="l" t="t" r="r" b="b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7869240" y="870120"/>
            <a:ext cx="54000" cy="806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未知"/>
          <p:cNvSpPr/>
          <p:nvPr/>
        </p:nvSpPr>
        <p:spPr>
          <a:xfrm>
            <a:off x="7834320" y="969840"/>
            <a:ext cx="244440" cy="77760"/>
          </a:xfrm>
          <a:custGeom>
            <a:avLst/>
            <a:gdLst/>
            <a:ahLst/>
            <a:rect l="l" t="t" r="r" b="b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7956720" y="888840"/>
            <a:ext cx="231480" cy="88920"/>
          </a:xfrm>
          <a:custGeom>
            <a:avLst/>
            <a:gdLst/>
            <a:ahLst/>
            <a:rect l="l" t="t" r="r" b="b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>
            <a:off x="7937640" y="738360"/>
            <a:ext cx="74520" cy="155520"/>
          </a:xfrm>
          <a:custGeom>
            <a:avLst/>
            <a:gdLst/>
            <a:ahLst/>
            <a:rect l="l" t="t" r="r" b="b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8043840" y="647640"/>
            <a:ext cx="138240" cy="177840"/>
          </a:xfrm>
          <a:custGeom>
            <a:avLst/>
            <a:gdLst/>
            <a:ahLst/>
            <a:rect l="l" t="t" r="r" b="b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8062920" y="790560"/>
            <a:ext cx="201600" cy="10332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8191440" y="620640"/>
            <a:ext cx="163440" cy="149400"/>
          </a:xfrm>
          <a:custGeom>
            <a:avLst/>
            <a:gdLst/>
            <a:ahLst/>
            <a:rect l="l" t="t" r="r" b="b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8201160" y="609480"/>
            <a:ext cx="128520" cy="1018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8123400" y="839880"/>
            <a:ext cx="568080" cy="682560"/>
          </a:xfrm>
          <a:custGeom>
            <a:avLst/>
            <a:gdLst/>
            <a:ahLst/>
            <a:rect l="l" t="t" r="r" b="b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8379000" y="1060560"/>
            <a:ext cx="487080" cy="217440"/>
          </a:xfrm>
          <a:custGeom>
            <a:avLst/>
            <a:gdLst/>
            <a:ahLst/>
            <a:rect l="l" t="t" r="r" b="b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8153280" y="1019160"/>
            <a:ext cx="77760" cy="176400"/>
          </a:xfrm>
          <a:custGeom>
            <a:avLst/>
            <a:gdLst/>
            <a:ahLst/>
            <a:rect l="l" t="t" r="r" b="b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8256600" y="917640"/>
            <a:ext cx="106200" cy="155520"/>
          </a:xfrm>
          <a:custGeom>
            <a:avLst/>
            <a:gdLst/>
            <a:ahLst/>
            <a:rect l="l" t="t" r="r" b="b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8393040" y="863640"/>
            <a:ext cx="133560" cy="9216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8451720" y="871560"/>
            <a:ext cx="109800" cy="87120"/>
          </a:xfrm>
          <a:custGeom>
            <a:avLst/>
            <a:gdLst/>
            <a:ahLst/>
            <a:rect l="l" t="t" r="r" b="b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8344080" y="981000"/>
            <a:ext cx="164880" cy="65160"/>
          </a:xfrm>
          <a:custGeom>
            <a:avLst/>
            <a:gdLst/>
            <a:ahLst/>
            <a:rect l="l" t="t" r="r" b="b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8269200" y="1073160"/>
            <a:ext cx="166680" cy="55440"/>
          </a:xfrm>
          <a:custGeom>
            <a:avLst/>
            <a:gdLst/>
            <a:ahLst/>
            <a:rect l="l" t="t" r="r" b="b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8188200" y="1147680"/>
            <a:ext cx="122400" cy="73080"/>
          </a:xfrm>
          <a:custGeom>
            <a:avLst/>
            <a:gdLst/>
            <a:ahLst/>
            <a:rect l="l" t="t" r="r" b="b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8231040" y="1251000"/>
            <a:ext cx="230400" cy="651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8226360" y="1278000"/>
            <a:ext cx="79560" cy="11412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8344080" y="1338120"/>
            <a:ext cx="68040" cy="12240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8431200" y="1380960"/>
            <a:ext cx="100080" cy="103320"/>
          </a:xfrm>
          <a:custGeom>
            <a:avLst/>
            <a:gdLst/>
            <a:ahLst/>
            <a:rect l="l" t="t" r="r" b="b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8534520" y="1425600"/>
            <a:ext cx="102960" cy="604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8435880" y="1312920"/>
            <a:ext cx="125640" cy="60120"/>
          </a:xfrm>
          <a:custGeom>
            <a:avLst/>
            <a:gdLst/>
            <a:ahLst/>
            <a:rect l="l" t="t" r="r" b="b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8545680" y="1376280"/>
            <a:ext cx="95040" cy="6048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8466120" y="1182600"/>
            <a:ext cx="147600" cy="651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8607600" y="1171440"/>
            <a:ext cx="136440" cy="65160"/>
          </a:xfrm>
          <a:custGeom>
            <a:avLst/>
            <a:gdLst/>
            <a:ahLst/>
            <a:rect l="l" t="t" r="r" b="b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8744040" y="1176480"/>
            <a:ext cx="90360" cy="25200"/>
          </a:xfrm>
          <a:custGeom>
            <a:avLst/>
            <a:gdLst/>
            <a:ahLst/>
            <a:rect l="l" t="t" r="r" b="b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8715240" y="1095480"/>
            <a:ext cx="82800" cy="46080"/>
          </a:xfrm>
          <a:custGeom>
            <a:avLst/>
            <a:gdLst/>
            <a:ahLst/>
            <a:rect l="l" t="t" r="r" b="b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8607600" y="1087560"/>
            <a:ext cx="90360" cy="50760"/>
          </a:xfrm>
          <a:custGeom>
            <a:avLst/>
            <a:gdLst/>
            <a:ahLst/>
            <a:rect l="l" t="t" r="r" b="b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8475840" y="1095480"/>
            <a:ext cx="115560" cy="69840"/>
          </a:xfrm>
          <a:custGeom>
            <a:avLst/>
            <a:gdLst/>
            <a:ahLst/>
            <a:rect l="l" t="t" r="r" b="b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6940440" y="3200400"/>
            <a:ext cx="58680" cy="195120"/>
          </a:xfrm>
          <a:custGeom>
            <a:avLst/>
            <a:gdLst/>
            <a:ahLst/>
            <a:rect l="l" t="t" r="r" b="b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7532640" y="2790720"/>
            <a:ext cx="100080" cy="10188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/>
            <a:ahLst/>
            <a:rect l="l" t="t" r="r" b="b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7197840" y="1947960"/>
            <a:ext cx="269640" cy="214200"/>
          </a:xfrm>
          <a:custGeom>
            <a:avLst/>
            <a:gdLst/>
            <a:ahLst/>
            <a:rect l="l" t="t" r="r" b="b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7310520" y="2097000"/>
            <a:ext cx="55440" cy="52560"/>
          </a:xfrm>
          <a:custGeom>
            <a:avLst/>
            <a:gdLst/>
            <a:ahLst/>
            <a:rect l="l" t="t" r="r" b="b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6711840" y="2516040"/>
            <a:ext cx="501840" cy="474840"/>
          </a:xfrm>
          <a:custGeom>
            <a:avLst/>
            <a:gdLst/>
            <a:ahLst/>
            <a:rect l="l" t="t" r="r" b="b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6824520" y="2986200"/>
            <a:ext cx="247680" cy="206280"/>
          </a:xfrm>
          <a:custGeom>
            <a:avLst/>
            <a:gdLst/>
            <a:ahLst/>
            <a:rect l="l" t="t" r="r" b="b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6788160" y="2536920"/>
            <a:ext cx="434880" cy="398520"/>
          </a:xfrm>
          <a:custGeom>
            <a:avLst/>
            <a:gdLst/>
            <a:ahLst/>
            <a:rect l="l" t="t" r="r" b="b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6696000" y="2509920"/>
            <a:ext cx="527040" cy="506160"/>
          </a:xfrm>
          <a:custGeom>
            <a:avLst/>
            <a:gdLst/>
            <a:ahLst/>
            <a:rect l="l" t="t" r="r" b="b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6615000" y="2952720"/>
            <a:ext cx="127080" cy="103320"/>
          </a:xfrm>
          <a:custGeom>
            <a:avLst/>
            <a:gdLst/>
            <a:ahLst/>
            <a:rect l="l" t="t" r="r" b="b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未知"/>
          <p:cNvSpPr/>
          <p:nvPr/>
        </p:nvSpPr>
        <p:spPr>
          <a:xfrm>
            <a:off x="6918480" y="2025720"/>
            <a:ext cx="595080" cy="965160"/>
          </a:xfrm>
          <a:custGeom>
            <a:avLst/>
            <a:gdLst/>
            <a:ahLst/>
            <a:rect l="l" t="t" r="r" b="b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7128000" y="2038320"/>
            <a:ext cx="199800" cy="111240"/>
          </a:xfrm>
          <a:custGeom>
            <a:avLst/>
            <a:gdLst/>
            <a:ahLst/>
            <a:rect l="l" t="t" r="r" b="b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7291440" y="2146320"/>
            <a:ext cx="457200" cy="268200"/>
          </a:xfrm>
          <a:custGeom>
            <a:avLst/>
            <a:gdLst/>
            <a:ahLst/>
            <a:rect l="l" t="t" r="r" b="b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7191360" y="2897280"/>
            <a:ext cx="317520" cy="250560"/>
          </a:xfrm>
          <a:custGeom>
            <a:avLst/>
            <a:gdLst/>
            <a:ahLst/>
            <a:rect l="l" t="t" r="r" b="b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7505640" y="2784600"/>
            <a:ext cx="181080" cy="131760"/>
          </a:xfrm>
          <a:custGeom>
            <a:avLst/>
            <a:gdLst/>
            <a:ahLst/>
            <a:rect l="l" t="t" r="r" b="b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7226280" y="2370240"/>
            <a:ext cx="222120" cy="363600"/>
          </a:xfrm>
          <a:custGeom>
            <a:avLst/>
            <a:gdLst/>
            <a:ahLst/>
            <a:rect l="l" t="t" r="r" b="b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7059600" y="2173320"/>
            <a:ext cx="255600" cy="19512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6993000" y="2120760"/>
            <a:ext cx="163440" cy="290520"/>
          </a:xfrm>
          <a:custGeom>
            <a:avLst/>
            <a:gdLst/>
            <a:ahLst/>
            <a:rect l="l" t="t" r="r" b="b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7202520" y="1992240"/>
            <a:ext cx="146160" cy="136440"/>
          </a:xfrm>
          <a:custGeom>
            <a:avLst/>
            <a:gdLst/>
            <a:ahLst/>
            <a:rect l="l" t="t" r="r" b="b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7094520" y="2376360"/>
            <a:ext cx="422280" cy="617760"/>
          </a:xfrm>
          <a:custGeom>
            <a:avLst/>
            <a:gdLst/>
            <a:ahLst/>
            <a:rect l="l" t="t" r="r" b="b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7307280" y="2165400"/>
            <a:ext cx="439560" cy="250920"/>
          </a:xfrm>
          <a:custGeom>
            <a:avLst/>
            <a:gdLst/>
            <a:ahLst/>
            <a:rect l="l" t="t" r="r" b="b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7327800" y="2112840"/>
            <a:ext cx="23760" cy="20880"/>
          </a:xfrm>
          <a:custGeom>
            <a:avLst/>
            <a:gdLst/>
            <a:ahLst/>
            <a:rect l="l" t="t" r="r" b="b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未知"/>
          <p:cNvSpPr/>
          <p:nvPr/>
        </p:nvSpPr>
        <p:spPr>
          <a:xfrm>
            <a:off x="7429680" y="2166840"/>
            <a:ext cx="120600" cy="81000"/>
          </a:xfrm>
          <a:custGeom>
            <a:avLst/>
            <a:gdLst/>
            <a:ahLst/>
            <a:rect l="l" t="t" r="r" b="b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未知"/>
          <p:cNvSpPr/>
          <p:nvPr/>
        </p:nvSpPr>
        <p:spPr>
          <a:xfrm>
            <a:off x="6799320" y="2523960"/>
            <a:ext cx="442800" cy="398520"/>
          </a:xfrm>
          <a:custGeom>
            <a:avLst/>
            <a:gdLst/>
            <a:ahLst/>
            <a:rect l="l" t="t" r="r" b="b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未知"/>
          <p:cNvSpPr/>
          <p:nvPr/>
        </p:nvSpPr>
        <p:spPr>
          <a:xfrm>
            <a:off x="6950160" y="3360600"/>
            <a:ext cx="28440" cy="101880"/>
          </a:xfrm>
          <a:custGeom>
            <a:avLst/>
            <a:gdLst/>
            <a:ahLst/>
            <a:rect l="l" t="t" r="r" b="b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未知"/>
          <p:cNvSpPr/>
          <p:nvPr/>
        </p:nvSpPr>
        <p:spPr>
          <a:xfrm>
            <a:off x="7015320" y="2755800"/>
            <a:ext cx="768240" cy="763560"/>
          </a:xfrm>
          <a:custGeom>
            <a:avLst/>
            <a:gdLst/>
            <a:ahLst/>
            <a:rect l="l" t="t" r="r" b="b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未知"/>
          <p:cNvSpPr/>
          <p:nvPr/>
        </p:nvSpPr>
        <p:spPr>
          <a:xfrm>
            <a:off x="6885000" y="1917720"/>
            <a:ext cx="905040" cy="528480"/>
          </a:xfrm>
          <a:custGeom>
            <a:avLst/>
            <a:gdLst/>
            <a:ahLst/>
            <a:rect l="l" t="t" r="r" b="b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未知"/>
          <p:cNvSpPr/>
          <p:nvPr/>
        </p:nvSpPr>
        <p:spPr>
          <a:xfrm>
            <a:off x="7270920" y="2081160"/>
            <a:ext cx="133200" cy="7632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未知"/>
          <p:cNvSpPr/>
          <p:nvPr/>
        </p:nvSpPr>
        <p:spPr>
          <a:xfrm>
            <a:off x="7077240" y="2185920"/>
            <a:ext cx="455400" cy="546120"/>
          </a:xfrm>
          <a:custGeom>
            <a:avLst/>
            <a:gdLst/>
            <a:ahLst/>
            <a:rect l="l" t="t" r="r" b="b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6813720" y="2998800"/>
            <a:ext cx="263520" cy="209520"/>
          </a:xfrm>
          <a:custGeom>
            <a:avLst/>
            <a:gdLst/>
            <a:ahLst/>
            <a:rect l="l" t="t" r="r" b="b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6554880" y="2419200"/>
            <a:ext cx="725400" cy="655920"/>
          </a:xfrm>
          <a:custGeom>
            <a:avLst/>
            <a:gdLst/>
            <a:ahLst/>
            <a:rect l="l" t="t" r="r" b="b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未知"/>
          <p:cNvSpPr/>
          <p:nvPr/>
        </p:nvSpPr>
        <p:spPr>
          <a:xfrm>
            <a:off x="6899400" y="2611440"/>
            <a:ext cx="546120" cy="596880"/>
          </a:xfrm>
          <a:custGeom>
            <a:avLst/>
            <a:gdLst/>
            <a:ahLst/>
            <a:rect l="l" t="t" r="r" b="b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未知"/>
          <p:cNvSpPr/>
          <p:nvPr/>
        </p:nvSpPr>
        <p:spPr>
          <a:xfrm>
            <a:off x="6780240" y="2746440"/>
            <a:ext cx="414360" cy="287280"/>
          </a:xfrm>
          <a:custGeom>
            <a:avLst/>
            <a:gdLst/>
            <a:ahLst/>
            <a:rect l="l" t="t" r="r" b="b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6400800" y="2854440"/>
            <a:ext cx="587520" cy="663480"/>
          </a:xfrm>
          <a:custGeom>
            <a:avLst/>
            <a:gdLst/>
            <a:ahLst/>
            <a:rect l="l" t="t" r="r" b="b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未知"/>
          <p:cNvSpPr/>
          <p:nvPr/>
        </p:nvSpPr>
        <p:spPr>
          <a:xfrm>
            <a:off x="6939000" y="3186000"/>
            <a:ext cx="65160" cy="293760"/>
          </a:xfrm>
          <a:custGeom>
            <a:avLst/>
            <a:gdLst/>
            <a:ahLst/>
            <a:rect l="l" t="t" r="r" b="b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未知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未知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未知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未知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未知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14300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对我们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04840" y="125892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刻打盹，你将做梦；此刻学习，你将圆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勤奋、持之以恒、学习是一种艰苦的脑力劳动，不能象兔子那样干事稍微有点起色，就骄傲自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变刻板的思维方式，改进学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学习效率。发挥团队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4000" y="954000"/>
            <a:ext cx="856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久以前，乌龟与兔子之间发生了争论，它们都说自己跑得比对方快。于是它们决定通过比赛来一决雌雄。确定了路线之后它们就开始跑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一个箭步冲到了前面，并且一路领先。看到乌龟被远远抛在了后面，兔子觉得，自己应该先在树下休息一会儿，然后再继续比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，它在树下坐了下来，并且很快睡着了。乌龟慢慢地超过了它，并且完成了整个赛程，无可争辩地当上了冠军。兔子醒了过来，发现自己输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59080" y="5703840"/>
            <a:ext cx="976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一：稳步前进者往往能够获得最终的胜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2602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三代龟兔赛跑对我们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7440" y="907920"/>
            <a:ext cx="8675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因为输掉了比赛而感到失望，它做了一些失利原因的分析。兔子发现，自己失败只是因为过于自信而导致粗心大意、疏于防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它不那么自以为是，乌龟根本没有获胜的可能。于是兔子向乌龟提出挑战：再比一次。乌龟同意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在这一次比赛中，兔子全力以赴，毫不停歇地从起点跑到了终点。它把乌龟甩在几公里之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85000" y="5589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二：迅速并且坚持下去一定能打败又稳又慢的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11592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这里故事还没有结束。这一次，乌龟又动了动脑筋，它意识到，以当前的比赛形式，它是不可能在比赛中胜过兔子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想了一阵子，然后向兔子发出了新的挑战，它要跟兔子再比一次，但是比赛路线会有所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同意了。它们出发后，兔子遵循了原先的策略，坚持以最快的速度飞跑，直到面前出现了一条大河。终点位于河对岸两公里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坐了下来，思忖着下一步该怎么办。这时，乌龟赶了上来，它跳进了河里，游到了对岸，并继续向前迈进，最终达到了终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574056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三：首先应该找出自己的核心竞争力，然后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合展现自己核心竞争力的比赛场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24000" y="33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故事还有更新的版本。兔子和乌龟成了很要好的朋友，它们决定再比试一次，但是这次，它们两个作为一个团队的成员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出发了，这一次兔子扛着乌龟跑到了岸边，然后，相互对调了一下，乌龟驮着兔子游到了对岸。到了对岸之后，兔子又把乌龟扛了起来，最后，两人一齐冲过了终点线。两人都感到了莫大的满足感，比独自获胜还高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2000" y="4076640"/>
            <a:ext cx="87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四：某个人工作出色、有很强的核心竞争力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事，但是除非你能够在一个团队中工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运用好每个人的核心竞争力，否则你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发现心有余而力不足，因为有些时候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弱项正好是别人的强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1700280"/>
            <a:ext cx="8280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在这个集体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我们互相之间都不是对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我们现在是同学、是战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403280" y="2565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相信自己，才能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28720" y="981000"/>
            <a:ext cx="784692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次挥汗如雨  伤痛曾填满记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因为始终相信  去拼搏才能胜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在鼓舞自己  要成功就得努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血在赛承飞腾  巨人在东方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我将赢得胜利创造奇迹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梦想在我手中这是我的天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我将超越极限超越自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  当这一切过去我们将是第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88360" y="5805360"/>
            <a:ext cx="755640" cy="1052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266920" y="115920"/>
            <a:ext cx="3816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相  信  自  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8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11120" y="603360"/>
            <a:ext cx="740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人说，人生有三大幸运：上学时遇到好老师，工作时遇到一位好师傅，成家时遇到一个好伴侣。有时他们一个甜美的笑容，一句温馨的问候，就能使您的人生与众不同，光彩照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在现实生活中，您和谁在一起的确很重要，甚至能改变您的成长轨迹，决定您的人生成败。和什么样的人在一起，就会有什么样的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和勤奋的人在一起，您不会懒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和积极的人在一起，您不会消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与智者同行，你会不同凡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与高人为伍，您能登上巅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“人是唯一能接受暗示的动物。”积极的暗示，会对人的情绪和生理状态产生良好的影响，激发人的内在潜能，发挥人的超常水平，使人进取，催人奋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未知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未知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未知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未知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71" name="未知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未知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未知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未知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未知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未知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未知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未知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未知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未知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未知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93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800 h 360360"/>
                <a:gd name="textAreaBottom" fmla="*/ 3135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还没有到达成功的终点之前，我们一直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67700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1906560"/>
            <a:ext cx="813564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2205000"/>
            <a:ext cx="784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播种一种习惯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收获一种命运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未知"/>
          <p:cNvSpPr/>
          <p:nvPr/>
        </p:nvSpPr>
        <p:spPr>
          <a:xfrm rot="15360000">
            <a:off x="4694040" y="5177880"/>
            <a:ext cx="1490400" cy="1592280"/>
          </a:xfrm>
          <a:custGeom>
            <a:avLst/>
            <a:gdLst/>
            <a:ahLst/>
            <a:rect l="l" t="t" r="r" b="b"/>
            <a:pathLst>
              <a:path w="939" h="1147">
                <a:moveTo>
                  <a:pt x="0" y="863"/>
                </a:moveTo>
                <a:cubicBezTo>
                  <a:pt x="15" y="859"/>
                  <a:pt x="30" y="856"/>
                  <a:pt x="45" y="852"/>
                </a:cubicBezTo>
                <a:cubicBezTo>
                  <a:pt x="68" y="845"/>
                  <a:pt x="113" y="829"/>
                  <a:pt x="113" y="829"/>
                </a:cubicBezTo>
                <a:cubicBezTo>
                  <a:pt x="135" y="814"/>
                  <a:pt x="158" y="799"/>
                  <a:pt x="180" y="784"/>
                </a:cubicBezTo>
                <a:cubicBezTo>
                  <a:pt x="195" y="774"/>
                  <a:pt x="244" y="700"/>
                  <a:pt x="259" y="682"/>
                </a:cubicBezTo>
                <a:cubicBezTo>
                  <a:pt x="314" y="616"/>
                  <a:pt x="363" y="545"/>
                  <a:pt x="418" y="479"/>
                </a:cubicBezTo>
                <a:cubicBezTo>
                  <a:pt x="454" y="435"/>
                  <a:pt x="433" y="422"/>
                  <a:pt x="485" y="389"/>
                </a:cubicBezTo>
                <a:cubicBezTo>
                  <a:pt x="506" y="329"/>
                  <a:pt x="490" y="366"/>
                  <a:pt x="542" y="287"/>
                </a:cubicBezTo>
                <a:cubicBezTo>
                  <a:pt x="549" y="276"/>
                  <a:pt x="557" y="264"/>
                  <a:pt x="564" y="253"/>
                </a:cubicBezTo>
                <a:cubicBezTo>
                  <a:pt x="572" y="242"/>
                  <a:pt x="587" y="219"/>
                  <a:pt x="587" y="219"/>
                </a:cubicBezTo>
                <a:cubicBezTo>
                  <a:pt x="608" y="155"/>
                  <a:pt x="645" y="98"/>
                  <a:pt x="700" y="61"/>
                </a:cubicBezTo>
                <a:cubicBezTo>
                  <a:pt x="706" y="44"/>
                  <a:pt x="712" y="0"/>
                  <a:pt x="745" y="5"/>
                </a:cubicBezTo>
                <a:cubicBezTo>
                  <a:pt x="765" y="8"/>
                  <a:pt x="790" y="59"/>
                  <a:pt x="802" y="72"/>
                </a:cubicBezTo>
                <a:cubicBezTo>
                  <a:pt x="866" y="145"/>
                  <a:pt x="843" y="132"/>
                  <a:pt x="903" y="151"/>
                </a:cubicBezTo>
                <a:cubicBezTo>
                  <a:pt x="914" y="159"/>
                  <a:pt x="939" y="160"/>
                  <a:pt x="937" y="174"/>
                </a:cubicBezTo>
                <a:cubicBezTo>
                  <a:pt x="934" y="201"/>
                  <a:pt x="907" y="219"/>
                  <a:pt x="892" y="242"/>
                </a:cubicBezTo>
                <a:cubicBezTo>
                  <a:pt x="884" y="253"/>
                  <a:pt x="869" y="276"/>
                  <a:pt x="869" y="276"/>
                </a:cubicBezTo>
                <a:cubicBezTo>
                  <a:pt x="833" y="387"/>
                  <a:pt x="752" y="483"/>
                  <a:pt x="689" y="581"/>
                </a:cubicBezTo>
                <a:cubicBezTo>
                  <a:pt x="673" y="606"/>
                  <a:pt x="639" y="614"/>
                  <a:pt x="621" y="637"/>
                </a:cubicBezTo>
                <a:cubicBezTo>
                  <a:pt x="551" y="728"/>
                  <a:pt x="608" y="684"/>
                  <a:pt x="542" y="727"/>
                </a:cubicBezTo>
                <a:cubicBezTo>
                  <a:pt x="518" y="802"/>
                  <a:pt x="551" y="722"/>
                  <a:pt x="497" y="784"/>
                </a:cubicBezTo>
                <a:cubicBezTo>
                  <a:pt x="453" y="835"/>
                  <a:pt x="448" y="874"/>
                  <a:pt x="395" y="908"/>
                </a:cubicBezTo>
                <a:cubicBezTo>
                  <a:pt x="357" y="964"/>
                  <a:pt x="384" y="934"/>
                  <a:pt x="305" y="987"/>
                </a:cubicBezTo>
                <a:cubicBezTo>
                  <a:pt x="294" y="995"/>
                  <a:pt x="271" y="1010"/>
                  <a:pt x="271" y="1010"/>
                </a:cubicBezTo>
                <a:cubicBezTo>
                  <a:pt x="187" y="1136"/>
                  <a:pt x="257" y="1033"/>
                  <a:pt x="203" y="1111"/>
                </a:cubicBezTo>
                <a:cubicBezTo>
                  <a:pt x="195" y="1122"/>
                  <a:pt x="180" y="1145"/>
                  <a:pt x="180" y="1145"/>
                </a:cubicBezTo>
                <a:cubicBezTo>
                  <a:pt x="108" y="1127"/>
                  <a:pt x="144" y="1147"/>
                  <a:pt x="90" y="1066"/>
                </a:cubicBezTo>
                <a:cubicBezTo>
                  <a:pt x="82" y="1055"/>
                  <a:pt x="67" y="1032"/>
                  <a:pt x="67" y="1032"/>
                </a:cubicBezTo>
                <a:cubicBezTo>
                  <a:pt x="29" y="915"/>
                  <a:pt x="88" y="1086"/>
                  <a:pt x="34" y="965"/>
                </a:cubicBezTo>
                <a:cubicBezTo>
                  <a:pt x="30" y="955"/>
                  <a:pt x="7" y="885"/>
                  <a:pt x="0" y="86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 rot="780000">
            <a:off x="2666520" y="5181120"/>
            <a:ext cx="1676520" cy="1233720"/>
          </a:xfrm>
          <a:custGeom>
            <a:avLst/>
            <a:gdLst/>
            <a:ahLst/>
            <a:rect l="l" t="t" r="r" b="b"/>
            <a:pathLst>
              <a:path w="1163" h="825">
                <a:moveTo>
                  <a:pt x="383" y="339"/>
                </a:moveTo>
                <a:cubicBezTo>
                  <a:pt x="472" y="309"/>
                  <a:pt x="445" y="310"/>
                  <a:pt x="519" y="260"/>
                </a:cubicBezTo>
                <a:cubicBezTo>
                  <a:pt x="617" y="116"/>
                  <a:pt x="838" y="32"/>
                  <a:pt x="1005" y="0"/>
                </a:cubicBezTo>
                <a:cubicBezTo>
                  <a:pt x="1078" y="9"/>
                  <a:pt x="1106" y="8"/>
                  <a:pt x="1163" y="45"/>
                </a:cubicBezTo>
                <a:cubicBezTo>
                  <a:pt x="1156" y="92"/>
                  <a:pt x="1162" y="124"/>
                  <a:pt x="1129" y="158"/>
                </a:cubicBezTo>
                <a:cubicBezTo>
                  <a:pt x="1103" y="185"/>
                  <a:pt x="1027" y="203"/>
                  <a:pt x="1027" y="203"/>
                </a:cubicBezTo>
                <a:cubicBezTo>
                  <a:pt x="1016" y="211"/>
                  <a:pt x="1005" y="220"/>
                  <a:pt x="993" y="226"/>
                </a:cubicBezTo>
                <a:cubicBezTo>
                  <a:pt x="982" y="231"/>
                  <a:pt x="969" y="230"/>
                  <a:pt x="959" y="237"/>
                </a:cubicBezTo>
                <a:cubicBezTo>
                  <a:pt x="880" y="290"/>
                  <a:pt x="966" y="250"/>
                  <a:pt x="903" y="305"/>
                </a:cubicBezTo>
                <a:cubicBezTo>
                  <a:pt x="864" y="339"/>
                  <a:pt x="810" y="366"/>
                  <a:pt x="767" y="395"/>
                </a:cubicBezTo>
                <a:cubicBezTo>
                  <a:pt x="720" y="427"/>
                  <a:pt x="649" y="490"/>
                  <a:pt x="598" y="508"/>
                </a:cubicBezTo>
                <a:cubicBezTo>
                  <a:pt x="587" y="512"/>
                  <a:pt x="574" y="514"/>
                  <a:pt x="564" y="520"/>
                </a:cubicBezTo>
                <a:cubicBezTo>
                  <a:pt x="452" y="583"/>
                  <a:pt x="537" y="552"/>
                  <a:pt x="462" y="576"/>
                </a:cubicBezTo>
                <a:cubicBezTo>
                  <a:pt x="372" y="636"/>
                  <a:pt x="410" y="599"/>
                  <a:pt x="350" y="689"/>
                </a:cubicBezTo>
                <a:cubicBezTo>
                  <a:pt x="327" y="723"/>
                  <a:pt x="282" y="734"/>
                  <a:pt x="248" y="757"/>
                </a:cubicBezTo>
                <a:cubicBezTo>
                  <a:pt x="225" y="772"/>
                  <a:pt x="206" y="793"/>
                  <a:pt x="180" y="802"/>
                </a:cubicBezTo>
                <a:cubicBezTo>
                  <a:pt x="157" y="810"/>
                  <a:pt x="112" y="825"/>
                  <a:pt x="112" y="825"/>
                </a:cubicBezTo>
                <a:cubicBezTo>
                  <a:pt x="97" y="821"/>
                  <a:pt x="79" y="823"/>
                  <a:pt x="67" y="813"/>
                </a:cubicBezTo>
                <a:cubicBezTo>
                  <a:pt x="58" y="805"/>
                  <a:pt x="61" y="790"/>
                  <a:pt x="56" y="779"/>
                </a:cubicBezTo>
                <a:cubicBezTo>
                  <a:pt x="50" y="767"/>
                  <a:pt x="41" y="757"/>
                  <a:pt x="33" y="746"/>
                </a:cubicBezTo>
                <a:cubicBezTo>
                  <a:pt x="0" y="645"/>
                  <a:pt x="26" y="563"/>
                  <a:pt x="124" y="531"/>
                </a:cubicBezTo>
                <a:cubicBezTo>
                  <a:pt x="145" y="510"/>
                  <a:pt x="170" y="496"/>
                  <a:pt x="191" y="475"/>
                </a:cubicBezTo>
                <a:cubicBezTo>
                  <a:pt x="201" y="465"/>
                  <a:pt x="204" y="450"/>
                  <a:pt x="214" y="441"/>
                </a:cubicBezTo>
                <a:cubicBezTo>
                  <a:pt x="235" y="423"/>
                  <a:pt x="259" y="410"/>
                  <a:pt x="282" y="395"/>
                </a:cubicBezTo>
                <a:cubicBezTo>
                  <a:pt x="322" y="368"/>
                  <a:pt x="383" y="392"/>
                  <a:pt x="383" y="339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 rot="2940000">
            <a:off x="5340600" y="5250960"/>
            <a:ext cx="1814400" cy="1066680"/>
          </a:xfrm>
          <a:custGeom>
            <a:avLst/>
            <a:gdLst/>
            <a:ahLst/>
            <a:rect l="l" t="t" r="r" b="b"/>
            <a:pathLst>
              <a:path w="1163" h="825">
                <a:moveTo>
                  <a:pt x="383" y="339"/>
                </a:moveTo>
                <a:cubicBezTo>
                  <a:pt x="472" y="309"/>
                  <a:pt x="445" y="310"/>
                  <a:pt x="519" y="260"/>
                </a:cubicBezTo>
                <a:cubicBezTo>
                  <a:pt x="617" y="116"/>
                  <a:pt x="838" y="32"/>
                  <a:pt x="1005" y="0"/>
                </a:cubicBezTo>
                <a:cubicBezTo>
                  <a:pt x="1078" y="9"/>
                  <a:pt x="1106" y="8"/>
                  <a:pt x="1163" y="45"/>
                </a:cubicBezTo>
                <a:cubicBezTo>
                  <a:pt x="1156" y="92"/>
                  <a:pt x="1162" y="124"/>
                  <a:pt x="1129" y="158"/>
                </a:cubicBezTo>
                <a:cubicBezTo>
                  <a:pt x="1103" y="185"/>
                  <a:pt x="1027" y="203"/>
                  <a:pt x="1027" y="203"/>
                </a:cubicBezTo>
                <a:cubicBezTo>
                  <a:pt x="1016" y="211"/>
                  <a:pt x="1005" y="220"/>
                  <a:pt x="993" y="226"/>
                </a:cubicBezTo>
                <a:cubicBezTo>
                  <a:pt x="982" y="231"/>
                  <a:pt x="969" y="230"/>
                  <a:pt x="959" y="237"/>
                </a:cubicBezTo>
                <a:cubicBezTo>
                  <a:pt x="880" y="290"/>
                  <a:pt x="966" y="250"/>
                  <a:pt x="903" y="305"/>
                </a:cubicBezTo>
                <a:cubicBezTo>
                  <a:pt x="864" y="339"/>
                  <a:pt x="810" y="366"/>
                  <a:pt x="767" y="395"/>
                </a:cubicBezTo>
                <a:cubicBezTo>
                  <a:pt x="720" y="427"/>
                  <a:pt x="649" y="490"/>
                  <a:pt x="598" y="508"/>
                </a:cubicBezTo>
                <a:cubicBezTo>
                  <a:pt x="587" y="512"/>
                  <a:pt x="574" y="514"/>
                  <a:pt x="564" y="520"/>
                </a:cubicBezTo>
                <a:cubicBezTo>
                  <a:pt x="452" y="583"/>
                  <a:pt x="537" y="552"/>
                  <a:pt x="462" y="576"/>
                </a:cubicBezTo>
                <a:cubicBezTo>
                  <a:pt x="372" y="636"/>
                  <a:pt x="410" y="599"/>
                  <a:pt x="350" y="689"/>
                </a:cubicBezTo>
                <a:cubicBezTo>
                  <a:pt x="327" y="723"/>
                  <a:pt x="282" y="734"/>
                  <a:pt x="248" y="757"/>
                </a:cubicBezTo>
                <a:cubicBezTo>
                  <a:pt x="225" y="772"/>
                  <a:pt x="206" y="793"/>
                  <a:pt x="180" y="802"/>
                </a:cubicBezTo>
                <a:cubicBezTo>
                  <a:pt x="157" y="810"/>
                  <a:pt x="112" y="825"/>
                  <a:pt x="112" y="825"/>
                </a:cubicBezTo>
                <a:cubicBezTo>
                  <a:pt x="97" y="821"/>
                  <a:pt x="79" y="823"/>
                  <a:pt x="67" y="813"/>
                </a:cubicBezTo>
                <a:cubicBezTo>
                  <a:pt x="58" y="805"/>
                  <a:pt x="61" y="790"/>
                  <a:pt x="56" y="779"/>
                </a:cubicBezTo>
                <a:cubicBezTo>
                  <a:pt x="50" y="767"/>
                  <a:pt x="41" y="757"/>
                  <a:pt x="33" y="746"/>
                </a:cubicBezTo>
                <a:cubicBezTo>
                  <a:pt x="0" y="645"/>
                  <a:pt x="26" y="563"/>
                  <a:pt x="124" y="531"/>
                </a:cubicBezTo>
                <a:cubicBezTo>
                  <a:pt x="145" y="510"/>
                  <a:pt x="170" y="496"/>
                  <a:pt x="191" y="475"/>
                </a:cubicBezTo>
                <a:cubicBezTo>
                  <a:pt x="201" y="465"/>
                  <a:pt x="204" y="450"/>
                  <a:pt x="214" y="441"/>
                </a:cubicBezTo>
                <a:cubicBezTo>
                  <a:pt x="235" y="423"/>
                  <a:pt x="259" y="410"/>
                  <a:pt x="282" y="395"/>
                </a:cubicBezTo>
                <a:cubicBezTo>
                  <a:pt x="322" y="368"/>
                  <a:pt x="383" y="392"/>
                  <a:pt x="383" y="339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1828800"/>
            <a:ext cx="3810240" cy="3200400"/>
          </a:xfrm>
          <a:prstGeom prst="can">
            <a:avLst>
              <a:gd name="adj" fmla="val 25000"/>
            </a:avLst>
          </a:prstGeom>
          <a:solidFill>
            <a:srgbClr val="ccecff">
              <a:alpha val="50000"/>
            </a:srgbClr>
          </a:soli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63920" y="2751120"/>
            <a:ext cx="2327400" cy="2249640"/>
          </a:xfrm>
          <a:prstGeom prst="rect">
            <a:avLst/>
          </a:prstGeom>
          <a:ln w="0">
            <a:noFill/>
          </a:ln>
        </p:spPr>
      </p:pic>
      <p:sp>
        <p:nvSpPr>
          <p:cNvPr id="118" name="未知"/>
          <p:cNvSpPr/>
          <p:nvPr/>
        </p:nvSpPr>
        <p:spPr>
          <a:xfrm>
            <a:off x="3886200" y="1066680"/>
            <a:ext cx="338040" cy="126864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507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3581280" y="1219320"/>
            <a:ext cx="338400" cy="111600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 rot="600000">
            <a:off x="4800600" y="761760"/>
            <a:ext cx="338040" cy="164916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4752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4343400" y="914400"/>
            <a:ext cx="380880" cy="149688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3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 rot="1200000">
            <a:off x="5409720" y="1143000"/>
            <a:ext cx="262080" cy="121932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 rot="21300000">
            <a:off x="3428640" y="4419360"/>
            <a:ext cx="1425600" cy="1438200"/>
          </a:xfrm>
          <a:custGeom>
            <a:avLst/>
            <a:gdLst/>
            <a:ahLst/>
            <a:rect l="l" t="t" r="r" b="b"/>
            <a:pathLst>
              <a:path w="869" h="1254">
                <a:moveTo>
                  <a:pt x="169" y="248"/>
                </a:moveTo>
                <a:cubicBezTo>
                  <a:pt x="176" y="271"/>
                  <a:pt x="183" y="293"/>
                  <a:pt x="191" y="316"/>
                </a:cubicBezTo>
                <a:cubicBezTo>
                  <a:pt x="195" y="327"/>
                  <a:pt x="203" y="350"/>
                  <a:pt x="203" y="350"/>
                </a:cubicBezTo>
                <a:cubicBezTo>
                  <a:pt x="199" y="395"/>
                  <a:pt x="199" y="441"/>
                  <a:pt x="191" y="486"/>
                </a:cubicBezTo>
                <a:cubicBezTo>
                  <a:pt x="180" y="553"/>
                  <a:pt x="137" y="600"/>
                  <a:pt x="101" y="655"/>
                </a:cubicBezTo>
                <a:cubicBezTo>
                  <a:pt x="80" y="687"/>
                  <a:pt x="60" y="723"/>
                  <a:pt x="45" y="757"/>
                </a:cubicBezTo>
                <a:cubicBezTo>
                  <a:pt x="35" y="779"/>
                  <a:pt x="22" y="824"/>
                  <a:pt x="22" y="824"/>
                </a:cubicBezTo>
                <a:cubicBezTo>
                  <a:pt x="29" y="925"/>
                  <a:pt x="0" y="999"/>
                  <a:pt x="79" y="1050"/>
                </a:cubicBezTo>
                <a:cubicBezTo>
                  <a:pt x="99" y="1110"/>
                  <a:pt x="80" y="1076"/>
                  <a:pt x="158" y="1129"/>
                </a:cubicBezTo>
                <a:cubicBezTo>
                  <a:pt x="227" y="1176"/>
                  <a:pt x="314" y="1205"/>
                  <a:pt x="395" y="1220"/>
                </a:cubicBezTo>
                <a:cubicBezTo>
                  <a:pt x="414" y="1223"/>
                  <a:pt x="433" y="1226"/>
                  <a:pt x="451" y="1231"/>
                </a:cubicBezTo>
                <a:cubicBezTo>
                  <a:pt x="474" y="1237"/>
                  <a:pt x="519" y="1254"/>
                  <a:pt x="519" y="1254"/>
                </a:cubicBezTo>
                <a:cubicBezTo>
                  <a:pt x="542" y="1246"/>
                  <a:pt x="564" y="1239"/>
                  <a:pt x="587" y="1231"/>
                </a:cubicBezTo>
                <a:cubicBezTo>
                  <a:pt x="598" y="1227"/>
                  <a:pt x="621" y="1220"/>
                  <a:pt x="621" y="1220"/>
                </a:cubicBezTo>
                <a:cubicBezTo>
                  <a:pt x="659" y="1194"/>
                  <a:pt x="694" y="1177"/>
                  <a:pt x="722" y="1141"/>
                </a:cubicBezTo>
                <a:cubicBezTo>
                  <a:pt x="739" y="1120"/>
                  <a:pt x="752" y="1096"/>
                  <a:pt x="767" y="1073"/>
                </a:cubicBezTo>
                <a:cubicBezTo>
                  <a:pt x="775" y="1062"/>
                  <a:pt x="790" y="1039"/>
                  <a:pt x="790" y="1039"/>
                </a:cubicBezTo>
                <a:cubicBezTo>
                  <a:pt x="806" y="991"/>
                  <a:pt x="830" y="953"/>
                  <a:pt x="847" y="903"/>
                </a:cubicBezTo>
                <a:cubicBezTo>
                  <a:pt x="851" y="892"/>
                  <a:pt x="854" y="881"/>
                  <a:pt x="858" y="870"/>
                </a:cubicBezTo>
                <a:cubicBezTo>
                  <a:pt x="862" y="859"/>
                  <a:pt x="869" y="836"/>
                  <a:pt x="869" y="836"/>
                </a:cubicBezTo>
                <a:cubicBezTo>
                  <a:pt x="857" y="705"/>
                  <a:pt x="833" y="531"/>
                  <a:pt x="711" y="452"/>
                </a:cubicBezTo>
                <a:cubicBezTo>
                  <a:pt x="707" y="441"/>
                  <a:pt x="710" y="425"/>
                  <a:pt x="700" y="418"/>
                </a:cubicBezTo>
                <a:cubicBezTo>
                  <a:pt x="681" y="404"/>
                  <a:pt x="652" y="408"/>
                  <a:pt x="632" y="395"/>
                </a:cubicBezTo>
                <a:cubicBezTo>
                  <a:pt x="554" y="343"/>
                  <a:pt x="590" y="358"/>
                  <a:pt x="530" y="339"/>
                </a:cubicBezTo>
                <a:cubicBezTo>
                  <a:pt x="508" y="324"/>
                  <a:pt x="485" y="309"/>
                  <a:pt x="463" y="294"/>
                </a:cubicBezTo>
                <a:cubicBezTo>
                  <a:pt x="452" y="286"/>
                  <a:pt x="450" y="270"/>
                  <a:pt x="440" y="260"/>
                </a:cubicBezTo>
                <a:cubicBezTo>
                  <a:pt x="430" y="250"/>
                  <a:pt x="417" y="245"/>
                  <a:pt x="406" y="237"/>
                </a:cubicBezTo>
                <a:cubicBezTo>
                  <a:pt x="377" y="195"/>
                  <a:pt x="361" y="147"/>
                  <a:pt x="338" y="102"/>
                </a:cubicBezTo>
                <a:cubicBezTo>
                  <a:pt x="332" y="90"/>
                  <a:pt x="321" y="80"/>
                  <a:pt x="316" y="68"/>
                </a:cubicBezTo>
                <a:cubicBezTo>
                  <a:pt x="306" y="46"/>
                  <a:pt x="293" y="0"/>
                  <a:pt x="293" y="0"/>
                </a:cubicBezTo>
                <a:cubicBezTo>
                  <a:pt x="262" y="97"/>
                  <a:pt x="268" y="44"/>
                  <a:pt x="282" y="158"/>
                </a:cubicBezTo>
                <a:cubicBezTo>
                  <a:pt x="268" y="203"/>
                  <a:pt x="260" y="222"/>
                  <a:pt x="214" y="237"/>
                </a:cubicBezTo>
                <a:cubicBezTo>
                  <a:pt x="203" y="233"/>
                  <a:pt x="192" y="226"/>
                  <a:pt x="180" y="226"/>
                </a:cubicBezTo>
                <a:cubicBezTo>
                  <a:pt x="109" y="226"/>
                  <a:pt x="156" y="242"/>
                  <a:pt x="169" y="248"/>
                </a:cubicBezTo>
                <a:close/>
              </a:path>
            </a:pathLst>
          </a:custGeom>
          <a:solidFill>
            <a:srgbClr val="ff0000"/>
          </a:solidFill>
          <a:ln cap="rnd" w="648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 rot="1740000">
            <a:off x="5791320" y="4191120"/>
            <a:ext cx="838080" cy="1371600"/>
          </a:xfrm>
          <a:custGeom>
            <a:avLst/>
            <a:gdLst/>
            <a:ahLst/>
            <a:rect l="l" t="t" r="r" b="b"/>
            <a:pathLst>
              <a:path w="869" h="1254">
                <a:moveTo>
                  <a:pt x="169" y="248"/>
                </a:moveTo>
                <a:cubicBezTo>
                  <a:pt x="176" y="271"/>
                  <a:pt x="183" y="293"/>
                  <a:pt x="191" y="316"/>
                </a:cubicBezTo>
                <a:cubicBezTo>
                  <a:pt x="195" y="327"/>
                  <a:pt x="203" y="350"/>
                  <a:pt x="203" y="350"/>
                </a:cubicBezTo>
                <a:cubicBezTo>
                  <a:pt x="199" y="395"/>
                  <a:pt x="199" y="441"/>
                  <a:pt x="191" y="486"/>
                </a:cubicBezTo>
                <a:cubicBezTo>
                  <a:pt x="180" y="553"/>
                  <a:pt x="137" y="600"/>
                  <a:pt x="101" y="655"/>
                </a:cubicBezTo>
                <a:cubicBezTo>
                  <a:pt x="80" y="687"/>
                  <a:pt x="60" y="723"/>
                  <a:pt x="45" y="757"/>
                </a:cubicBezTo>
                <a:cubicBezTo>
                  <a:pt x="35" y="779"/>
                  <a:pt x="22" y="824"/>
                  <a:pt x="22" y="824"/>
                </a:cubicBezTo>
                <a:cubicBezTo>
                  <a:pt x="29" y="925"/>
                  <a:pt x="0" y="999"/>
                  <a:pt x="79" y="1050"/>
                </a:cubicBezTo>
                <a:cubicBezTo>
                  <a:pt x="99" y="1110"/>
                  <a:pt x="80" y="1076"/>
                  <a:pt x="158" y="1129"/>
                </a:cubicBezTo>
                <a:cubicBezTo>
                  <a:pt x="227" y="1176"/>
                  <a:pt x="314" y="1205"/>
                  <a:pt x="395" y="1220"/>
                </a:cubicBezTo>
                <a:cubicBezTo>
                  <a:pt x="414" y="1223"/>
                  <a:pt x="433" y="1226"/>
                  <a:pt x="451" y="1231"/>
                </a:cubicBezTo>
                <a:cubicBezTo>
                  <a:pt x="474" y="1237"/>
                  <a:pt x="519" y="1254"/>
                  <a:pt x="519" y="1254"/>
                </a:cubicBezTo>
                <a:cubicBezTo>
                  <a:pt x="542" y="1246"/>
                  <a:pt x="564" y="1239"/>
                  <a:pt x="587" y="1231"/>
                </a:cubicBezTo>
                <a:cubicBezTo>
                  <a:pt x="598" y="1227"/>
                  <a:pt x="621" y="1220"/>
                  <a:pt x="621" y="1220"/>
                </a:cubicBezTo>
                <a:cubicBezTo>
                  <a:pt x="659" y="1194"/>
                  <a:pt x="694" y="1177"/>
                  <a:pt x="722" y="1141"/>
                </a:cubicBezTo>
                <a:cubicBezTo>
                  <a:pt x="739" y="1120"/>
                  <a:pt x="752" y="1096"/>
                  <a:pt x="767" y="1073"/>
                </a:cubicBezTo>
                <a:cubicBezTo>
                  <a:pt x="775" y="1062"/>
                  <a:pt x="790" y="1039"/>
                  <a:pt x="790" y="1039"/>
                </a:cubicBezTo>
                <a:cubicBezTo>
                  <a:pt x="806" y="991"/>
                  <a:pt x="830" y="953"/>
                  <a:pt x="847" y="903"/>
                </a:cubicBezTo>
                <a:cubicBezTo>
                  <a:pt x="851" y="892"/>
                  <a:pt x="854" y="881"/>
                  <a:pt x="858" y="870"/>
                </a:cubicBezTo>
                <a:cubicBezTo>
                  <a:pt x="862" y="859"/>
                  <a:pt x="869" y="836"/>
                  <a:pt x="869" y="836"/>
                </a:cubicBezTo>
                <a:cubicBezTo>
                  <a:pt x="857" y="705"/>
                  <a:pt x="833" y="531"/>
                  <a:pt x="711" y="452"/>
                </a:cubicBezTo>
                <a:cubicBezTo>
                  <a:pt x="707" y="441"/>
                  <a:pt x="710" y="425"/>
                  <a:pt x="700" y="418"/>
                </a:cubicBezTo>
                <a:cubicBezTo>
                  <a:pt x="681" y="404"/>
                  <a:pt x="652" y="408"/>
                  <a:pt x="632" y="395"/>
                </a:cubicBezTo>
                <a:cubicBezTo>
                  <a:pt x="554" y="343"/>
                  <a:pt x="590" y="358"/>
                  <a:pt x="530" y="339"/>
                </a:cubicBezTo>
                <a:cubicBezTo>
                  <a:pt x="508" y="324"/>
                  <a:pt x="485" y="309"/>
                  <a:pt x="463" y="294"/>
                </a:cubicBezTo>
                <a:cubicBezTo>
                  <a:pt x="452" y="286"/>
                  <a:pt x="450" y="270"/>
                  <a:pt x="440" y="260"/>
                </a:cubicBezTo>
                <a:cubicBezTo>
                  <a:pt x="430" y="250"/>
                  <a:pt x="417" y="245"/>
                  <a:pt x="406" y="237"/>
                </a:cubicBezTo>
                <a:cubicBezTo>
                  <a:pt x="377" y="195"/>
                  <a:pt x="361" y="147"/>
                  <a:pt x="338" y="102"/>
                </a:cubicBezTo>
                <a:cubicBezTo>
                  <a:pt x="332" y="90"/>
                  <a:pt x="321" y="80"/>
                  <a:pt x="316" y="68"/>
                </a:cubicBezTo>
                <a:cubicBezTo>
                  <a:pt x="306" y="46"/>
                  <a:pt x="293" y="0"/>
                  <a:pt x="293" y="0"/>
                </a:cubicBezTo>
                <a:cubicBezTo>
                  <a:pt x="262" y="97"/>
                  <a:pt x="268" y="44"/>
                  <a:pt x="282" y="158"/>
                </a:cubicBezTo>
                <a:cubicBezTo>
                  <a:pt x="268" y="203"/>
                  <a:pt x="260" y="222"/>
                  <a:pt x="214" y="237"/>
                </a:cubicBezTo>
                <a:cubicBezTo>
                  <a:pt x="203" y="233"/>
                  <a:pt x="192" y="226"/>
                  <a:pt x="180" y="226"/>
                </a:cubicBezTo>
                <a:cubicBezTo>
                  <a:pt x="109" y="226"/>
                  <a:pt x="156" y="242"/>
                  <a:pt x="169" y="248"/>
                </a:cubicBezTo>
                <a:close/>
              </a:path>
            </a:pathLst>
          </a:custGeom>
          <a:solidFill>
            <a:srgbClr val="ff0000"/>
          </a:solidFill>
          <a:ln cap="rnd" w="648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 rot="19380000">
            <a:off x="2666880" y="3428640"/>
            <a:ext cx="762120" cy="2614680"/>
          </a:xfrm>
          <a:custGeom>
            <a:avLst/>
            <a:gdLst/>
            <a:ahLst/>
            <a:rect l="l" t="t" r="r" b="b"/>
            <a:pathLst>
              <a:path w="869" h="1254">
                <a:moveTo>
                  <a:pt x="169" y="248"/>
                </a:moveTo>
                <a:cubicBezTo>
                  <a:pt x="176" y="271"/>
                  <a:pt x="183" y="293"/>
                  <a:pt x="191" y="316"/>
                </a:cubicBezTo>
                <a:cubicBezTo>
                  <a:pt x="195" y="327"/>
                  <a:pt x="203" y="350"/>
                  <a:pt x="203" y="350"/>
                </a:cubicBezTo>
                <a:cubicBezTo>
                  <a:pt x="199" y="395"/>
                  <a:pt x="199" y="441"/>
                  <a:pt x="191" y="486"/>
                </a:cubicBezTo>
                <a:cubicBezTo>
                  <a:pt x="180" y="553"/>
                  <a:pt x="137" y="600"/>
                  <a:pt x="101" y="655"/>
                </a:cubicBezTo>
                <a:cubicBezTo>
                  <a:pt x="80" y="687"/>
                  <a:pt x="60" y="723"/>
                  <a:pt x="45" y="757"/>
                </a:cubicBezTo>
                <a:cubicBezTo>
                  <a:pt x="35" y="779"/>
                  <a:pt x="22" y="824"/>
                  <a:pt x="22" y="824"/>
                </a:cubicBezTo>
                <a:cubicBezTo>
                  <a:pt x="29" y="925"/>
                  <a:pt x="0" y="999"/>
                  <a:pt x="79" y="1050"/>
                </a:cubicBezTo>
                <a:cubicBezTo>
                  <a:pt x="99" y="1110"/>
                  <a:pt x="80" y="1076"/>
                  <a:pt x="158" y="1129"/>
                </a:cubicBezTo>
                <a:cubicBezTo>
                  <a:pt x="227" y="1176"/>
                  <a:pt x="314" y="1205"/>
                  <a:pt x="395" y="1220"/>
                </a:cubicBezTo>
                <a:cubicBezTo>
                  <a:pt x="414" y="1223"/>
                  <a:pt x="433" y="1226"/>
                  <a:pt x="451" y="1231"/>
                </a:cubicBezTo>
                <a:cubicBezTo>
                  <a:pt x="474" y="1237"/>
                  <a:pt x="519" y="1254"/>
                  <a:pt x="519" y="1254"/>
                </a:cubicBezTo>
                <a:cubicBezTo>
                  <a:pt x="542" y="1246"/>
                  <a:pt x="564" y="1239"/>
                  <a:pt x="587" y="1231"/>
                </a:cubicBezTo>
                <a:cubicBezTo>
                  <a:pt x="598" y="1227"/>
                  <a:pt x="621" y="1220"/>
                  <a:pt x="621" y="1220"/>
                </a:cubicBezTo>
                <a:cubicBezTo>
                  <a:pt x="659" y="1194"/>
                  <a:pt x="694" y="1177"/>
                  <a:pt x="722" y="1141"/>
                </a:cubicBezTo>
                <a:cubicBezTo>
                  <a:pt x="739" y="1120"/>
                  <a:pt x="752" y="1096"/>
                  <a:pt x="767" y="1073"/>
                </a:cubicBezTo>
                <a:cubicBezTo>
                  <a:pt x="775" y="1062"/>
                  <a:pt x="790" y="1039"/>
                  <a:pt x="790" y="1039"/>
                </a:cubicBezTo>
                <a:cubicBezTo>
                  <a:pt x="806" y="991"/>
                  <a:pt x="830" y="953"/>
                  <a:pt x="847" y="903"/>
                </a:cubicBezTo>
                <a:cubicBezTo>
                  <a:pt x="851" y="892"/>
                  <a:pt x="854" y="881"/>
                  <a:pt x="858" y="870"/>
                </a:cubicBezTo>
                <a:cubicBezTo>
                  <a:pt x="862" y="859"/>
                  <a:pt x="869" y="836"/>
                  <a:pt x="869" y="836"/>
                </a:cubicBezTo>
                <a:cubicBezTo>
                  <a:pt x="857" y="705"/>
                  <a:pt x="833" y="531"/>
                  <a:pt x="711" y="452"/>
                </a:cubicBezTo>
                <a:cubicBezTo>
                  <a:pt x="707" y="441"/>
                  <a:pt x="710" y="425"/>
                  <a:pt x="700" y="418"/>
                </a:cubicBezTo>
                <a:cubicBezTo>
                  <a:pt x="681" y="404"/>
                  <a:pt x="652" y="408"/>
                  <a:pt x="632" y="395"/>
                </a:cubicBezTo>
                <a:cubicBezTo>
                  <a:pt x="554" y="343"/>
                  <a:pt x="590" y="358"/>
                  <a:pt x="530" y="339"/>
                </a:cubicBezTo>
                <a:cubicBezTo>
                  <a:pt x="508" y="324"/>
                  <a:pt x="485" y="309"/>
                  <a:pt x="463" y="294"/>
                </a:cubicBezTo>
                <a:cubicBezTo>
                  <a:pt x="452" y="286"/>
                  <a:pt x="450" y="270"/>
                  <a:pt x="440" y="260"/>
                </a:cubicBezTo>
                <a:cubicBezTo>
                  <a:pt x="430" y="250"/>
                  <a:pt x="417" y="245"/>
                  <a:pt x="406" y="237"/>
                </a:cubicBezTo>
                <a:cubicBezTo>
                  <a:pt x="377" y="195"/>
                  <a:pt x="361" y="147"/>
                  <a:pt x="338" y="102"/>
                </a:cubicBezTo>
                <a:cubicBezTo>
                  <a:pt x="332" y="90"/>
                  <a:pt x="321" y="80"/>
                  <a:pt x="316" y="68"/>
                </a:cubicBezTo>
                <a:cubicBezTo>
                  <a:pt x="306" y="46"/>
                  <a:pt x="293" y="0"/>
                  <a:pt x="293" y="0"/>
                </a:cubicBezTo>
                <a:cubicBezTo>
                  <a:pt x="262" y="97"/>
                  <a:pt x="268" y="44"/>
                  <a:pt x="282" y="158"/>
                </a:cubicBezTo>
                <a:cubicBezTo>
                  <a:pt x="268" y="203"/>
                  <a:pt x="260" y="222"/>
                  <a:pt x="214" y="237"/>
                </a:cubicBezTo>
                <a:cubicBezTo>
                  <a:pt x="203" y="233"/>
                  <a:pt x="192" y="226"/>
                  <a:pt x="180" y="226"/>
                </a:cubicBezTo>
                <a:cubicBezTo>
                  <a:pt x="109" y="226"/>
                  <a:pt x="156" y="242"/>
                  <a:pt x="169" y="248"/>
                </a:cubicBezTo>
                <a:close/>
              </a:path>
            </a:pathLst>
          </a:custGeom>
          <a:solidFill>
            <a:srgbClr val="ff0000"/>
          </a:solidFill>
          <a:ln cap="rnd" w="648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 rot="2220000">
            <a:off x="4800240" y="4343040"/>
            <a:ext cx="1143000" cy="1685880"/>
          </a:xfrm>
          <a:custGeom>
            <a:avLst/>
            <a:gdLst/>
            <a:ahLst/>
            <a:rect l="l" t="t" r="r" b="b"/>
            <a:pathLst>
              <a:path w="869" h="1254">
                <a:moveTo>
                  <a:pt x="169" y="248"/>
                </a:moveTo>
                <a:cubicBezTo>
                  <a:pt x="176" y="271"/>
                  <a:pt x="183" y="293"/>
                  <a:pt x="191" y="316"/>
                </a:cubicBezTo>
                <a:cubicBezTo>
                  <a:pt x="195" y="327"/>
                  <a:pt x="203" y="350"/>
                  <a:pt x="203" y="350"/>
                </a:cubicBezTo>
                <a:cubicBezTo>
                  <a:pt x="199" y="395"/>
                  <a:pt x="199" y="441"/>
                  <a:pt x="191" y="486"/>
                </a:cubicBezTo>
                <a:cubicBezTo>
                  <a:pt x="180" y="553"/>
                  <a:pt x="137" y="600"/>
                  <a:pt x="101" y="655"/>
                </a:cubicBezTo>
                <a:cubicBezTo>
                  <a:pt x="80" y="687"/>
                  <a:pt x="60" y="723"/>
                  <a:pt x="45" y="757"/>
                </a:cubicBezTo>
                <a:cubicBezTo>
                  <a:pt x="35" y="779"/>
                  <a:pt x="22" y="824"/>
                  <a:pt x="22" y="824"/>
                </a:cubicBezTo>
                <a:cubicBezTo>
                  <a:pt x="29" y="925"/>
                  <a:pt x="0" y="999"/>
                  <a:pt x="79" y="1050"/>
                </a:cubicBezTo>
                <a:cubicBezTo>
                  <a:pt x="99" y="1110"/>
                  <a:pt x="80" y="1076"/>
                  <a:pt x="158" y="1129"/>
                </a:cubicBezTo>
                <a:cubicBezTo>
                  <a:pt x="227" y="1176"/>
                  <a:pt x="314" y="1205"/>
                  <a:pt x="395" y="1220"/>
                </a:cubicBezTo>
                <a:cubicBezTo>
                  <a:pt x="414" y="1223"/>
                  <a:pt x="433" y="1226"/>
                  <a:pt x="451" y="1231"/>
                </a:cubicBezTo>
                <a:cubicBezTo>
                  <a:pt x="474" y="1237"/>
                  <a:pt x="519" y="1254"/>
                  <a:pt x="519" y="1254"/>
                </a:cubicBezTo>
                <a:cubicBezTo>
                  <a:pt x="542" y="1246"/>
                  <a:pt x="564" y="1239"/>
                  <a:pt x="587" y="1231"/>
                </a:cubicBezTo>
                <a:cubicBezTo>
                  <a:pt x="598" y="1227"/>
                  <a:pt x="621" y="1220"/>
                  <a:pt x="621" y="1220"/>
                </a:cubicBezTo>
                <a:cubicBezTo>
                  <a:pt x="659" y="1194"/>
                  <a:pt x="694" y="1177"/>
                  <a:pt x="722" y="1141"/>
                </a:cubicBezTo>
                <a:cubicBezTo>
                  <a:pt x="739" y="1120"/>
                  <a:pt x="752" y="1096"/>
                  <a:pt x="767" y="1073"/>
                </a:cubicBezTo>
                <a:cubicBezTo>
                  <a:pt x="775" y="1062"/>
                  <a:pt x="790" y="1039"/>
                  <a:pt x="790" y="1039"/>
                </a:cubicBezTo>
                <a:cubicBezTo>
                  <a:pt x="806" y="991"/>
                  <a:pt x="830" y="953"/>
                  <a:pt x="847" y="903"/>
                </a:cubicBezTo>
                <a:cubicBezTo>
                  <a:pt x="851" y="892"/>
                  <a:pt x="854" y="881"/>
                  <a:pt x="858" y="870"/>
                </a:cubicBezTo>
                <a:cubicBezTo>
                  <a:pt x="862" y="859"/>
                  <a:pt x="869" y="836"/>
                  <a:pt x="869" y="836"/>
                </a:cubicBezTo>
                <a:cubicBezTo>
                  <a:pt x="857" y="705"/>
                  <a:pt x="833" y="531"/>
                  <a:pt x="711" y="452"/>
                </a:cubicBezTo>
                <a:cubicBezTo>
                  <a:pt x="707" y="441"/>
                  <a:pt x="710" y="425"/>
                  <a:pt x="700" y="418"/>
                </a:cubicBezTo>
                <a:cubicBezTo>
                  <a:pt x="681" y="404"/>
                  <a:pt x="652" y="408"/>
                  <a:pt x="632" y="395"/>
                </a:cubicBezTo>
                <a:cubicBezTo>
                  <a:pt x="554" y="343"/>
                  <a:pt x="590" y="358"/>
                  <a:pt x="530" y="339"/>
                </a:cubicBezTo>
                <a:cubicBezTo>
                  <a:pt x="508" y="324"/>
                  <a:pt x="485" y="309"/>
                  <a:pt x="463" y="294"/>
                </a:cubicBezTo>
                <a:cubicBezTo>
                  <a:pt x="452" y="286"/>
                  <a:pt x="450" y="270"/>
                  <a:pt x="440" y="260"/>
                </a:cubicBezTo>
                <a:cubicBezTo>
                  <a:pt x="430" y="250"/>
                  <a:pt x="417" y="245"/>
                  <a:pt x="406" y="237"/>
                </a:cubicBezTo>
                <a:cubicBezTo>
                  <a:pt x="377" y="195"/>
                  <a:pt x="361" y="147"/>
                  <a:pt x="338" y="102"/>
                </a:cubicBezTo>
                <a:cubicBezTo>
                  <a:pt x="332" y="90"/>
                  <a:pt x="321" y="80"/>
                  <a:pt x="316" y="68"/>
                </a:cubicBezTo>
                <a:cubicBezTo>
                  <a:pt x="306" y="46"/>
                  <a:pt x="293" y="0"/>
                  <a:pt x="293" y="0"/>
                </a:cubicBezTo>
                <a:cubicBezTo>
                  <a:pt x="262" y="97"/>
                  <a:pt x="268" y="44"/>
                  <a:pt x="282" y="158"/>
                </a:cubicBezTo>
                <a:cubicBezTo>
                  <a:pt x="268" y="203"/>
                  <a:pt x="260" y="222"/>
                  <a:pt x="214" y="237"/>
                </a:cubicBezTo>
                <a:cubicBezTo>
                  <a:pt x="203" y="233"/>
                  <a:pt x="192" y="226"/>
                  <a:pt x="180" y="226"/>
                </a:cubicBezTo>
                <a:cubicBezTo>
                  <a:pt x="109" y="226"/>
                  <a:pt x="156" y="242"/>
                  <a:pt x="169" y="248"/>
                </a:cubicBezTo>
                <a:close/>
              </a:path>
            </a:pathLst>
          </a:custGeom>
          <a:solidFill>
            <a:srgbClr val="ff0000"/>
          </a:solidFill>
          <a:ln cap="rnd" w="648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 rot="2160000">
            <a:off x="5855760" y="4723920"/>
            <a:ext cx="544680" cy="752760"/>
          </a:xfrm>
          <a:custGeom>
            <a:avLst/>
            <a:gdLst/>
            <a:ahLst/>
            <a:rect l="l" t="t" r="r" b="b"/>
            <a:pathLst>
              <a:path w="343" h="666">
                <a:moveTo>
                  <a:pt x="75" y="113"/>
                </a:moveTo>
                <a:cubicBezTo>
                  <a:pt x="111" y="260"/>
                  <a:pt x="0" y="596"/>
                  <a:pt x="210" y="666"/>
                </a:cubicBezTo>
                <a:cubicBezTo>
                  <a:pt x="230" y="660"/>
                  <a:pt x="266" y="651"/>
                  <a:pt x="278" y="632"/>
                </a:cubicBezTo>
                <a:cubicBezTo>
                  <a:pt x="291" y="612"/>
                  <a:pt x="293" y="587"/>
                  <a:pt x="301" y="565"/>
                </a:cubicBezTo>
                <a:cubicBezTo>
                  <a:pt x="309" y="541"/>
                  <a:pt x="327" y="521"/>
                  <a:pt x="335" y="497"/>
                </a:cubicBezTo>
                <a:cubicBezTo>
                  <a:pt x="327" y="380"/>
                  <a:pt x="343" y="340"/>
                  <a:pt x="289" y="260"/>
                </a:cubicBezTo>
                <a:cubicBezTo>
                  <a:pt x="277" y="223"/>
                  <a:pt x="250" y="186"/>
                  <a:pt x="222" y="158"/>
                </a:cubicBezTo>
                <a:cubicBezTo>
                  <a:pt x="158" y="93"/>
                  <a:pt x="217" y="183"/>
                  <a:pt x="154" y="102"/>
                </a:cubicBezTo>
                <a:cubicBezTo>
                  <a:pt x="110" y="46"/>
                  <a:pt x="115" y="50"/>
                  <a:pt x="97" y="0"/>
                </a:cubicBezTo>
                <a:cubicBezTo>
                  <a:pt x="67" y="46"/>
                  <a:pt x="62" y="59"/>
                  <a:pt x="75" y="113"/>
                </a:cubicBezTo>
                <a:close/>
              </a:path>
            </a:pathLst>
          </a:custGeom>
          <a:solidFill>
            <a:srgbClr val="ff6600"/>
          </a:solidFill>
          <a:ln w="60480">
            <a:solidFill>
              <a:srgbClr val="ff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2280000">
            <a:off x="4827600" y="5082840"/>
            <a:ext cx="696960" cy="860400"/>
          </a:xfrm>
          <a:custGeom>
            <a:avLst/>
            <a:gdLst/>
            <a:ahLst/>
            <a:rect l="l" t="t" r="r" b="b"/>
            <a:pathLst>
              <a:path w="343" h="666">
                <a:moveTo>
                  <a:pt x="75" y="113"/>
                </a:moveTo>
                <a:cubicBezTo>
                  <a:pt x="111" y="260"/>
                  <a:pt x="0" y="596"/>
                  <a:pt x="210" y="666"/>
                </a:cubicBezTo>
                <a:cubicBezTo>
                  <a:pt x="230" y="660"/>
                  <a:pt x="266" y="651"/>
                  <a:pt x="278" y="632"/>
                </a:cubicBezTo>
                <a:cubicBezTo>
                  <a:pt x="291" y="612"/>
                  <a:pt x="293" y="587"/>
                  <a:pt x="301" y="565"/>
                </a:cubicBezTo>
                <a:cubicBezTo>
                  <a:pt x="309" y="541"/>
                  <a:pt x="327" y="521"/>
                  <a:pt x="335" y="497"/>
                </a:cubicBezTo>
                <a:cubicBezTo>
                  <a:pt x="327" y="380"/>
                  <a:pt x="343" y="340"/>
                  <a:pt x="289" y="260"/>
                </a:cubicBezTo>
                <a:cubicBezTo>
                  <a:pt x="277" y="223"/>
                  <a:pt x="250" y="186"/>
                  <a:pt x="222" y="158"/>
                </a:cubicBezTo>
                <a:cubicBezTo>
                  <a:pt x="158" y="93"/>
                  <a:pt x="217" y="183"/>
                  <a:pt x="154" y="102"/>
                </a:cubicBezTo>
                <a:cubicBezTo>
                  <a:pt x="110" y="46"/>
                  <a:pt x="115" y="50"/>
                  <a:pt x="97" y="0"/>
                </a:cubicBezTo>
                <a:cubicBezTo>
                  <a:pt x="67" y="46"/>
                  <a:pt x="62" y="59"/>
                  <a:pt x="75" y="113"/>
                </a:cubicBezTo>
                <a:close/>
              </a:path>
            </a:pathLst>
          </a:custGeom>
          <a:solidFill>
            <a:srgbClr val="ff6600"/>
          </a:solidFill>
          <a:ln w="60480">
            <a:solidFill>
              <a:srgbClr val="ff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 rot="20340000">
            <a:off x="3124080" y="4657320"/>
            <a:ext cx="544680" cy="1057320"/>
          </a:xfrm>
          <a:custGeom>
            <a:avLst/>
            <a:gdLst/>
            <a:ahLst/>
            <a:rect l="l" t="t" r="r" b="b"/>
            <a:pathLst>
              <a:path w="343" h="666">
                <a:moveTo>
                  <a:pt x="75" y="113"/>
                </a:moveTo>
                <a:cubicBezTo>
                  <a:pt x="111" y="260"/>
                  <a:pt x="0" y="596"/>
                  <a:pt x="210" y="666"/>
                </a:cubicBezTo>
                <a:cubicBezTo>
                  <a:pt x="230" y="660"/>
                  <a:pt x="266" y="651"/>
                  <a:pt x="278" y="632"/>
                </a:cubicBezTo>
                <a:cubicBezTo>
                  <a:pt x="291" y="612"/>
                  <a:pt x="293" y="587"/>
                  <a:pt x="301" y="565"/>
                </a:cubicBezTo>
                <a:cubicBezTo>
                  <a:pt x="309" y="541"/>
                  <a:pt x="327" y="521"/>
                  <a:pt x="335" y="497"/>
                </a:cubicBezTo>
                <a:cubicBezTo>
                  <a:pt x="327" y="380"/>
                  <a:pt x="343" y="340"/>
                  <a:pt x="289" y="260"/>
                </a:cubicBezTo>
                <a:cubicBezTo>
                  <a:pt x="277" y="223"/>
                  <a:pt x="250" y="186"/>
                  <a:pt x="222" y="158"/>
                </a:cubicBezTo>
                <a:cubicBezTo>
                  <a:pt x="158" y="93"/>
                  <a:pt x="217" y="183"/>
                  <a:pt x="154" y="102"/>
                </a:cubicBezTo>
                <a:cubicBezTo>
                  <a:pt x="110" y="46"/>
                  <a:pt x="115" y="50"/>
                  <a:pt x="97" y="0"/>
                </a:cubicBezTo>
                <a:cubicBezTo>
                  <a:pt x="67" y="46"/>
                  <a:pt x="62" y="59"/>
                  <a:pt x="75" y="113"/>
                </a:cubicBezTo>
                <a:close/>
              </a:path>
            </a:pathLst>
          </a:custGeom>
          <a:solidFill>
            <a:srgbClr val="ff6600"/>
          </a:solidFill>
          <a:ln w="60480">
            <a:solidFill>
              <a:srgbClr val="ff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 rot="21480000">
            <a:off x="3809880" y="5181120"/>
            <a:ext cx="863640" cy="615960"/>
          </a:xfrm>
          <a:custGeom>
            <a:avLst/>
            <a:gdLst/>
            <a:ahLst/>
            <a:rect l="l" t="t" r="r" b="b"/>
            <a:pathLst>
              <a:path w="343" h="666">
                <a:moveTo>
                  <a:pt x="75" y="113"/>
                </a:moveTo>
                <a:cubicBezTo>
                  <a:pt x="111" y="260"/>
                  <a:pt x="0" y="596"/>
                  <a:pt x="210" y="666"/>
                </a:cubicBezTo>
                <a:cubicBezTo>
                  <a:pt x="230" y="660"/>
                  <a:pt x="266" y="651"/>
                  <a:pt x="278" y="632"/>
                </a:cubicBezTo>
                <a:cubicBezTo>
                  <a:pt x="291" y="612"/>
                  <a:pt x="293" y="587"/>
                  <a:pt x="301" y="565"/>
                </a:cubicBezTo>
                <a:cubicBezTo>
                  <a:pt x="309" y="541"/>
                  <a:pt x="327" y="521"/>
                  <a:pt x="335" y="497"/>
                </a:cubicBezTo>
                <a:cubicBezTo>
                  <a:pt x="327" y="380"/>
                  <a:pt x="343" y="340"/>
                  <a:pt x="289" y="260"/>
                </a:cubicBezTo>
                <a:cubicBezTo>
                  <a:pt x="277" y="223"/>
                  <a:pt x="250" y="186"/>
                  <a:pt x="222" y="158"/>
                </a:cubicBezTo>
                <a:cubicBezTo>
                  <a:pt x="158" y="93"/>
                  <a:pt x="217" y="183"/>
                  <a:pt x="154" y="102"/>
                </a:cubicBezTo>
                <a:cubicBezTo>
                  <a:pt x="110" y="46"/>
                  <a:pt x="115" y="50"/>
                  <a:pt x="97" y="0"/>
                </a:cubicBezTo>
                <a:cubicBezTo>
                  <a:pt x="67" y="46"/>
                  <a:pt x="62" y="59"/>
                  <a:pt x="75" y="113"/>
                </a:cubicBezTo>
                <a:close/>
              </a:path>
            </a:pathLst>
          </a:custGeom>
          <a:solidFill>
            <a:srgbClr val="ff6600"/>
          </a:solidFill>
          <a:ln w="60480">
            <a:solidFill>
              <a:srgbClr val="ff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4290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19520"/>
            <a:ext cx="30492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114800"/>
            <a:ext cx="152640" cy="228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95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1911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30481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9144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青蛙的故事告诉我们什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02:31:32Z</dcterms:created>
  <dc:creator>黄建勋</dc:creator>
  <dc:description/>
  <dc:language>en-US</dc:language>
  <cp:lastModifiedBy>owner</cp:lastModifiedBy>
  <dcterms:modified xsi:type="dcterms:W3CDTF">2013-12-17T15:51:22Z</dcterms:modified>
  <cp:revision>37</cp:revision>
  <dc:subject/>
  <dc:title>优秀主题班会课件：成功没有捷径，唯有依赖奋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