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drumroll.wav" ContentType="audio/x-wav"/>
  <Override PartName="/ppt/media/image3.jpeg" ContentType="image/jpeg"/>
  <Override PartName="/ppt/media/image10.gif" ContentType="image/gif"/>
  <Override PartName="/ppt/media/image12.jpeg" ContentType="image/jpeg"/>
  <Override PartName="/ppt/media/applause.wav" ContentType="audio/x-wav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3D8-6748-46EB-A48E-8CA9FCEA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914-5474-4D15-81D5-6FF583FF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73F5A-65FD-4EAF-BB23-37FF33D6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5EF18-3C5F-4981-90C7-D323DE8E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36FCD-0F3A-4007-8190-F5F6DBA4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57D89-2E02-403E-9AF6-4E44182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2BEC8-E3DC-4A1A-AB92-DA388369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83011-51E6-4CE8-B8C2-560B569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7F569-6375-43BF-B366-31276213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8EBDF-F425-4E6F-8A60-3EAC5CB7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08F71-AD2A-4523-8985-6BA45C30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DEC-22E3-497F-9ECD-24EAA6A2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CC3-5B84-4AB1-AD61-744545E1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E87D-7D1F-4143-A351-03ED3C94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CFCA-FA5F-4831-96FD-FAD91D52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CF2D-8305-4DCD-958C-CC3DF257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55FB-4CD2-4EB3-B7B9-15F13C96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8437-B052-47E3-BD2D-BCC6D2A5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5F37-A116-4DA2-9754-5298A6D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6E7A-4137-46CC-A63A-101065FD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F97-CDD8-4DEC-8DC4-2790F254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840E-848D-454D-8DE2-8F0046CA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3EE5-B682-4910-A595-C44FCF6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5595-6BCE-4652-8244-8036C410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42F9-7767-4FDF-9815-52AF76D6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8CCA-2F24-4DD9-A621-08C35616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BBEA-2B37-46CA-9B32-164E31A6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FE6D-3A51-4A24-90FF-1DD2F4BF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E5F0-136C-41A9-AC6C-EDEE558A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A036-6921-48F3-B4F9-586D4C62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E4BB-D68F-4A94-A7F5-5EC349E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3A6-5C19-4B30-8540-5A208757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B00B-8CE5-49F4-850F-3AA8CCC6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17AB-A442-4F37-9006-776B4BE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6AE8-7123-43FE-AD7C-49C1AF9D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EF44-C1B6-4AC4-BB9E-A7FDE42C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88F4-DBD8-45ED-9C1F-41FE866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A299-4047-4482-A4AD-E70FC10E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65A5-9703-4172-B035-97FC43A4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130E-5CFF-46A1-A7CA-9BFEC129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8765-B67F-4EBA-80C1-BCC5BA6E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4C5EA-6D75-4CF9-A9D9-01B0101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343-F10D-4C73-A686-9711B86B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9A80-22EC-44A4-92DD-E5007BF3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D1D83-006E-440F-83A3-4B839258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4CC9-3BF1-4299-8702-89C8E848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C7A1-69D5-46B4-9298-67282DB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0B8C0-EA82-4592-BC84-926A8321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E4EF-026A-4065-AC83-D7D259E6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DEA63-D6CB-4EF4-91DA-9F75C313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093C8-B481-4CE1-9FE5-76FFB685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9420-DB9F-4147-B431-7E6BE4FE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957C-2400-405C-95FC-4EBE32E2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A88-40F5-4E4B-BB49-5DC6C5BB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D99D-F702-4C8C-94DF-B828C93C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B4A38-8BA9-4BD3-9597-32003A86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1AD6A-A18A-43AD-9B97-CFBAA0B8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C7C1-38DD-4A46-8954-FCA7D7D7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3EDE-F3A7-4A26-9F50-7DE05EFF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7CD63-0F33-4C6A-B80B-BD47C265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E4D3-3C8A-42F8-B31E-3E1DE02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0DB8-5164-4C30-949E-977D4D83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9C14D-6F8D-47A6-B37B-2CD6BFCB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F083-7275-4AE2-B6D5-ADEEED68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DD3-BE55-4D1C-B63F-5181BB7D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26B0-764E-4832-984C-9E3A1DA0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38F64-76ED-4B03-9544-49D97E23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5BC93-11C7-4D7C-A007-16E642FB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18EBE-C2F0-49C3-8A5F-001DCB9A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82D7D-07D8-4DFD-92AE-61E0DB8B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D600-3302-4332-B504-3A7D0EA9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5E5BE-44DF-451C-ADC5-155D495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2C582-2D37-4B5E-89EA-63F606A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3A4D3-69AD-440E-8922-46B8FE5A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6BCD8-D8F1-4A30-B27E-13DC7346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B3F-370E-4702-A098-989A573E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07B7A-F37D-475D-9697-1F4AAE62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00E17-38D6-4BF6-8968-6B63CF35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DD07-3727-43C0-9E64-22A2724F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F028B-7BDF-49AA-8140-BA637B91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F479-A1D1-44E5-9035-CD856CF6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6CDDF-1EBF-427D-B5D1-62E28FFD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2F26C-5888-4F14-9DC8-320039BB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2AB09-FB61-48F9-9361-806F5577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2262A-B038-4F62-AC6E-742DC86E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E1C23-6789-4D76-895D-85C301E7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007-ADF5-4CA3-8962-26592442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7E8FF-8019-435E-AF71-99D70650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998F1-570B-4D07-AF0E-4D74CB3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4576-C79B-4052-85D7-6044F443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2A47A-FB75-4E4B-852B-6D8BC652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6E682-68C2-4183-BD93-BEE54D5B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CA81-A7CC-452B-BEA3-C7DEB3CE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FB406-C15D-4727-BA6B-88334338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5AFCE-3871-4D5E-B3DD-1E9EC52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3FB88-6456-4CD2-9678-10F5147E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5B2CB-67A8-42D2-AC94-7D3D450C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5DE-B8D2-4F41-8C71-6446D0E6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790BF-465E-43F8-B1EB-57E9A6A3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20886-CE43-4DB9-9C8F-7BFA54C1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311D4-0811-4E8A-B234-EAC5C019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B27C3-9EAE-4A30-BCA2-292D5C04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F643B-EA9B-4848-9514-3B03E0F0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34808-AA8F-496A-945C-636E2000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85503-BD66-4BB6-BAD0-AC347DE9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335ED-06BD-411F-9035-E858A987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D0E31-38D3-426E-8067-FDDE7112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0C428-0835-460E-B619-905C2722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C435-EDA3-4256-AE76-78FE75520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52CE-8C26-43E4-AC0B-48889F92E54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777E-B3DE-4D98-B313-63D33432F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D0EB-6FD4-454E-A8B9-BE91E6C28C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6382-6A12-4122-BF5C-5B1469466B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6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73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6FBD-123B-4E2A-88C5-63E1286658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8727-72E3-4262-8D90-9E78AF16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AE94-F645-4466-8B3C-41C3D4352C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1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47D6-F17D-4C6F-877D-6061E53B96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v.iqilu.com/2011/03/15/3012438.shtml" TargetMode="External"/><Relationship Id="rId2" Type="http://schemas.openxmlformats.org/officeDocument/2006/relationships/hyperlink" Target="http://v.iqilu.com/2011/03/15/3012438.shtml" TargetMode="External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gif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3aa61ba7b215e590f3c7f885e8932a4d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家校同心，</a:t>
            </a: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        师生同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-228600" y="3048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热烈欢迎各位家长到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参加八年级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班的家长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6629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066680" y="49528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000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BJ_009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3"/>
          <p:cNvSpPr/>
          <p:nvPr/>
        </p:nvSpPr>
        <p:spPr>
          <a:xfrm>
            <a:off x="3429000" y="34596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英   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1812960" y="30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1981800" y="1295280"/>
            <a:ext cx="484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名：陈铉冰   第六名：赵  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名：罗咏诗   第七名：张嘉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名：麦炬峰   第八名：何海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名：李文静   第九名：麦秀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五名：梁燕儿   第十名：罗淑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3"/>
          <p:cNvSpPr/>
          <p:nvPr/>
        </p:nvSpPr>
        <p:spPr>
          <a:xfrm>
            <a:off x="1523880" y="762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政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447920" y="1447920"/>
          <a:ext cx="1218960" cy="519732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铉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文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秀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燕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  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咏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炬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嘉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何海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伊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304920" y="1447920"/>
          <a:ext cx="1143000" cy="51811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一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二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四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五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六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七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八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九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第十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3"/>
          <p:cNvSpPr/>
          <p:nvPr/>
        </p:nvSpPr>
        <p:spPr>
          <a:xfrm>
            <a:off x="2666880" y="762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886200" y="762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地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5029200" y="762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6095880" y="792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7238880" y="792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体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666880" y="1447920"/>
          <a:ext cx="1143000" cy="51814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李文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秀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赵  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炬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张绍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陈铉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何海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张嘉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陆英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王兴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3809880" y="1447920"/>
          <a:ext cx="1142640" cy="5181120"/>
        </p:xfrm>
        <a:graphic>
          <a:graphicData uri="http://schemas.openxmlformats.org/drawingml/2006/table">
            <a:tbl>
              <a:tblPr/>
              <a:tblGrid>
                <a:gridCol w="1142640"/>
              </a:tblGrid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文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炬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秀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咏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治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绍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陆家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婉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滨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淑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4952880" y="1447920"/>
          <a:ext cx="1143000" cy="51814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赵  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李文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罗咏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贤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梁燕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何海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秀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滨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炬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陈铉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095880" y="1447920"/>
          <a:ext cx="1143000" cy="51973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贤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炬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景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咏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赵  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文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陆家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燕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滨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麦秀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7238880" y="1447920"/>
          <a:ext cx="1142640" cy="5181120"/>
        </p:xfrm>
        <a:graphic>
          <a:graphicData uri="http://schemas.openxmlformats.org/drawingml/2006/table">
            <a:tbl>
              <a:tblPr/>
              <a:tblGrid>
                <a:gridCol w="1142640"/>
              </a:tblGrid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李文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陆家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滨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秀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陈铉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叶嘉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海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麦炬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赵  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吴伊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2"/>
          <p:cNvSpPr txBox="1"/>
          <p:nvPr/>
        </p:nvSpPr>
        <p:spPr>
          <a:xfrm rot="5400000">
            <a:off x="5600160" y="293364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新魏"/>
              </a:rPr>
              <a:t>家庭教育的误区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新魏"/>
              <a:ea typeface="华文新魏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250920" y="-142920"/>
            <a:ext cx="753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我们的家庭教育不是要让孩子只知道学习，即使我们的家长是教授，也不能把孩子的功课都教好了，因为你只是熟知一门功课，并不能对孩子的各门功课都有能力来辅导，所以家长的主要责任不是在于帮助孩子补习知识，所以那些文化教育程度不高的家长不要担心和自卑，觉得自己帮不上孩子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家长在对孩子的学习方面更多是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要孩子树立职业的理想和兴趣，能够主动学习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会学习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。将来出社会能有一技之长。能靠自己的 技术吃饭，能更好的立足社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Comic Sans MS"/>
              </a:rPr>
              <a:t>一个学校最重大的事是教育孩子，一个家庭最重要的事同样也是教育孩子。而往往我们当中有很多家长会认为，孩子上了学，</a:t>
            </a:r>
            <a:r>
              <a:rPr b="1" lang="zh-CN" sz="3200" spc="-1" strike="noStrike">
                <a:solidFill>
                  <a:srgbClr val="00ff00"/>
                </a:solidFill>
                <a:latin typeface="Comic Sans MS"/>
              </a:rPr>
              <a:t>吃穿问题由家长解决，而</a:t>
            </a:r>
            <a:r>
              <a:rPr b="1" lang="zh-CN" sz="3200" spc="-1" strike="noStrike">
                <a:solidFill>
                  <a:srgbClr val="33cc33"/>
                </a:solidFill>
                <a:latin typeface="Comic Sans MS"/>
              </a:rPr>
              <a:t>教育问题全部由教师去管</a:t>
            </a:r>
            <a:r>
              <a:rPr b="1" lang="zh-CN" sz="3200" spc="-1" strike="noStrike">
                <a:solidFill>
                  <a:srgbClr val="cc0099"/>
                </a:solidFill>
                <a:latin typeface="Comic Sans MS"/>
              </a:rPr>
              <a:t>。这种观点是不对的，你想，同样一个教师在同样一个班级上课，为什么有的学生学习成绩好，而有的学生学习成绩差一些呢？这其中关键在于家庭的督促教育和影响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-474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Comic Sans MS"/>
              </a:rPr>
              <a:t>如何能做一个称职的家长，在</a:t>
            </a:r>
            <a:r>
              <a:rPr b="1" lang="zh-CN" sz="4800" spc="-1" strike="noStrike">
                <a:solidFill>
                  <a:srgbClr val="00cc00"/>
                </a:solidFill>
                <a:latin typeface="Comic Sans MS"/>
              </a:rPr>
              <a:t>品行，性格，学习</a:t>
            </a:r>
            <a:r>
              <a:rPr b="1" lang="zh-CN" sz="4800" spc="-1" strike="noStrike">
                <a:solidFill>
                  <a:srgbClr val="cc0099"/>
                </a:solidFill>
                <a:latin typeface="Comic Sans MS"/>
              </a:rPr>
              <a:t>方面对孩子进行良好的教育和影响呢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993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33cc33"/>
                </a:solidFill>
                <a:latin typeface="Tahoma"/>
              </a:rPr>
              <a:t>一</a:t>
            </a:r>
            <a:r>
              <a:rPr b="1" lang="zh-CN" sz="3200" spc="-1" strike="noStrike">
                <a:solidFill>
                  <a:srgbClr val="33cc33"/>
                </a:solidFill>
                <a:latin typeface="Tahoma"/>
              </a:rPr>
              <a:t>、家长要注意培养孩子良好的品行习惯，对孩子的道德品行、良好习惯的养成要从小抓起，从小事抓起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不良行为要及时地预防和矫治。而常见的、多发的、容易诱发孩子犯罪的不良行为概括起来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种，它们是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与品行不正的人交朋友，不尊重老师、同学；旷课、夜不归宿；携带管制刀具；吸烟；打架、斗殴、辱骂他人；强行向他人索要财物；偷窃或故意损害公共财物；参与赌博或变相赌博；观看、收听不良内容的音像制品读物；进入法律、法规规定的未成年人不适合进入的营业性歌舞厅、电子游戏厅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ahoma"/>
              </a:rPr>
              <a:t>二、家长要多一些时间和耐心去和孩子交流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孩子并不仅仅满足家长物质上的给与，孩子需要的是和家长的真诚交流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往往一个学生学习的动力来源与家长的期望，家长要经常性的了解孩子的学习情况，在学校表现情况，和孩子共同制订学习目标。家长要更多一点的投入精力关心学生的学习。对孩子的学习过程进行管理，了解知道孩子什么时间该上学，什么时间放学，一天学习多长时间，完成没完成老师布置的作业。这样，孩子感受到家长对其学习的关注，当然在学习上就会非常用功，努力把学习搞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家长总是说，工作太忙，我说，家长再忙，又是为了什么？现在有许多的家长把精力用在为孩子攒钱，为孩子攒这个，为孩子攒哪个，那你有没有想过用你现在的精力去为孩子攒个大学文凭，攒个孩子将来吃饭的好饭碗。再说你一生又能有多少时间用来陪子女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家长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对教育的投资是最明智的投资，是回报率最高的投资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，所以我认为家长同志应该和孩子共同努力，把精力更多的投入到关心孩子的学习中去，把孩子培养好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家长要言传身教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有些家长常常对孩子说，快毕业考试了，不能看电视，而他们自己却在看电视、打牌，这样容易分散孩子的注意力，影响孩子的学习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Picture 5" descr="snoopy3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ahoma"/>
              </a:rPr>
              <a:t>四、要给孩子创造一个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良好的学习环境</a:t>
            </a:r>
            <a:r>
              <a:rPr b="1" lang="zh-CN" sz="4800" spc="-1" strike="noStrike">
                <a:solidFill>
                  <a:srgbClr val="33cc33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 </a:t>
            </a:r>
            <a:br>
              <a:rPr sz="4000"/>
            </a:b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可能家长要问，你让我们更多的关心孩子，可我们从不缺少他的吃穿，但学习上我们却有心无力，这不是为难我们么？我说不是这样，学生学习的好坏关键是我们能不能给他提供一个好的学习环境。有人说教师的孩子往往读书会很好，其实教师的孩子在智力上根本没有优势，关键是当教师的父母往往更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注重孩子的家庭教育</a:t>
            </a: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，往往注重给孩子创造一个学习的良好环境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-76680"/>
            <a:ext cx="5181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ff"/>
                </a:solidFill>
                <a:latin typeface="Comic Sans MS"/>
              </a:rPr>
              <a:t>尊敬的各位家长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今天首先感谢您们在百忙之中抽空来参加家长会，协助并参与我们的教育教学工作。关心、帮助、督促贵子女学习是我们共同的心愿！使您的孩子得到全面发展和提高是我们共同的目标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6732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身边的这样的例子很多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有位老师，儿子上初中以后，不管春夏秋冬，一直坚持每天陪孩子写作业，他就说，学习习惯好的孩子是家长看出来的，管出来的。他把孩子一直看着送进了重点中学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还有一位老师，平时注重对儿子良好习惯的养成和上进心的培养，考取了重点中学。</a:t>
            </a:r>
            <a:br>
              <a:rPr sz="3200"/>
            </a:b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的每次孩子考试完后，都和孩子一起制定学习目标和学习计划，每天都检查督导学习计划执行情况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 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良好的学习环境需要安静，打麻将、打扑克，看电视等等，都会影响孩子的学习。最好单独给孩子提供一个学习的空间，一间屋子，一张桌子。让孩子远离干扰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ahoma"/>
              </a:rPr>
              <a:t>五、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要重视心理健康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cc33"/>
                </a:solidFill>
                <a:latin typeface="Tahoma"/>
              </a:rPr>
              <a:t>有些家长对孩子的身体备加呵护，却忽视了孩子的心理健康。思想道德素养非常重要，有专家指出：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学习不好是次品，身体不好是废品，心理不好是危险品，思想不好是危害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br>
              <a:rPr sz="3600"/>
            </a:b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4"/>
          <p:cNvSpPr/>
          <p:nvPr/>
        </p:nvSpPr>
        <p:spPr>
          <a:xfrm>
            <a:off x="1441440" y="2057400"/>
            <a:ext cx="6940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另外，有关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交通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安全和食品问题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，更有必要提一下，回家路上和在家都要注意，不要因为一时大意而后悔莫及，影响你们孩子的前程甚至生命安全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438280" y="-612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家长同志们，我们的目标是统一的，我们的任务是一致的，愿我们相互合作，把我们的学生，您的孩子，培养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勤奋，品质优良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的优秀人才，为将来学生的升学、就业、乃至整个人生的发展打下坚实的良好的基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763640" y="0"/>
            <a:ext cx="51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建        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539640" y="69228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要尽量控制孩子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零用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和上学、回家的时间，教育孩子少与社会上的或其他学校的人搭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68360" y="227664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希望家长在假期、周六晚上、周日下午这段时间内督促孩子多看书，少看电视，更不允许其上网打游戏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539640" y="39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要把手机、玉佩等东西给子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45720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条件的家长，每周帮孩子听写语文词语和英语单词并签字，给孩子创造良好的学习环境，多鼓励孩子，多与孩子一同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026hijkl"/>
          <p:cNvPicPr/>
          <p:nvPr/>
        </p:nvPicPr>
        <p:blipFill>
          <a:blip r:embed="rId1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0" y="0"/>
            <a:ext cx="10972440" cy="8229240"/>
            <a:chOff x="0" y="0"/>
            <a:chExt cx="10972440" cy="8229240"/>
          </a:xfrm>
        </p:grpSpPr>
        <p:pic>
          <p:nvPicPr>
            <p:cNvPr id="543" name="Picture 4" descr="p_584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972440" cy="82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5"/>
            <p:cNvSpPr/>
            <p:nvPr/>
          </p:nvSpPr>
          <p:spPr>
            <a:xfrm>
              <a:off x="1919880" y="7131960"/>
              <a:ext cx="184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ext Box 6"/>
          <p:cNvSpPr/>
          <p:nvPr/>
        </p:nvSpPr>
        <p:spPr>
          <a:xfrm>
            <a:off x="312408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4894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1066680"/>
            <a:ext cx="80773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再次感谢各位家长百忙中抽空参加本次会议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多谢支持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家长会的主题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是和家长同志们汇报一下前阶段同学们在校表现和学习情况。结合上学期期末考试的情况，分析学生的学习、生活和心理状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二是和家长们探讨今后学生的教育问题，特别是家庭对孩子行为习惯和学习成绩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TN_101"/>
          <p:cNvPicPr/>
          <p:nvPr/>
        </p:nvPicPr>
        <p:blipFill>
          <a:blip r:embed="rId1"/>
          <a:stretch/>
        </p:blipFill>
        <p:spPr>
          <a:xfrm>
            <a:off x="3429000" y="5029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2286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班级任课老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457200" y="990720"/>
            <a:ext cx="77724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：古老师          历史：何老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：黄老师          地理：林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语：梁老师          生物：陈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政治：林老师          物理：谢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0" y="3124080"/>
            <a:ext cx="9372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校作息时间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6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起床早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6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早读，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放学午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午睡，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起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课，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放学晚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晚上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晚修，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放学，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晚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BJ3009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457200" y="457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476280" y="384120"/>
            <a:ext cx="76010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学期班级总分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228600" y="148752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名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李文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第六名：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陈铉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名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麦炬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第七名 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何海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名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赵   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第八名 ：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麦贤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名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麦秀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第九名 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麦滨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五名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罗咏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第十名 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张嘉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班级进步名次较大的同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余家栋：进步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名       罗咏诗：进步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麦滨杰：进步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名       麦炬峰：进步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李文静：进步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名       王兴英：进步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梁景富：进步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名       罗小姗：进步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李秀玲：进步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名                    等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009bhbgh"/>
          <p:cNvPicPr/>
          <p:nvPr/>
        </p:nvPicPr>
        <p:blipFill>
          <a:blip r:embed="rId1"/>
          <a:stretch/>
        </p:blipFill>
        <p:spPr>
          <a:xfrm>
            <a:off x="0" y="464832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009bhbgh"/>
          <p:cNvPicPr/>
          <p:nvPr/>
        </p:nvPicPr>
        <p:blipFill>
          <a:blip r:embed="rId2"/>
          <a:stretch/>
        </p:blipFill>
        <p:spPr>
          <a:xfrm>
            <a:off x="3733920" y="47242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009bhbgh"/>
          <p:cNvPicPr/>
          <p:nvPr/>
        </p:nvPicPr>
        <p:blipFill>
          <a:blip r:embed="rId3"/>
          <a:stretch/>
        </p:blipFill>
        <p:spPr>
          <a:xfrm>
            <a:off x="5029200" y="4724280"/>
            <a:ext cx="2044800" cy="2438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009bhbgh"/>
          <p:cNvPicPr/>
          <p:nvPr/>
        </p:nvPicPr>
        <p:blipFill>
          <a:blip r:embed="rId4"/>
          <a:stretch/>
        </p:blipFill>
        <p:spPr>
          <a:xfrm>
            <a:off x="7543800" y="3733920"/>
            <a:ext cx="2057400" cy="3124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009bhbgh"/>
          <p:cNvPicPr/>
          <p:nvPr/>
        </p:nvPicPr>
        <p:blipFill>
          <a:blip r:embed="rId5"/>
          <a:stretch/>
        </p:blipFill>
        <p:spPr>
          <a:xfrm>
            <a:off x="762120" y="434340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009bhbgh"/>
          <p:cNvPicPr/>
          <p:nvPr/>
        </p:nvPicPr>
        <p:blipFill>
          <a:blip r:embed="rId6"/>
          <a:stretch/>
        </p:blipFill>
        <p:spPr>
          <a:xfrm>
            <a:off x="6248520" y="5181480"/>
            <a:ext cx="2044440" cy="16765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009bhbgh"/>
          <p:cNvPicPr/>
          <p:nvPr/>
        </p:nvPicPr>
        <p:blipFill>
          <a:blip r:embed="rId7"/>
          <a:stretch/>
        </p:blipFill>
        <p:spPr>
          <a:xfrm>
            <a:off x="1295280" y="5257800"/>
            <a:ext cx="2044800" cy="16002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009bhbgh"/>
          <p:cNvPicPr/>
          <p:nvPr/>
        </p:nvPicPr>
        <p:blipFill>
          <a:blip r:embed="rId8"/>
          <a:stretch/>
        </p:blipFill>
        <p:spPr>
          <a:xfrm>
            <a:off x="2514600" y="5257800"/>
            <a:ext cx="2044800" cy="2209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0" descr="14"/>
          <p:cNvPicPr/>
          <p:nvPr/>
        </p:nvPicPr>
        <p:blipFill>
          <a:blip r:embed="rId9"/>
          <a:stretch/>
        </p:blipFill>
        <p:spPr>
          <a:xfrm>
            <a:off x="0" y="0"/>
            <a:ext cx="2819520" cy="171468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1"/>
          <p:cNvSpPr/>
          <p:nvPr/>
        </p:nvSpPr>
        <p:spPr>
          <a:xfrm>
            <a:off x="1219320" y="241776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.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各科班级前十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BJ_002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3"/>
          <p:cNvSpPr/>
          <p:nvPr/>
        </p:nvSpPr>
        <p:spPr>
          <a:xfrm>
            <a:off x="3505320" y="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语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457200" y="914400"/>
            <a:ext cx="81532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名：赵  艳     第六名：麦滨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名：陈铉冰   第七名：张嘉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名：吴伊淇   第八名：何海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名：李文静   第九名：麦炬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五名：麦秀文   第十名：罗咏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BJ2009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3"/>
          <p:cNvSpPr/>
          <p:nvPr/>
        </p:nvSpPr>
        <p:spPr>
          <a:xfrm>
            <a:off x="2819520" y="3049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数 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1584360" y="268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829160" y="1295280"/>
            <a:ext cx="484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名：吴伊淇   第六名：张绍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名：陆家成   第七名：麦秀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名：麦贤发   第八名：罗咏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名：麦炬峰   第九名：张嘉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五名：麦滨杰   第十名：麦健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r</cp:lastModifiedBy>
  <dcterms:modified xsi:type="dcterms:W3CDTF">2011-12-01T11:44:34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