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03EF2-0637-4047-9ADA-B0EC2A19F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60000" y="274320"/>
            <a:ext cx="6264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60000" y="1599840"/>
            <a:ext cx="626436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260000" y="3630600"/>
            <a:ext cx="626436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4B202-2171-48DD-BC6A-B45828753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60000" y="274320"/>
            <a:ext cx="6264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60000" y="1599840"/>
            <a:ext cx="305676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470120" y="1599840"/>
            <a:ext cx="305676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260000" y="3630600"/>
            <a:ext cx="305676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470120" y="3630600"/>
            <a:ext cx="305676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9E581-BD22-484A-A22A-062663FE9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60000" y="274320"/>
            <a:ext cx="6264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60000" y="1599840"/>
            <a:ext cx="201672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77880" y="1599840"/>
            <a:ext cx="201672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495760" y="1599840"/>
            <a:ext cx="201672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260000" y="3630600"/>
            <a:ext cx="201672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77880" y="3630600"/>
            <a:ext cx="201672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495760" y="3630600"/>
            <a:ext cx="201672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1F7F7-F15C-4643-B2CA-FA47FE52D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31AEA-DE11-40E0-97D5-D4CEA9995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60000" y="274320"/>
            <a:ext cx="6264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60000" y="1599840"/>
            <a:ext cx="626436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C74A4-924E-4E92-9BB7-D26D1EC24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60000" y="274320"/>
            <a:ext cx="6264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60000" y="1599840"/>
            <a:ext cx="626436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655C6-6741-4793-A2B8-1AF334987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60000" y="274320"/>
            <a:ext cx="6264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60000" y="1599840"/>
            <a:ext cx="305676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470120" y="1599840"/>
            <a:ext cx="305676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7CFCB-0D4D-4870-A5D0-00EE248B4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60000" y="274320"/>
            <a:ext cx="6264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3945A-5CB8-494B-8861-0A0AA462C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260000" y="274320"/>
            <a:ext cx="6264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A48D8-8B29-43CC-9FA3-875802948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0000" y="274320"/>
            <a:ext cx="6264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60000" y="1599840"/>
            <a:ext cx="305676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470120" y="1599840"/>
            <a:ext cx="305676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260000" y="3630600"/>
            <a:ext cx="305676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93C57-CCDB-4B41-8377-59DA8A13A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60000" y="274320"/>
            <a:ext cx="6264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260000" y="1599840"/>
            <a:ext cx="626436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07BBA-8BD5-4644-9DD3-FB84E6FAE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60000" y="274320"/>
            <a:ext cx="6264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60000" y="1599840"/>
            <a:ext cx="305676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470120" y="1599840"/>
            <a:ext cx="305676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470120" y="3630600"/>
            <a:ext cx="305676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2A463-DE49-48AF-A3CD-73580B6FF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60000" y="274320"/>
            <a:ext cx="6264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60000" y="1599840"/>
            <a:ext cx="305676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470120" y="1599840"/>
            <a:ext cx="305676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60000" y="3630600"/>
            <a:ext cx="626436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93176-A7A1-4A61-B38D-163A21EA4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60000" y="274320"/>
            <a:ext cx="6264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60000" y="1599840"/>
            <a:ext cx="626436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260000" y="3630600"/>
            <a:ext cx="626436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C67A6-1C35-48F0-A87B-9E8B67400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60000" y="274320"/>
            <a:ext cx="6264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60000" y="1599840"/>
            <a:ext cx="305676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470120" y="1599840"/>
            <a:ext cx="305676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260000" y="3630600"/>
            <a:ext cx="305676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470120" y="3630600"/>
            <a:ext cx="305676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144AD-948B-4E78-912D-879D1131D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60000" y="274320"/>
            <a:ext cx="6264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60000" y="1599840"/>
            <a:ext cx="201672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77880" y="1599840"/>
            <a:ext cx="201672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495760" y="1599840"/>
            <a:ext cx="201672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260000" y="3630600"/>
            <a:ext cx="201672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77880" y="3630600"/>
            <a:ext cx="201672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495760" y="3630600"/>
            <a:ext cx="201672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A3FA1-9D3F-478E-9CA3-4E9B8A1A9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60000" y="274320"/>
            <a:ext cx="6264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60000" y="1599840"/>
            <a:ext cx="626436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D6C3C-63D0-497C-9609-13AE88CF0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60000" y="274320"/>
            <a:ext cx="6264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60000" y="1599840"/>
            <a:ext cx="305676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470120" y="1599840"/>
            <a:ext cx="305676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C7EEE-A9CC-4C2D-8A12-AAF69BAAC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60000" y="274320"/>
            <a:ext cx="6264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6CA72-0CAD-4B8A-9480-821110FBD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260000" y="274320"/>
            <a:ext cx="6264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0B170-A27C-4E18-80A7-15843FC90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60000" y="274320"/>
            <a:ext cx="6264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60000" y="1599840"/>
            <a:ext cx="305676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470120" y="1599840"/>
            <a:ext cx="305676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260000" y="3630600"/>
            <a:ext cx="305676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E9BC2-F44D-413F-B79D-210AB4DAF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60000" y="274320"/>
            <a:ext cx="6264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60000" y="1599840"/>
            <a:ext cx="305676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70120" y="1599840"/>
            <a:ext cx="305676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470120" y="3630600"/>
            <a:ext cx="305676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20950-BBE0-4605-B70E-D0EDB8FD2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60000" y="274320"/>
            <a:ext cx="6264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60000" y="1599840"/>
            <a:ext cx="305676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470120" y="1599840"/>
            <a:ext cx="305676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260000" y="3630600"/>
            <a:ext cx="626436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625ED-9AA7-406B-9A7A-E18C888EA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260000" y="274320"/>
            <a:ext cx="6264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60000" y="1599840"/>
            <a:ext cx="626436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87880" indent="-212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13040" indent="-212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13040" indent="-212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13040" indent="-212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20345-F28E-44CC-861A-A8C9FB664A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FFB25-E20E-42B1-A928-58AF3DA45E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2052720" y="1542960"/>
            <a:ext cx="1152360" cy="1152720"/>
            <a:chOff x="2052720" y="1542960"/>
            <a:chExt cx="1152360" cy="1152720"/>
          </a:xfrm>
        </p:grpSpPr>
        <p:sp>
          <p:nvSpPr>
            <p:cNvPr id="85" name=""/>
            <p:cNvSpPr/>
            <p:nvPr/>
          </p:nvSpPr>
          <p:spPr>
            <a:xfrm>
              <a:off x="2052720" y="1542960"/>
              <a:ext cx="1152360" cy="1152720"/>
            </a:xfrm>
            <a:prstGeom prst="ellipse">
              <a:avLst/>
            </a:prstGeom>
            <a:noFill/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124360" y="1614600"/>
              <a:ext cx="1008360" cy="1008720"/>
            </a:xfrm>
            <a:prstGeom prst="ellips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3278160" y="1528920"/>
            <a:ext cx="1152720" cy="1152360"/>
            <a:chOff x="3278160" y="1528920"/>
            <a:chExt cx="1152720" cy="1152360"/>
          </a:xfrm>
        </p:grpSpPr>
        <p:sp>
          <p:nvSpPr>
            <p:cNvPr id="88" name=""/>
            <p:cNvSpPr/>
            <p:nvPr/>
          </p:nvSpPr>
          <p:spPr>
            <a:xfrm>
              <a:off x="3278160" y="1528920"/>
              <a:ext cx="1152720" cy="1152360"/>
            </a:xfrm>
            <a:prstGeom prst="ellipse">
              <a:avLst/>
            </a:prstGeom>
            <a:noFill/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349800" y="1600560"/>
              <a:ext cx="1008720" cy="1008360"/>
            </a:xfrm>
            <a:prstGeom prst="ellips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4503600" y="1557360"/>
            <a:ext cx="1152720" cy="1152360"/>
            <a:chOff x="4503600" y="1557360"/>
            <a:chExt cx="1152720" cy="1152360"/>
          </a:xfrm>
        </p:grpSpPr>
        <p:sp>
          <p:nvSpPr>
            <p:cNvPr id="91" name=""/>
            <p:cNvSpPr/>
            <p:nvPr/>
          </p:nvSpPr>
          <p:spPr>
            <a:xfrm>
              <a:off x="4503600" y="1557360"/>
              <a:ext cx="1152720" cy="1152360"/>
            </a:xfrm>
            <a:prstGeom prst="ellipse">
              <a:avLst/>
            </a:prstGeom>
            <a:noFill/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575240" y="1629000"/>
              <a:ext cx="1008720" cy="1008360"/>
            </a:xfrm>
            <a:prstGeom prst="ellips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5729400" y="1542960"/>
            <a:ext cx="1152360" cy="1152720"/>
            <a:chOff x="5729400" y="1542960"/>
            <a:chExt cx="1152360" cy="1152720"/>
          </a:xfrm>
        </p:grpSpPr>
        <p:sp>
          <p:nvSpPr>
            <p:cNvPr id="94" name=""/>
            <p:cNvSpPr/>
            <p:nvPr/>
          </p:nvSpPr>
          <p:spPr>
            <a:xfrm>
              <a:off x="5729400" y="1542960"/>
              <a:ext cx="1152360" cy="1152720"/>
            </a:xfrm>
            <a:prstGeom prst="ellipse">
              <a:avLst/>
            </a:prstGeom>
            <a:noFill/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01040" y="1614600"/>
              <a:ext cx="1008360" cy="1008720"/>
            </a:xfrm>
            <a:prstGeom prst="ellips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"/>
          <p:cNvSpPr txBox="1"/>
          <p:nvPr/>
        </p:nvSpPr>
        <p:spPr>
          <a:xfrm>
            <a:off x="2584440" y="2994120"/>
            <a:ext cx="3745080" cy="3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584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latin typeface="黑体"/>
              </a:rPr>
              <a:t>祝老年朋友们节日快乐</a:t>
            </a:r>
            <a:endParaRPr b="1" lang="en-US" sz="1800" spc="1" strike="noStrike">
              <a:ln w="15840">
                <a:solidFill>
                  <a:srgbClr val="ffffff"/>
                </a:solidFill>
                <a:miter/>
              </a:ln>
              <a:solidFill>
                <a:srgbClr val="000000"/>
              </a:solidFill>
              <a:latin typeface="黑体"/>
              <a:ea typeface="黑体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2179800" y="1657440"/>
            <a:ext cx="4481280" cy="82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60000" y="274320"/>
            <a:ext cx="6264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60000" y="1599840"/>
            <a:ext cx="626436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5T13:16:13Z</dcterms:created>
  <dc:creator/>
  <dc:description/>
  <dc:language>en-US</dc:language>
  <cp:lastModifiedBy/>
  <cp:lastPrinted>1899-12-30T00:00:00Z</cp:lastPrinted>
  <dcterms:modified xsi:type="dcterms:W3CDTF">1899-12-30T00:00:00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461</vt:lpwstr>
  </property>
</Properties>
</file>