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hdphoto1.wdp" ContentType="image/vnd.ms-photo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DE3-FFFB-4EBA-BF9A-1CDB197A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404-E392-4AC3-B480-C2C9AA37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8A8-0F2F-47C6-8CC7-FEA2BBEC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09A-3F2C-4A4C-88F0-8BA63FB7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AB3D-D0BC-4D8B-A6D6-0D970A2D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B206-7AA5-442E-913A-01B8607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A500-E30D-496E-AC3A-A986AF68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F0D5-1AE4-4B01-8349-03E20CDC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7870-FF30-45A3-B52F-FBDE1A2B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ACA7-FEC4-4604-ADE5-BCBAA5DC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94C3-2B31-4966-A19C-D025DE9D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F9B-25D1-4DEF-8DE4-A70DD974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0CAF-BF6A-427D-9DF2-339538B0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7FEC-350F-43A9-B429-12118605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AD99-1573-44F1-B89D-55D9EC12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0192-FF19-4B2A-B1BE-8EADEE14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236D-40FE-4CB1-B22F-9C728B5E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A60-448C-41FA-BDB6-87888E63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DE3-B422-4C02-A486-3378FFF4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FCA-6D73-480E-ACB8-9EC8127A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DC7-E451-4A85-AF3F-8C430887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21A-2E1D-4641-99DF-687BD285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05B-B3BD-4DD9-80A0-90487406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EA1-0A77-4B09-8A7E-0FB86829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48463C-B633-4BDB-87C8-97F880B9097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74254F-3AB3-4574-882A-37C8D46FA36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colorTemp="4700"/>
                    </a14:imgEffect>
                  </a14:imgLayer>
                </a14:imgProps>
              </a:ext>
            </a:extLst>
          </a:blip>
          <a:srcRect l="0" t="14627" r="0" b="0"/>
          <a:stretch/>
        </p:blipFill>
        <p:spPr>
          <a:xfrm>
            <a:off x="0" y="0"/>
            <a:ext cx="9126000" cy="585432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10"/>
          <p:cNvGrpSpPr/>
          <p:nvPr/>
        </p:nvGrpSpPr>
        <p:grpSpPr>
          <a:xfrm>
            <a:off x="-14400" y="3571920"/>
            <a:ext cx="9194400" cy="3296880"/>
            <a:chOff x="-14400" y="3571920"/>
            <a:chExt cx="9194400" cy="3296880"/>
          </a:xfrm>
        </p:grpSpPr>
        <p:sp>
          <p:nvSpPr>
            <p:cNvPr id="84" name="流程图: 手动输入 9"/>
            <p:cNvSpPr/>
            <p:nvPr/>
          </p:nvSpPr>
          <p:spPr>
            <a:xfrm>
              <a:off x="0" y="3932280"/>
              <a:ext cx="9126000" cy="2765160"/>
            </a:xfrm>
            <a:custGeom>
              <a:avLst/>
              <a:gdLst>
                <a:gd name="textAreaLeft" fmla="*/ 0 w 9126000"/>
                <a:gd name="textAreaRight" fmla="*/ 9126360 w 9126000"/>
                <a:gd name="textAreaTop" fmla="*/ 0 h 2765160"/>
                <a:gd name="textAreaBottom" fmla="*/ 2765520 h 2765160"/>
              </a:gdLst>
              <a:ahLst/>
              <a:rect l="textAreaLeft" t="textAreaTop" r="textAreaRight" b="textAreaBottom"/>
              <a:pathLst>
                <a:path w="10016" h="10000">
                  <a:moveTo>
                    <a:pt x="0" y="5624"/>
                  </a:moveTo>
                  <a:cubicBezTo>
                    <a:pt x="1804" y="6672"/>
                    <a:pt x="3593" y="5934"/>
                    <a:pt x="5397" y="5564"/>
                  </a:cubicBezTo>
                  <a:cubicBezTo>
                    <a:pt x="6937" y="3709"/>
                    <a:pt x="8715" y="3063"/>
                    <a:pt x="10016" y="0"/>
                  </a:cubicBezTo>
                  <a:lnTo>
                    <a:pt x="10016" y="10000"/>
                  </a:lnTo>
                  <a:lnTo>
                    <a:pt x="16" y="10000"/>
                  </a:lnTo>
                  <a:cubicBezTo>
                    <a:pt x="11" y="8541"/>
                    <a:pt x="5" y="7083"/>
                    <a:pt x="0" y="5624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" name="流程图: 手动输入 5"/>
            <p:cNvSpPr/>
            <p:nvPr/>
          </p:nvSpPr>
          <p:spPr>
            <a:xfrm>
              <a:off x="-14400" y="4132440"/>
              <a:ext cx="9158040" cy="2736360"/>
            </a:xfrm>
            <a:custGeom>
              <a:avLst/>
              <a:gdLst>
                <a:gd name="textAreaLeft" fmla="*/ 0 w 9158040"/>
                <a:gd name="textAreaRight" fmla="*/ 9158400 w 9158040"/>
                <a:gd name="textAreaTop" fmla="*/ 0 h 2736360"/>
                <a:gd name="textAreaBottom" fmla="*/ 2736720 h 2736360"/>
              </a:gdLst>
              <a:ahLst/>
              <a:rect l="textAreaLeft" t="textAreaTop" r="textAreaRight" b="textAreaBottom"/>
              <a:pathLst>
                <a:path w="10016" h="10000">
                  <a:moveTo>
                    <a:pt x="0" y="5076"/>
                  </a:moveTo>
                  <a:cubicBezTo>
                    <a:pt x="3609" y="7044"/>
                    <a:pt x="7470" y="5988"/>
                    <a:pt x="10016" y="0"/>
                  </a:cubicBezTo>
                  <a:lnTo>
                    <a:pt x="10016" y="10000"/>
                  </a:lnTo>
                  <a:lnTo>
                    <a:pt x="16" y="10000"/>
                  </a:lnTo>
                  <a:cubicBezTo>
                    <a:pt x="11" y="8359"/>
                    <a:pt x="5" y="6717"/>
                    <a:pt x="0" y="5076"/>
                  </a:cubicBezTo>
                  <a:close/>
                </a:path>
              </a:pathLst>
            </a:custGeom>
            <a:solidFill>
              <a:srgbClr val="652d9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6" name="流程图: 手动输入 7"/>
            <p:cNvSpPr/>
            <p:nvPr/>
          </p:nvSpPr>
          <p:spPr>
            <a:xfrm>
              <a:off x="-14400" y="3571920"/>
              <a:ext cx="9194400" cy="2152800"/>
            </a:xfrm>
            <a:custGeom>
              <a:avLst/>
              <a:gdLst>
                <a:gd name="textAreaLeft" fmla="*/ 0 w 9194400"/>
                <a:gd name="textAreaRight" fmla="*/ 9194760 w 9194400"/>
                <a:gd name="textAreaTop" fmla="*/ 0 h 2152800"/>
                <a:gd name="textAreaBottom" fmla="*/ 2153160 h 2152800"/>
              </a:gdLst>
              <a:ahLst/>
              <a:rect l="textAreaLeft" t="textAreaTop" r="textAreaRight" b="textAreaBottom"/>
              <a:pathLst>
                <a:path w="10000" h="10061">
                  <a:moveTo>
                    <a:pt x="32" y="8410"/>
                  </a:moveTo>
                  <a:cubicBezTo>
                    <a:pt x="3391" y="10424"/>
                    <a:pt x="7115" y="8680"/>
                    <a:pt x="10000" y="0"/>
                  </a:cubicBezTo>
                  <a:cubicBezTo>
                    <a:pt x="9995" y="800"/>
                    <a:pt x="9989" y="1601"/>
                    <a:pt x="9984" y="2401"/>
                  </a:cubicBezTo>
                  <a:cubicBezTo>
                    <a:pt x="7655" y="9693"/>
                    <a:pt x="3153" y="11467"/>
                    <a:pt x="0" y="9038"/>
                  </a:cubicBezTo>
                  <a:cubicBezTo>
                    <a:pt x="37" y="6996"/>
                    <a:pt x="58" y="10724"/>
                    <a:pt x="32" y="8410"/>
                  </a:cubicBezTo>
                  <a:close/>
                </a:path>
              </a:pathLst>
            </a:custGeom>
            <a:solidFill>
              <a:srgbClr val="c2b4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7" name="TextBox 9"/>
          <p:cNvSpPr/>
          <p:nvPr/>
        </p:nvSpPr>
        <p:spPr>
          <a:xfrm>
            <a:off x="6174360" y="6374160"/>
            <a:ext cx="295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0" y="6374160"/>
            <a:ext cx="1331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城市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amount="5000" sat="33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90" name="矩形 10"/>
          <p:cNvSpPr/>
          <p:nvPr/>
        </p:nvSpPr>
        <p:spPr>
          <a:xfrm>
            <a:off x="0" y="0"/>
            <a:ext cx="9143640" cy="2132640"/>
          </a:xfrm>
          <a:prstGeom prst="rect">
            <a:avLst/>
          </a:prstGeom>
          <a:solidFill>
            <a:srgbClr val="c2b4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时尚中黑简体"/>
                <a:ea typeface="时尚中黑简体"/>
              </a:rPr>
              <a:t>点击此处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7596360" y="6489360"/>
            <a:ext cx="154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小小舒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  <Words>13</Words>
  <Paragraphs>4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6:22:13Z</dcterms:created>
  <dc:creator>微软用户</dc:creator>
  <dc:description/>
  <dc:language>en-US</dc:language>
  <cp:lastModifiedBy>微软用户</cp:lastModifiedBy>
  <dcterms:modified xsi:type="dcterms:W3CDTF">2011-05-23T16:48:5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