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1DB-AA77-4C24-AA45-B660C76D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A81-6702-4503-A759-9954C81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4A2-3FED-4D99-8760-0A5B948C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11E-220A-48C8-8A4F-4CA13E79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358-3AF9-479F-975F-B39B235B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990-6BAC-4B06-93C5-CE887B0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239-B52C-4387-8AC9-8172664B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172-1675-45A1-8A91-A7272A66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C2A-1E42-4EB2-8678-167FF0E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A6F-29B0-4FBB-9C0A-925A634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411-AADE-4A8C-A265-E5800F5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7F5-CDC8-40F2-BF30-24703C3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90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37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5881-7DF5-4F09-8F27-08C849050884}" type="datetime">
              <a:rPr b="0" lang="zh-CN" sz="1200" spc="-1" strike="noStrike">
                <a:solidFill>
                  <a:srgbClr val="035c75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9DCE-4C5B-49B2-A658-A1E9E0809161}" type="slidenum">
              <a:rPr b="0" lang="zh-CN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29160" y="-15480"/>
            <a:ext cx="9199800" cy="1085400"/>
            <a:chOff x="-29160" y="-15480"/>
            <a:chExt cx="9199800" cy="1085400"/>
          </a:xfrm>
        </p:grpSpPr>
        <p:sp>
          <p:nvSpPr>
            <p:cNvPr id="8" name="任意多边形 11"/>
            <p:cNvSpPr/>
            <p:nvPr/>
          </p:nvSpPr>
          <p:spPr>
            <a:xfrm rot="21435600">
              <a:off x="-18720" y="203040"/>
              <a:ext cx="9164880" cy="648000"/>
            </a:xfrm>
            <a:prstGeom prst="pie">
              <a:avLst/>
            </a:prstGeom>
            <a:noFill/>
            <a:ln w="108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2"/>
            <p:cNvSpPr/>
            <p:nvPr/>
          </p:nvSpPr>
          <p:spPr>
            <a:xfrm rot="21435600">
              <a:off x="-14040" y="275760"/>
              <a:ext cx="9177480" cy="529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571760" y="1928880"/>
            <a:ext cx="6143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  <a:ea typeface="宋体"/>
              </a:rPr>
              <a:t>　　本项目路演模版样式及内容为参会项目参考之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  <a:ea typeface="宋体"/>
              </a:rPr>
              <a:t>本模版中所涉及的内容为路演应包含的基本内容，您可以根据实际情况选用其它模版或者进行相关内容的调整和修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目标规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目当前进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近期目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远期目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团队介绍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业团队核心成员突出能力、工作背景、职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7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融资规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目前共投入多少资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融资资金如何使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融资后股份如何划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谢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2" name="图片 3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600" spc="-1" strike="noStrike">
                <a:solidFill>
                  <a:srgbClr val="4ee0ea"/>
                </a:solidFill>
                <a:latin typeface="Calibri"/>
                <a:ea typeface="隶书"/>
              </a:rPr>
              <a:t>项目名称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公司名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公司简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成立时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股东及股权结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员工人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主营业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市场需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用户面临的问题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用户群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解决问题的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产品是什么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怎样运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盈利模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如何赢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市场分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市场容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增长情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细分行业里的机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" name="图片 3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竞争对手分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竞争对手基本情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竞争产品销售情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竞争对手的优劣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核心竞争力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技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资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图片 4" descr="logo-PNG.png"/>
          <p:cNvPicPr/>
          <p:nvPr/>
        </p:nvPicPr>
        <p:blipFill>
          <a:blip r:embed="rId2"/>
          <a:stretch/>
        </p:blipFill>
        <p:spPr>
          <a:xfrm>
            <a:off x="7500960" y="6467400"/>
            <a:ext cx="1643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3:47:00Z</dcterms:created>
  <dc:creator>ZhangYi</dc:creator>
  <dc:description/>
  <dc:language>en-US</dc:language>
  <cp:lastModifiedBy>Jun</cp:lastModifiedBy>
  <dcterms:modified xsi:type="dcterms:W3CDTF">2015-08-12T01:15:22Z</dcterms:modified>
  <cp:revision>38</cp:revision>
  <dc:subject/>
  <dc:title>项目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